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D07-B6AC-4EBD-9A6B-0CE12051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759-62DF-42CE-BE8A-9EAEA19E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EC1-96D2-47BA-89CE-24363DE7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34C-26EF-4AD9-A2E5-44139E3D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DED-3631-4DD5-9E39-5224FB9D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8DE-AB65-4EB3-B758-1401AA84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29C-8F73-4F6C-92AD-D43260B6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329-F51D-4B32-AA30-97491EF5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8B0-41E6-40AE-A06A-1EAD6CB8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1CE-C606-4DD1-BE53-E4D05868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A5A-D16F-48BC-BFC8-8B4AF293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166-3119-4058-AB03-E86B9224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7884-AFAC-4453-88ED-69C3549EC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3: Applications of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equalitie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Remember the 3 Method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y + 2x =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- 12y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+ 12y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4"/>
          <p:cNvSpPr/>
          <p:nvPr/>
        </p:nvSpPr>
        <p:spPr>
          <a:xfrm>
            <a:off x="1874880" y="2571840"/>
            <a:ext cx="936720" cy="1189080"/>
          </a:xfrm>
          <a:custGeom>
            <a:avLst/>
            <a:gdLst/>
            <a:ahLst/>
            <a:rect l="l" t="t" r="r" b="b"/>
            <a:pathLst>
              <a:path w="2604" h="3303">
                <a:moveTo>
                  <a:pt x="6414" y="7144"/>
                </a:moveTo>
                <a:cubicBezTo>
                  <a:pt x="6414" y="7533"/>
                  <a:pt x="6435" y="7951"/>
                  <a:pt x="6382" y="8318"/>
                </a:cubicBezTo>
                <a:cubicBezTo>
                  <a:pt x="6372" y="8391"/>
                  <a:pt x="6361" y="8446"/>
                  <a:pt x="6350" y="8509"/>
                </a:cubicBezTo>
                <a:cubicBezTo>
                  <a:pt x="6337" y="8588"/>
                  <a:pt x="6350" y="8683"/>
                  <a:pt x="6350" y="8763"/>
                </a:cubicBezTo>
                <a:cubicBezTo>
                  <a:pt x="6413" y="8754"/>
                  <a:pt x="6402" y="8754"/>
                  <a:pt x="6445" y="8731"/>
                </a:cubicBezTo>
                <a:cubicBezTo>
                  <a:pt x="6485" y="8710"/>
                  <a:pt x="6522" y="8703"/>
                  <a:pt x="6572" y="8700"/>
                </a:cubicBezTo>
                <a:cubicBezTo>
                  <a:pt x="6640" y="8696"/>
                  <a:pt x="6680" y="8676"/>
                  <a:pt x="6731" y="8668"/>
                </a:cubicBezTo>
                <a:cubicBezTo>
                  <a:pt x="6851" y="8649"/>
                  <a:pt x="6979" y="8686"/>
                  <a:pt x="7080" y="8700"/>
                </a:cubicBezTo>
                <a:cubicBezTo>
                  <a:pt x="7196" y="8717"/>
                  <a:pt x="7318" y="8714"/>
                  <a:pt x="7430" y="8731"/>
                </a:cubicBezTo>
                <a:cubicBezTo>
                  <a:pt x="7530" y="8746"/>
                  <a:pt x="7645" y="8731"/>
                  <a:pt x="7747" y="8731"/>
                </a:cubicBezTo>
                <a:cubicBezTo>
                  <a:pt x="7747" y="8576"/>
                  <a:pt x="7755" y="8433"/>
                  <a:pt x="7779" y="8287"/>
                </a:cubicBezTo>
                <a:cubicBezTo>
                  <a:pt x="7801" y="8155"/>
                  <a:pt x="7794" y="8003"/>
                  <a:pt x="7810" y="7874"/>
                </a:cubicBezTo>
                <a:cubicBezTo>
                  <a:pt x="7824" y="7766"/>
                  <a:pt x="7795" y="7686"/>
                  <a:pt x="7779" y="7588"/>
                </a:cubicBezTo>
                <a:cubicBezTo>
                  <a:pt x="7762" y="7482"/>
                  <a:pt x="7792" y="7396"/>
                  <a:pt x="7747" y="7302"/>
                </a:cubicBezTo>
                <a:cubicBezTo>
                  <a:pt x="7731" y="7267"/>
                  <a:pt x="7707" y="7258"/>
                  <a:pt x="7652" y="7271"/>
                </a:cubicBezTo>
                <a:cubicBezTo>
                  <a:pt x="7588" y="7286"/>
                  <a:pt x="7568" y="7299"/>
                  <a:pt x="7493" y="7302"/>
                </a:cubicBezTo>
                <a:cubicBezTo>
                  <a:pt x="7256" y="7312"/>
                  <a:pt x="7026" y="7301"/>
                  <a:pt x="6794" y="7334"/>
                </a:cubicBezTo>
                <a:cubicBezTo>
                  <a:pt x="6697" y="7348"/>
                  <a:pt x="6617" y="7320"/>
                  <a:pt x="6540" y="7302"/>
                </a:cubicBezTo>
                <a:cubicBezTo>
                  <a:pt x="6530" y="7302"/>
                  <a:pt x="6519" y="7302"/>
                  <a:pt x="6509" y="7302"/>
                </a:cubicBezTo>
              </a:path>
              <a:path w="2604" h="3303">
                <a:moveTo>
                  <a:pt x="5302" y="9080"/>
                </a:moveTo>
                <a:cubicBezTo>
                  <a:pt x="5336" y="9031"/>
                  <a:pt x="5302" y="9053"/>
                  <a:pt x="5302" y="9049"/>
                </a:cubicBezTo>
                <a:cubicBezTo>
                  <a:pt x="5296" y="9118"/>
                  <a:pt x="5279" y="9173"/>
                  <a:pt x="5270" y="9239"/>
                </a:cubicBezTo>
                <a:cubicBezTo>
                  <a:pt x="5257" y="9332"/>
                  <a:pt x="5244" y="9432"/>
                  <a:pt x="5239" y="9525"/>
                </a:cubicBezTo>
                <a:cubicBezTo>
                  <a:pt x="5233" y="9637"/>
                  <a:pt x="5219" y="9734"/>
                  <a:pt x="5207" y="9842"/>
                </a:cubicBezTo>
                <a:cubicBezTo>
                  <a:pt x="5184" y="10038"/>
                  <a:pt x="5207" y="10248"/>
                  <a:pt x="5207" y="10446"/>
                </a:cubicBezTo>
                <a:cubicBezTo>
                  <a:pt x="5224" y="10416"/>
                  <a:pt x="5252" y="10362"/>
                  <a:pt x="5270" y="10350"/>
                </a:cubicBezTo>
                <a:cubicBezTo>
                  <a:pt x="5301" y="10330"/>
                  <a:pt x="5398" y="10292"/>
                  <a:pt x="5429" y="10287"/>
                </a:cubicBezTo>
                <a:cubicBezTo>
                  <a:pt x="5579" y="10264"/>
                  <a:pt x="5905" y="10261"/>
                  <a:pt x="6001" y="10319"/>
                </a:cubicBezTo>
                <a:cubicBezTo>
                  <a:pt x="6001" y="10093"/>
                  <a:pt x="6004" y="9869"/>
                  <a:pt x="6032" y="9652"/>
                </a:cubicBezTo>
                <a:cubicBezTo>
                  <a:pt x="6055" y="9468"/>
                  <a:pt x="6032" y="9267"/>
                  <a:pt x="6032" y="9080"/>
                </a:cubicBezTo>
                <a:cubicBezTo>
                  <a:pt x="5898" y="9080"/>
                  <a:pt x="5778" y="9069"/>
                  <a:pt x="5652" y="9049"/>
                </a:cubicBezTo>
                <a:cubicBezTo>
                  <a:pt x="5558" y="9034"/>
                  <a:pt x="5483" y="9062"/>
                  <a:pt x="5398" y="9080"/>
                </a:cubicBezTo>
                <a:cubicBezTo>
                  <a:pt x="5387" y="9080"/>
                  <a:pt x="5377" y="9080"/>
                  <a:pt x="5366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5"/>
          <p:cNvSpPr/>
          <p:nvPr/>
        </p:nvSpPr>
        <p:spPr>
          <a:xfrm>
            <a:off x="3760920" y="1554120"/>
            <a:ext cx="1703160" cy="549360"/>
          </a:xfrm>
          <a:custGeom>
            <a:avLst/>
            <a:gdLst/>
            <a:ahLst/>
            <a:rect l="l" t="t" r="r" b="b"/>
            <a:pathLst>
              <a:path w="4731" h="1525">
                <a:moveTo>
                  <a:pt x="10541" y="4413"/>
                </a:moveTo>
                <a:cubicBezTo>
                  <a:pt x="10552" y="4492"/>
                  <a:pt x="10573" y="4519"/>
                  <a:pt x="10573" y="4604"/>
                </a:cubicBezTo>
                <a:cubicBezTo>
                  <a:pt x="10573" y="4664"/>
                  <a:pt x="10547" y="4704"/>
                  <a:pt x="10541" y="4762"/>
                </a:cubicBezTo>
                <a:cubicBezTo>
                  <a:pt x="10533" y="4838"/>
                  <a:pt x="10493" y="4907"/>
                  <a:pt x="10478" y="4985"/>
                </a:cubicBezTo>
                <a:cubicBezTo>
                  <a:pt x="10467" y="5040"/>
                  <a:pt x="10499" y="5030"/>
                  <a:pt x="10446" y="5048"/>
                </a:cubicBezTo>
                <a:cubicBezTo>
                  <a:pt x="10478" y="5048"/>
                  <a:pt x="10489" y="5048"/>
                  <a:pt x="10478" y="5016"/>
                </a:cubicBezTo>
                <a:cubicBezTo>
                  <a:pt x="10541" y="5016"/>
                  <a:pt x="10553" y="5002"/>
                  <a:pt x="10604" y="4985"/>
                </a:cubicBezTo>
                <a:cubicBezTo>
                  <a:pt x="10698" y="4954"/>
                  <a:pt x="10855" y="4985"/>
                  <a:pt x="10954" y="4985"/>
                </a:cubicBezTo>
              </a:path>
              <a:path w="4731" h="1525">
                <a:moveTo>
                  <a:pt x="10795" y="4477"/>
                </a:moveTo>
                <a:cubicBezTo>
                  <a:pt x="10841" y="4536"/>
                  <a:pt x="10827" y="4588"/>
                  <a:pt x="10827" y="4667"/>
                </a:cubicBezTo>
                <a:cubicBezTo>
                  <a:pt x="10827" y="4812"/>
                  <a:pt x="10836" y="4944"/>
                  <a:pt x="10858" y="5080"/>
                </a:cubicBezTo>
                <a:cubicBezTo>
                  <a:pt x="10874" y="5177"/>
                  <a:pt x="10890" y="5266"/>
                  <a:pt x="10890" y="5366"/>
                </a:cubicBezTo>
                <a:cubicBezTo>
                  <a:pt x="10890" y="5433"/>
                  <a:pt x="10908" y="5438"/>
                  <a:pt x="10922" y="5493"/>
                </a:cubicBezTo>
              </a:path>
              <a:path w="4731" h="1525">
                <a:moveTo>
                  <a:pt x="11271" y="4318"/>
                </a:moveTo>
                <a:cubicBezTo>
                  <a:pt x="11214" y="4434"/>
                  <a:pt x="11154" y="4545"/>
                  <a:pt x="11112" y="4667"/>
                </a:cubicBezTo>
                <a:cubicBezTo>
                  <a:pt x="11071" y="4786"/>
                  <a:pt x="11054" y="4923"/>
                  <a:pt x="11049" y="5048"/>
                </a:cubicBezTo>
                <a:cubicBezTo>
                  <a:pt x="11045" y="5144"/>
                  <a:pt x="11059" y="5303"/>
                  <a:pt x="11081" y="5398"/>
                </a:cubicBezTo>
                <a:cubicBezTo>
                  <a:pt x="11091" y="5442"/>
                  <a:pt x="11155" y="5554"/>
                  <a:pt x="11176" y="5588"/>
                </a:cubicBezTo>
                <a:cubicBezTo>
                  <a:pt x="11204" y="5634"/>
                  <a:pt x="11265" y="5677"/>
                  <a:pt x="11303" y="5715"/>
                </a:cubicBezTo>
              </a:path>
              <a:path w="4731" h="1525">
                <a:moveTo>
                  <a:pt x="11335" y="4953"/>
                </a:moveTo>
                <a:cubicBezTo>
                  <a:pt x="11335" y="4879"/>
                  <a:pt x="11333" y="4852"/>
                  <a:pt x="11366" y="4794"/>
                </a:cubicBezTo>
                <a:cubicBezTo>
                  <a:pt x="11398" y="4738"/>
                  <a:pt x="11439" y="4638"/>
                  <a:pt x="11525" y="4667"/>
                </a:cubicBezTo>
                <a:cubicBezTo>
                  <a:pt x="11596" y="4691"/>
                  <a:pt x="11589" y="4770"/>
                  <a:pt x="11589" y="4826"/>
                </a:cubicBezTo>
                <a:cubicBezTo>
                  <a:pt x="11589" y="4929"/>
                  <a:pt x="11598" y="5017"/>
                  <a:pt x="11557" y="5112"/>
                </a:cubicBezTo>
                <a:cubicBezTo>
                  <a:pt x="11525" y="5188"/>
                  <a:pt x="11499" y="5285"/>
                  <a:pt x="11494" y="5366"/>
                </a:cubicBezTo>
                <a:cubicBezTo>
                  <a:pt x="11488" y="5456"/>
                  <a:pt x="11447" y="5467"/>
                  <a:pt x="11462" y="5461"/>
                </a:cubicBezTo>
                <a:cubicBezTo>
                  <a:pt x="11546" y="5427"/>
                  <a:pt x="11710" y="5473"/>
                  <a:pt x="11748" y="5493"/>
                </a:cubicBezTo>
                <a:cubicBezTo>
                  <a:pt x="11784" y="5493"/>
                  <a:pt x="11797" y="5490"/>
                  <a:pt x="11811" y="5461"/>
                </a:cubicBezTo>
              </a:path>
              <a:path w="4731" h="1525">
                <a:moveTo>
                  <a:pt x="11716" y="5016"/>
                </a:moveTo>
                <a:cubicBezTo>
                  <a:pt x="11731" y="5077"/>
                  <a:pt x="11776" y="5091"/>
                  <a:pt x="11811" y="5144"/>
                </a:cubicBezTo>
                <a:cubicBezTo>
                  <a:pt x="11859" y="5218"/>
                  <a:pt x="11906" y="5270"/>
                  <a:pt x="11970" y="5334"/>
                </a:cubicBezTo>
                <a:cubicBezTo>
                  <a:pt x="12004" y="5368"/>
                  <a:pt x="12053" y="5441"/>
                  <a:pt x="12097" y="5461"/>
                </a:cubicBezTo>
                <a:cubicBezTo>
                  <a:pt x="12107" y="5461"/>
                  <a:pt x="12118" y="5461"/>
                  <a:pt x="12128" y="5461"/>
                </a:cubicBezTo>
              </a:path>
              <a:path w="4731" h="1525">
                <a:moveTo>
                  <a:pt x="12002" y="4985"/>
                </a:moveTo>
                <a:cubicBezTo>
                  <a:pt x="11953" y="5065"/>
                  <a:pt x="11954" y="5177"/>
                  <a:pt x="11906" y="5270"/>
                </a:cubicBezTo>
                <a:cubicBezTo>
                  <a:pt x="11849" y="5380"/>
                  <a:pt x="11772" y="5494"/>
                  <a:pt x="11748" y="5620"/>
                </a:cubicBezTo>
                <a:cubicBezTo>
                  <a:pt x="11748" y="5673"/>
                  <a:pt x="11748" y="5683"/>
                  <a:pt x="11748" y="5715"/>
                </a:cubicBezTo>
              </a:path>
              <a:path w="4731" h="1525">
                <a:moveTo>
                  <a:pt x="11970" y="4445"/>
                </a:moveTo>
                <a:lnTo>
                  <a:pt x="11970" y="4445"/>
                </a:lnTo>
              </a:path>
              <a:path w="4731" h="1525">
                <a:moveTo>
                  <a:pt x="11970" y="4445"/>
                </a:moveTo>
                <a:lnTo>
                  <a:pt x="11970" y="4445"/>
                </a:lnTo>
              </a:path>
              <a:path w="4731" h="1525">
                <a:moveTo>
                  <a:pt x="12002" y="4445"/>
                </a:moveTo>
                <a:cubicBezTo>
                  <a:pt x="12022" y="4549"/>
                  <a:pt x="12084" y="4612"/>
                  <a:pt x="12128" y="4699"/>
                </a:cubicBezTo>
                <a:cubicBezTo>
                  <a:pt x="12174" y="4791"/>
                  <a:pt x="12263" y="4955"/>
                  <a:pt x="12287" y="5048"/>
                </a:cubicBezTo>
                <a:cubicBezTo>
                  <a:pt x="12315" y="5155"/>
                  <a:pt x="12346" y="5287"/>
                  <a:pt x="12351" y="5398"/>
                </a:cubicBezTo>
                <a:cubicBezTo>
                  <a:pt x="12356" y="5504"/>
                  <a:pt x="12334" y="5581"/>
                  <a:pt x="12319" y="5683"/>
                </a:cubicBezTo>
                <a:cubicBezTo>
                  <a:pt x="12318" y="5691"/>
                  <a:pt x="12290" y="5854"/>
                  <a:pt x="12256" y="5842"/>
                </a:cubicBezTo>
                <a:cubicBezTo>
                  <a:pt x="12256" y="5831"/>
                  <a:pt x="12256" y="5821"/>
                  <a:pt x="12256" y="5810"/>
                </a:cubicBezTo>
              </a:path>
              <a:path w="4731" h="1525">
                <a:moveTo>
                  <a:pt x="12668" y="4826"/>
                </a:moveTo>
                <a:cubicBezTo>
                  <a:pt x="12668" y="4914"/>
                  <a:pt x="12697" y="4990"/>
                  <a:pt x="12700" y="5080"/>
                </a:cubicBezTo>
                <a:cubicBezTo>
                  <a:pt x="12706" y="5238"/>
                  <a:pt x="12700" y="5398"/>
                  <a:pt x="12700" y="5556"/>
                </a:cubicBezTo>
              </a:path>
              <a:path w="4731" h="1525">
                <a:moveTo>
                  <a:pt x="12573" y="5302"/>
                </a:moveTo>
                <a:cubicBezTo>
                  <a:pt x="12628" y="5288"/>
                  <a:pt x="12657" y="5250"/>
                  <a:pt x="12700" y="5207"/>
                </a:cubicBezTo>
                <a:cubicBezTo>
                  <a:pt x="12732" y="5175"/>
                  <a:pt x="12742" y="5165"/>
                  <a:pt x="12764" y="5144"/>
                </a:cubicBezTo>
              </a:path>
              <a:path w="4731" h="1525">
                <a:moveTo>
                  <a:pt x="12890" y="4699"/>
                </a:moveTo>
                <a:cubicBezTo>
                  <a:pt x="12925" y="4673"/>
                  <a:pt x="12977" y="4622"/>
                  <a:pt x="13018" y="4604"/>
                </a:cubicBezTo>
                <a:cubicBezTo>
                  <a:pt x="13059" y="4585"/>
                  <a:pt x="13133" y="4626"/>
                  <a:pt x="13144" y="4667"/>
                </a:cubicBezTo>
                <a:cubicBezTo>
                  <a:pt x="13165" y="4743"/>
                  <a:pt x="13129" y="4883"/>
                  <a:pt x="13113" y="4953"/>
                </a:cubicBezTo>
                <a:cubicBezTo>
                  <a:pt x="13078" y="5104"/>
                  <a:pt x="12986" y="5249"/>
                  <a:pt x="12954" y="5398"/>
                </a:cubicBezTo>
                <a:cubicBezTo>
                  <a:pt x="12943" y="5452"/>
                  <a:pt x="12933" y="5503"/>
                  <a:pt x="12922" y="5556"/>
                </a:cubicBezTo>
                <a:cubicBezTo>
                  <a:pt x="12987" y="5556"/>
                  <a:pt x="12997" y="5541"/>
                  <a:pt x="13049" y="5524"/>
                </a:cubicBezTo>
                <a:cubicBezTo>
                  <a:pt x="13108" y="5504"/>
                  <a:pt x="13134" y="5547"/>
                  <a:pt x="13176" y="5556"/>
                </a:cubicBezTo>
                <a:cubicBezTo>
                  <a:pt x="13232" y="5568"/>
                  <a:pt x="13309" y="5556"/>
                  <a:pt x="13367" y="5556"/>
                </a:cubicBezTo>
              </a:path>
              <a:path w="4731" h="1525">
                <a:moveTo>
                  <a:pt x="13303" y="4985"/>
                </a:moveTo>
                <a:cubicBezTo>
                  <a:pt x="13381" y="5004"/>
                  <a:pt x="13383" y="5049"/>
                  <a:pt x="13430" y="5112"/>
                </a:cubicBezTo>
                <a:cubicBezTo>
                  <a:pt x="13483" y="5183"/>
                  <a:pt x="13540" y="5261"/>
                  <a:pt x="13589" y="5334"/>
                </a:cubicBezTo>
                <a:cubicBezTo>
                  <a:pt x="13632" y="5399"/>
                  <a:pt x="13641" y="5442"/>
                  <a:pt x="13716" y="5461"/>
                </a:cubicBezTo>
                <a:cubicBezTo>
                  <a:pt x="13716" y="5493"/>
                  <a:pt x="13716" y="5504"/>
                  <a:pt x="13748" y="5493"/>
                </a:cubicBezTo>
              </a:path>
              <a:path w="4731" h="1525">
                <a:moveTo>
                  <a:pt x="13589" y="4858"/>
                </a:moveTo>
                <a:cubicBezTo>
                  <a:pt x="13570" y="4952"/>
                  <a:pt x="13525" y="5050"/>
                  <a:pt x="13494" y="5144"/>
                </a:cubicBezTo>
                <a:cubicBezTo>
                  <a:pt x="13454" y="5264"/>
                  <a:pt x="13392" y="5402"/>
                  <a:pt x="13367" y="5524"/>
                </a:cubicBezTo>
                <a:cubicBezTo>
                  <a:pt x="13354" y="5585"/>
                  <a:pt x="13335" y="5620"/>
                  <a:pt x="13335" y="5683"/>
                </a:cubicBezTo>
              </a:path>
              <a:path w="4731" h="1525">
                <a:moveTo>
                  <a:pt x="13906" y="5080"/>
                </a:moveTo>
                <a:cubicBezTo>
                  <a:pt x="13906" y="5091"/>
                  <a:pt x="13906" y="5101"/>
                  <a:pt x="13906" y="5112"/>
                </a:cubicBezTo>
                <a:cubicBezTo>
                  <a:pt x="13985" y="5112"/>
                  <a:pt x="14022" y="5099"/>
                  <a:pt x="14097" y="5080"/>
                </a:cubicBezTo>
                <a:cubicBezTo>
                  <a:pt x="14163" y="5063"/>
                  <a:pt x="14250" y="5080"/>
                  <a:pt x="14319" y="5080"/>
                </a:cubicBezTo>
              </a:path>
              <a:path w="4731" h="1525">
                <a:moveTo>
                  <a:pt x="14002" y="5366"/>
                </a:moveTo>
                <a:cubicBezTo>
                  <a:pt x="14123" y="5366"/>
                  <a:pt x="14285" y="5393"/>
                  <a:pt x="14383" y="5334"/>
                </a:cubicBezTo>
              </a:path>
              <a:path w="4731" h="1525">
                <a:moveTo>
                  <a:pt x="14542" y="4540"/>
                </a:moveTo>
                <a:cubicBezTo>
                  <a:pt x="14512" y="4649"/>
                  <a:pt x="14488" y="4774"/>
                  <a:pt x="14510" y="4890"/>
                </a:cubicBezTo>
                <a:cubicBezTo>
                  <a:pt x="14535" y="5026"/>
                  <a:pt x="14518" y="5167"/>
                  <a:pt x="14542" y="5302"/>
                </a:cubicBezTo>
                <a:cubicBezTo>
                  <a:pt x="14548" y="5337"/>
                  <a:pt x="14577" y="5533"/>
                  <a:pt x="14605" y="5556"/>
                </a:cubicBezTo>
                <a:cubicBezTo>
                  <a:pt x="14616" y="5556"/>
                  <a:pt x="14626" y="5556"/>
                  <a:pt x="14637" y="5556"/>
                </a:cubicBezTo>
              </a:path>
              <a:path w="4731" h="1525">
                <a:moveTo>
                  <a:pt x="14764" y="4572"/>
                </a:moveTo>
                <a:cubicBezTo>
                  <a:pt x="14764" y="4664"/>
                  <a:pt x="14743" y="4741"/>
                  <a:pt x="14732" y="4826"/>
                </a:cubicBezTo>
                <a:cubicBezTo>
                  <a:pt x="14717" y="4937"/>
                  <a:pt x="14732" y="5062"/>
                  <a:pt x="14732" y="5175"/>
                </a:cubicBezTo>
                <a:cubicBezTo>
                  <a:pt x="14771" y="5162"/>
                  <a:pt x="14776" y="5123"/>
                  <a:pt x="14827" y="5112"/>
                </a:cubicBezTo>
                <a:cubicBezTo>
                  <a:pt x="14879" y="5101"/>
                  <a:pt x="14978" y="5125"/>
                  <a:pt x="15018" y="5144"/>
                </a:cubicBezTo>
                <a:cubicBezTo>
                  <a:pt x="15050" y="5160"/>
                  <a:pt x="15099" y="5200"/>
                  <a:pt x="15145" y="5175"/>
                </a:cubicBezTo>
                <a:cubicBezTo>
                  <a:pt x="15182" y="5138"/>
                  <a:pt x="15189" y="5119"/>
                  <a:pt x="15145" y="5080"/>
                </a:cubicBezTo>
              </a:path>
              <a:path w="4731" h="1525">
                <a:moveTo>
                  <a:pt x="15050" y="4540"/>
                </a:moveTo>
                <a:cubicBezTo>
                  <a:pt x="15037" y="4547"/>
                  <a:pt x="15006" y="4655"/>
                  <a:pt x="15018" y="4731"/>
                </a:cubicBezTo>
                <a:cubicBezTo>
                  <a:pt x="15046" y="4911"/>
                  <a:pt x="15050" y="5084"/>
                  <a:pt x="15050" y="5270"/>
                </a:cubicBezTo>
                <a:cubicBezTo>
                  <a:pt x="15050" y="5368"/>
                  <a:pt x="15048" y="5560"/>
                  <a:pt x="15081" y="5652"/>
                </a:cubicBezTo>
                <a:cubicBezTo>
                  <a:pt x="15119" y="5689"/>
                  <a:pt x="15126" y="5708"/>
                  <a:pt x="15081" y="5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6"/>
          <p:cNvSpPr/>
          <p:nvPr/>
        </p:nvSpPr>
        <p:spPr>
          <a:xfrm>
            <a:off x="4103640" y="2149560"/>
            <a:ext cx="1336680" cy="434880"/>
          </a:xfrm>
          <a:custGeom>
            <a:avLst/>
            <a:gdLst/>
            <a:ahLst/>
            <a:rect l="l" t="t" r="r" b="b"/>
            <a:pathLst>
              <a:path w="3716" h="1208">
                <a:moveTo>
                  <a:pt x="11684" y="6255"/>
                </a:moveTo>
                <a:cubicBezTo>
                  <a:pt x="11676" y="6198"/>
                  <a:pt x="11675" y="6135"/>
                  <a:pt x="11620" y="6128"/>
                </a:cubicBezTo>
                <a:cubicBezTo>
                  <a:pt x="11556" y="6120"/>
                  <a:pt x="11543" y="6143"/>
                  <a:pt x="11494" y="6160"/>
                </a:cubicBezTo>
                <a:cubicBezTo>
                  <a:pt x="11447" y="6176"/>
                  <a:pt x="11416" y="6203"/>
                  <a:pt x="11398" y="6255"/>
                </a:cubicBezTo>
                <a:cubicBezTo>
                  <a:pt x="11375" y="6322"/>
                  <a:pt x="11402" y="6455"/>
                  <a:pt x="11430" y="6509"/>
                </a:cubicBezTo>
                <a:cubicBezTo>
                  <a:pt x="11454" y="6556"/>
                  <a:pt x="11514" y="6540"/>
                  <a:pt x="11557" y="6540"/>
                </a:cubicBezTo>
                <a:cubicBezTo>
                  <a:pt x="11603" y="6540"/>
                  <a:pt x="11658" y="6485"/>
                  <a:pt x="11684" y="6445"/>
                </a:cubicBezTo>
                <a:cubicBezTo>
                  <a:pt x="11722" y="6387"/>
                  <a:pt x="11716" y="6350"/>
                  <a:pt x="11716" y="6286"/>
                </a:cubicBezTo>
                <a:cubicBezTo>
                  <a:pt x="11716" y="6228"/>
                  <a:pt x="11685" y="6201"/>
                  <a:pt x="11652" y="6160"/>
                </a:cubicBezTo>
                <a:cubicBezTo>
                  <a:pt x="11600" y="6173"/>
                  <a:pt x="11571" y="6182"/>
                  <a:pt x="11557" y="6223"/>
                </a:cubicBezTo>
              </a:path>
              <a:path w="3716" h="1208">
                <a:moveTo>
                  <a:pt x="11684" y="6572"/>
                </a:moveTo>
                <a:cubicBezTo>
                  <a:pt x="11625" y="6572"/>
                  <a:pt x="11602" y="6564"/>
                  <a:pt x="11557" y="6604"/>
                </a:cubicBezTo>
                <a:cubicBezTo>
                  <a:pt x="11525" y="6633"/>
                  <a:pt x="11470" y="6692"/>
                  <a:pt x="11462" y="6731"/>
                </a:cubicBezTo>
                <a:cubicBezTo>
                  <a:pt x="11446" y="6806"/>
                  <a:pt x="11456" y="6924"/>
                  <a:pt x="11494" y="6953"/>
                </a:cubicBezTo>
                <a:cubicBezTo>
                  <a:pt x="11528" y="6979"/>
                  <a:pt x="11564" y="7048"/>
                  <a:pt x="11620" y="7017"/>
                </a:cubicBezTo>
                <a:cubicBezTo>
                  <a:pt x="11645" y="7003"/>
                  <a:pt x="11698" y="6918"/>
                  <a:pt x="11716" y="6890"/>
                </a:cubicBezTo>
                <a:cubicBezTo>
                  <a:pt x="11752" y="6834"/>
                  <a:pt x="11766" y="6733"/>
                  <a:pt x="11748" y="6668"/>
                </a:cubicBezTo>
                <a:cubicBezTo>
                  <a:pt x="11739" y="6635"/>
                  <a:pt x="11672" y="6516"/>
                  <a:pt x="11620" y="6540"/>
                </a:cubicBezTo>
                <a:cubicBezTo>
                  <a:pt x="11610" y="6551"/>
                  <a:pt x="11599" y="6561"/>
                  <a:pt x="11589" y="6572"/>
                </a:cubicBezTo>
              </a:path>
              <a:path w="3716" h="1208">
                <a:moveTo>
                  <a:pt x="11843" y="6414"/>
                </a:moveTo>
                <a:cubicBezTo>
                  <a:pt x="11873" y="6454"/>
                  <a:pt x="11881" y="6503"/>
                  <a:pt x="11906" y="6540"/>
                </a:cubicBezTo>
                <a:cubicBezTo>
                  <a:pt x="11961" y="6622"/>
                  <a:pt x="12018" y="6706"/>
                  <a:pt x="12065" y="6794"/>
                </a:cubicBezTo>
                <a:cubicBezTo>
                  <a:pt x="12085" y="6831"/>
                  <a:pt x="12133" y="6967"/>
                  <a:pt x="12160" y="6985"/>
                </a:cubicBezTo>
                <a:cubicBezTo>
                  <a:pt x="12171" y="6985"/>
                  <a:pt x="12181" y="6985"/>
                  <a:pt x="12192" y="6985"/>
                </a:cubicBezTo>
              </a:path>
              <a:path w="3716" h="1208">
                <a:moveTo>
                  <a:pt x="12192" y="6350"/>
                </a:moveTo>
                <a:cubicBezTo>
                  <a:pt x="12144" y="6430"/>
                  <a:pt x="12136" y="6540"/>
                  <a:pt x="12097" y="6636"/>
                </a:cubicBezTo>
                <a:cubicBezTo>
                  <a:pt x="12041" y="6772"/>
                  <a:pt x="11996" y="6913"/>
                  <a:pt x="11938" y="7048"/>
                </a:cubicBezTo>
                <a:cubicBezTo>
                  <a:pt x="11912" y="7108"/>
                  <a:pt x="11909" y="7129"/>
                  <a:pt x="11874" y="7176"/>
                </a:cubicBezTo>
              </a:path>
              <a:path w="3716" h="1208">
                <a:moveTo>
                  <a:pt x="12668" y="6350"/>
                </a:moveTo>
                <a:cubicBezTo>
                  <a:pt x="12657" y="6350"/>
                  <a:pt x="12647" y="6350"/>
                  <a:pt x="12636" y="6350"/>
                </a:cubicBezTo>
                <a:cubicBezTo>
                  <a:pt x="12653" y="6417"/>
                  <a:pt x="12668" y="6459"/>
                  <a:pt x="12668" y="6540"/>
                </a:cubicBezTo>
                <a:cubicBezTo>
                  <a:pt x="12668" y="6667"/>
                  <a:pt x="12668" y="6795"/>
                  <a:pt x="12668" y="6922"/>
                </a:cubicBezTo>
              </a:path>
              <a:path w="3716" h="1208">
                <a:moveTo>
                  <a:pt x="12478" y="6731"/>
                </a:moveTo>
                <a:cubicBezTo>
                  <a:pt x="12478" y="6720"/>
                  <a:pt x="12478" y="6710"/>
                  <a:pt x="12478" y="6699"/>
                </a:cubicBezTo>
                <a:cubicBezTo>
                  <a:pt x="12545" y="6699"/>
                  <a:pt x="12583" y="6679"/>
                  <a:pt x="12636" y="6668"/>
                </a:cubicBezTo>
                <a:cubicBezTo>
                  <a:pt x="12657" y="6668"/>
                  <a:pt x="12679" y="6668"/>
                  <a:pt x="12700" y="6668"/>
                </a:cubicBezTo>
              </a:path>
              <a:path w="3716" h="1208">
                <a:moveTo>
                  <a:pt x="12922" y="6350"/>
                </a:moveTo>
                <a:cubicBezTo>
                  <a:pt x="12934" y="6302"/>
                  <a:pt x="12951" y="6262"/>
                  <a:pt x="12986" y="6223"/>
                </a:cubicBezTo>
                <a:cubicBezTo>
                  <a:pt x="13016" y="6190"/>
                  <a:pt x="13050" y="6159"/>
                  <a:pt x="13081" y="6128"/>
                </a:cubicBezTo>
                <a:cubicBezTo>
                  <a:pt x="13101" y="6188"/>
                  <a:pt x="13138" y="6158"/>
                  <a:pt x="13144" y="6255"/>
                </a:cubicBezTo>
                <a:cubicBezTo>
                  <a:pt x="13149" y="6342"/>
                  <a:pt x="13134" y="6428"/>
                  <a:pt x="13113" y="6509"/>
                </a:cubicBezTo>
                <a:cubicBezTo>
                  <a:pt x="13089" y="6602"/>
                  <a:pt x="13047" y="6707"/>
                  <a:pt x="13018" y="6794"/>
                </a:cubicBezTo>
                <a:cubicBezTo>
                  <a:pt x="13007" y="6827"/>
                  <a:pt x="12966" y="6939"/>
                  <a:pt x="12986" y="6890"/>
                </a:cubicBezTo>
                <a:cubicBezTo>
                  <a:pt x="12986" y="6858"/>
                  <a:pt x="12986" y="6847"/>
                  <a:pt x="13018" y="6858"/>
                </a:cubicBezTo>
                <a:cubicBezTo>
                  <a:pt x="13065" y="6874"/>
                  <a:pt x="13044" y="6890"/>
                  <a:pt x="13113" y="6890"/>
                </a:cubicBezTo>
                <a:cubicBezTo>
                  <a:pt x="13192" y="6890"/>
                  <a:pt x="13268" y="6905"/>
                  <a:pt x="13303" y="6858"/>
                </a:cubicBezTo>
                <a:cubicBezTo>
                  <a:pt x="13314" y="6847"/>
                  <a:pt x="13324" y="6837"/>
                  <a:pt x="13335" y="6826"/>
                </a:cubicBezTo>
              </a:path>
              <a:path w="3716" h="1208">
                <a:moveTo>
                  <a:pt x="13335" y="6350"/>
                </a:moveTo>
                <a:cubicBezTo>
                  <a:pt x="13371" y="6398"/>
                  <a:pt x="13397" y="6455"/>
                  <a:pt x="13430" y="6509"/>
                </a:cubicBezTo>
                <a:cubicBezTo>
                  <a:pt x="13484" y="6599"/>
                  <a:pt x="13529" y="6629"/>
                  <a:pt x="13589" y="6699"/>
                </a:cubicBezTo>
                <a:cubicBezTo>
                  <a:pt x="13641" y="6760"/>
                  <a:pt x="13636" y="6806"/>
                  <a:pt x="13716" y="6826"/>
                </a:cubicBezTo>
              </a:path>
              <a:path w="3716" h="1208">
                <a:moveTo>
                  <a:pt x="13621" y="6318"/>
                </a:moveTo>
                <a:cubicBezTo>
                  <a:pt x="13621" y="6408"/>
                  <a:pt x="13601" y="6490"/>
                  <a:pt x="13557" y="6572"/>
                </a:cubicBezTo>
                <a:cubicBezTo>
                  <a:pt x="13507" y="6665"/>
                  <a:pt x="13430" y="6755"/>
                  <a:pt x="13398" y="6858"/>
                </a:cubicBezTo>
                <a:cubicBezTo>
                  <a:pt x="13398" y="6869"/>
                  <a:pt x="13398" y="6879"/>
                  <a:pt x="13398" y="6890"/>
                </a:cubicBezTo>
              </a:path>
              <a:path w="3716" h="1208">
                <a:moveTo>
                  <a:pt x="14002" y="6414"/>
                </a:moveTo>
                <a:cubicBezTo>
                  <a:pt x="14099" y="6414"/>
                  <a:pt x="14173" y="6407"/>
                  <a:pt x="14256" y="6382"/>
                </a:cubicBezTo>
                <a:cubicBezTo>
                  <a:pt x="14281" y="6374"/>
                  <a:pt x="14325" y="6382"/>
                  <a:pt x="14351" y="6382"/>
                </a:cubicBezTo>
              </a:path>
              <a:path w="3716" h="1208">
                <a:moveTo>
                  <a:pt x="14002" y="6699"/>
                </a:moveTo>
                <a:cubicBezTo>
                  <a:pt x="14065" y="6699"/>
                  <a:pt x="14077" y="6685"/>
                  <a:pt x="14129" y="6668"/>
                </a:cubicBezTo>
                <a:cubicBezTo>
                  <a:pt x="14169" y="6655"/>
                  <a:pt x="14252" y="6644"/>
                  <a:pt x="14288" y="6636"/>
                </a:cubicBezTo>
                <a:cubicBezTo>
                  <a:pt x="14341" y="6636"/>
                  <a:pt x="14351" y="6636"/>
                  <a:pt x="14383" y="6636"/>
                </a:cubicBezTo>
              </a:path>
              <a:path w="3716" h="1208">
                <a:moveTo>
                  <a:pt x="14637" y="6032"/>
                </a:moveTo>
                <a:cubicBezTo>
                  <a:pt x="14603" y="6088"/>
                  <a:pt x="14585" y="6185"/>
                  <a:pt x="14573" y="6255"/>
                </a:cubicBezTo>
                <a:cubicBezTo>
                  <a:pt x="14546" y="6418"/>
                  <a:pt x="14562" y="6652"/>
                  <a:pt x="14605" y="6794"/>
                </a:cubicBezTo>
                <a:cubicBezTo>
                  <a:pt x="14605" y="6826"/>
                  <a:pt x="14605" y="6837"/>
                  <a:pt x="14605" y="6858"/>
                </a:cubicBezTo>
              </a:path>
              <a:path w="3716" h="1208">
                <a:moveTo>
                  <a:pt x="14796" y="6096"/>
                </a:moveTo>
                <a:cubicBezTo>
                  <a:pt x="14796" y="6169"/>
                  <a:pt x="14786" y="6251"/>
                  <a:pt x="14764" y="6318"/>
                </a:cubicBezTo>
                <a:cubicBezTo>
                  <a:pt x="14748" y="6364"/>
                  <a:pt x="14751" y="6472"/>
                  <a:pt x="14732" y="6509"/>
                </a:cubicBezTo>
                <a:cubicBezTo>
                  <a:pt x="14721" y="6519"/>
                  <a:pt x="14711" y="6530"/>
                  <a:pt x="14700" y="6540"/>
                </a:cubicBezTo>
                <a:cubicBezTo>
                  <a:pt x="14745" y="6525"/>
                  <a:pt x="14732" y="6484"/>
                  <a:pt x="14796" y="6477"/>
                </a:cubicBezTo>
                <a:cubicBezTo>
                  <a:pt x="14868" y="6469"/>
                  <a:pt x="14893" y="6494"/>
                  <a:pt x="14922" y="6509"/>
                </a:cubicBezTo>
                <a:cubicBezTo>
                  <a:pt x="14970" y="6533"/>
                  <a:pt x="15009" y="6482"/>
                  <a:pt x="15050" y="6477"/>
                </a:cubicBezTo>
                <a:cubicBezTo>
                  <a:pt x="15088" y="6473"/>
                  <a:pt x="15108" y="6427"/>
                  <a:pt x="15113" y="6382"/>
                </a:cubicBezTo>
                <a:cubicBezTo>
                  <a:pt x="15113" y="6371"/>
                  <a:pt x="15113" y="6361"/>
                  <a:pt x="15113" y="6350"/>
                </a:cubicBezTo>
              </a:path>
              <a:path w="3716" h="1208">
                <a:moveTo>
                  <a:pt x="15050" y="5969"/>
                </a:moveTo>
                <a:cubicBezTo>
                  <a:pt x="15050" y="6088"/>
                  <a:pt x="15031" y="6174"/>
                  <a:pt x="15018" y="6286"/>
                </a:cubicBezTo>
                <a:cubicBezTo>
                  <a:pt x="15003" y="6412"/>
                  <a:pt x="15019" y="6579"/>
                  <a:pt x="15050" y="6699"/>
                </a:cubicBezTo>
                <a:cubicBezTo>
                  <a:pt x="15070" y="6776"/>
                  <a:pt x="15088" y="6846"/>
                  <a:pt x="15113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7"/>
          <p:cNvSpPr/>
          <p:nvPr/>
        </p:nvSpPr>
        <p:spPr>
          <a:xfrm>
            <a:off x="6675480" y="3817800"/>
            <a:ext cx="1017720" cy="914400"/>
          </a:xfrm>
          <a:custGeom>
            <a:avLst/>
            <a:gdLst/>
            <a:ahLst/>
            <a:rect l="l" t="t" r="r" b="b"/>
            <a:pathLst>
              <a:path w="2827" h="2541">
                <a:moveTo>
                  <a:pt x="19018" y="10732"/>
                </a:moveTo>
                <a:cubicBezTo>
                  <a:pt x="18996" y="10754"/>
                  <a:pt x="18977" y="10773"/>
                  <a:pt x="18955" y="10795"/>
                </a:cubicBezTo>
                <a:cubicBezTo>
                  <a:pt x="18911" y="10840"/>
                  <a:pt x="18890" y="10872"/>
                  <a:pt x="18860" y="10922"/>
                </a:cubicBezTo>
                <a:cubicBezTo>
                  <a:pt x="18806" y="11013"/>
                  <a:pt x="18775" y="11112"/>
                  <a:pt x="18732" y="11208"/>
                </a:cubicBezTo>
                <a:cubicBezTo>
                  <a:pt x="18660" y="11367"/>
                  <a:pt x="18617" y="11514"/>
                  <a:pt x="18574" y="11684"/>
                </a:cubicBezTo>
                <a:cubicBezTo>
                  <a:pt x="18532" y="11853"/>
                  <a:pt x="18542" y="12018"/>
                  <a:pt x="18542" y="12192"/>
                </a:cubicBezTo>
                <a:cubicBezTo>
                  <a:pt x="18542" y="12361"/>
                  <a:pt x="18590" y="12460"/>
                  <a:pt x="18669" y="12605"/>
                </a:cubicBezTo>
                <a:cubicBezTo>
                  <a:pt x="18680" y="12626"/>
                  <a:pt x="18690" y="12647"/>
                  <a:pt x="18701" y="12668"/>
                </a:cubicBezTo>
              </a:path>
              <a:path w="2827" h="2541">
                <a:moveTo>
                  <a:pt x="21018" y="10604"/>
                </a:moveTo>
                <a:cubicBezTo>
                  <a:pt x="21093" y="10679"/>
                  <a:pt x="21138" y="10726"/>
                  <a:pt x="21177" y="10827"/>
                </a:cubicBezTo>
                <a:cubicBezTo>
                  <a:pt x="21225" y="10952"/>
                  <a:pt x="21288" y="11108"/>
                  <a:pt x="21304" y="11240"/>
                </a:cubicBezTo>
                <a:cubicBezTo>
                  <a:pt x="21323" y="11397"/>
                  <a:pt x="21355" y="11558"/>
                  <a:pt x="21368" y="11716"/>
                </a:cubicBezTo>
                <a:cubicBezTo>
                  <a:pt x="21380" y="11863"/>
                  <a:pt x="21341" y="12050"/>
                  <a:pt x="21304" y="12192"/>
                </a:cubicBezTo>
                <a:cubicBezTo>
                  <a:pt x="21275" y="12302"/>
                  <a:pt x="21218" y="12364"/>
                  <a:pt x="21146" y="12446"/>
                </a:cubicBezTo>
              </a:path>
              <a:path w="2827" h="2541">
                <a:moveTo>
                  <a:pt x="20002" y="12446"/>
                </a:moveTo>
                <a:cubicBezTo>
                  <a:pt x="20002" y="12559"/>
                  <a:pt x="19986" y="12685"/>
                  <a:pt x="19971" y="12795"/>
                </a:cubicBezTo>
                <a:cubicBezTo>
                  <a:pt x="19937" y="12966"/>
                  <a:pt x="19922" y="13031"/>
                  <a:pt x="19876" y="13144"/>
                </a:cubicBezTo>
              </a:path>
              <a:path w="2827" h="2541">
                <a:moveTo>
                  <a:pt x="19114" y="11462"/>
                </a:moveTo>
                <a:cubicBezTo>
                  <a:pt x="19082" y="11462"/>
                  <a:pt x="19071" y="11462"/>
                  <a:pt x="19082" y="11494"/>
                </a:cubicBezTo>
                <a:cubicBezTo>
                  <a:pt x="19082" y="11447"/>
                  <a:pt x="19091" y="11401"/>
                  <a:pt x="19114" y="11366"/>
                </a:cubicBezTo>
                <a:cubicBezTo>
                  <a:pt x="19152" y="11308"/>
                  <a:pt x="19170" y="11258"/>
                  <a:pt x="19209" y="11208"/>
                </a:cubicBezTo>
                <a:cubicBezTo>
                  <a:pt x="19246" y="11162"/>
                  <a:pt x="19284" y="11125"/>
                  <a:pt x="19336" y="11112"/>
                </a:cubicBezTo>
                <a:cubicBezTo>
                  <a:pt x="19415" y="11211"/>
                  <a:pt x="19386" y="11225"/>
                  <a:pt x="19368" y="11335"/>
                </a:cubicBezTo>
                <a:cubicBezTo>
                  <a:pt x="19348" y="11458"/>
                  <a:pt x="19330" y="11594"/>
                  <a:pt x="19304" y="11716"/>
                </a:cubicBezTo>
                <a:cubicBezTo>
                  <a:pt x="19276" y="11843"/>
                  <a:pt x="19229" y="11977"/>
                  <a:pt x="19177" y="12097"/>
                </a:cubicBezTo>
                <a:cubicBezTo>
                  <a:pt x="19146" y="12169"/>
                  <a:pt x="19109" y="12184"/>
                  <a:pt x="19082" y="12224"/>
                </a:cubicBezTo>
                <a:cubicBezTo>
                  <a:pt x="19082" y="12235"/>
                  <a:pt x="19082" y="12245"/>
                  <a:pt x="19082" y="12256"/>
                </a:cubicBezTo>
                <a:cubicBezTo>
                  <a:pt x="19034" y="12185"/>
                  <a:pt x="19091" y="12238"/>
                  <a:pt x="19114" y="12192"/>
                </a:cubicBezTo>
                <a:cubicBezTo>
                  <a:pt x="19136" y="12148"/>
                  <a:pt x="19147" y="12160"/>
                  <a:pt x="19209" y="12160"/>
                </a:cubicBezTo>
                <a:cubicBezTo>
                  <a:pt x="19273" y="12160"/>
                  <a:pt x="19284" y="12175"/>
                  <a:pt x="19336" y="12192"/>
                </a:cubicBezTo>
                <a:cubicBezTo>
                  <a:pt x="19384" y="12208"/>
                  <a:pt x="19407" y="12224"/>
                  <a:pt x="19463" y="12224"/>
                </a:cubicBezTo>
                <a:cubicBezTo>
                  <a:pt x="19517" y="12224"/>
                  <a:pt x="19515" y="12203"/>
                  <a:pt x="19526" y="12160"/>
                </a:cubicBezTo>
              </a:path>
              <a:path w="2827" h="2541">
                <a:moveTo>
                  <a:pt x="20447" y="11049"/>
                </a:moveTo>
                <a:cubicBezTo>
                  <a:pt x="20447" y="11140"/>
                  <a:pt x="20456" y="11191"/>
                  <a:pt x="20447" y="11271"/>
                </a:cubicBezTo>
                <a:cubicBezTo>
                  <a:pt x="20436" y="11368"/>
                  <a:pt x="20443" y="11443"/>
                  <a:pt x="20415" y="11525"/>
                </a:cubicBezTo>
                <a:cubicBezTo>
                  <a:pt x="20415" y="11536"/>
                  <a:pt x="20415" y="11546"/>
                  <a:pt x="20415" y="11557"/>
                </a:cubicBezTo>
                <a:cubicBezTo>
                  <a:pt x="20441" y="11537"/>
                  <a:pt x="20503" y="11498"/>
                  <a:pt x="20510" y="11494"/>
                </a:cubicBezTo>
                <a:cubicBezTo>
                  <a:pt x="20585" y="11458"/>
                  <a:pt x="20737" y="11545"/>
                  <a:pt x="20764" y="11462"/>
                </a:cubicBezTo>
              </a:path>
              <a:path w="2827" h="2541">
                <a:moveTo>
                  <a:pt x="20860" y="10827"/>
                </a:moveTo>
                <a:cubicBezTo>
                  <a:pt x="20810" y="10974"/>
                  <a:pt x="20844" y="11115"/>
                  <a:pt x="20828" y="11271"/>
                </a:cubicBezTo>
                <a:cubicBezTo>
                  <a:pt x="20802" y="11524"/>
                  <a:pt x="20755" y="11811"/>
                  <a:pt x="20764" y="12065"/>
                </a:cubicBezTo>
                <a:cubicBezTo>
                  <a:pt x="20796" y="12255"/>
                  <a:pt x="20806" y="12317"/>
                  <a:pt x="20796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8"/>
          <p:cNvSpPr/>
          <p:nvPr/>
        </p:nvSpPr>
        <p:spPr>
          <a:xfrm>
            <a:off x="7989840" y="1965240"/>
            <a:ext cx="777960" cy="1384560"/>
          </a:xfrm>
          <a:custGeom>
            <a:avLst/>
            <a:gdLst/>
            <a:ahLst/>
            <a:rect l="l" t="t" r="r" b="b"/>
            <a:pathLst>
              <a:path w="2160" h="3843">
                <a:moveTo>
                  <a:pt x="22511" y="5715"/>
                </a:moveTo>
                <a:cubicBezTo>
                  <a:pt x="22479" y="5715"/>
                  <a:pt x="22468" y="5715"/>
                  <a:pt x="22447" y="5715"/>
                </a:cubicBezTo>
                <a:cubicBezTo>
                  <a:pt x="22459" y="5668"/>
                  <a:pt x="22481" y="5602"/>
                  <a:pt x="22511" y="5556"/>
                </a:cubicBezTo>
                <a:cubicBezTo>
                  <a:pt x="22536" y="5518"/>
                  <a:pt x="22600" y="5474"/>
                  <a:pt x="22638" y="5461"/>
                </a:cubicBezTo>
                <a:cubicBezTo>
                  <a:pt x="22686" y="5445"/>
                  <a:pt x="22732" y="5464"/>
                  <a:pt x="22765" y="5493"/>
                </a:cubicBezTo>
                <a:cubicBezTo>
                  <a:pt x="22794" y="5519"/>
                  <a:pt x="22832" y="5651"/>
                  <a:pt x="22828" y="5683"/>
                </a:cubicBezTo>
                <a:cubicBezTo>
                  <a:pt x="22818" y="5773"/>
                  <a:pt x="22790" y="5913"/>
                  <a:pt x="22765" y="6001"/>
                </a:cubicBezTo>
                <a:cubicBezTo>
                  <a:pt x="22740" y="6089"/>
                  <a:pt x="22685" y="6164"/>
                  <a:pt x="22670" y="6255"/>
                </a:cubicBezTo>
                <a:cubicBezTo>
                  <a:pt x="22658" y="6332"/>
                  <a:pt x="22627" y="6382"/>
                  <a:pt x="22606" y="6445"/>
                </a:cubicBezTo>
                <a:cubicBezTo>
                  <a:pt x="22589" y="6496"/>
                  <a:pt x="22583" y="6494"/>
                  <a:pt x="22606" y="6445"/>
                </a:cubicBezTo>
                <a:cubicBezTo>
                  <a:pt x="22630" y="6394"/>
                  <a:pt x="22662" y="6355"/>
                  <a:pt x="22701" y="6350"/>
                </a:cubicBezTo>
                <a:cubicBezTo>
                  <a:pt x="22716" y="6348"/>
                  <a:pt x="22811" y="6373"/>
                  <a:pt x="22828" y="6382"/>
                </a:cubicBezTo>
                <a:cubicBezTo>
                  <a:pt x="22875" y="6408"/>
                  <a:pt x="22902" y="6432"/>
                  <a:pt x="22955" y="6445"/>
                </a:cubicBezTo>
              </a:path>
              <a:path w="2160" h="3843">
                <a:moveTo>
                  <a:pt x="23019" y="5524"/>
                </a:moveTo>
                <a:cubicBezTo>
                  <a:pt x="23019" y="5595"/>
                  <a:pt x="23042" y="5650"/>
                  <a:pt x="23050" y="5715"/>
                </a:cubicBezTo>
                <a:cubicBezTo>
                  <a:pt x="23054" y="5749"/>
                  <a:pt x="23050" y="6005"/>
                  <a:pt x="23050" y="5937"/>
                </a:cubicBezTo>
                <a:cubicBezTo>
                  <a:pt x="23050" y="5842"/>
                  <a:pt x="23023" y="5773"/>
                  <a:pt x="23019" y="5683"/>
                </a:cubicBezTo>
                <a:cubicBezTo>
                  <a:pt x="23019" y="5609"/>
                  <a:pt x="23019" y="5598"/>
                  <a:pt x="23019" y="5556"/>
                </a:cubicBezTo>
                <a:cubicBezTo>
                  <a:pt x="23042" y="5564"/>
                  <a:pt x="23095" y="5613"/>
                  <a:pt x="23114" y="5652"/>
                </a:cubicBezTo>
                <a:cubicBezTo>
                  <a:pt x="23147" y="5720"/>
                  <a:pt x="23213" y="5779"/>
                  <a:pt x="23241" y="5842"/>
                </a:cubicBezTo>
                <a:cubicBezTo>
                  <a:pt x="23241" y="5878"/>
                  <a:pt x="23244" y="5892"/>
                  <a:pt x="23273" y="5906"/>
                </a:cubicBezTo>
                <a:cubicBezTo>
                  <a:pt x="23273" y="5772"/>
                  <a:pt x="23269" y="5641"/>
                  <a:pt x="23304" y="5524"/>
                </a:cubicBezTo>
                <a:cubicBezTo>
                  <a:pt x="23304" y="5493"/>
                  <a:pt x="23304" y="5482"/>
                  <a:pt x="23304" y="5461"/>
                </a:cubicBezTo>
              </a:path>
              <a:path w="2160" h="3843">
                <a:moveTo>
                  <a:pt x="23432" y="5461"/>
                </a:moveTo>
                <a:cubicBezTo>
                  <a:pt x="23432" y="5556"/>
                  <a:pt x="23443" y="5626"/>
                  <a:pt x="23463" y="5715"/>
                </a:cubicBezTo>
                <a:cubicBezTo>
                  <a:pt x="23476" y="5774"/>
                  <a:pt x="23482" y="5820"/>
                  <a:pt x="23495" y="5874"/>
                </a:cubicBezTo>
              </a:path>
              <a:path w="2160" h="3843">
                <a:moveTo>
                  <a:pt x="23432" y="5461"/>
                </a:moveTo>
                <a:cubicBezTo>
                  <a:pt x="23479" y="5473"/>
                  <a:pt x="23520" y="5490"/>
                  <a:pt x="23558" y="5524"/>
                </a:cubicBezTo>
                <a:cubicBezTo>
                  <a:pt x="23597" y="5559"/>
                  <a:pt x="23701" y="5595"/>
                  <a:pt x="23717" y="5652"/>
                </a:cubicBezTo>
                <a:cubicBezTo>
                  <a:pt x="23737" y="5723"/>
                  <a:pt x="23694" y="5789"/>
                  <a:pt x="23654" y="5842"/>
                </a:cubicBezTo>
                <a:cubicBezTo>
                  <a:pt x="23623" y="5884"/>
                  <a:pt x="23541" y="5894"/>
                  <a:pt x="23495" y="5906"/>
                </a:cubicBezTo>
              </a:path>
              <a:path w="2160" h="3843">
                <a:moveTo>
                  <a:pt x="22447" y="7207"/>
                </a:moveTo>
                <a:cubicBezTo>
                  <a:pt x="22447" y="7299"/>
                  <a:pt x="22468" y="7377"/>
                  <a:pt x="22479" y="7461"/>
                </a:cubicBezTo>
                <a:cubicBezTo>
                  <a:pt x="22497" y="7599"/>
                  <a:pt x="22490" y="7741"/>
                  <a:pt x="22511" y="7874"/>
                </a:cubicBezTo>
                <a:cubicBezTo>
                  <a:pt x="22513" y="7887"/>
                  <a:pt x="22512" y="8107"/>
                  <a:pt x="22479" y="8064"/>
                </a:cubicBezTo>
                <a:cubicBezTo>
                  <a:pt x="22479" y="8033"/>
                  <a:pt x="22479" y="8022"/>
                  <a:pt x="22479" y="8001"/>
                </a:cubicBezTo>
              </a:path>
              <a:path w="2160" h="3843">
                <a:moveTo>
                  <a:pt x="22193" y="7302"/>
                </a:moveTo>
                <a:cubicBezTo>
                  <a:pt x="22193" y="7292"/>
                  <a:pt x="22193" y="7281"/>
                  <a:pt x="22193" y="7271"/>
                </a:cubicBezTo>
                <a:cubicBezTo>
                  <a:pt x="22246" y="7271"/>
                  <a:pt x="22276" y="7258"/>
                  <a:pt x="22320" y="7239"/>
                </a:cubicBezTo>
                <a:cubicBezTo>
                  <a:pt x="22417" y="7197"/>
                  <a:pt x="22513" y="7185"/>
                  <a:pt x="22606" y="7144"/>
                </a:cubicBezTo>
                <a:cubicBezTo>
                  <a:pt x="22676" y="7113"/>
                  <a:pt x="22719" y="7080"/>
                  <a:pt x="22796" y="7080"/>
                </a:cubicBezTo>
                <a:cubicBezTo>
                  <a:pt x="22807" y="7080"/>
                  <a:pt x="22817" y="7080"/>
                  <a:pt x="22828" y="7080"/>
                </a:cubicBezTo>
              </a:path>
              <a:path w="2160" h="3843">
                <a:moveTo>
                  <a:pt x="22765" y="7525"/>
                </a:moveTo>
                <a:cubicBezTo>
                  <a:pt x="22765" y="7607"/>
                  <a:pt x="22792" y="7667"/>
                  <a:pt x="22796" y="7747"/>
                </a:cubicBezTo>
                <a:cubicBezTo>
                  <a:pt x="22801" y="7838"/>
                  <a:pt x="22807" y="7885"/>
                  <a:pt x="22828" y="7969"/>
                </a:cubicBezTo>
                <a:cubicBezTo>
                  <a:pt x="22835" y="7996"/>
                  <a:pt x="22828" y="8036"/>
                  <a:pt x="22828" y="8064"/>
                </a:cubicBezTo>
                <a:cubicBezTo>
                  <a:pt x="22803" y="8052"/>
                  <a:pt x="22801" y="8041"/>
                  <a:pt x="22796" y="7969"/>
                </a:cubicBezTo>
                <a:cubicBezTo>
                  <a:pt x="22788" y="7843"/>
                  <a:pt x="22785" y="7707"/>
                  <a:pt x="22828" y="7588"/>
                </a:cubicBezTo>
                <a:cubicBezTo>
                  <a:pt x="22850" y="7529"/>
                  <a:pt x="22894" y="7444"/>
                  <a:pt x="22924" y="7398"/>
                </a:cubicBezTo>
                <a:cubicBezTo>
                  <a:pt x="22952" y="7355"/>
                  <a:pt x="22975" y="7366"/>
                  <a:pt x="23019" y="7366"/>
                </a:cubicBezTo>
              </a:path>
              <a:path w="2160" h="3843">
                <a:moveTo>
                  <a:pt x="23304" y="7493"/>
                </a:moveTo>
                <a:cubicBezTo>
                  <a:pt x="23287" y="7387"/>
                  <a:pt x="23296" y="7469"/>
                  <a:pt x="23273" y="7398"/>
                </a:cubicBezTo>
                <a:cubicBezTo>
                  <a:pt x="23245" y="7398"/>
                  <a:pt x="23153" y="7411"/>
                  <a:pt x="23146" y="7430"/>
                </a:cubicBezTo>
                <a:cubicBezTo>
                  <a:pt x="23118" y="7505"/>
                  <a:pt x="23086" y="7596"/>
                  <a:pt x="23082" y="7684"/>
                </a:cubicBezTo>
                <a:cubicBezTo>
                  <a:pt x="23080" y="7742"/>
                  <a:pt x="23091" y="7904"/>
                  <a:pt x="23146" y="7938"/>
                </a:cubicBezTo>
                <a:cubicBezTo>
                  <a:pt x="23157" y="7938"/>
                  <a:pt x="23167" y="7938"/>
                  <a:pt x="23178" y="7938"/>
                </a:cubicBezTo>
                <a:cubicBezTo>
                  <a:pt x="23234" y="7924"/>
                  <a:pt x="23245" y="7892"/>
                  <a:pt x="23273" y="7842"/>
                </a:cubicBezTo>
                <a:cubicBezTo>
                  <a:pt x="23334" y="7734"/>
                  <a:pt x="23270" y="7634"/>
                  <a:pt x="23304" y="7525"/>
                </a:cubicBezTo>
                <a:cubicBezTo>
                  <a:pt x="23315" y="7514"/>
                  <a:pt x="23325" y="7504"/>
                  <a:pt x="23336" y="7493"/>
                </a:cubicBezTo>
                <a:cubicBezTo>
                  <a:pt x="23336" y="7627"/>
                  <a:pt x="23339" y="7748"/>
                  <a:pt x="23368" y="7874"/>
                </a:cubicBezTo>
                <a:cubicBezTo>
                  <a:pt x="23379" y="7922"/>
                  <a:pt x="23394" y="7932"/>
                  <a:pt x="23432" y="7969"/>
                </a:cubicBezTo>
              </a:path>
              <a:path w="2160" h="3843">
                <a:moveTo>
                  <a:pt x="23844" y="7239"/>
                </a:moveTo>
                <a:cubicBezTo>
                  <a:pt x="23783" y="7300"/>
                  <a:pt x="23720" y="7347"/>
                  <a:pt x="23654" y="7398"/>
                </a:cubicBezTo>
                <a:cubicBezTo>
                  <a:pt x="23614" y="7429"/>
                  <a:pt x="23599" y="7431"/>
                  <a:pt x="23558" y="7461"/>
                </a:cubicBezTo>
                <a:cubicBezTo>
                  <a:pt x="23615" y="7503"/>
                  <a:pt x="23611" y="7500"/>
                  <a:pt x="23654" y="7556"/>
                </a:cubicBezTo>
                <a:cubicBezTo>
                  <a:pt x="23606" y="7572"/>
                  <a:pt x="23622" y="7595"/>
                  <a:pt x="23622" y="7652"/>
                </a:cubicBezTo>
                <a:cubicBezTo>
                  <a:pt x="23622" y="7709"/>
                  <a:pt x="23562" y="7695"/>
                  <a:pt x="23590" y="7684"/>
                </a:cubicBezTo>
                <a:cubicBezTo>
                  <a:pt x="23657" y="7658"/>
                  <a:pt x="23624" y="7651"/>
                  <a:pt x="23686" y="7620"/>
                </a:cubicBezTo>
                <a:cubicBezTo>
                  <a:pt x="23727" y="7599"/>
                  <a:pt x="23717" y="7588"/>
                  <a:pt x="23781" y="7588"/>
                </a:cubicBezTo>
                <a:cubicBezTo>
                  <a:pt x="23791" y="7588"/>
                  <a:pt x="23802" y="7588"/>
                  <a:pt x="23812" y="7588"/>
                </a:cubicBezTo>
              </a:path>
              <a:path w="2160" h="3843">
                <a:moveTo>
                  <a:pt x="23876" y="7334"/>
                </a:moveTo>
                <a:cubicBezTo>
                  <a:pt x="23798" y="7276"/>
                  <a:pt x="23804" y="7298"/>
                  <a:pt x="23749" y="7366"/>
                </a:cubicBezTo>
                <a:cubicBezTo>
                  <a:pt x="23707" y="7417"/>
                  <a:pt x="23690" y="7490"/>
                  <a:pt x="23686" y="7556"/>
                </a:cubicBezTo>
                <a:cubicBezTo>
                  <a:pt x="23681" y="7640"/>
                  <a:pt x="23629" y="7722"/>
                  <a:pt x="23654" y="7810"/>
                </a:cubicBezTo>
                <a:cubicBezTo>
                  <a:pt x="23671" y="7870"/>
                  <a:pt x="23686" y="7931"/>
                  <a:pt x="23749" y="7938"/>
                </a:cubicBezTo>
                <a:cubicBezTo>
                  <a:pt x="23825" y="7946"/>
                  <a:pt x="23837" y="7898"/>
                  <a:pt x="23908" y="7874"/>
                </a:cubicBezTo>
                <a:cubicBezTo>
                  <a:pt x="23962" y="7856"/>
                  <a:pt x="23991" y="7823"/>
                  <a:pt x="24035" y="7779"/>
                </a:cubicBezTo>
                <a:cubicBezTo>
                  <a:pt x="24045" y="7768"/>
                  <a:pt x="24056" y="7758"/>
                  <a:pt x="24066" y="7747"/>
                </a:cubicBezTo>
              </a:path>
              <a:path w="2160" h="3843">
                <a:moveTo>
                  <a:pt x="24066" y="7588"/>
                </a:moveTo>
                <a:cubicBezTo>
                  <a:pt x="24080" y="7545"/>
                  <a:pt x="24117" y="7551"/>
                  <a:pt x="24130" y="7525"/>
                </a:cubicBezTo>
                <a:cubicBezTo>
                  <a:pt x="24141" y="7503"/>
                  <a:pt x="24183" y="7448"/>
                  <a:pt x="24225" y="7430"/>
                </a:cubicBezTo>
                <a:cubicBezTo>
                  <a:pt x="24273" y="7409"/>
                  <a:pt x="24308" y="7399"/>
                  <a:pt x="24352" y="7366"/>
                </a:cubicBezTo>
                <a:cubicBezTo>
                  <a:pt x="24306" y="7351"/>
                  <a:pt x="24322" y="7309"/>
                  <a:pt x="24257" y="7302"/>
                </a:cubicBezTo>
                <a:cubicBezTo>
                  <a:pt x="24192" y="7295"/>
                  <a:pt x="24181" y="7317"/>
                  <a:pt x="24130" y="7334"/>
                </a:cubicBezTo>
                <a:cubicBezTo>
                  <a:pt x="24046" y="7362"/>
                  <a:pt x="24066" y="7404"/>
                  <a:pt x="24066" y="7493"/>
                </a:cubicBezTo>
                <a:cubicBezTo>
                  <a:pt x="24066" y="7590"/>
                  <a:pt x="24045" y="7694"/>
                  <a:pt x="24098" y="7779"/>
                </a:cubicBezTo>
                <a:cubicBezTo>
                  <a:pt x="24145" y="7854"/>
                  <a:pt x="24196" y="7843"/>
                  <a:pt x="24257" y="7874"/>
                </a:cubicBezTo>
                <a:cubicBezTo>
                  <a:pt x="24320" y="7906"/>
                  <a:pt x="24288" y="7923"/>
                  <a:pt x="24352" y="7874"/>
                </a:cubicBezTo>
              </a:path>
              <a:path w="2160" h="3843">
                <a:moveTo>
                  <a:pt x="23178" y="8318"/>
                </a:moveTo>
                <a:cubicBezTo>
                  <a:pt x="23161" y="8402"/>
                  <a:pt x="23137" y="8424"/>
                  <a:pt x="23050" y="8446"/>
                </a:cubicBezTo>
                <a:cubicBezTo>
                  <a:pt x="23001" y="8458"/>
                  <a:pt x="22980" y="8477"/>
                  <a:pt x="22924" y="8477"/>
                </a:cubicBezTo>
                <a:cubicBezTo>
                  <a:pt x="22872" y="8477"/>
                  <a:pt x="22908" y="8462"/>
                  <a:pt x="22860" y="8446"/>
                </a:cubicBezTo>
                <a:cubicBezTo>
                  <a:pt x="22860" y="8569"/>
                  <a:pt x="22850" y="8689"/>
                  <a:pt x="22828" y="8795"/>
                </a:cubicBezTo>
                <a:cubicBezTo>
                  <a:pt x="22828" y="8848"/>
                  <a:pt x="22828" y="8858"/>
                  <a:pt x="22828" y="8890"/>
                </a:cubicBezTo>
                <a:cubicBezTo>
                  <a:pt x="22878" y="8873"/>
                  <a:pt x="22862" y="8840"/>
                  <a:pt x="22892" y="8795"/>
                </a:cubicBezTo>
                <a:cubicBezTo>
                  <a:pt x="22914" y="8763"/>
                  <a:pt x="22984" y="8684"/>
                  <a:pt x="23019" y="8668"/>
                </a:cubicBezTo>
                <a:cubicBezTo>
                  <a:pt x="23064" y="8648"/>
                  <a:pt x="23116" y="8674"/>
                  <a:pt x="23146" y="8700"/>
                </a:cubicBezTo>
                <a:cubicBezTo>
                  <a:pt x="23194" y="8742"/>
                  <a:pt x="23231" y="8838"/>
                  <a:pt x="23241" y="8890"/>
                </a:cubicBezTo>
                <a:cubicBezTo>
                  <a:pt x="23259" y="8981"/>
                  <a:pt x="23198" y="9083"/>
                  <a:pt x="23146" y="9144"/>
                </a:cubicBezTo>
                <a:cubicBezTo>
                  <a:pt x="23092" y="9208"/>
                  <a:pt x="23010" y="9284"/>
                  <a:pt x="22924" y="9303"/>
                </a:cubicBezTo>
                <a:cubicBezTo>
                  <a:pt x="22884" y="9312"/>
                  <a:pt x="22806" y="9303"/>
                  <a:pt x="22765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9"/>
          <p:cNvSpPr/>
          <p:nvPr/>
        </p:nvSpPr>
        <p:spPr>
          <a:xfrm>
            <a:off x="4514760" y="2593800"/>
            <a:ext cx="881280" cy="389160"/>
          </a:xfrm>
          <a:custGeom>
            <a:avLst/>
            <a:gdLst/>
            <a:ahLst/>
            <a:rect l="l" t="t" r="r" b="b"/>
            <a:pathLst>
              <a:path w="2446" h="1081">
                <a:moveTo>
                  <a:pt x="12605" y="7302"/>
                </a:moveTo>
                <a:cubicBezTo>
                  <a:pt x="12605" y="7407"/>
                  <a:pt x="12585" y="7493"/>
                  <a:pt x="12573" y="7588"/>
                </a:cubicBezTo>
                <a:cubicBezTo>
                  <a:pt x="12553" y="7737"/>
                  <a:pt x="12565" y="7889"/>
                  <a:pt x="12541" y="8033"/>
                </a:cubicBezTo>
                <a:cubicBezTo>
                  <a:pt x="12537" y="8058"/>
                  <a:pt x="12541" y="8273"/>
                  <a:pt x="12541" y="8192"/>
                </a:cubicBezTo>
                <a:cubicBezTo>
                  <a:pt x="12541" y="8181"/>
                  <a:pt x="12541" y="8171"/>
                  <a:pt x="12541" y="8160"/>
                </a:cubicBezTo>
              </a:path>
              <a:path w="2446" h="1081">
                <a:moveTo>
                  <a:pt x="12827" y="7398"/>
                </a:moveTo>
                <a:cubicBezTo>
                  <a:pt x="12827" y="7473"/>
                  <a:pt x="12798" y="7520"/>
                  <a:pt x="12764" y="7588"/>
                </a:cubicBezTo>
                <a:cubicBezTo>
                  <a:pt x="12715" y="7687"/>
                  <a:pt x="12732" y="7796"/>
                  <a:pt x="12732" y="7906"/>
                </a:cubicBezTo>
                <a:cubicBezTo>
                  <a:pt x="12732" y="8014"/>
                  <a:pt x="12721" y="8077"/>
                  <a:pt x="12795" y="8160"/>
                </a:cubicBezTo>
                <a:cubicBezTo>
                  <a:pt x="12840" y="8210"/>
                  <a:pt x="12877" y="8200"/>
                  <a:pt x="12922" y="8160"/>
                </a:cubicBezTo>
                <a:cubicBezTo>
                  <a:pt x="12983" y="8106"/>
                  <a:pt x="13037" y="7985"/>
                  <a:pt x="13049" y="7906"/>
                </a:cubicBezTo>
                <a:cubicBezTo>
                  <a:pt x="13066" y="7792"/>
                  <a:pt x="13110" y="7663"/>
                  <a:pt x="13049" y="7556"/>
                </a:cubicBezTo>
                <a:cubicBezTo>
                  <a:pt x="13017" y="7500"/>
                  <a:pt x="13031" y="7438"/>
                  <a:pt x="12954" y="7430"/>
                </a:cubicBezTo>
                <a:cubicBezTo>
                  <a:pt x="12922" y="7430"/>
                  <a:pt x="12911" y="7430"/>
                  <a:pt x="12890" y="7430"/>
                </a:cubicBezTo>
              </a:path>
              <a:path w="2446" h="1081">
                <a:moveTo>
                  <a:pt x="13208" y="7461"/>
                </a:moveTo>
                <a:cubicBezTo>
                  <a:pt x="13238" y="7542"/>
                  <a:pt x="13246" y="7609"/>
                  <a:pt x="13272" y="7684"/>
                </a:cubicBezTo>
                <a:cubicBezTo>
                  <a:pt x="13295" y="7751"/>
                  <a:pt x="13358" y="7848"/>
                  <a:pt x="13398" y="7906"/>
                </a:cubicBezTo>
                <a:cubicBezTo>
                  <a:pt x="13430" y="7952"/>
                  <a:pt x="13477" y="7982"/>
                  <a:pt x="13494" y="8033"/>
                </a:cubicBezTo>
                <a:cubicBezTo>
                  <a:pt x="13494" y="8043"/>
                  <a:pt x="13494" y="8054"/>
                  <a:pt x="13494" y="8064"/>
                </a:cubicBezTo>
              </a:path>
              <a:path w="2446" h="1081">
                <a:moveTo>
                  <a:pt x="13430" y="7430"/>
                </a:moveTo>
                <a:cubicBezTo>
                  <a:pt x="13413" y="7531"/>
                  <a:pt x="13364" y="7616"/>
                  <a:pt x="13335" y="7715"/>
                </a:cubicBezTo>
                <a:cubicBezTo>
                  <a:pt x="13295" y="7853"/>
                  <a:pt x="13263" y="7995"/>
                  <a:pt x="13208" y="8128"/>
                </a:cubicBezTo>
                <a:cubicBezTo>
                  <a:pt x="13184" y="8187"/>
                  <a:pt x="13158" y="8231"/>
                  <a:pt x="13144" y="8287"/>
                </a:cubicBezTo>
              </a:path>
              <a:path w="2446" h="1081">
                <a:moveTo>
                  <a:pt x="13652" y="7652"/>
                </a:moveTo>
                <a:cubicBezTo>
                  <a:pt x="13701" y="7615"/>
                  <a:pt x="13718" y="7620"/>
                  <a:pt x="13780" y="7620"/>
                </a:cubicBezTo>
                <a:cubicBezTo>
                  <a:pt x="13833" y="7620"/>
                  <a:pt x="13872" y="7588"/>
                  <a:pt x="13938" y="7588"/>
                </a:cubicBezTo>
              </a:path>
              <a:path w="2446" h="1081">
                <a:moveTo>
                  <a:pt x="13684" y="7938"/>
                </a:moveTo>
                <a:cubicBezTo>
                  <a:pt x="13673" y="7938"/>
                  <a:pt x="13663" y="7938"/>
                  <a:pt x="13652" y="7938"/>
                </a:cubicBezTo>
                <a:cubicBezTo>
                  <a:pt x="13717" y="7938"/>
                  <a:pt x="13727" y="7924"/>
                  <a:pt x="13780" y="7906"/>
                </a:cubicBezTo>
                <a:cubicBezTo>
                  <a:pt x="13836" y="7887"/>
                  <a:pt x="13885" y="7871"/>
                  <a:pt x="13938" y="7842"/>
                </a:cubicBezTo>
                <a:cubicBezTo>
                  <a:pt x="13990" y="7816"/>
                  <a:pt x="13998" y="7805"/>
                  <a:pt x="14034" y="7810"/>
                </a:cubicBezTo>
              </a:path>
              <a:path w="2446" h="1081">
                <a:moveTo>
                  <a:pt x="14319" y="7239"/>
                </a:moveTo>
                <a:cubicBezTo>
                  <a:pt x="14319" y="7319"/>
                  <a:pt x="14292" y="7378"/>
                  <a:pt x="14288" y="7461"/>
                </a:cubicBezTo>
                <a:cubicBezTo>
                  <a:pt x="14279" y="7665"/>
                  <a:pt x="14266" y="7913"/>
                  <a:pt x="14319" y="8096"/>
                </a:cubicBezTo>
                <a:cubicBezTo>
                  <a:pt x="14319" y="8107"/>
                  <a:pt x="14319" y="8117"/>
                  <a:pt x="14319" y="8128"/>
                </a:cubicBezTo>
              </a:path>
              <a:path w="2446" h="1081">
                <a:moveTo>
                  <a:pt x="14542" y="7239"/>
                </a:moveTo>
                <a:cubicBezTo>
                  <a:pt x="14542" y="7353"/>
                  <a:pt x="14528" y="7450"/>
                  <a:pt x="14510" y="7556"/>
                </a:cubicBezTo>
                <a:cubicBezTo>
                  <a:pt x="14500" y="7616"/>
                  <a:pt x="14510" y="7685"/>
                  <a:pt x="14510" y="7747"/>
                </a:cubicBezTo>
                <a:cubicBezTo>
                  <a:pt x="14515" y="7745"/>
                  <a:pt x="14601" y="7720"/>
                  <a:pt x="14605" y="7715"/>
                </a:cubicBezTo>
                <a:cubicBezTo>
                  <a:pt x="14648" y="7663"/>
                  <a:pt x="14631" y="7693"/>
                  <a:pt x="14700" y="7715"/>
                </a:cubicBezTo>
                <a:cubicBezTo>
                  <a:pt x="14786" y="7743"/>
                  <a:pt x="14913" y="7704"/>
                  <a:pt x="14954" y="7684"/>
                </a:cubicBezTo>
                <a:cubicBezTo>
                  <a:pt x="15003" y="7660"/>
                  <a:pt x="14986" y="7668"/>
                  <a:pt x="14986" y="7588"/>
                </a:cubicBezTo>
              </a:path>
              <a:path w="2446" h="1081">
                <a:moveTo>
                  <a:pt x="14827" y="7207"/>
                </a:moveTo>
                <a:cubicBezTo>
                  <a:pt x="14877" y="7273"/>
                  <a:pt x="14859" y="7342"/>
                  <a:pt x="14859" y="7430"/>
                </a:cubicBezTo>
                <a:cubicBezTo>
                  <a:pt x="14859" y="7616"/>
                  <a:pt x="14871" y="7790"/>
                  <a:pt x="14891" y="7969"/>
                </a:cubicBezTo>
                <a:cubicBezTo>
                  <a:pt x="14902" y="8070"/>
                  <a:pt x="14903" y="8158"/>
                  <a:pt x="14922" y="8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0"/>
          <p:cNvSpPr/>
          <p:nvPr/>
        </p:nvSpPr>
        <p:spPr>
          <a:xfrm>
            <a:off x="4479840" y="2982960"/>
            <a:ext cx="390600" cy="285840"/>
          </a:xfrm>
          <a:custGeom>
            <a:avLst/>
            <a:gdLst/>
            <a:ahLst/>
            <a:rect l="l" t="t" r="r" b="b"/>
            <a:pathLst>
              <a:path w="1081" h="794">
                <a:moveTo>
                  <a:pt x="12478" y="8541"/>
                </a:moveTo>
                <a:cubicBezTo>
                  <a:pt x="12467" y="8551"/>
                  <a:pt x="12457" y="8562"/>
                  <a:pt x="12446" y="8572"/>
                </a:cubicBezTo>
                <a:cubicBezTo>
                  <a:pt x="12519" y="8572"/>
                  <a:pt x="12545" y="8545"/>
                  <a:pt x="12605" y="8509"/>
                </a:cubicBezTo>
                <a:cubicBezTo>
                  <a:pt x="12696" y="8454"/>
                  <a:pt x="12818" y="8459"/>
                  <a:pt x="12922" y="8414"/>
                </a:cubicBezTo>
                <a:cubicBezTo>
                  <a:pt x="13012" y="8375"/>
                  <a:pt x="13140" y="8337"/>
                  <a:pt x="13240" y="8318"/>
                </a:cubicBezTo>
                <a:cubicBezTo>
                  <a:pt x="13310" y="8305"/>
                  <a:pt x="13354" y="8287"/>
                  <a:pt x="13430" y="8287"/>
                </a:cubicBezTo>
              </a:path>
              <a:path w="1081" h="794">
                <a:moveTo>
                  <a:pt x="13144" y="8572"/>
                </a:moveTo>
                <a:cubicBezTo>
                  <a:pt x="13134" y="8583"/>
                  <a:pt x="13123" y="8593"/>
                  <a:pt x="13113" y="8604"/>
                </a:cubicBezTo>
                <a:cubicBezTo>
                  <a:pt x="13138" y="8656"/>
                  <a:pt x="13113" y="8685"/>
                  <a:pt x="13113" y="8763"/>
                </a:cubicBezTo>
                <a:cubicBezTo>
                  <a:pt x="13113" y="8869"/>
                  <a:pt x="13113" y="8974"/>
                  <a:pt x="13113" y="9080"/>
                </a:cubicBezTo>
              </a:path>
              <a:path w="1081" h="794">
                <a:moveTo>
                  <a:pt x="13335" y="8541"/>
                </a:moveTo>
                <a:cubicBezTo>
                  <a:pt x="13320" y="8614"/>
                  <a:pt x="13291" y="8691"/>
                  <a:pt x="13272" y="8763"/>
                </a:cubicBezTo>
                <a:cubicBezTo>
                  <a:pt x="13243" y="8875"/>
                  <a:pt x="13240" y="8963"/>
                  <a:pt x="13240" y="9080"/>
                </a:cubicBezTo>
                <a:cubicBezTo>
                  <a:pt x="13298" y="9080"/>
                  <a:pt x="13393" y="9102"/>
                  <a:pt x="13430" y="9049"/>
                </a:cubicBezTo>
                <a:cubicBezTo>
                  <a:pt x="13481" y="8976"/>
                  <a:pt x="13512" y="8847"/>
                  <a:pt x="13526" y="8763"/>
                </a:cubicBezTo>
                <a:cubicBezTo>
                  <a:pt x="13534" y="8716"/>
                  <a:pt x="13548" y="8599"/>
                  <a:pt x="13494" y="8572"/>
                </a:cubicBezTo>
                <a:cubicBezTo>
                  <a:pt x="13447" y="8548"/>
                  <a:pt x="13408" y="8574"/>
                  <a:pt x="13398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1"/>
          <p:cNvSpPr/>
          <p:nvPr/>
        </p:nvSpPr>
        <p:spPr>
          <a:xfrm>
            <a:off x="5086440" y="2936880"/>
            <a:ext cx="296640" cy="274680"/>
          </a:xfrm>
          <a:custGeom>
            <a:avLst/>
            <a:gdLst/>
            <a:ahLst/>
            <a:rect l="l" t="t" r="r" b="b"/>
            <a:pathLst>
              <a:path w="826" h="763">
                <a:moveTo>
                  <a:pt x="14129" y="8255"/>
                </a:moveTo>
                <a:cubicBezTo>
                  <a:pt x="14136" y="8276"/>
                  <a:pt x="14179" y="8337"/>
                  <a:pt x="14224" y="8318"/>
                </a:cubicBezTo>
                <a:cubicBezTo>
                  <a:pt x="14292" y="8289"/>
                  <a:pt x="14398" y="8237"/>
                  <a:pt x="14478" y="8223"/>
                </a:cubicBezTo>
                <a:cubicBezTo>
                  <a:pt x="14576" y="8207"/>
                  <a:pt x="14669" y="8176"/>
                  <a:pt x="14764" y="8160"/>
                </a:cubicBezTo>
                <a:cubicBezTo>
                  <a:pt x="14812" y="8152"/>
                  <a:pt x="14872" y="8160"/>
                  <a:pt x="14922" y="8160"/>
                </a:cubicBezTo>
              </a:path>
              <a:path w="826" h="763">
                <a:moveTo>
                  <a:pt x="14446" y="8446"/>
                </a:moveTo>
                <a:cubicBezTo>
                  <a:pt x="14488" y="8515"/>
                  <a:pt x="14478" y="8581"/>
                  <a:pt x="14478" y="8668"/>
                </a:cubicBezTo>
                <a:cubicBezTo>
                  <a:pt x="14478" y="8743"/>
                  <a:pt x="14510" y="8778"/>
                  <a:pt x="14510" y="8858"/>
                </a:cubicBezTo>
                <a:cubicBezTo>
                  <a:pt x="14510" y="8890"/>
                  <a:pt x="14510" y="8901"/>
                  <a:pt x="14510" y="8922"/>
                </a:cubicBezTo>
              </a:path>
              <a:path w="826" h="763">
                <a:moveTo>
                  <a:pt x="14700" y="8414"/>
                </a:moveTo>
                <a:cubicBezTo>
                  <a:pt x="14700" y="8488"/>
                  <a:pt x="14690" y="8568"/>
                  <a:pt x="14668" y="8636"/>
                </a:cubicBezTo>
                <a:cubicBezTo>
                  <a:pt x="14635" y="8737"/>
                  <a:pt x="14641" y="8742"/>
                  <a:pt x="14668" y="8826"/>
                </a:cubicBezTo>
                <a:cubicBezTo>
                  <a:pt x="14683" y="8871"/>
                  <a:pt x="14748" y="8878"/>
                  <a:pt x="14796" y="8826"/>
                </a:cubicBezTo>
                <a:cubicBezTo>
                  <a:pt x="14842" y="8776"/>
                  <a:pt x="14936" y="8668"/>
                  <a:pt x="14954" y="8604"/>
                </a:cubicBezTo>
                <a:cubicBezTo>
                  <a:pt x="14972" y="8540"/>
                  <a:pt x="14962" y="8460"/>
                  <a:pt x="14922" y="8414"/>
                </a:cubicBezTo>
                <a:cubicBezTo>
                  <a:pt x="14883" y="8369"/>
                  <a:pt x="14851" y="8382"/>
                  <a:pt x="14796" y="8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2"/>
          <p:cNvSpPr/>
          <p:nvPr/>
        </p:nvSpPr>
        <p:spPr>
          <a:xfrm>
            <a:off x="2400480" y="3543480"/>
            <a:ext cx="1417320" cy="799920"/>
          </a:xfrm>
          <a:custGeom>
            <a:avLst/>
            <a:gdLst/>
            <a:ahLst/>
            <a:rect l="l" t="t" r="r" b="b"/>
            <a:pathLst>
              <a:path w="3937" h="2224">
                <a:moveTo>
                  <a:pt x="7588" y="10001"/>
                </a:moveTo>
                <a:cubicBezTo>
                  <a:pt x="7529" y="9982"/>
                  <a:pt x="7556" y="9945"/>
                  <a:pt x="7461" y="10001"/>
                </a:cubicBezTo>
                <a:cubicBezTo>
                  <a:pt x="7377" y="10050"/>
                  <a:pt x="7309" y="10122"/>
                  <a:pt x="7239" y="10192"/>
                </a:cubicBezTo>
                <a:cubicBezTo>
                  <a:pt x="7095" y="10337"/>
                  <a:pt x="6900" y="10478"/>
                  <a:pt x="6826" y="10668"/>
                </a:cubicBezTo>
                <a:cubicBezTo>
                  <a:pt x="6784" y="10776"/>
                  <a:pt x="6716" y="10902"/>
                  <a:pt x="6699" y="11017"/>
                </a:cubicBezTo>
                <a:cubicBezTo>
                  <a:pt x="6681" y="11134"/>
                  <a:pt x="6646" y="11277"/>
                  <a:pt x="6668" y="11398"/>
                </a:cubicBezTo>
                <a:cubicBezTo>
                  <a:pt x="6683" y="11479"/>
                  <a:pt x="6703" y="11578"/>
                  <a:pt x="6731" y="11652"/>
                </a:cubicBezTo>
                <a:cubicBezTo>
                  <a:pt x="6746" y="11691"/>
                  <a:pt x="6811" y="11798"/>
                  <a:pt x="6858" y="11811"/>
                </a:cubicBezTo>
                <a:cubicBezTo>
                  <a:pt x="6886" y="11819"/>
                  <a:pt x="6924" y="11807"/>
                  <a:pt x="6953" y="11811"/>
                </a:cubicBezTo>
              </a:path>
              <a:path w="3937" h="2224">
                <a:moveTo>
                  <a:pt x="7398" y="10668"/>
                </a:moveTo>
                <a:cubicBezTo>
                  <a:pt x="7457" y="10648"/>
                  <a:pt x="7402" y="10627"/>
                  <a:pt x="7461" y="10668"/>
                </a:cubicBezTo>
                <a:cubicBezTo>
                  <a:pt x="7443" y="10741"/>
                  <a:pt x="7446" y="10808"/>
                  <a:pt x="7430" y="10890"/>
                </a:cubicBezTo>
                <a:cubicBezTo>
                  <a:pt x="7404" y="11027"/>
                  <a:pt x="7423" y="11167"/>
                  <a:pt x="7398" y="11303"/>
                </a:cubicBezTo>
                <a:cubicBezTo>
                  <a:pt x="7380" y="11401"/>
                  <a:pt x="7356" y="11495"/>
                  <a:pt x="7334" y="11589"/>
                </a:cubicBezTo>
                <a:cubicBezTo>
                  <a:pt x="7334" y="11620"/>
                  <a:pt x="7334" y="11631"/>
                  <a:pt x="7334" y="11652"/>
                </a:cubicBezTo>
              </a:path>
              <a:path w="3937" h="2224">
                <a:moveTo>
                  <a:pt x="7652" y="11240"/>
                </a:moveTo>
                <a:cubicBezTo>
                  <a:pt x="7681" y="11268"/>
                  <a:pt x="7692" y="11274"/>
                  <a:pt x="7684" y="11303"/>
                </a:cubicBezTo>
              </a:path>
              <a:path w="3937" h="2224">
                <a:moveTo>
                  <a:pt x="8096" y="10636"/>
                </a:moveTo>
                <a:cubicBezTo>
                  <a:pt x="8096" y="10583"/>
                  <a:pt x="8111" y="10681"/>
                  <a:pt x="8096" y="10732"/>
                </a:cubicBezTo>
                <a:cubicBezTo>
                  <a:pt x="8073" y="10809"/>
                  <a:pt x="8058" y="10883"/>
                  <a:pt x="8033" y="10954"/>
                </a:cubicBezTo>
                <a:cubicBezTo>
                  <a:pt x="8013" y="11010"/>
                  <a:pt x="8013" y="11153"/>
                  <a:pt x="7969" y="11112"/>
                </a:cubicBezTo>
                <a:cubicBezTo>
                  <a:pt x="7922" y="11068"/>
                  <a:pt x="8058" y="11084"/>
                  <a:pt x="8064" y="11081"/>
                </a:cubicBezTo>
                <a:cubicBezTo>
                  <a:pt x="8127" y="11046"/>
                  <a:pt x="8142" y="11049"/>
                  <a:pt x="8223" y="11049"/>
                </a:cubicBezTo>
                <a:cubicBezTo>
                  <a:pt x="8290" y="11049"/>
                  <a:pt x="8396" y="11072"/>
                  <a:pt x="8414" y="11017"/>
                </a:cubicBezTo>
              </a:path>
              <a:path w="3937" h="2224">
                <a:moveTo>
                  <a:pt x="8414" y="10446"/>
                </a:moveTo>
                <a:cubicBezTo>
                  <a:pt x="8414" y="10529"/>
                  <a:pt x="8400" y="10621"/>
                  <a:pt x="8382" y="10700"/>
                </a:cubicBezTo>
                <a:cubicBezTo>
                  <a:pt x="8347" y="10852"/>
                  <a:pt x="8313" y="10991"/>
                  <a:pt x="8287" y="11144"/>
                </a:cubicBezTo>
                <a:cubicBezTo>
                  <a:pt x="8265" y="11278"/>
                  <a:pt x="8223" y="11388"/>
                  <a:pt x="8223" y="11525"/>
                </a:cubicBezTo>
                <a:cubicBezTo>
                  <a:pt x="8223" y="11546"/>
                  <a:pt x="8223" y="11568"/>
                  <a:pt x="8223" y="11589"/>
                </a:cubicBezTo>
              </a:path>
              <a:path w="3937" h="2224">
                <a:moveTo>
                  <a:pt x="8604" y="11240"/>
                </a:moveTo>
                <a:cubicBezTo>
                  <a:pt x="8649" y="11298"/>
                  <a:pt x="8652" y="11384"/>
                  <a:pt x="8636" y="11462"/>
                </a:cubicBezTo>
                <a:cubicBezTo>
                  <a:pt x="8607" y="11599"/>
                  <a:pt x="8578" y="11734"/>
                  <a:pt x="8572" y="11874"/>
                </a:cubicBezTo>
                <a:cubicBezTo>
                  <a:pt x="8570" y="11916"/>
                  <a:pt x="8572" y="11960"/>
                  <a:pt x="8572" y="12002"/>
                </a:cubicBezTo>
              </a:path>
              <a:path w="3937" h="2224">
                <a:moveTo>
                  <a:pt x="8858" y="10922"/>
                </a:moveTo>
                <a:cubicBezTo>
                  <a:pt x="8873" y="10862"/>
                  <a:pt x="8921" y="10819"/>
                  <a:pt x="8954" y="10763"/>
                </a:cubicBezTo>
                <a:cubicBezTo>
                  <a:pt x="9005" y="10678"/>
                  <a:pt x="9039" y="10634"/>
                  <a:pt x="9112" y="10573"/>
                </a:cubicBezTo>
                <a:cubicBezTo>
                  <a:pt x="9151" y="10541"/>
                  <a:pt x="9238" y="10508"/>
                  <a:pt x="9271" y="10573"/>
                </a:cubicBezTo>
                <a:cubicBezTo>
                  <a:pt x="9323" y="10677"/>
                  <a:pt x="9269" y="10752"/>
                  <a:pt x="9239" y="10858"/>
                </a:cubicBezTo>
                <a:cubicBezTo>
                  <a:pt x="9200" y="10998"/>
                  <a:pt x="9149" y="11208"/>
                  <a:pt x="9080" y="11335"/>
                </a:cubicBezTo>
                <a:cubicBezTo>
                  <a:pt x="9072" y="11350"/>
                  <a:pt x="8965" y="11518"/>
                  <a:pt x="8954" y="11525"/>
                </a:cubicBezTo>
                <a:cubicBezTo>
                  <a:pt x="8897" y="11563"/>
                  <a:pt x="8977" y="11486"/>
                  <a:pt x="8985" y="11462"/>
                </a:cubicBezTo>
                <a:cubicBezTo>
                  <a:pt x="9001" y="11414"/>
                  <a:pt x="9023" y="11430"/>
                  <a:pt x="9080" y="11430"/>
                </a:cubicBezTo>
                <a:cubicBezTo>
                  <a:pt x="9136" y="11430"/>
                  <a:pt x="9144" y="11438"/>
                  <a:pt x="9176" y="11462"/>
                </a:cubicBezTo>
                <a:cubicBezTo>
                  <a:pt x="9216" y="11492"/>
                  <a:pt x="9253" y="11519"/>
                  <a:pt x="9303" y="11525"/>
                </a:cubicBezTo>
                <a:cubicBezTo>
                  <a:pt x="9313" y="11525"/>
                  <a:pt x="9324" y="11525"/>
                  <a:pt x="9334" y="11525"/>
                </a:cubicBezTo>
              </a:path>
              <a:path w="3937" h="2224">
                <a:moveTo>
                  <a:pt x="9525" y="11335"/>
                </a:moveTo>
                <a:cubicBezTo>
                  <a:pt x="9525" y="11366"/>
                  <a:pt x="9525" y="11377"/>
                  <a:pt x="9557" y="11366"/>
                </a:cubicBezTo>
              </a:path>
              <a:path w="3937" h="2224">
                <a:moveTo>
                  <a:pt x="10128" y="10732"/>
                </a:moveTo>
                <a:cubicBezTo>
                  <a:pt x="10128" y="10673"/>
                  <a:pt x="10136" y="10649"/>
                  <a:pt x="10096" y="10604"/>
                </a:cubicBezTo>
                <a:cubicBezTo>
                  <a:pt x="10018" y="10516"/>
                  <a:pt x="10007" y="10556"/>
                  <a:pt x="9906" y="10573"/>
                </a:cubicBezTo>
                <a:cubicBezTo>
                  <a:pt x="9815" y="10588"/>
                  <a:pt x="9737" y="10608"/>
                  <a:pt x="9684" y="10700"/>
                </a:cubicBezTo>
                <a:cubicBezTo>
                  <a:pt x="9658" y="10745"/>
                  <a:pt x="9657" y="10805"/>
                  <a:pt x="9684" y="10858"/>
                </a:cubicBezTo>
                <a:cubicBezTo>
                  <a:pt x="9720" y="10930"/>
                  <a:pt x="9816" y="10973"/>
                  <a:pt x="9874" y="11017"/>
                </a:cubicBezTo>
                <a:cubicBezTo>
                  <a:pt x="9923" y="11054"/>
                  <a:pt x="9950" y="11096"/>
                  <a:pt x="9970" y="11144"/>
                </a:cubicBezTo>
                <a:cubicBezTo>
                  <a:pt x="9999" y="11214"/>
                  <a:pt x="10012" y="11265"/>
                  <a:pt x="9970" y="11335"/>
                </a:cubicBezTo>
                <a:cubicBezTo>
                  <a:pt x="9953" y="11362"/>
                  <a:pt x="9878" y="11446"/>
                  <a:pt x="9842" y="11430"/>
                </a:cubicBezTo>
                <a:cubicBezTo>
                  <a:pt x="9772" y="11398"/>
                  <a:pt x="9779" y="11383"/>
                  <a:pt x="9779" y="11303"/>
                </a:cubicBezTo>
                <a:cubicBezTo>
                  <a:pt x="9779" y="11188"/>
                  <a:pt x="9798" y="11095"/>
                  <a:pt x="9842" y="10986"/>
                </a:cubicBezTo>
                <a:cubicBezTo>
                  <a:pt x="9885" y="10881"/>
                  <a:pt x="9957" y="10782"/>
                  <a:pt x="10033" y="10700"/>
                </a:cubicBezTo>
                <a:cubicBezTo>
                  <a:pt x="10076" y="10657"/>
                  <a:pt x="10097" y="10636"/>
                  <a:pt x="10128" y="10604"/>
                </a:cubicBezTo>
              </a:path>
              <a:path w="3937" h="2224">
                <a:moveTo>
                  <a:pt x="10128" y="10128"/>
                </a:moveTo>
                <a:cubicBezTo>
                  <a:pt x="10190" y="10178"/>
                  <a:pt x="10200" y="10188"/>
                  <a:pt x="10255" y="10255"/>
                </a:cubicBezTo>
                <a:cubicBezTo>
                  <a:pt x="10348" y="10368"/>
                  <a:pt x="10415" y="10438"/>
                  <a:pt x="10478" y="10573"/>
                </a:cubicBezTo>
                <a:cubicBezTo>
                  <a:pt x="10562" y="10753"/>
                  <a:pt x="10600" y="10881"/>
                  <a:pt x="10604" y="11081"/>
                </a:cubicBezTo>
                <a:cubicBezTo>
                  <a:pt x="10609" y="11324"/>
                  <a:pt x="10500" y="11540"/>
                  <a:pt x="10382" y="11748"/>
                </a:cubicBezTo>
                <a:cubicBezTo>
                  <a:pt x="10289" y="11902"/>
                  <a:pt x="10259" y="11951"/>
                  <a:pt x="10224" y="12065"/>
                </a:cubicBezTo>
              </a:path>
              <a:path w="3937" h="2224">
                <a:moveTo>
                  <a:pt x="7938" y="9938"/>
                </a:moveTo>
                <a:cubicBezTo>
                  <a:pt x="7938" y="9949"/>
                  <a:pt x="7938" y="9959"/>
                  <a:pt x="7938" y="9970"/>
                </a:cubicBezTo>
                <a:cubicBezTo>
                  <a:pt x="7987" y="9986"/>
                  <a:pt x="7971" y="10021"/>
                  <a:pt x="8001" y="10065"/>
                </a:cubicBezTo>
                <a:cubicBezTo>
                  <a:pt x="8030" y="10093"/>
                  <a:pt x="8036" y="10103"/>
                  <a:pt x="8064" y="10096"/>
                </a:cubicBezTo>
                <a:cubicBezTo>
                  <a:pt x="8077" y="10147"/>
                  <a:pt x="8112" y="10177"/>
                  <a:pt x="8128" y="10224"/>
                </a:cubicBezTo>
                <a:cubicBezTo>
                  <a:pt x="8128" y="10255"/>
                  <a:pt x="8128" y="10266"/>
                  <a:pt x="8160" y="10255"/>
                </a:cubicBezTo>
              </a:path>
              <a:path w="3937" h="2224">
                <a:moveTo>
                  <a:pt x="8160" y="9842"/>
                </a:moveTo>
                <a:cubicBezTo>
                  <a:pt x="8146" y="9896"/>
                  <a:pt x="8123" y="9945"/>
                  <a:pt x="8096" y="10001"/>
                </a:cubicBezTo>
                <a:cubicBezTo>
                  <a:pt x="8061" y="10075"/>
                  <a:pt x="8030" y="10153"/>
                  <a:pt x="8001" y="10224"/>
                </a:cubicBezTo>
                <a:cubicBezTo>
                  <a:pt x="7979" y="10278"/>
                  <a:pt x="7950" y="10300"/>
                  <a:pt x="7938" y="10350"/>
                </a:cubicBezTo>
              </a:path>
              <a:path w="3937" h="2224">
                <a:moveTo>
                  <a:pt x="9334" y="9970"/>
                </a:moveTo>
                <a:cubicBezTo>
                  <a:pt x="9334" y="10034"/>
                  <a:pt x="9349" y="10045"/>
                  <a:pt x="9366" y="10096"/>
                </a:cubicBezTo>
                <a:cubicBezTo>
                  <a:pt x="9378" y="10131"/>
                  <a:pt x="9389" y="10155"/>
                  <a:pt x="9398" y="10192"/>
                </a:cubicBezTo>
                <a:cubicBezTo>
                  <a:pt x="9443" y="10207"/>
                  <a:pt x="9430" y="10201"/>
                  <a:pt x="9430" y="10255"/>
                </a:cubicBezTo>
                <a:cubicBezTo>
                  <a:pt x="9462" y="10255"/>
                  <a:pt x="9472" y="10255"/>
                  <a:pt x="9493" y="10255"/>
                </a:cubicBezTo>
              </a:path>
              <a:path w="3937" h="2224">
                <a:moveTo>
                  <a:pt x="9588" y="9874"/>
                </a:moveTo>
                <a:cubicBezTo>
                  <a:pt x="9572" y="9959"/>
                  <a:pt x="9551" y="10043"/>
                  <a:pt x="9525" y="10128"/>
                </a:cubicBezTo>
                <a:cubicBezTo>
                  <a:pt x="9482" y="10266"/>
                  <a:pt x="9436" y="10401"/>
                  <a:pt x="9398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3"/>
          <p:cNvSpPr/>
          <p:nvPr/>
        </p:nvSpPr>
        <p:spPr>
          <a:xfrm>
            <a:off x="4343400" y="3657600"/>
            <a:ext cx="1681200" cy="1052640"/>
          </a:xfrm>
          <a:custGeom>
            <a:avLst/>
            <a:gdLst/>
            <a:ahLst/>
            <a:rect l="l" t="t" r="r" b="b"/>
            <a:pathLst>
              <a:path w="4668" h="2922">
                <a:moveTo>
                  <a:pt x="12128" y="10732"/>
                </a:moveTo>
                <a:lnTo>
                  <a:pt x="12128" y="10732"/>
                </a:lnTo>
              </a:path>
              <a:path w="4668" h="2922">
                <a:moveTo>
                  <a:pt x="12128" y="10732"/>
                </a:moveTo>
                <a:cubicBezTo>
                  <a:pt x="12128" y="10742"/>
                  <a:pt x="12128" y="10753"/>
                  <a:pt x="12128" y="10763"/>
                </a:cubicBezTo>
              </a:path>
              <a:path w="4668" h="2922">
                <a:moveTo>
                  <a:pt x="12128" y="10763"/>
                </a:moveTo>
                <a:cubicBezTo>
                  <a:pt x="12128" y="10826"/>
                  <a:pt x="12112" y="10839"/>
                  <a:pt x="12097" y="10890"/>
                </a:cubicBezTo>
                <a:cubicBezTo>
                  <a:pt x="12080" y="10950"/>
                  <a:pt x="12075" y="11052"/>
                  <a:pt x="12065" y="11112"/>
                </a:cubicBezTo>
                <a:cubicBezTo>
                  <a:pt x="12045" y="11232"/>
                  <a:pt x="12077" y="11361"/>
                  <a:pt x="12097" y="11462"/>
                </a:cubicBezTo>
                <a:cubicBezTo>
                  <a:pt x="12105" y="11504"/>
                  <a:pt x="12126" y="11594"/>
                  <a:pt x="12160" y="11620"/>
                </a:cubicBezTo>
                <a:cubicBezTo>
                  <a:pt x="12205" y="11655"/>
                  <a:pt x="12243" y="11659"/>
                  <a:pt x="12287" y="11620"/>
                </a:cubicBezTo>
                <a:cubicBezTo>
                  <a:pt x="12347" y="11567"/>
                  <a:pt x="12385" y="11505"/>
                  <a:pt x="12414" y="11430"/>
                </a:cubicBezTo>
                <a:cubicBezTo>
                  <a:pt x="12457" y="11322"/>
                  <a:pt x="12496" y="11191"/>
                  <a:pt x="12510" y="11081"/>
                </a:cubicBezTo>
                <a:cubicBezTo>
                  <a:pt x="12518" y="11022"/>
                  <a:pt x="12510" y="10951"/>
                  <a:pt x="12510" y="10890"/>
                </a:cubicBezTo>
                <a:cubicBezTo>
                  <a:pt x="12510" y="11034"/>
                  <a:pt x="12522" y="11163"/>
                  <a:pt x="12541" y="11303"/>
                </a:cubicBezTo>
                <a:cubicBezTo>
                  <a:pt x="12561" y="11455"/>
                  <a:pt x="12526" y="11602"/>
                  <a:pt x="12510" y="11748"/>
                </a:cubicBezTo>
                <a:cubicBezTo>
                  <a:pt x="12496" y="11881"/>
                  <a:pt x="12466" y="12002"/>
                  <a:pt x="12414" y="12128"/>
                </a:cubicBezTo>
                <a:cubicBezTo>
                  <a:pt x="12382" y="12206"/>
                  <a:pt x="12343" y="12289"/>
                  <a:pt x="12287" y="12351"/>
                </a:cubicBezTo>
                <a:cubicBezTo>
                  <a:pt x="12233" y="12411"/>
                  <a:pt x="12187" y="12434"/>
                  <a:pt x="12128" y="12382"/>
                </a:cubicBezTo>
                <a:cubicBezTo>
                  <a:pt x="12097" y="12351"/>
                  <a:pt x="12086" y="12340"/>
                  <a:pt x="12065" y="12319"/>
                </a:cubicBezTo>
              </a:path>
              <a:path w="4668" h="2922">
                <a:moveTo>
                  <a:pt x="12795" y="11081"/>
                </a:moveTo>
                <a:cubicBezTo>
                  <a:pt x="12844" y="11044"/>
                  <a:pt x="12860" y="11049"/>
                  <a:pt x="12922" y="11049"/>
                </a:cubicBezTo>
                <a:cubicBezTo>
                  <a:pt x="12997" y="11049"/>
                  <a:pt x="13055" y="11037"/>
                  <a:pt x="13113" y="11081"/>
                </a:cubicBezTo>
              </a:path>
              <a:path w="4668" h="2922">
                <a:moveTo>
                  <a:pt x="12795" y="11462"/>
                </a:moveTo>
                <a:cubicBezTo>
                  <a:pt x="12854" y="11462"/>
                  <a:pt x="12870" y="11436"/>
                  <a:pt x="12922" y="11430"/>
                </a:cubicBezTo>
                <a:cubicBezTo>
                  <a:pt x="12985" y="11423"/>
                  <a:pt x="13027" y="11404"/>
                  <a:pt x="13081" y="11398"/>
                </a:cubicBezTo>
                <a:cubicBezTo>
                  <a:pt x="13092" y="11398"/>
                  <a:pt x="13102" y="11398"/>
                  <a:pt x="13113" y="11398"/>
                </a:cubicBezTo>
              </a:path>
              <a:path w="4668" h="2922">
                <a:moveTo>
                  <a:pt x="13430" y="10858"/>
                </a:moveTo>
                <a:cubicBezTo>
                  <a:pt x="13430" y="10781"/>
                  <a:pt x="13466" y="10794"/>
                  <a:pt x="13494" y="10732"/>
                </a:cubicBezTo>
                <a:cubicBezTo>
                  <a:pt x="13514" y="10688"/>
                  <a:pt x="13536" y="10654"/>
                  <a:pt x="13589" y="10636"/>
                </a:cubicBezTo>
                <a:cubicBezTo>
                  <a:pt x="13641" y="10619"/>
                  <a:pt x="13682" y="10591"/>
                  <a:pt x="13716" y="10668"/>
                </a:cubicBezTo>
                <a:cubicBezTo>
                  <a:pt x="13746" y="10736"/>
                  <a:pt x="13703" y="10861"/>
                  <a:pt x="13684" y="10922"/>
                </a:cubicBezTo>
                <a:cubicBezTo>
                  <a:pt x="13647" y="11041"/>
                  <a:pt x="13600" y="11155"/>
                  <a:pt x="13557" y="11271"/>
                </a:cubicBezTo>
                <a:cubicBezTo>
                  <a:pt x="13524" y="11361"/>
                  <a:pt x="13465" y="11417"/>
                  <a:pt x="13430" y="11494"/>
                </a:cubicBezTo>
                <a:cubicBezTo>
                  <a:pt x="13416" y="11525"/>
                  <a:pt x="13407" y="11555"/>
                  <a:pt x="13398" y="11589"/>
                </a:cubicBezTo>
                <a:cubicBezTo>
                  <a:pt x="13457" y="11589"/>
                  <a:pt x="13474" y="11563"/>
                  <a:pt x="13526" y="11557"/>
                </a:cubicBezTo>
                <a:cubicBezTo>
                  <a:pt x="13588" y="11550"/>
                  <a:pt x="13639" y="11550"/>
                  <a:pt x="13684" y="11589"/>
                </a:cubicBezTo>
                <a:cubicBezTo>
                  <a:pt x="13725" y="11625"/>
                  <a:pt x="13728" y="11620"/>
                  <a:pt x="13780" y="11620"/>
                </a:cubicBezTo>
              </a:path>
              <a:path w="4668" h="2922">
                <a:moveTo>
                  <a:pt x="14446" y="10287"/>
                </a:moveTo>
                <a:cubicBezTo>
                  <a:pt x="14387" y="10346"/>
                  <a:pt x="14369" y="10414"/>
                  <a:pt x="14319" y="10478"/>
                </a:cubicBezTo>
                <a:cubicBezTo>
                  <a:pt x="14242" y="10578"/>
                  <a:pt x="14175" y="10676"/>
                  <a:pt x="14129" y="10795"/>
                </a:cubicBezTo>
                <a:cubicBezTo>
                  <a:pt x="14077" y="10929"/>
                  <a:pt x="14065" y="11034"/>
                  <a:pt x="14065" y="11176"/>
                </a:cubicBezTo>
                <a:cubicBezTo>
                  <a:pt x="14065" y="11282"/>
                  <a:pt x="14078" y="11311"/>
                  <a:pt x="14129" y="11398"/>
                </a:cubicBezTo>
                <a:cubicBezTo>
                  <a:pt x="14157" y="11446"/>
                  <a:pt x="14199" y="11532"/>
                  <a:pt x="14256" y="11557"/>
                </a:cubicBezTo>
                <a:cubicBezTo>
                  <a:pt x="14263" y="11560"/>
                  <a:pt x="14345" y="11582"/>
                  <a:pt x="14351" y="11589"/>
                </a:cubicBezTo>
                <a:cubicBezTo>
                  <a:pt x="14373" y="11615"/>
                  <a:pt x="14363" y="11648"/>
                  <a:pt x="14383" y="11589"/>
                </a:cubicBezTo>
              </a:path>
              <a:path w="4668" h="2922">
                <a:moveTo>
                  <a:pt x="14542" y="10668"/>
                </a:moveTo>
                <a:cubicBezTo>
                  <a:pt x="14542" y="10972"/>
                  <a:pt x="14512" y="11297"/>
                  <a:pt x="14573" y="11589"/>
                </a:cubicBezTo>
                <a:cubicBezTo>
                  <a:pt x="14573" y="11631"/>
                  <a:pt x="14573" y="11652"/>
                  <a:pt x="14573" y="11684"/>
                </a:cubicBezTo>
              </a:path>
              <a:path w="4668" h="2922">
                <a:moveTo>
                  <a:pt x="14764" y="11335"/>
                </a:moveTo>
                <a:cubicBezTo>
                  <a:pt x="14764" y="11367"/>
                  <a:pt x="14764" y="11398"/>
                  <a:pt x="14764" y="11430"/>
                </a:cubicBezTo>
              </a:path>
              <a:path w="4668" h="2922">
                <a:moveTo>
                  <a:pt x="15050" y="10827"/>
                </a:moveTo>
                <a:cubicBezTo>
                  <a:pt x="15050" y="10970"/>
                  <a:pt x="15056" y="11115"/>
                  <a:pt x="15018" y="11240"/>
                </a:cubicBezTo>
                <a:cubicBezTo>
                  <a:pt x="15018" y="11271"/>
                  <a:pt x="15018" y="11282"/>
                  <a:pt x="15018" y="11303"/>
                </a:cubicBezTo>
                <a:cubicBezTo>
                  <a:pt x="15067" y="11254"/>
                  <a:pt x="15077" y="11240"/>
                  <a:pt x="15145" y="11240"/>
                </a:cubicBezTo>
                <a:cubicBezTo>
                  <a:pt x="15208" y="11240"/>
                  <a:pt x="15221" y="11254"/>
                  <a:pt x="15272" y="11271"/>
                </a:cubicBezTo>
                <a:cubicBezTo>
                  <a:pt x="15316" y="11285"/>
                  <a:pt x="15362" y="11279"/>
                  <a:pt x="15367" y="11240"/>
                </a:cubicBezTo>
                <a:cubicBezTo>
                  <a:pt x="15367" y="11229"/>
                  <a:pt x="15367" y="11219"/>
                  <a:pt x="15367" y="11208"/>
                </a:cubicBezTo>
              </a:path>
              <a:path w="4668" h="2922">
                <a:moveTo>
                  <a:pt x="15335" y="10509"/>
                </a:moveTo>
                <a:cubicBezTo>
                  <a:pt x="15335" y="10602"/>
                  <a:pt x="15307" y="10669"/>
                  <a:pt x="15304" y="10763"/>
                </a:cubicBezTo>
                <a:cubicBezTo>
                  <a:pt x="15296" y="11016"/>
                  <a:pt x="15304" y="11271"/>
                  <a:pt x="15304" y="11525"/>
                </a:cubicBezTo>
              </a:path>
              <a:path w="4668" h="2922">
                <a:moveTo>
                  <a:pt x="14510" y="11906"/>
                </a:moveTo>
                <a:cubicBezTo>
                  <a:pt x="14458" y="11923"/>
                  <a:pt x="14478" y="11968"/>
                  <a:pt x="14478" y="12033"/>
                </a:cubicBezTo>
                <a:cubicBezTo>
                  <a:pt x="14478" y="12199"/>
                  <a:pt x="14474" y="12354"/>
                  <a:pt x="14510" y="12510"/>
                </a:cubicBezTo>
                <a:cubicBezTo>
                  <a:pt x="14524" y="12572"/>
                  <a:pt x="14526" y="12558"/>
                  <a:pt x="14542" y="12605"/>
                </a:cubicBezTo>
                <a:cubicBezTo>
                  <a:pt x="14589" y="12593"/>
                  <a:pt x="14639" y="12556"/>
                  <a:pt x="14668" y="12510"/>
                </a:cubicBezTo>
                <a:cubicBezTo>
                  <a:pt x="14722" y="12426"/>
                  <a:pt x="14741" y="12345"/>
                  <a:pt x="14764" y="12256"/>
                </a:cubicBezTo>
                <a:cubicBezTo>
                  <a:pt x="14793" y="12145"/>
                  <a:pt x="14827" y="12086"/>
                  <a:pt x="14827" y="11970"/>
                </a:cubicBezTo>
                <a:cubicBezTo>
                  <a:pt x="14827" y="11938"/>
                  <a:pt x="14827" y="11928"/>
                  <a:pt x="14796" y="11938"/>
                </a:cubicBezTo>
                <a:cubicBezTo>
                  <a:pt x="14796" y="11994"/>
                  <a:pt x="14807" y="12048"/>
                  <a:pt x="14827" y="12097"/>
                </a:cubicBezTo>
                <a:cubicBezTo>
                  <a:pt x="14866" y="12193"/>
                  <a:pt x="14910" y="12281"/>
                  <a:pt x="14922" y="12382"/>
                </a:cubicBezTo>
                <a:cubicBezTo>
                  <a:pt x="14937" y="12504"/>
                  <a:pt x="14941" y="12554"/>
                  <a:pt x="14922" y="12668"/>
                </a:cubicBezTo>
                <a:cubicBezTo>
                  <a:pt x="14900" y="12802"/>
                  <a:pt x="14868" y="12845"/>
                  <a:pt x="14796" y="12954"/>
                </a:cubicBezTo>
                <a:cubicBezTo>
                  <a:pt x="14765" y="13000"/>
                  <a:pt x="14677" y="13093"/>
                  <a:pt x="14605" y="13081"/>
                </a:cubicBezTo>
                <a:cubicBezTo>
                  <a:pt x="14566" y="13074"/>
                  <a:pt x="14523" y="12977"/>
                  <a:pt x="14510" y="12954"/>
                </a:cubicBezTo>
              </a:path>
              <a:path w="4668" h="2922">
                <a:moveTo>
                  <a:pt x="15208" y="11970"/>
                </a:moveTo>
                <a:cubicBezTo>
                  <a:pt x="15273" y="11970"/>
                  <a:pt x="15283" y="11985"/>
                  <a:pt x="15335" y="12002"/>
                </a:cubicBezTo>
                <a:cubicBezTo>
                  <a:pt x="15401" y="12024"/>
                  <a:pt x="15476" y="11985"/>
                  <a:pt x="15526" y="11970"/>
                </a:cubicBezTo>
                <a:cubicBezTo>
                  <a:pt x="15537" y="11970"/>
                  <a:pt x="15547" y="11970"/>
                  <a:pt x="15558" y="11970"/>
                </a:cubicBezTo>
              </a:path>
              <a:path w="4668" h="2922">
                <a:moveTo>
                  <a:pt x="15272" y="12224"/>
                </a:moveTo>
                <a:cubicBezTo>
                  <a:pt x="15330" y="12224"/>
                  <a:pt x="15347" y="12250"/>
                  <a:pt x="15399" y="12256"/>
                </a:cubicBezTo>
                <a:cubicBezTo>
                  <a:pt x="15440" y="12261"/>
                  <a:pt x="15485" y="12256"/>
                  <a:pt x="15526" y="12256"/>
                </a:cubicBezTo>
              </a:path>
              <a:path w="4668" h="2922">
                <a:moveTo>
                  <a:pt x="15430" y="10160"/>
                </a:moveTo>
                <a:cubicBezTo>
                  <a:pt x="15409" y="10160"/>
                  <a:pt x="15439" y="10181"/>
                  <a:pt x="15494" y="10224"/>
                </a:cubicBezTo>
                <a:cubicBezTo>
                  <a:pt x="15593" y="10300"/>
                  <a:pt x="15638" y="10384"/>
                  <a:pt x="15684" y="10509"/>
                </a:cubicBezTo>
                <a:cubicBezTo>
                  <a:pt x="15723" y="10613"/>
                  <a:pt x="15787" y="10781"/>
                  <a:pt x="15780" y="10890"/>
                </a:cubicBezTo>
                <a:cubicBezTo>
                  <a:pt x="15771" y="11032"/>
                  <a:pt x="15736" y="11201"/>
                  <a:pt x="15684" y="11335"/>
                </a:cubicBezTo>
                <a:cubicBezTo>
                  <a:pt x="15649" y="11425"/>
                  <a:pt x="15618" y="11513"/>
                  <a:pt x="15558" y="11589"/>
                </a:cubicBezTo>
              </a:path>
              <a:path w="4668" h="2922">
                <a:moveTo>
                  <a:pt x="15907" y="11779"/>
                </a:moveTo>
                <a:cubicBezTo>
                  <a:pt x="15907" y="11715"/>
                  <a:pt x="15895" y="11668"/>
                  <a:pt x="15938" y="11620"/>
                </a:cubicBezTo>
                <a:cubicBezTo>
                  <a:pt x="15992" y="11559"/>
                  <a:pt x="16016" y="11557"/>
                  <a:pt x="16097" y="11557"/>
                </a:cubicBezTo>
                <a:cubicBezTo>
                  <a:pt x="16108" y="11557"/>
                  <a:pt x="16118" y="11557"/>
                  <a:pt x="16129" y="11557"/>
                </a:cubicBezTo>
                <a:cubicBezTo>
                  <a:pt x="16129" y="11660"/>
                  <a:pt x="16127" y="11742"/>
                  <a:pt x="16097" y="11843"/>
                </a:cubicBezTo>
                <a:cubicBezTo>
                  <a:pt x="16062" y="11961"/>
                  <a:pt x="16018" y="12080"/>
                  <a:pt x="15970" y="12192"/>
                </a:cubicBezTo>
                <a:cubicBezTo>
                  <a:pt x="15942" y="12257"/>
                  <a:pt x="15908" y="12359"/>
                  <a:pt x="15875" y="12414"/>
                </a:cubicBezTo>
                <a:cubicBezTo>
                  <a:pt x="15864" y="12425"/>
                  <a:pt x="15854" y="12435"/>
                  <a:pt x="15843" y="12446"/>
                </a:cubicBezTo>
                <a:cubicBezTo>
                  <a:pt x="15897" y="12392"/>
                  <a:pt x="15918" y="12410"/>
                  <a:pt x="15970" y="12382"/>
                </a:cubicBezTo>
                <a:cubicBezTo>
                  <a:pt x="16048" y="12340"/>
                  <a:pt x="16021" y="12360"/>
                  <a:pt x="16066" y="12382"/>
                </a:cubicBezTo>
                <a:cubicBezTo>
                  <a:pt x="16102" y="12382"/>
                  <a:pt x="16115" y="12385"/>
                  <a:pt x="16129" y="12414"/>
                </a:cubicBezTo>
              </a:path>
              <a:path w="4668" h="2922">
                <a:moveTo>
                  <a:pt x="16320" y="12224"/>
                </a:moveTo>
                <a:cubicBezTo>
                  <a:pt x="16330" y="12224"/>
                  <a:pt x="16341" y="12224"/>
                  <a:pt x="16351" y="12224"/>
                </a:cubicBezTo>
              </a:path>
              <a:path w="4668" h="2922">
                <a:moveTo>
                  <a:pt x="16732" y="11557"/>
                </a:moveTo>
                <a:cubicBezTo>
                  <a:pt x="16678" y="11516"/>
                  <a:pt x="16638" y="11508"/>
                  <a:pt x="16574" y="11557"/>
                </a:cubicBezTo>
                <a:cubicBezTo>
                  <a:pt x="16492" y="11619"/>
                  <a:pt x="16449" y="11675"/>
                  <a:pt x="16383" y="11748"/>
                </a:cubicBezTo>
                <a:cubicBezTo>
                  <a:pt x="16354" y="11776"/>
                  <a:pt x="16348" y="11786"/>
                  <a:pt x="16320" y="11779"/>
                </a:cubicBezTo>
                <a:cubicBezTo>
                  <a:pt x="16332" y="11815"/>
                  <a:pt x="16363" y="11839"/>
                  <a:pt x="16415" y="11843"/>
                </a:cubicBezTo>
                <a:cubicBezTo>
                  <a:pt x="16484" y="11848"/>
                  <a:pt x="16533" y="11874"/>
                  <a:pt x="16574" y="11938"/>
                </a:cubicBezTo>
                <a:cubicBezTo>
                  <a:pt x="16619" y="12009"/>
                  <a:pt x="16661" y="12105"/>
                  <a:pt x="16637" y="12192"/>
                </a:cubicBezTo>
                <a:cubicBezTo>
                  <a:pt x="16622" y="12247"/>
                  <a:pt x="16605" y="12308"/>
                  <a:pt x="16574" y="12351"/>
                </a:cubicBezTo>
                <a:cubicBezTo>
                  <a:pt x="16500" y="12332"/>
                  <a:pt x="16483" y="12302"/>
                  <a:pt x="16478" y="12224"/>
                </a:cubicBezTo>
                <a:cubicBezTo>
                  <a:pt x="16471" y="12103"/>
                  <a:pt x="16494" y="12016"/>
                  <a:pt x="16542" y="11906"/>
                </a:cubicBezTo>
                <a:cubicBezTo>
                  <a:pt x="16571" y="11839"/>
                  <a:pt x="16600" y="11776"/>
                  <a:pt x="16637" y="11748"/>
                </a:cubicBezTo>
                <a:cubicBezTo>
                  <a:pt x="16648" y="11737"/>
                  <a:pt x="16658" y="11727"/>
                  <a:pt x="16669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4"/>
          <p:cNvSpPr/>
          <p:nvPr/>
        </p:nvSpPr>
        <p:spPr>
          <a:xfrm>
            <a:off x="2606760" y="4915080"/>
            <a:ext cx="285840" cy="1017360"/>
          </a:xfrm>
          <a:custGeom>
            <a:avLst/>
            <a:gdLst/>
            <a:ahLst/>
            <a:rect l="l" t="t" r="r" b="b"/>
            <a:pathLst>
              <a:path w="795" h="2827">
                <a:moveTo>
                  <a:pt x="7271" y="13652"/>
                </a:moveTo>
                <a:cubicBezTo>
                  <a:pt x="7260" y="13746"/>
                  <a:pt x="7256" y="13694"/>
                  <a:pt x="7302" y="13811"/>
                </a:cubicBezTo>
                <a:cubicBezTo>
                  <a:pt x="7361" y="13962"/>
                  <a:pt x="7424" y="14108"/>
                  <a:pt x="7493" y="14256"/>
                </a:cubicBezTo>
                <a:cubicBezTo>
                  <a:pt x="7586" y="14455"/>
                  <a:pt x="7645" y="14653"/>
                  <a:pt x="7715" y="14859"/>
                </a:cubicBezTo>
                <a:cubicBezTo>
                  <a:pt x="7802" y="15114"/>
                  <a:pt x="7856" y="15388"/>
                  <a:pt x="7906" y="15653"/>
                </a:cubicBezTo>
                <a:cubicBezTo>
                  <a:pt x="7949" y="15881"/>
                  <a:pt x="8010" y="16121"/>
                  <a:pt x="8033" y="16351"/>
                </a:cubicBezTo>
                <a:cubicBezTo>
                  <a:pt x="8033" y="16393"/>
                  <a:pt x="8033" y="16436"/>
                  <a:pt x="8033" y="16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5"/>
          <p:cNvSpPr/>
          <p:nvPr/>
        </p:nvSpPr>
        <p:spPr>
          <a:xfrm>
            <a:off x="4789440" y="4983120"/>
            <a:ext cx="434880" cy="595440"/>
          </a:xfrm>
          <a:custGeom>
            <a:avLst/>
            <a:gdLst/>
            <a:ahLst/>
            <a:rect l="l" t="t" r="r" b="b"/>
            <a:pathLst>
              <a:path w="1208" h="1652">
                <a:moveTo>
                  <a:pt x="13398" y="13843"/>
                </a:moveTo>
                <a:cubicBezTo>
                  <a:pt x="13385" y="13895"/>
                  <a:pt x="13345" y="13953"/>
                  <a:pt x="13335" y="14002"/>
                </a:cubicBezTo>
                <a:cubicBezTo>
                  <a:pt x="13317" y="14090"/>
                  <a:pt x="13308" y="14199"/>
                  <a:pt x="13303" y="14288"/>
                </a:cubicBezTo>
                <a:cubicBezTo>
                  <a:pt x="13297" y="14393"/>
                  <a:pt x="13335" y="14495"/>
                  <a:pt x="13335" y="14605"/>
                </a:cubicBezTo>
                <a:cubicBezTo>
                  <a:pt x="13335" y="14806"/>
                  <a:pt x="13335" y="15007"/>
                  <a:pt x="13335" y="15208"/>
                </a:cubicBezTo>
              </a:path>
              <a:path w="1208" h="1652">
                <a:moveTo>
                  <a:pt x="13684" y="13906"/>
                </a:moveTo>
                <a:cubicBezTo>
                  <a:pt x="13637" y="13906"/>
                  <a:pt x="13710" y="13913"/>
                  <a:pt x="13684" y="14002"/>
                </a:cubicBezTo>
                <a:cubicBezTo>
                  <a:pt x="13646" y="14129"/>
                  <a:pt x="13644" y="14251"/>
                  <a:pt x="13621" y="14383"/>
                </a:cubicBezTo>
                <a:cubicBezTo>
                  <a:pt x="13594" y="14541"/>
                  <a:pt x="13563" y="14698"/>
                  <a:pt x="13557" y="14859"/>
                </a:cubicBezTo>
                <a:cubicBezTo>
                  <a:pt x="13553" y="14970"/>
                  <a:pt x="13537" y="15105"/>
                  <a:pt x="13589" y="15208"/>
                </a:cubicBezTo>
                <a:cubicBezTo>
                  <a:pt x="13617" y="15264"/>
                  <a:pt x="13662" y="15272"/>
                  <a:pt x="13716" y="15272"/>
                </a:cubicBezTo>
                <a:cubicBezTo>
                  <a:pt x="13802" y="15272"/>
                  <a:pt x="13815" y="15175"/>
                  <a:pt x="13843" y="15113"/>
                </a:cubicBezTo>
                <a:cubicBezTo>
                  <a:pt x="13881" y="15030"/>
                  <a:pt x="13924" y="14890"/>
                  <a:pt x="13938" y="14796"/>
                </a:cubicBezTo>
                <a:cubicBezTo>
                  <a:pt x="13955" y="14685"/>
                  <a:pt x="13936" y="14569"/>
                  <a:pt x="13906" y="14478"/>
                </a:cubicBezTo>
                <a:cubicBezTo>
                  <a:pt x="13906" y="14467"/>
                  <a:pt x="13906" y="14457"/>
                  <a:pt x="13906" y="14446"/>
                </a:cubicBezTo>
                <a:cubicBezTo>
                  <a:pt x="13844" y="14494"/>
                  <a:pt x="13823" y="14492"/>
                  <a:pt x="13780" y="14573"/>
                </a:cubicBezTo>
                <a:cubicBezTo>
                  <a:pt x="13733" y="14663"/>
                  <a:pt x="13696" y="14763"/>
                  <a:pt x="13684" y="14859"/>
                </a:cubicBezTo>
                <a:cubicBezTo>
                  <a:pt x="13667" y="14995"/>
                  <a:pt x="13678" y="15157"/>
                  <a:pt x="13716" y="15272"/>
                </a:cubicBezTo>
                <a:cubicBezTo>
                  <a:pt x="13716" y="15283"/>
                  <a:pt x="13716" y="15293"/>
                  <a:pt x="13716" y="15304"/>
                </a:cubicBezTo>
              </a:path>
              <a:path w="1208" h="1652">
                <a:moveTo>
                  <a:pt x="14129" y="14288"/>
                </a:moveTo>
                <a:cubicBezTo>
                  <a:pt x="14175" y="14350"/>
                  <a:pt x="14197" y="14432"/>
                  <a:pt x="14224" y="14510"/>
                </a:cubicBezTo>
                <a:cubicBezTo>
                  <a:pt x="14270" y="14641"/>
                  <a:pt x="14284" y="14707"/>
                  <a:pt x="14351" y="14827"/>
                </a:cubicBezTo>
                <a:cubicBezTo>
                  <a:pt x="14388" y="14893"/>
                  <a:pt x="14410" y="14992"/>
                  <a:pt x="14446" y="15050"/>
                </a:cubicBezTo>
                <a:cubicBezTo>
                  <a:pt x="14473" y="15095"/>
                  <a:pt x="14473" y="15101"/>
                  <a:pt x="14510" y="15113"/>
                </a:cubicBezTo>
              </a:path>
              <a:path w="1208" h="1652">
                <a:moveTo>
                  <a:pt x="14478" y="14256"/>
                </a:moveTo>
                <a:cubicBezTo>
                  <a:pt x="14422" y="14349"/>
                  <a:pt x="14397" y="14465"/>
                  <a:pt x="14351" y="14573"/>
                </a:cubicBezTo>
                <a:cubicBezTo>
                  <a:pt x="14251" y="14807"/>
                  <a:pt x="14131" y="15058"/>
                  <a:pt x="14065" y="15304"/>
                </a:cubicBezTo>
                <a:cubicBezTo>
                  <a:pt x="14055" y="15367"/>
                  <a:pt x="14044" y="15431"/>
                  <a:pt x="14034" y="15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6"/>
          <p:cNvSpPr/>
          <p:nvPr/>
        </p:nvSpPr>
        <p:spPr>
          <a:xfrm>
            <a:off x="1120680" y="5475240"/>
            <a:ext cx="308160" cy="468360"/>
          </a:xfrm>
          <a:custGeom>
            <a:avLst/>
            <a:gdLst/>
            <a:ahLst/>
            <a:rect l="l" t="t" r="r" b="b"/>
            <a:pathLst>
              <a:path w="858" h="1303">
                <a:moveTo>
                  <a:pt x="3715" y="15208"/>
                </a:moveTo>
                <a:cubicBezTo>
                  <a:pt x="3715" y="15413"/>
                  <a:pt x="3697" y="15610"/>
                  <a:pt x="3683" y="15812"/>
                </a:cubicBezTo>
                <a:cubicBezTo>
                  <a:pt x="3671" y="15988"/>
                  <a:pt x="3697" y="16151"/>
                  <a:pt x="3715" y="16320"/>
                </a:cubicBezTo>
                <a:cubicBezTo>
                  <a:pt x="3724" y="16408"/>
                  <a:pt x="3739" y="16488"/>
                  <a:pt x="3651" y="16510"/>
                </a:cubicBezTo>
              </a:path>
              <a:path w="858" h="1303">
                <a:moveTo>
                  <a:pt x="3112" y="15907"/>
                </a:moveTo>
                <a:cubicBezTo>
                  <a:pt x="3133" y="15820"/>
                  <a:pt x="3225" y="15764"/>
                  <a:pt x="3302" y="15716"/>
                </a:cubicBezTo>
                <a:cubicBezTo>
                  <a:pt x="3402" y="15654"/>
                  <a:pt x="3536" y="15632"/>
                  <a:pt x="3651" y="15653"/>
                </a:cubicBezTo>
                <a:cubicBezTo>
                  <a:pt x="3761" y="15673"/>
                  <a:pt x="3865" y="15740"/>
                  <a:pt x="3969" y="15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7"/>
          <p:cNvSpPr/>
          <p:nvPr/>
        </p:nvSpPr>
        <p:spPr>
          <a:xfrm>
            <a:off x="4686480" y="4983120"/>
            <a:ext cx="1325520" cy="1395360"/>
          </a:xfrm>
          <a:custGeom>
            <a:avLst/>
            <a:gdLst/>
            <a:ahLst/>
            <a:rect l="l" t="t" r="r" b="b"/>
            <a:pathLst>
              <a:path w="3683" h="3874">
                <a:moveTo>
                  <a:pt x="14827" y="14414"/>
                </a:moveTo>
                <a:cubicBezTo>
                  <a:pt x="14827" y="14404"/>
                  <a:pt x="14827" y="14393"/>
                  <a:pt x="14827" y="14383"/>
                </a:cubicBezTo>
                <a:cubicBezTo>
                  <a:pt x="14908" y="14383"/>
                  <a:pt x="14951" y="14373"/>
                  <a:pt x="15018" y="14351"/>
                </a:cubicBezTo>
                <a:cubicBezTo>
                  <a:pt x="15077" y="14331"/>
                  <a:pt x="15125" y="14370"/>
                  <a:pt x="15176" y="14383"/>
                </a:cubicBezTo>
                <a:cubicBezTo>
                  <a:pt x="15232" y="14397"/>
                  <a:pt x="15220" y="14376"/>
                  <a:pt x="15272" y="14414"/>
                </a:cubicBezTo>
              </a:path>
              <a:path w="3683" h="3874">
                <a:moveTo>
                  <a:pt x="14827" y="14700"/>
                </a:moveTo>
                <a:cubicBezTo>
                  <a:pt x="14905" y="14700"/>
                  <a:pt x="14955" y="14682"/>
                  <a:pt x="15018" y="14668"/>
                </a:cubicBezTo>
                <a:cubicBezTo>
                  <a:pt x="15089" y="14653"/>
                  <a:pt x="15144" y="14687"/>
                  <a:pt x="15208" y="14700"/>
                </a:cubicBezTo>
              </a:path>
              <a:path w="3683" h="3874">
                <a:moveTo>
                  <a:pt x="15589" y="13843"/>
                </a:moveTo>
                <a:cubicBezTo>
                  <a:pt x="15589" y="14038"/>
                  <a:pt x="15600" y="14225"/>
                  <a:pt x="15621" y="14414"/>
                </a:cubicBezTo>
                <a:cubicBezTo>
                  <a:pt x="15641" y="14594"/>
                  <a:pt x="15637" y="14828"/>
                  <a:pt x="15589" y="14986"/>
                </a:cubicBezTo>
                <a:cubicBezTo>
                  <a:pt x="15589" y="15018"/>
                  <a:pt x="15589" y="15029"/>
                  <a:pt x="15589" y="15050"/>
                </a:cubicBezTo>
              </a:path>
              <a:path w="3683" h="3874">
                <a:moveTo>
                  <a:pt x="15875" y="13938"/>
                </a:moveTo>
                <a:cubicBezTo>
                  <a:pt x="15858" y="14008"/>
                  <a:pt x="15821" y="14078"/>
                  <a:pt x="15812" y="14160"/>
                </a:cubicBezTo>
                <a:cubicBezTo>
                  <a:pt x="15797" y="14290"/>
                  <a:pt x="15780" y="14409"/>
                  <a:pt x="15780" y="14542"/>
                </a:cubicBezTo>
                <a:cubicBezTo>
                  <a:pt x="15780" y="14661"/>
                  <a:pt x="15760" y="14792"/>
                  <a:pt x="15812" y="14891"/>
                </a:cubicBezTo>
                <a:cubicBezTo>
                  <a:pt x="15838" y="14941"/>
                  <a:pt x="15863" y="14970"/>
                  <a:pt x="15875" y="15018"/>
                </a:cubicBezTo>
                <a:cubicBezTo>
                  <a:pt x="15909" y="15010"/>
                  <a:pt x="16007" y="14982"/>
                  <a:pt x="16034" y="14954"/>
                </a:cubicBezTo>
                <a:cubicBezTo>
                  <a:pt x="16105" y="14878"/>
                  <a:pt x="16094" y="14758"/>
                  <a:pt x="16129" y="14668"/>
                </a:cubicBezTo>
                <a:cubicBezTo>
                  <a:pt x="16163" y="14579"/>
                  <a:pt x="16161" y="14511"/>
                  <a:pt x="16161" y="14414"/>
                </a:cubicBezTo>
                <a:cubicBezTo>
                  <a:pt x="16161" y="14338"/>
                  <a:pt x="16161" y="14335"/>
                  <a:pt x="16097" y="14319"/>
                </a:cubicBezTo>
                <a:cubicBezTo>
                  <a:pt x="16025" y="14337"/>
                  <a:pt x="16034" y="14378"/>
                  <a:pt x="16002" y="14446"/>
                </a:cubicBezTo>
                <a:cubicBezTo>
                  <a:pt x="15955" y="14545"/>
                  <a:pt x="15922" y="14656"/>
                  <a:pt x="15907" y="14764"/>
                </a:cubicBezTo>
                <a:cubicBezTo>
                  <a:pt x="15898" y="14828"/>
                  <a:pt x="15906" y="14907"/>
                  <a:pt x="15938" y="14954"/>
                </a:cubicBezTo>
                <a:cubicBezTo>
                  <a:pt x="15949" y="14965"/>
                  <a:pt x="15959" y="14975"/>
                  <a:pt x="15970" y="14986"/>
                </a:cubicBezTo>
              </a:path>
              <a:path w="3683" h="3874">
                <a:moveTo>
                  <a:pt x="16351" y="13970"/>
                </a:moveTo>
                <a:cubicBezTo>
                  <a:pt x="16293" y="14058"/>
                  <a:pt x="16266" y="14181"/>
                  <a:pt x="16256" y="14288"/>
                </a:cubicBezTo>
                <a:cubicBezTo>
                  <a:pt x="16244" y="14417"/>
                  <a:pt x="16249" y="14578"/>
                  <a:pt x="16288" y="14700"/>
                </a:cubicBezTo>
                <a:cubicBezTo>
                  <a:pt x="16321" y="14804"/>
                  <a:pt x="16344" y="14827"/>
                  <a:pt x="16446" y="14827"/>
                </a:cubicBezTo>
                <a:cubicBezTo>
                  <a:pt x="16561" y="14827"/>
                  <a:pt x="16554" y="14801"/>
                  <a:pt x="16605" y="14700"/>
                </a:cubicBezTo>
                <a:cubicBezTo>
                  <a:pt x="16644" y="14622"/>
                  <a:pt x="16707" y="14497"/>
                  <a:pt x="16700" y="14414"/>
                </a:cubicBezTo>
                <a:cubicBezTo>
                  <a:pt x="16691" y="14304"/>
                  <a:pt x="16658" y="14218"/>
                  <a:pt x="16605" y="14129"/>
                </a:cubicBezTo>
                <a:cubicBezTo>
                  <a:pt x="16556" y="14046"/>
                  <a:pt x="16488" y="14005"/>
                  <a:pt x="16383" y="14034"/>
                </a:cubicBezTo>
                <a:cubicBezTo>
                  <a:pt x="16292" y="14059"/>
                  <a:pt x="16267" y="14073"/>
                  <a:pt x="16192" y="14129"/>
                </a:cubicBezTo>
              </a:path>
              <a:path w="3683" h="3874">
                <a:moveTo>
                  <a:pt x="13018" y="15145"/>
                </a:moveTo>
                <a:cubicBezTo>
                  <a:pt x="13069" y="15236"/>
                  <a:pt x="13071" y="15240"/>
                  <a:pt x="13176" y="15240"/>
                </a:cubicBezTo>
                <a:cubicBezTo>
                  <a:pt x="13278" y="15240"/>
                  <a:pt x="13363" y="15212"/>
                  <a:pt x="13462" y="15208"/>
                </a:cubicBezTo>
                <a:cubicBezTo>
                  <a:pt x="13600" y="15202"/>
                  <a:pt x="13679" y="15157"/>
                  <a:pt x="13811" y="15145"/>
                </a:cubicBezTo>
                <a:cubicBezTo>
                  <a:pt x="14036" y="15125"/>
                  <a:pt x="14291" y="15123"/>
                  <a:pt x="14478" y="15208"/>
                </a:cubicBezTo>
                <a:cubicBezTo>
                  <a:pt x="14519" y="15227"/>
                  <a:pt x="14587" y="15231"/>
                  <a:pt x="14605" y="15240"/>
                </a:cubicBezTo>
                <a:cubicBezTo>
                  <a:pt x="14616" y="15240"/>
                  <a:pt x="14626" y="15240"/>
                  <a:pt x="14637" y="15240"/>
                </a:cubicBezTo>
              </a:path>
              <a:path w="3683" h="3874">
                <a:moveTo>
                  <a:pt x="13367" y="15526"/>
                </a:moveTo>
                <a:cubicBezTo>
                  <a:pt x="13412" y="15603"/>
                  <a:pt x="13398" y="15685"/>
                  <a:pt x="13398" y="15780"/>
                </a:cubicBezTo>
                <a:cubicBezTo>
                  <a:pt x="13398" y="15918"/>
                  <a:pt x="13404" y="16022"/>
                  <a:pt x="13398" y="16161"/>
                </a:cubicBezTo>
                <a:cubicBezTo>
                  <a:pt x="13394" y="16245"/>
                  <a:pt x="13398" y="16331"/>
                  <a:pt x="13398" y="16415"/>
                </a:cubicBezTo>
              </a:path>
              <a:path w="3683" h="3874">
                <a:moveTo>
                  <a:pt x="13652" y="15558"/>
                </a:moveTo>
                <a:cubicBezTo>
                  <a:pt x="13652" y="15630"/>
                  <a:pt x="13632" y="15681"/>
                  <a:pt x="13621" y="15748"/>
                </a:cubicBezTo>
                <a:cubicBezTo>
                  <a:pt x="13607" y="15832"/>
                  <a:pt x="13594" y="15920"/>
                  <a:pt x="13589" y="16002"/>
                </a:cubicBezTo>
                <a:cubicBezTo>
                  <a:pt x="13585" y="16082"/>
                  <a:pt x="13601" y="16127"/>
                  <a:pt x="13621" y="16192"/>
                </a:cubicBezTo>
                <a:cubicBezTo>
                  <a:pt x="13639" y="16250"/>
                  <a:pt x="13650" y="16262"/>
                  <a:pt x="13684" y="16288"/>
                </a:cubicBezTo>
                <a:cubicBezTo>
                  <a:pt x="13733" y="16325"/>
                  <a:pt x="13749" y="16320"/>
                  <a:pt x="13811" y="16320"/>
                </a:cubicBezTo>
                <a:cubicBezTo>
                  <a:pt x="13928" y="16320"/>
                  <a:pt x="13901" y="16292"/>
                  <a:pt x="13938" y="16224"/>
                </a:cubicBezTo>
                <a:cubicBezTo>
                  <a:pt x="13969" y="16168"/>
                  <a:pt x="13976" y="16118"/>
                  <a:pt x="14002" y="16066"/>
                </a:cubicBezTo>
                <a:cubicBezTo>
                  <a:pt x="14045" y="15980"/>
                  <a:pt x="14010" y="15999"/>
                  <a:pt x="14002" y="15938"/>
                </a:cubicBezTo>
                <a:cubicBezTo>
                  <a:pt x="14002" y="15928"/>
                  <a:pt x="14002" y="15917"/>
                  <a:pt x="14002" y="15907"/>
                </a:cubicBezTo>
                <a:cubicBezTo>
                  <a:pt x="13947" y="15907"/>
                  <a:pt x="13925" y="15913"/>
                  <a:pt x="13906" y="15970"/>
                </a:cubicBezTo>
                <a:cubicBezTo>
                  <a:pt x="13884" y="16036"/>
                  <a:pt x="13875" y="16089"/>
                  <a:pt x="13875" y="16161"/>
                </a:cubicBezTo>
                <a:cubicBezTo>
                  <a:pt x="13875" y="16258"/>
                  <a:pt x="13886" y="16325"/>
                  <a:pt x="13906" y="16415"/>
                </a:cubicBezTo>
                <a:cubicBezTo>
                  <a:pt x="13906" y="16425"/>
                  <a:pt x="13906" y="16436"/>
                  <a:pt x="13906" y="16446"/>
                </a:cubicBezTo>
              </a:path>
              <a:path w="3683" h="3874">
                <a:moveTo>
                  <a:pt x="15208" y="15462"/>
                </a:moveTo>
                <a:cubicBezTo>
                  <a:pt x="15291" y="15396"/>
                  <a:pt x="15388" y="15328"/>
                  <a:pt x="15494" y="15304"/>
                </a:cubicBezTo>
                <a:cubicBezTo>
                  <a:pt x="15613" y="15277"/>
                  <a:pt x="15761" y="15261"/>
                  <a:pt x="15875" y="15208"/>
                </a:cubicBezTo>
                <a:cubicBezTo>
                  <a:pt x="16014" y="15143"/>
                  <a:pt x="16139" y="15098"/>
                  <a:pt x="16288" y="15050"/>
                </a:cubicBezTo>
                <a:cubicBezTo>
                  <a:pt x="16398" y="15015"/>
                  <a:pt x="16489" y="15018"/>
                  <a:pt x="16605" y="15018"/>
                </a:cubicBezTo>
                <a:cubicBezTo>
                  <a:pt x="16637" y="15018"/>
                  <a:pt x="16668" y="15018"/>
                  <a:pt x="16700" y="15018"/>
                </a:cubicBezTo>
              </a:path>
              <a:path w="3683" h="3874">
                <a:moveTo>
                  <a:pt x="15748" y="15335"/>
                </a:moveTo>
                <a:cubicBezTo>
                  <a:pt x="15700" y="15351"/>
                  <a:pt x="15716" y="15373"/>
                  <a:pt x="15716" y="15430"/>
                </a:cubicBezTo>
                <a:cubicBezTo>
                  <a:pt x="15716" y="15634"/>
                  <a:pt x="15784" y="15995"/>
                  <a:pt x="15684" y="16161"/>
                </a:cubicBezTo>
              </a:path>
              <a:path w="3683" h="3874">
                <a:moveTo>
                  <a:pt x="15938" y="15367"/>
                </a:moveTo>
                <a:cubicBezTo>
                  <a:pt x="15938" y="15449"/>
                  <a:pt x="15911" y="15509"/>
                  <a:pt x="15907" y="15589"/>
                </a:cubicBezTo>
                <a:cubicBezTo>
                  <a:pt x="15900" y="15711"/>
                  <a:pt x="15863" y="15972"/>
                  <a:pt x="15938" y="16066"/>
                </a:cubicBezTo>
                <a:cubicBezTo>
                  <a:pt x="15979" y="16117"/>
                  <a:pt x="16024" y="16104"/>
                  <a:pt x="16066" y="16066"/>
                </a:cubicBezTo>
                <a:cubicBezTo>
                  <a:pt x="16122" y="16016"/>
                  <a:pt x="16149" y="15913"/>
                  <a:pt x="16161" y="15843"/>
                </a:cubicBezTo>
                <a:cubicBezTo>
                  <a:pt x="16175" y="15759"/>
                  <a:pt x="16199" y="15670"/>
                  <a:pt x="16161" y="15589"/>
                </a:cubicBezTo>
                <a:cubicBezTo>
                  <a:pt x="16132" y="15561"/>
                  <a:pt x="16126" y="15551"/>
                  <a:pt x="16097" y="15558"/>
                </a:cubicBezTo>
                <a:cubicBezTo>
                  <a:pt x="16081" y="15639"/>
                  <a:pt x="16033" y="15703"/>
                  <a:pt x="16002" y="15780"/>
                </a:cubicBezTo>
                <a:cubicBezTo>
                  <a:pt x="15971" y="15860"/>
                  <a:pt x="15967" y="15925"/>
                  <a:pt x="15938" y="16002"/>
                </a:cubicBezTo>
              </a:path>
              <a:path w="3683" h="3874">
                <a:moveTo>
                  <a:pt x="14542" y="16542"/>
                </a:moveTo>
                <a:cubicBezTo>
                  <a:pt x="14542" y="16616"/>
                  <a:pt x="14578" y="16640"/>
                  <a:pt x="14605" y="16700"/>
                </a:cubicBezTo>
                <a:cubicBezTo>
                  <a:pt x="14651" y="16803"/>
                  <a:pt x="14654" y="16911"/>
                  <a:pt x="14700" y="17018"/>
                </a:cubicBezTo>
                <a:cubicBezTo>
                  <a:pt x="14749" y="17132"/>
                  <a:pt x="14788" y="17249"/>
                  <a:pt x="14827" y="17367"/>
                </a:cubicBezTo>
                <a:cubicBezTo>
                  <a:pt x="14856" y="17453"/>
                  <a:pt x="14862" y="17476"/>
                  <a:pt x="14891" y="17526"/>
                </a:cubicBezTo>
              </a:path>
              <a:path w="3683" h="3874">
                <a:moveTo>
                  <a:pt x="14922" y="16605"/>
                </a:moveTo>
                <a:cubicBezTo>
                  <a:pt x="14906" y="16673"/>
                  <a:pt x="14885" y="16796"/>
                  <a:pt x="14859" y="16859"/>
                </a:cubicBezTo>
                <a:cubicBezTo>
                  <a:pt x="14802" y="16999"/>
                  <a:pt x="14745" y="17123"/>
                  <a:pt x="14700" y="17272"/>
                </a:cubicBezTo>
                <a:cubicBezTo>
                  <a:pt x="14664" y="17390"/>
                  <a:pt x="14621" y="17508"/>
                  <a:pt x="14573" y="17621"/>
                </a:cubicBezTo>
                <a:cubicBezTo>
                  <a:pt x="14548" y="17673"/>
                  <a:pt x="14537" y="17681"/>
                  <a:pt x="14542" y="17716"/>
                </a:cubicBezTo>
              </a:path>
              <a:path w="3683" h="3874">
                <a:moveTo>
                  <a:pt x="15081" y="17177"/>
                </a:moveTo>
                <a:cubicBezTo>
                  <a:pt x="15132" y="17164"/>
                  <a:pt x="15161" y="17129"/>
                  <a:pt x="15208" y="17113"/>
                </a:cubicBezTo>
                <a:cubicBezTo>
                  <a:pt x="15232" y="17105"/>
                  <a:pt x="15278" y="17113"/>
                  <a:pt x="15304" y="17113"/>
                </a:cubicBezTo>
              </a:path>
              <a:path w="3683" h="3874">
                <a:moveTo>
                  <a:pt x="15113" y="17462"/>
                </a:moveTo>
                <a:cubicBezTo>
                  <a:pt x="15183" y="17462"/>
                  <a:pt x="15242" y="17472"/>
                  <a:pt x="15304" y="17431"/>
                </a:cubicBezTo>
                <a:cubicBezTo>
                  <a:pt x="15332" y="17402"/>
                  <a:pt x="15338" y="17391"/>
                  <a:pt x="15367" y="17399"/>
                </a:cubicBezTo>
              </a:path>
              <a:path w="3683" h="3874">
                <a:moveTo>
                  <a:pt x="15462" y="16605"/>
                </a:moveTo>
                <a:cubicBezTo>
                  <a:pt x="15521" y="16625"/>
                  <a:pt x="15494" y="16726"/>
                  <a:pt x="15494" y="16796"/>
                </a:cubicBezTo>
                <a:cubicBezTo>
                  <a:pt x="15494" y="17064"/>
                  <a:pt x="15459" y="17378"/>
                  <a:pt x="15526" y="17621"/>
                </a:cubicBezTo>
                <a:cubicBezTo>
                  <a:pt x="15526" y="17632"/>
                  <a:pt x="15526" y="17642"/>
                  <a:pt x="15526" y="17653"/>
                </a:cubicBezTo>
              </a:path>
              <a:path w="3683" h="3874">
                <a:moveTo>
                  <a:pt x="15653" y="16700"/>
                </a:moveTo>
                <a:cubicBezTo>
                  <a:pt x="15653" y="16815"/>
                  <a:pt x="15633" y="16905"/>
                  <a:pt x="15621" y="17018"/>
                </a:cubicBezTo>
                <a:cubicBezTo>
                  <a:pt x="15606" y="17165"/>
                  <a:pt x="15659" y="17261"/>
                  <a:pt x="15684" y="17399"/>
                </a:cubicBezTo>
                <a:cubicBezTo>
                  <a:pt x="15695" y="17459"/>
                  <a:pt x="15744" y="17527"/>
                  <a:pt x="15812" y="17558"/>
                </a:cubicBezTo>
                <a:cubicBezTo>
                  <a:pt x="15822" y="17558"/>
                  <a:pt x="15833" y="17558"/>
                  <a:pt x="15843" y="17558"/>
                </a:cubicBezTo>
                <a:cubicBezTo>
                  <a:pt x="15912" y="17489"/>
                  <a:pt x="15909" y="17453"/>
                  <a:pt x="15938" y="17367"/>
                </a:cubicBezTo>
                <a:cubicBezTo>
                  <a:pt x="15981" y="17238"/>
                  <a:pt x="16002" y="17158"/>
                  <a:pt x="16002" y="17018"/>
                </a:cubicBezTo>
                <a:cubicBezTo>
                  <a:pt x="16002" y="16914"/>
                  <a:pt x="15975" y="16798"/>
                  <a:pt x="15938" y="16700"/>
                </a:cubicBezTo>
                <a:cubicBezTo>
                  <a:pt x="15928" y="16679"/>
                  <a:pt x="15917" y="16658"/>
                  <a:pt x="15907" y="16637"/>
                </a:cubicBezTo>
                <a:cubicBezTo>
                  <a:pt x="15790" y="16637"/>
                  <a:pt x="15783" y="16654"/>
                  <a:pt x="15716" y="16764"/>
                </a:cubicBezTo>
                <a:cubicBezTo>
                  <a:pt x="15681" y="16833"/>
                  <a:pt x="15667" y="16859"/>
                  <a:pt x="15621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8"/>
          <p:cNvSpPr/>
          <p:nvPr/>
        </p:nvSpPr>
        <p:spPr>
          <a:xfrm>
            <a:off x="6675480" y="4754520"/>
            <a:ext cx="2378160" cy="1098720"/>
          </a:xfrm>
          <a:custGeom>
            <a:avLst/>
            <a:gdLst/>
            <a:ahLst/>
            <a:rect l="l" t="t" r="r" b="b"/>
            <a:pathLst>
              <a:path w="6605" h="3049">
                <a:moveTo>
                  <a:pt x="18669" y="13843"/>
                </a:moveTo>
                <a:lnTo>
                  <a:pt x="18669" y="13843"/>
                </a:lnTo>
              </a:path>
              <a:path w="6605" h="3049">
                <a:moveTo>
                  <a:pt x="18669" y="13843"/>
                </a:moveTo>
                <a:cubicBezTo>
                  <a:pt x="18669" y="13864"/>
                  <a:pt x="18669" y="13885"/>
                  <a:pt x="18669" y="13906"/>
                </a:cubicBezTo>
              </a:path>
              <a:path w="6605" h="3049">
                <a:moveTo>
                  <a:pt x="18669" y="13906"/>
                </a:moveTo>
                <a:cubicBezTo>
                  <a:pt x="18669" y="14041"/>
                  <a:pt x="18657" y="14161"/>
                  <a:pt x="18637" y="14288"/>
                </a:cubicBezTo>
                <a:cubicBezTo>
                  <a:pt x="18617" y="14412"/>
                  <a:pt x="18625" y="14548"/>
                  <a:pt x="18606" y="14668"/>
                </a:cubicBezTo>
                <a:cubicBezTo>
                  <a:pt x="18598" y="14719"/>
                  <a:pt x="18599" y="14882"/>
                  <a:pt x="18574" y="14922"/>
                </a:cubicBezTo>
                <a:cubicBezTo>
                  <a:pt x="18563" y="14922"/>
                  <a:pt x="18553" y="14922"/>
                  <a:pt x="18542" y="14922"/>
                </a:cubicBezTo>
              </a:path>
              <a:path w="6605" h="3049">
                <a:moveTo>
                  <a:pt x="18860" y="14002"/>
                </a:moveTo>
                <a:cubicBezTo>
                  <a:pt x="18875" y="14010"/>
                  <a:pt x="18880" y="14070"/>
                  <a:pt x="18860" y="14129"/>
                </a:cubicBezTo>
                <a:cubicBezTo>
                  <a:pt x="18824" y="14236"/>
                  <a:pt x="18791" y="14339"/>
                  <a:pt x="18764" y="14446"/>
                </a:cubicBezTo>
                <a:cubicBezTo>
                  <a:pt x="18738" y="14551"/>
                  <a:pt x="18732" y="14622"/>
                  <a:pt x="18732" y="14732"/>
                </a:cubicBezTo>
                <a:cubicBezTo>
                  <a:pt x="18732" y="14787"/>
                  <a:pt x="18767" y="14844"/>
                  <a:pt x="18796" y="14859"/>
                </a:cubicBezTo>
                <a:cubicBezTo>
                  <a:pt x="18810" y="14866"/>
                  <a:pt x="18945" y="14807"/>
                  <a:pt x="18955" y="14796"/>
                </a:cubicBezTo>
                <a:cubicBezTo>
                  <a:pt x="19022" y="14723"/>
                  <a:pt x="19056" y="14569"/>
                  <a:pt x="19082" y="14478"/>
                </a:cubicBezTo>
                <a:cubicBezTo>
                  <a:pt x="19109" y="14384"/>
                  <a:pt x="19187" y="14190"/>
                  <a:pt x="19177" y="14097"/>
                </a:cubicBezTo>
                <a:cubicBezTo>
                  <a:pt x="19172" y="14047"/>
                  <a:pt x="19138" y="13978"/>
                  <a:pt x="19114" y="13938"/>
                </a:cubicBezTo>
                <a:cubicBezTo>
                  <a:pt x="19066" y="13938"/>
                  <a:pt x="18993" y="13951"/>
                  <a:pt x="18955" y="13970"/>
                </a:cubicBezTo>
                <a:cubicBezTo>
                  <a:pt x="18918" y="13988"/>
                  <a:pt x="18899" y="14064"/>
                  <a:pt x="18891" y="14097"/>
                </a:cubicBezTo>
              </a:path>
              <a:path w="6605" h="3049">
                <a:moveTo>
                  <a:pt x="19526" y="13589"/>
                </a:moveTo>
                <a:cubicBezTo>
                  <a:pt x="19476" y="13614"/>
                  <a:pt x="19425" y="13683"/>
                  <a:pt x="19399" y="13748"/>
                </a:cubicBezTo>
                <a:cubicBezTo>
                  <a:pt x="19348" y="13873"/>
                  <a:pt x="19286" y="14007"/>
                  <a:pt x="19240" y="14129"/>
                </a:cubicBezTo>
                <a:cubicBezTo>
                  <a:pt x="19182" y="14286"/>
                  <a:pt x="19177" y="14441"/>
                  <a:pt x="19177" y="14605"/>
                </a:cubicBezTo>
                <a:cubicBezTo>
                  <a:pt x="19177" y="14714"/>
                  <a:pt x="19175" y="14798"/>
                  <a:pt x="19240" y="14891"/>
                </a:cubicBezTo>
                <a:cubicBezTo>
                  <a:pt x="19266" y="14929"/>
                  <a:pt x="19297" y="15030"/>
                  <a:pt x="19336" y="15050"/>
                </a:cubicBezTo>
                <a:cubicBezTo>
                  <a:pt x="19368" y="15050"/>
                  <a:pt x="19378" y="15050"/>
                  <a:pt x="19399" y="15050"/>
                </a:cubicBezTo>
              </a:path>
              <a:path w="6605" h="3049">
                <a:moveTo>
                  <a:pt x="19622" y="14065"/>
                </a:moveTo>
                <a:cubicBezTo>
                  <a:pt x="19592" y="14146"/>
                  <a:pt x="19613" y="14211"/>
                  <a:pt x="19590" y="14288"/>
                </a:cubicBezTo>
                <a:cubicBezTo>
                  <a:pt x="19563" y="14379"/>
                  <a:pt x="19558" y="14443"/>
                  <a:pt x="19558" y="14542"/>
                </a:cubicBezTo>
                <a:cubicBezTo>
                  <a:pt x="19558" y="14605"/>
                  <a:pt x="19558" y="14669"/>
                  <a:pt x="19558" y="14732"/>
                </a:cubicBezTo>
              </a:path>
              <a:path w="6605" h="3049">
                <a:moveTo>
                  <a:pt x="19844" y="14034"/>
                </a:moveTo>
                <a:cubicBezTo>
                  <a:pt x="19810" y="14111"/>
                  <a:pt x="19801" y="14177"/>
                  <a:pt x="19780" y="14256"/>
                </a:cubicBezTo>
                <a:cubicBezTo>
                  <a:pt x="19753" y="14360"/>
                  <a:pt x="19748" y="14435"/>
                  <a:pt x="19748" y="14542"/>
                </a:cubicBezTo>
                <a:cubicBezTo>
                  <a:pt x="19748" y="14601"/>
                  <a:pt x="19746" y="14630"/>
                  <a:pt x="19812" y="14637"/>
                </a:cubicBezTo>
                <a:cubicBezTo>
                  <a:pt x="19859" y="14642"/>
                  <a:pt x="19909" y="14647"/>
                  <a:pt x="19939" y="14605"/>
                </a:cubicBezTo>
                <a:cubicBezTo>
                  <a:pt x="19987" y="14536"/>
                  <a:pt x="20015" y="14463"/>
                  <a:pt x="20034" y="14383"/>
                </a:cubicBezTo>
                <a:cubicBezTo>
                  <a:pt x="20047" y="14328"/>
                  <a:pt x="20028" y="14236"/>
                  <a:pt x="20002" y="14192"/>
                </a:cubicBezTo>
                <a:cubicBezTo>
                  <a:pt x="19970" y="14138"/>
                  <a:pt x="19866" y="14098"/>
                  <a:pt x="19844" y="14065"/>
                </a:cubicBezTo>
                <a:cubicBezTo>
                  <a:pt x="19844" y="14055"/>
                  <a:pt x="19844" y="14044"/>
                  <a:pt x="19844" y="14034"/>
                </a:cubicBezTo>
              </a:path>
              <a:path w="6605" h="3049">
                <a:moveTo>
                  <a:pt x="20002" y="13494"/>
                </a:moveTo>
                <a:cubicBezTo>
                  <a:pt x="20048" y="13540"/>
                  <a:pt x="20059" y="13577"/>
                  <a:pt x="20098" y="13621"/>
                </a:cubicBezTo>
                <a:cubicBezTo>
                  <a:pt x="20147" y="13675"/>
                  <a:pt x="20182" y="13722"/>
                  <a:pt x="20225" y="13780"/>
                </a:cubicBezTo>
                <a:cubicBezTo>
                  <a:pt x="20280" y="13853"/>
                  <a:pt x="20315" y="13909"/>
                  <a:pt x="20320" y="14002"/>
                </a:cubicBezTo>
                <a:cubicBezTo>
                  <a:pt x="20327" y="14125"/>
                  <a:pt x="20326" y="14197"/>
                  <a:pt x="20320" y="14319"/>
                </a:cubicBezTo>
                <a:cubicBezTo>
                  <a:pt x="20316" y="14406"/>
                  <a:pt x="20291" y="14493"/>
                  <a:pt x="20256" y="14573"/>
                </a:cubicBezTo>
                <a:cubicBezTo>
                  <a:pt x="20235" y="14622"/>
                  <a:pt x="20219" y="14693"/>
                  <a:pt x="20193" y="14732"/>
                </a:cubicBezTo>
                <a:cubicBezTo>
                  <a:pt x="20182" y="14743"/>
                  <a:pt x="20172" y="14753"/>
                  <a:pt x="20161" y="14764"/>
                </a:cubicBezTo>
              </a:path>
              <a:path w="6605" h="3049">
                <a:moveTo>
                  <a:pt x="20542" y="14097"/>
                </a:moveTo>
                <a:cubicBezTo>
                  <a:pt x="20599" y="14086"/>
                  <a:pt x="20641" y="14065"/>
                  <a:pt x="20701" y="14065"/>
                </a:cubicBezTo>
                <a:cubicBezTo>
                  <a:pt x="20800" y="14065"/>
                  <a:pt x="20776" y="14038"/>
                  <a:pt x="20860" y="14065"/>
                </a:cubicBezTo>
                <a:cubicBezTo>
                  <a:pt x="20871" y="14065"/>
                  <a:pt x="20881" y="14065"/>
                  <a:pt x="20892" y="14065"/>
                </a:cubicBezTo>
              </a:path>
              <a:path w="6605" h="3049">
                <a:moveTo>
                  <a:pt x="21050" y="13621"/>
                </a:moveTo>
                <a:cubicBezTo>
                  <a:pt x="21050" y="13754"/>
                  <a:pt x="21032" y="13874"/>
                  <a:pt x="21018" y="14002"/>
                </a:cubicBezTo>
                <a:cubicBezTo>
                  <a:pt x="21005" y="14118"/>
                  <a:pt x="21000" y="14241"/>
                  <a:pt x="20987" y="14351"/>
                </a:cubicBezTo>
                <a:cubicBezTo>
                  <a:pt x="20978" y="14422"/>
                  <a:pt x="20987" y="14501"/>
                  <a:pt x="20987" y="14573"/>
                </a:cubicBezTo>
              </a:path>
              <a:path w="6605" h="3049">
                <a:moveTo>
                  <a:pt x="21177" y="13811"/>
                </a:moveTo>
                <a:cubicBezTo>
                  <a:pt x="21195" y="13788"/>
                  <a:pt x="21227" y="13693"/>
                  <a:pt x="21241" y="13684"/>
                </a:cubicBezTo>
                <a:cubicBezTo>
                  <a:pt x="21275" y="13661"/>
                  <a:pt x="21278" y="13652"/>
                  <a:pt x="21336" y="13652"/>
                </a:cubicBezTo>
                <a:cubicBezTo>
                  <a:pt x="21368" y="13652"/>
                  <a:pt x="21379" y="13652"/>
                  <a:pt x="21400" y="13652"/>
                </a:cubicBezTo>
                <a:cubicBezTo>
                  <a:pt x="21400" y="13758"/>
                  <a:pt x="21402" y="13840"/>
                  <a:pt x="21368" y="13938"/>
                </a:cubicBezTo>
                <a:cubicBezTo>
                  <a:pt x="21321" y="14074"/>
                  <a:pt x="21293" y="14218"/>
                  <a:pt x="21241" y="14351"/>
                </a:cubicBezTo>
                <a:cubicBezTo>
                  <a:pt x="21213" y="14422"/>
                  <a:pt x="21220" y="14485"/>
                  <a:pt x="21177" y="14542"/>
                </a:cubicBezTo>
                <a:cubicBezTo>
                  <a:pt x="21216" y="14529"/>
                  <a:pt x="21230" y="14488"/>
                  <a:pt x="21272" y="14446"/>
                </a:cubicBezTo>
                <a:cubicBezTo>
                  <a:pt x="21297" y="14421"/>
                  <a:pt x="21360" y="14392"/>
                  <a:pt x="21400" y="14414"/>
                </a:cubicBezTo>
                <a:cubicBezTo>
                  <a:pt x="21454" y="14445"/>
                  <a:pt x="21450" y="14463"/>
                  <a:pt x="21495" y="14478"/>
                </a:cubicBezTo>
              </a:path>
              <a:path w="6605" h="3049">
                <a:moveTo>
                  <a:pt x="21590" y="13938"/>
                </a:moveTo>
                <a:cubicBezTo>
                  <a:pt x="21590" y="14054"/>
                  <a:pt x="21604" y="14148"/>
                  <a:pt x="21622" y="14256"/>
                </a:cubicBezTo>
                <a:cubicBezTo>
                  <a:pt x="21634" y="14330"/>
                  <a:pt x="21616" y="14352"/>
                  <a:pt x="21654" y="14414"/>
                </a:cubicBezTo>
                <a:cubicBezTo>
                  <a:pt x="21741" y="14392"/>
                  <a:pt x="21724" y="14361"/>
                  <a:pt x="21749" y="14288"/>
                </a:cubicBezTo>
                <a:cubicBezTo>
                  <a:pt x="21780" y="14197"/>
                  <a:pt x="21787" y="14122"/>
                  <a:pt x="21812" y="14034"/>
                </a:cubicBezTo>
                <a:cubicBezTo>
                  <a:pt x="21830" y="13970"/>
                  <a:pt x="21844" y="13944"/>
                  <a:pt x="21844" y="13875"/>
                </a:cubicBezTo>
                <a:cubicBezTo>
                  <a:pt x="21844" y="13822"/>
                  <a:pt x="21829" y="13919"/>
                  <a:pt x="21844" y="13970"/>
                </a:cubicBezTo>
                <a:cubicBezTo>
                  <a:pt x="21876" y="14079"/>
                  <a:pt x="21896" y="14202"/>
                  <a:pt x="21908" y="14319"/>
                </a:cubicBezTo>
                <a:cubicBezTo>
                  <a:pt x="21922" y="14459"/>
                  <a:pt x="21903" y="14629"/>
                  <a:pt x="21876" y="14764"/>
                </a:cubicBezTo>
                <a:cubicBezTo>
                  <a:pt x="21852" y="14884"/>
                  <a:pt x="21780" y="15197"/>
                  <a:pt x="21685" y="15272"/>
                </a:cubicBezTo>
                <a:cubicBezTo>
                  <a:pt x="21608" y="15333"/>
                  <a:pt x="21640" y="15289"/>
                  <a:pt x="21590" y="15272"/>
                </a:cubicBezTo>
              </a:path>
              <a:path w="6605" h="3049">
                <a:moveTo>
                  <a:pt x="22162" y="13938"/>
                </a:moveTo>
                <a:cubicBezTo>
                  <a:pt x="22186" y="13920"/>
                  <a:pt x="22292" y="13863"/>
                  <a:pt x="22320" y="13875"/>
                </a:cubicBezTo>
                <a:cubicBezTo>
                  <a:pt x="22370" y="13896"/>
                  <a:pt x="22357" y="13906"/>
                  <a:pt x="22416" y="13906"/>
                </a:cubicBezTo>
              </a:path>
              <a:path w="6605" h="3049">
                <a:moveTo>
                  <a:pt x="22193" y="14129"/>
                </a:moveTo>
                <a:cubicBezTo>
                  <a:pt x="22264" y="14076"/>
                  <a:pt x="22245" y="14121"/>
                  <a:pt x="22320" y="14129"/>
                </a:cubicBezTo>
                <a:cubicBezTo>
                  <a:pt x="22352" y="14129"/>
                  <a:pt x="22363" y="14129"/>
                  <a:pt x="22384" y="14129"/>
                </a:cubicBezTo>
              </a:path>
              <a:path w="6605" h="3049">
                <a:moveTo>
                  <a:pt x="22670" y="13494"/>
                </a:moveTo>
                <a:cubicBezTo>
                  <a:pt x="22670" y="13605"/>
                  <a:pt x="22650" y="13704"/>
                  <a:pt x="22638" y="13811"/>
                </a:cubicBezTo>
                <a:cubicBezTo>
                  <a:pt x="22622" y="13950"/>
                  <a:pt x="22606" y="14082"/>
                  <a:pt x="22606" y="14224"/>
                </a:cubicBezTo>
                <a:cubicBezTo>
                  <a:pt x="22606" y="14290"/>
                  <a:pt x="22635" y="14409"/>
                  <a:pt x="22701" y="14446"/>
                </a:cubicBezTo>
                <a:cubicBezTo>
                  <a:pt x="22740" y="14468"/>
                  <a:pt x="22840" y="14406"/>
                  <a:pt x="22860" y="14383"/>
                </a:cubicBezTo>
                <a:cubicBezTo>
                  <a:pt x="22923" y="14309"/>
                  <a:pt x="22920" y="14204"/>
                  <a:pt x="22955" y="14129"/>
                </a:cubicBezTo>
                <a:cubicBezTo>
                  <a:pt x="22984" y="14067"/>
                  <a:pt x="22995" y="14032"/>
                  <a:pt x="22955" y="13970"/>
                </a:cubicBezTo>
                <a:cubicBezTo>
                  <a:pt x="22927" y="13927"/>
                  <a:pt x="22904" y="13938"/>
                  <a:pt x="22860" y="13938"/>
                </a:cubicBezTo>
                <a:cubicBezTo>
                  <a:pt x="22824" y="13998"/>
                  <a:pt x="22799" y="14056"/>
                  <a:pt x="22796" y="14129"/>
                </a:cubicBezTo>
                <a:cubicBezTo>
                  <a:pt x="22791" y="14241"/>
                  <a:pt x="22768" y="14288"/>
                  <a:pt x="22796" y="14383"/>
                </a:cubicBezTo>
                <a:cubicBezTo>
                  <a:pt x="22796" y="14393"/>
                  <a:pt x="22796" y="14404"/>
                  <a:pt x="22796" y="14414"/>
                </a:cubicBezTo>
              </a:path>
              <a:path w="6605" h="3049">
                <a:moveTo>
                  <a:pt x="23114" y="13462"/>
                </a:moveTo>
                <a:cubicBezTo>
                  <a:pt x="23139" y="13474"/>
                  <a:pt x="23114" y="13546"/>
                  <a:pt x="23114" y="13621"/>
                </a:cubicBezTo>
                <a:cubicBezTo>
                  <a:pt x="23114" y="13701"/>
                  <a:pt x="23082" y="13760"/>
                  <a:pt x="23082" y="13843"/>
                </a:cubicBezTo>
                <a:cubicBezTo>
                  <a:pt x="23082" y="13926"/>
                  <a:pt x="23062" y="13944"/>
                  <a:pt x="23114" y="13906"/>
                </a:cubicBezTo>
                <a:cubicBezTo>
                  <a:pt x="23170" y="13865"/>
                  <a:pt x="23169" y="13843"/>
                  <a:pt x="23241" y="13843"/>
                </a:cubicBezTo>
                <a:cubicBezTo>
                  <a:pt x="23299" y="13843"/>
                  <a:pt x="23316" y="13869"/>
                  <a:pt x="23368" y="13875"/>
                </a:cubicBezTo>
                <a:cubicBezTo>
                  <a:pt x="23407" y="13879"/>
                  <a:pt x="23407" y="13844"/>
                  <a:pt x="23432" y="13811"/>
                </a:cubicBezTo>
              </a:path>
              <a:path w="6605" h="3049">
                <a:moveTo>
                  <a:pt x="23368" y="13272"/>
                </a:moveTo>
                <a:cubicBezTo>
                  <a:pt x="23368" y="13381"/>
                  <a:pt x="23339" y="13480"/>
                  <a:pt x="23336" y="13589"/>
                </a:cubicBezTo>
                <a:cubicBezTo>
                  <a:pt x="23330" y="13782"/>
                  <a:pt x="23317" y="13969"/>
                  <a:pt x="23304" y="14160"/>
                </a:cubicBezTo>
                <a:cubicBezTo>
                  <a:pt x="23304" y="14319"/>
                  <a:pt x="23304" y="14372"/>
                  <a:pt x="23304" y="14478"/>
                </a:cubicBezTo>
              </a:path>
              <a:path w="6605" h="3049">
                <a:moveTo>
                  <a:pt x="19082" y="15240"/>
                </a:moveTo>
                <a:cubicBezTo>
                  <a:pt x="19082" y="15309"/>
                  <a:pt x="19054" y="15328"/>
                  <a:pt x="19050" y="15399"/>
                </a:cubicBezTo>
                <a:cubicBezTo>
                  <a:pt x="19043" y="15512"/>
                  <a:pt x="19036" y="15610"/>
                  <a:pt x="19018" y="15716"/>
                </a:cubicBezTo>
                <a:cubicBezTo>
                  <a:pt x="19008" y="15776"/>
                  <a:pt x="19018" y="15846"/>
                  <a:pt x="19018" y="15907"/>
                </a:cubicBezTo>
              </a:path>
              <a:path w="6605" h="3049">
                <a:moveTo>
                  <a:pt x="19336" y="15240"/>
                </a:moveTo>
                <a:cubicBezTo>
                  <a:pt x="19336" y="15316"/>
                  <a:pt x="19306" y="15362"/>
                  <a:pt x="19272" y="15430"/>
                </a:cubicBezTo>
                <a:cubicBezTo>
                  <a:pt x="19243" y="15487"/>
                  <a:pt x="19215" y="15563"/>
                  <a:pt x="19209" y="15621"/>
                </a:cubicBezTo>
                <a:cubicBezTo>
                  <a:pt x="19202" y="15685"/>
                  <a:pt x="19228" y="15692"/>
                  <a:pt x="19240" y="15716"/>
                </a:cubicBezTo>
                <a:cubicBezTo>
                  <a:pt x="19252" y="15740"/>
                  <a:pt x="19288" y="15775"/>
                  <a:pt x="19336" y="15748"/>
                </a:cubicBezTo>
                <a:cubicBezTo>
                  <a:pt x="19381" y="15723"/>
                  <a:pt x="19408" y="15660"/>
                  <a:pt x="19431" y="15621"/>
                </a:cubicBezTo>
                <a:cubicBezTo>
                  <a:pt x="19476" y="15544"/>
                  <a:pt x="19494" y="15520"/>
                  <a:pt x="19494" y="15430"/>
                </a:cubicBezTo>
                <a:cubicBezTo>
                  <a:pt x="19494" y="15387"/>
                  <a:pt x="19511" y="15328"/>
                  <a:pt x="19463" y="15304"/>
                </a:cubicBezTo>
                <a:cubicBezTo>
                  <a:pt x="19431" y="15304"/>
                  <a:pt x="19420" y="15304"/>
                  <a:pt x="19399" y="15304"/>
                </a:cubicBezTo>
              </a:path>
              <a:path w="6605" h="3049">
                <a:moveTo>
                  <a:pt x="19622" y="15145"/>
                </a:moveTo>
                <a:cubicBezTo>
                  <a:pt x="19622" y="15231"/>
                  <a:pt x="19603" y="15288"/>
                  <a:pt x="19590" y="15367"/>
                </a:cubicBezTo>
                <a:cubicBezTo>
                  <a:pt x="19571" y="15480"/>
                  <a:pt x="19590" y="15653"/>
                  <a:pt x="19622" y="15716"/>
                </a:cubicBezTo>
                <a:cubicBezTo>
                  <a:pt x="19645" y="15762"/>
                  <a:pt x="19667" y="15761"/>
                  <a:pt x="19717" y="15716"/>
                </a:cubicBezTo>
                <a:cubicBezTo>
                  <a:pt x="19747" y="15689"/>
                  <a:pt x="19803" y="15598"/>
                  <a:pt x="19812" y="15558"/>
                </a:cubicBezTo>
                <a:cubicBezTo>
                  <a:pt x="19823" y="15512"/>
                  <a:pt x="19856" y="15374"/>
                  <a:pt x="19844" y="15335"/>
                </a:cubicBezTo>
                <a:cubicBezTo>
                  <a:pt x="19832" y="15297"/>
                  <a:pt x="19786" y="15253"/>
                  <a:pt x="19748" y="15240"/>
                </a:cubicBezTo>
                <a:cubicBezTo>
                  <a:pt x="19716" y="15229"/>
                  <a:pt x="19684" y="15264"/>
                  <a:pt x="19653" y="15272"/>
                </a:cubicBezTo>
              </a:path>
              <a:path w="6605" h="3049">
                <a:moveTo>
                  <a:pt x="20098" y="15304"/>
                </a:moveTo>
                <a:cubicBezTo>
                  <a:pt x="20146" y="15292"/>
                  <a:pt x="20187" y="15275"/>
                  <a:pt x="20225" y="15240"/>
                </a:cubicBezTo>
                <a:cubicBezTo>
                  <a:pt x="20261" y="15203"/>
                  <a:pt x="20277" y="15193"/>
                  <a:pt x="20320" y="15208"/>
                </a:cubicBezTo>
              </a:path>
              <a:path w="6605" h="3049">
                <a:moveTo>
                  <a:pt x="20638" y="14859"/>
                </a:moveTo>
                <a:cubicBezTo>
                  <a:pt x="20638" y="14949"/>
                  <a:pt x="20614" y="15032"/>
                  <a:pt x="20606" y="15113"/>
                </a:cubicBezTo>
                <a:cubicBezTo>
                  <a:pt x="20593" y="15238"/>
                  <a:pt x="20581" y="15370"/>
                  <a:pt x="20574" y="15494"/>
                </a:cubicBezTo>
                <a:cubicBezTo>
                  <a:pt x="20571" y="15547"/>
                  <a:pt x="20574" y="15600"/>
                  <a:pt x="20574" y="15653"/>
                </a:cubicBezTo>
              </a:path>
              <a:path w="6605" h="3049">
                <a:moveTo>
                  <a:pt x="20764" y="15018"/>
                </a:moveTo>
                <a:cubicBezTo>
                  <a:pt x="20777" y="14980"/>
                  <a:pt x="20791" y="14963"/>
                  <a:pt x="20828" y="14922"/>
                </a:cubicBezTo>
                <a:cubicBezTo>
                  <a:pt x="20879" y="14865"/>
                  <a:pt x="20905" y="14887"/>
                  <a:pt x="20955" y="14859"/>
                </a:cubicBezTo>
                <a:cubicBezTo>
                  <a:pt x="20988" y="14840"/>
                  <a:pt x="21014" y="14832"/>
                  <a:pt x="21018" y="14891"/>
                </a:cubicBezTo>
                <a:cubicBezTo>
                  <a:pt x="21027" y="15009"/>
                  <a:pt x="20995" y="15129"/>
                  <a:pt x="20955" y="15240"/>
                </a:cubicBezTo>
                <a:cubicBezTo>
                  <a:pt x="20919" y="15341"/>
                  <a:pt x="20910" y="15426"/>
                  <a:pt x="20860" y="15526"/>
                </a:cubicBezTo>
                <a:cubicBezTo>
                  <a:pt x="20835" y="15575"/>
                  <a:pt x="20828" y="15739"/>
                  <a:pt x="20828" y="15684"/>
                </a:cubicBezTo>
                <a:cubicBezTo>
                  <a:pt x="20828" y="15602"/>
                  <a:pt x="20894" y="15647"/>
                  <a:pt x="20923" y="15589"/>
                </a:cubicBezTo>
                <a:cubicBezTo>
                  <a:pt x="20949" y="15537"/>
                  <a:pt x="20954" y="15510"/>
                  <a:pt x="21018" y="15494"/>
                </a:cubicBezTo>
              </a:path>
              <a:path w="6605" h="3049">
                <a:moveTo>
                  <a:pt x="21209" y="14986"/>
                </a:moveTo>
                <a:cubicBezTo>
                  <a:pt x="21209" y="15109"/>
                  <a:pt x="21228" y="15217"/>
                  <a:pt x="21241" y="15335"/>
                </a:cubicBezTo>
                <a:cubicBezTo>
                  <a:pt x="21249" y="15405"/>
                  <a:pt x="21209" y="15536"/>
                  <a:pt x="21272" y="15558"/>
                </a:cubicBezTo>
                <a:cubicBezTo>
                  <a:pt x="21318" y="15497"/>
                  <a:pt x="21312" y="15438"/>
                  <a:pt x="21336" y="15367"/>
                </a:cubicBezTo>
                <a:cubicBezTo>
                  <a:pt x="21364" y="15284"/>
                  <a:pt x="21368" y="15233"/>
                  <a:pt x="21368" y="15145"/>
                </a:cubicBezTo>
                <a:cubicBezTo>
                  <a:pt x="21382" y="15159"/>
                  <a:pt x="21421" y="15258"/>
                  <a:pt x="21431" y="15304"/>
                </a:cubicBezTo>
                <a:cubicBezTo>
                  <a:pt x="21451" y="15400"/>
                  <a:pt x="21463" y="15487"/>
                  <a:pt x="21463" y="15589"/>
                </a:cubicBezTo>
                <a:cubicBezTo>
                  <a:pt x="21463" y="15752"/>
                  <a:pt x="21493" y="15947"/>
                  <a:pt x="21431" y="16097"/>
                </a:cubicBezTo>
                <a:cubicBezTo>
                  <a:pt x="21417" y="16130"/>
                  <a:pt x="21368" y="16240"/>
                  <a:pt x="21336" y="16256"/>
                </a:cubicBezTo>
                <a:cubicBezTo>
                  <a:pt x="21300" y="16256"/>
                  <a:pt x="21286" y="16253"/>
                  <a:pt x="21272" y="16224"/>
                </a:cubicBezTo>
              </a:path>
              <a:path w="6605" h="3049">
                <a:moveTo>
                  <a:pt x="21622" y="15145"/>
                </a:moveTo>
                <a:cubicBezTo>
                  <a:pt x="21652" y="15137"/>
                  <a:pt x="21722" y="15128"/>
                  <a:pt x="21749" y="15113"/>
                </a:cubicBezTo>
                <a:cubicBezTo>
                  <a:pt x="21777" y="15084"/>
                  <a:pt x="21783" y="15073"/>
                  <a:pt x="21812" y="15081"/>
                </a:cubicBezTo>
              </a:path>
              <a:path w="6605" h="3049">
                <a:moveTo>
                  <a:pt x="21622" y="15462"/>
                </a:moveTo>
                <a:cubicBezTo>
                  <a:pt x="21670" y="15462"/>
                  <a:pt x="21741" y="15449"/>
                  <a:pt x="21780" y="15430"/>
                </a:cubicBezTo>
                <a:cubicBezTo>
                  <a:pt x="21809" y="15402"/>
                  <a:pt x="21815" y="15392"/>
                  <a:pt x="21844" y="15399"/>
                </a:cubicBezTo>
              </a:path>
              <a:path w="6605" h="3049">
                <a:moveTo>
                  <a:pt x="22479" y="14700"/>
                </a:moveTo>
                <a:cubicBezTo>
                  <a:pt x="22418" y="14720"/>
                  <a:pt x="22439" y="14762"/>
                  <a:pt x="22416" y="14827"/>
                </a:cubicBezTo>
                <a:cubicBezTo>
                  <a:pt x="22386" y="14911"/>
                  <a:pt x="22355" y="14991"/>
                  <a:pt x="22352" y="15081"/>
                </a:cubicBezTo>
                <a:cubicBezTo>
                  <a:pt x="22347" y="15218"/>
                  <a:pt x="22345" y="15296"/>
                  <a:pt x="22352" y="15430"/>
                </a:cubicBezTo>
                <a:cubicBezTo>
                  <a:pt x="22356" y="15502"/>
                  <a:pt x="22381" y="15558"/>
                  <a:pt x="22416" y="15589"/>
                </a:cubicBezTo>
                <a:cubicBezTo>
                  <a:pt x="22469" y="15636"/>
                  <a:pt x="22502" y="15621"/>
                  <a:pt x="22542" y="15558"/>
                </a:cubicBezTo>
                <a:cubicBezTo>
                  <a:pt x="22596" y="15474"/>
                  <a:pt x="22609" y="15390"/>
                  <a:pt x="22638" y="15304"/>
                </a:cubicBezTo>
                <a:cubicBezTo>
                  <a:pt x="22666" y="15221"/>
                  <a:pt x="22670" y="15232"/>
                  <a:pt x="22670" y="15145"/>
                </a:cubicBezTo>
                <a:cubicBezTo>
                  <a:pt x="22597" y="15145"/>
                  <a:pt x="22580" y="15176"/>
                  <a:pt x="22542" y="15240"/>
                </a:cubicBezTo>
                <a:cubicBezTo>
                  <a:pt x="22519" y="15280"/>
                  <a:pt x="22482" y="15357"/>
                  <a:pt x="22479" y="15399"/>
                </a:cubicBezTo>
                <a:cubicBezTo>
                  <a:pt x="22473" y="15483"/>
                  <a:pt x="22465" y="15494"/>
                  <a:pt x="22542" y="15494"/>
                </a:cubicBezTo>
              </a:path>
              <a:path w="6605" h="3049">
                <a:moveTo>
                  <a:pt x="22796" y="14700"/>
                </a:moveTo>
                <a:cubicBezTo>
                  <a:pt x="22796" y="14780"/>
                  <a:pt x="22769" y="14838"/>
                  <a:pt x="22765" y="14922"/>
                </a:cubicBezTo>
                <a:cubicBezTo>
                  <a:pt x="22761" y="15003"/>
                  <a:pt x="22733" y="15062"/>
                  <a:pt x="22733" y="15145"/>
                </a:cubicBezTo>
                <a:cubicBezTo>
                  <a:pt x="22733" y="15198"/>
                  <a:pt x="22733" y="15208"/>
                  <a:pt x="22733" y="15240"/>
                </a:cubicBezTo>
                <a:cubicBezTo>
                  <a:pt x="22826" y="15217"/>
                  <a:pt x="22792" y="15211"/>
                  <a:pt x="22828" y="15145"/>
                </a:cubicBezTo>
                <a:cubicBezTo>
                  <a:pt x="22852" y="15101"/>
                  <a:pt x="22921" y="15103"/>
                  <a:pt x="22955" y="15081"/>
                </a:cubicBezTo>
                <a:cubicBezTo>
                  <a:pt x="23001" y="15051"/>
                  <a:pt x="23006" y="15058"/>
                  <a:pt x="23019" y="15018"/>
                </a:cubicBezTo>
              </a:path>
              <a:path w="6605" h="3049">
                <a:moveTo>
                  <a:pt x="23050" y="14573"/>
                </a:moveTo>
                <a:cubicBezTo>
                  <a:pt x="23050" y="14943"/>
                  <a:pt x="23050" y="15314"/>
                  <a:pt x="23050" y="15684"/>
                </a:cubicBezTo>
              </a:path>
              <a:path w="6605" h="3049">
                <a:moveTo>
                  <a:pt x="24194" y="13208"/>
                </a:moveTo>
                <a:cubicBezTo>
                  <a:pt x="24122" y="13280"/>
                  <a:pt x="24106" y="13335"/>
                  <a:pt x="24066" y="13430"/>
                </a:cubicBezTo>
                <a:cubicBezTo>
                  <a:pt x="24018" y="13544"/>
                  <a:pt x="23928" y="13632"/>
                  <a:pt x="23876" y="13748"/>
                </a:cubicBezTo>
                <a:cubicBezTo>
                  <a:pt x="23818" y="13878"/>
                  <a:pt x="23763" y="14031"/>
                  <a:pt x="23717" y="14160"/>
                </a:cubicBezTo>
                <a:cubicBezTo>
                  <a:pt x="23670" y="14291"/>
                  <a:pt x="23658" y="14467"/>
                  <a:pt x="23654" y="14605"/>
                </a:cubicBezTo>
                <a:cubicBezTo>
                  <a:pt x="23649" y="14752"/>
                  <a:pt x="23670" y="14878"/>
                  <a:pt x="23686" y="15018"/>
                </a:cubicBezTo>
                <a:cubicBezTo>
                  <a:pt x="23701" y="15156"/>
                  <a:pt x="23726" y="15270"/>
                  <a:pt x="23781" y="15399"/>
                </a:cubicBezTo>
                <a:cubicBezTo>
                  <a:pt x="23791" y="15420"/>
                  <a:pt x="23802" y="15441"/>
                  <a:pt x="23812" y="15462"/>
                </a:cubicBezTo>
              </a:path>
              <a:path w="6605" h="3049">
                <a:moveTo>
                  <a:pt x="24035" y="14256"/>
                </a:moveTo>
                <a:cubicBezTo>
                  <a:pt x="24035" y="14245"/>
                  <a:pt x="24035" y="14235"/>
                  <a:pt x="24035" y="14224"/>
                </a:cubicBezTo>
                <a:cubicBezTo>
                  <a:pt x="23993" y="14280"/>
                  <a:pt x="24003" y="14308"/>
                  <a:pt x="24003" y="14383"/>
                </a:cubicBezTo>
                <a:cubicBezTo>
                  <a:pt x="24003" y="14472"/>
                  <a:pt x="23971" y="14543"/>
                  <a:pt x="23971" y="14637"/>
                </a:cubicBezTo>
                <a:cubicBezTo>
                  <a:pt x="23971" y="14708"/>
                  <a:pt x="23940" y="14756"/>
                  <a:pt x="23940" y="14827"/>
                </a:cubicBezTo>
                <a:cubicBezTo>
                  <a:pt x="23940" y="14884"/>
                  <a:pt x="23921" y="14904"/>
                  <a:pt x="23908" y="14954"/>
                </a:cubicBezTo>
              </a:path>
              <a:path w="6605" h="3049">
                <a:moveTo>
                  <a:pt x="24194" y="14224"/>
                </a:moveTo>
                <a:cubicBezTo>
                  <a:pt x="24179" y="14296"/>
                  <a:pt x="24178" y="14373"/>
                  <a:pt x="24162" y="14446"/>
                </a:cubicBezTo>
                <a:cubicBezTo>
                  <a:pt x="24135" y="14568"/>
                  <a:pt x="24130" y="14670"/>
                  <a:pt x="24130" y="14796"/>
                </a:cubicBezTo>
                <a:cubicBezTo>
                  <a:pt x="24130" y="14843"/>
                  <a:pt x="24162" y="14859"/>
                  <a:pt x="24194" y="14891"/>
                </a:cubicBezTo>
                <a:cubicBezTo>
                  <a:pt x="24204" y="14859"/>
                  <a:pt x="24256" y="14808"/>
                  <a:pt x="24289" y="14764"/>
                </a:cubicBezTo>
                <a:cubicBezTo>
                  <a:pt x="24339" y="14696"/>
                  <a:pt x="24348" y="14597"/>
                  <a:pt x="24352" y="14510"/>
                </a:cubicBezTo>
                <a:cubicBezTo>
                  <a:pt x="24356" y="14430"/>
                  <a:pt x="24348" y="14359"/>
                  <a:pt x="24320" y="14288"/>
                </a:cubicBezTo>
                <a:cubicBezTo>
                  <a:pt x="24289" y="14208"/>
                  <a:pt x="24258" y="14159"/>
                  <a:pt x="24194" y="14192"/>
                </a:cubicBezTo>
              </a:path>
              <a:path w="6605" h="3049">
                <a:moveTo>
                  <a:pt x="24511" y="14668"/>
                </a:moveTo>
                <a:cubicBezTo>
                  <a:pt x="24588" y="14694"/>
                  <a:pt x="24522" y="14762"/>
                  <a:pt x="24511" y="14827"/>
                </a:cubicBezTo>
                <a:cubicBezTo>
                  <a:pt x="24487" y="14971"/>
                  <a:pt x="24486" y="15205"/>
                  <a:pt x="24543" y="15335"/>
                </a:cubicBezTo>
              </a:path>
              <a:path w="6605" h="3049">
                <a:moveTo>
                  <a:pt x="24670" y="14224"/>
                </a:moveTo>
                <a:cubicBezTo>
                  <a:pt x="24670" y="14157"/>
                  <a:pt x="24664" y="14158"/>
                  <a:pt x="24702" y="14129"/>
                </a:cubicBezTo>
                <a:cubicBezTo>
                  <a:pt x="24750" y="14092"/>
                  <a:pt x="24766" y="14097"/>
                  <a:pt x="24828" y="14097"/>
                </a:cubicBezTo>
                <a:cubicBezTo>
                  <a:pt x="24828" y="14168"/>
                  <a:pt x="24842" y="14232"/>
                  <a:pt x="24797" y="14288"/>
                </a:cubicBezTo>
                <a:cubicBezTo>
                  <a:pt x="24760" y="14334"/>
                  <a:pt x="24777" y="14336"/>
                  <a:pt x="24733" y="14351"/>
                </a:cubicBezTo>
                <a:cubicBezTo>
                  <a:pt x="24781" y="14335"/>
                  <a:pt x="24760" y="14319"/>
                  <a:pt x="24828" y="14319"/>
                </a:cubicBezTo>
                <a:cubicBezTo>
                  <a:pt x="24845" y="14319"/>
                  <a:pt x="24910" y="14355"/>
                  <a:pt x="24924" y="14383"/>
                </a:cubicBezTo>
                <a:cubicBezTo>
                  <a:pt x="24961" y="14455"/>
                  <a:pt x="24938" y="14475"/>
                  <a:pt x="24924" y="14542"/>
                </a:cubicBezTo>
                <a:cubicBezTo>
                  <a:pt x="24909" y="14614"/>
                  <a:pt x="24909" y="14677"/>
                  <a:pt x="24860" y="14732"/>
                </a:cubicBezTo>
                <a:cubicBezTo>
                  <a:pt x="24809" y="14789"/>
                  <a:pt x="24822" y="14793"/>
                  <a:pt x="24765" y="14764"/>
                </a:cubicBezTo>
              </a:path>
              <a:path w="6605" h="3049">
                <a:moveTo>
                  <a:pt x="24892" y="13526"/>
                </a:moveTo>
                <a:cubicBezTo>
                  <a:pt x="24950" y="13583"/>
                  <a:pt x="24983" y="13618"/>
                  <a:pt x="25019" y="13716"/>
                </a:cubicBezTo>
                <a:cubicBezTo>
                  <a:pt x="25058" y="13823"/>
                  <a:pt x="25100" y="13983"/>
                  <a:pt x="25114" y="14097"/>
                </a:cubicBezTo>
                <a:cubicBezTo>
                  <a:pt x="25135" y="14266"/>
                  <a:pt x="25146" y="14433"/>
                  <a:pt x="25146" y="14605"/>
                </a:cubicBezTo>
                <a:cubicBezTo>
                  <a:pt x="25146" y="14788"/>
                  <a:pt x="25102" y="14935"/>
                  <a:pt x="25082" y="15113"/>
                </a:cubicBezTo>
                <a:cubicBezTo>
                  <a:pt x="25068" y="15236"/>
                  <a:pt x="25059" y="15312"/>
                  <a:pt x="25019" y="15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9"/>
          <p:cNvSpPr/>
          <p:nvPr/>
        </p:nvSpPr>
        <p:spPr>
          <a:xfrm>
            <a:off x="6675480" y="5875200"/>
            <a:ext cx="68400" cy="1800"/>
          </a:xfrm>
          <a:custGeom>
            <a:avLst/>
            <a:gdLst/>
            <a:ahLst/>
            <a:rect l="l" t="t" r="r" b="b"/>
            <a:pathLst>
              <a:path w="191" h="1">
                <a:moveTo>
                  <a:pt x="18542" y="16320"/>
                </a:moveTo>
                <a:cubicBezTo>
                  <a:pt x="18605" y="16320"/>
                  <a:pt x="18669" y="16320"/>
                  <a:pt x="18732" y="16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20"/>
          <p:cNvSpPr/>
          <p:nvPr/>
        </p:nvSpPr>
        <p:spPr>
          <a:xfrm>
            <a:off x="6846840" y="5703840"/>
            <a:ext cx="228600" cy="250920"/>
          </a:xfrm>
          <a:custGeom>
            <a:avLst/>
            <a:gdLst/>
            <a:ahLst/>
            <a:rect l="l" t="t" r="r" b="b"/>
            <a:pathLst>
              <a:path w="636" h="700">
                <a:moveTo>
                  <a:pt x="19018" y="16066"/>
                </a:moveTo>
                <a:cubicBezTo>
                  <a:pt x="19018" y="16203"/>
                  <a:pt x="19018" y="16341"/>
                  <a:pt x="19018" y="16478"/>
                </a:cubicBezTo>
              </a:path>
              <a:path w="636" h="700">
                <a:moveTo>
                  <a:pt x="19240" y="16097"/>
                </a:moveTo>
                <a:cubicBezTo>
                  <a:pt x="19240" y="16160"/>
                  <a:pt x="19218" y="16208"/>
                  <a:pt x="19209" y="16256"/>
                </a:cubicBezTo>
                <a:cubicBezTo>
                  <a:pt x="19193" y="16340"/>
                  <a:pt x="19220" y="16411"/>
                  <a:pt x="19240" y="16478"/>
                </a:cubicBezTo>
                <a:cubicBezTo>
                  <a:pt x="19240" y="16514"/>
                  <a:pt x="19243" y="16528"/>
                  <a:pt x="19272" y="16542"/>
                </a:cubicBezTo>
                <a:cubicBezTo>
                  <a:pt x="19322" y="16525"/>
                  <a:pt x="19306" y="16491"/>
                  <a:pt x="19336" y="16446"/>
                </a:cubicBezTo>
                <a:cubicBezTo>
                  <a:pt x="19382" y="16379"/>
                  <a:pt x="19368" y="16309"/>
                  <a:pt x="19368" y="16224"/>
                </a:cubicBezTo>
                <a:cubicBezTo>
                  <a:pt x="19368" y="16171"/>
                  <a:pt x="19368" y="16119"/>
                  <a:pt x="19368" y="16066"/>
                </a:cubicBezTo>
              </a:path>
              <a:path w="636" h="700">
                <a:moveTo>
                  <a:pt x="19526" y="15907"/>
                </a:moveTo>
                <a:cubicBezTo>
                  <a:pt x="19514" y="15964"/>
                  <a:pt x="19494" y="16006"/>
                  <a:pt x="19494" y="16066"/>
                </a:cubicBezTo>
                <a:cubicBezTo>
                  <a:pt x="19494" y="16135"/>
                  <a:pt x="19440" y="16184"/>
                  <a:pt x="19463" y="16256"/>
                </a:cubicBezTo>
                <a:cubicBezTo>
                  <a:pt x="19477" y="16299"/>
                  <a:pt x="19493" y="16386"/>
                  <a:pt x="19558" y="16351"/>
                </a:cubicBezTo>
                <a:cubicBezTo>
                  <a:pt x="19591" y="16333"/>
                  <a:pt x="19620" y="16257"/>
                  <a:pt x="19622" y="16224"/>
                </a:cubicBezTo>
                <a:cubicBezTo>
                  <a:pt x="19629" y="16130"/>
                  <a:pt x="19647" y="16121"/>
                  <a:pt x="19622" y="16034"/>
                </a:cubicBezTo>
                <a:cubicBezTo>
                  <a:pt x="19601" y="15961"/>
                  <a:pt x="19587" y="15940"/>
                  <a:pt x="19558" y="15875"/>
                </a:cubicBezTo>
                <a:cubicBezTo>
                  <a:pt x="19558" y="15864"/>
                  <a:pt x="19558" y="15854"/>
                  <a:pt x="19558" y="15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21"/>
          <p:cNvSpPr/>
          <p:nvPr/>
        </p:nvSpPr>
        <p:spPr>
          <a:xfrm>
            <a:off x="7155000" y="6046920"/>
            <a:ext cx="114120" cy="11160"/>
          </a:xfrm>
          <a:custGeom>
            <a:avLst/>
            <a:gdLst/>
            <a:ahLst/>
            <a:rect l="l" t="t" r="r" b="b"/>
            <a:pathLst>
              <a:path w="318" h="33">
                <a:moveTo>
                  <a:pt x="19876" y="16828"/>
                </a:moveTo>
                <a:cubicBezTo>
                  <a:pt x="19963" y="16828"/>
                  <a:pt x="20027" y="16811"/>
                  <a:pt x="20098" y="16796"/>
                </a:cubicBezTo>
                <a:cubicBezTo>
                  <a:pt x="20151" y="16796"/>
                  <a:pt x="20161" y="16796"/>
                  <a:pt x="20193" y="1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22"/>
          <p:cNvSpPr/>
          <p:nvPr/>
        </p:nvSpPr>
        <p:spPr>
          <a:xfrm>
            <a:off x="7383600" y="5600880"/>
            <a:ext cx="927000" cy="788760"/>
          </a:xfrm>
          <a:custGeom>
            <a:avLst/>
            <a:gdLst/>
            <a:ahLst/>
            <a:rect l="l" t="t" r="r" b="b"/>
            <a:pathLst>
              <a:path w="2573" h="2191">
                <a:moveTo>
                  <a:pt x="22034" y="15780"/>
                </a:moveTo>
                <a:cubicBezTo>
                  <a:pt x="22062" y="15801"/>
                  <a:pt x="22119" y="15836"/>
                  <a:pt x="22162" y="15812"/>
                </a:cubicBezTo>
                <a:cubicBezTo>
                  <a:pt x="22190" y="15783"/>
                  <a:pt x="22196" y="15772"/>
                  <a:pt x="22225" y="15780"/>
                </a:cubicBezTo>
              </a:path>
              <a:path w="2573" h="2191">
                <a:moveTo>
                  <a:pt x="22384" y="15589"/>
                </a:moveTo>
                <a:cubicBezTo>
                  <a:pt x="22430" y="15604"/>
                  <a:pt x="22433" y="15687"/>
                  <a:pt x="22416" y="15748"/>
                </a:cubicBezTo>
                <a:cubicBezTo>
                  <a:pt x="22390" y="15841"/>
                  <a:pt x="22410" y="15943"/>
                  <a:pt x="22384" y="16034"/>
                </a:cubicBezTo>
                <a:cubicBezTo>
                  <a:pt x="22358" y="16086"/>
                  <a:pt x="22347" y="16094"/>
                  <a:pt x="22352" y="16129"/>
                </a:cubicBezTo>
              </a:path>
              <a:path w="2573" h="2191">
                <a:moveTo>
                  <a:pt x="22606" y="15621"/>
                </a:moveTo>
                <a:cubicBezTo>
                  <a:pt x="22606" y="15685"/>
                  <a:pt x="22590" y="15752"/>
                  <a:pt x="22574" y="15812"/>
                </a:cubicBezTo>
                <a:cubicBezTo>
                  <a:pt x="22547" y="15915"/>
                  <a:pt x="22542" y="15990"/>
                  <a:pt x="22542" y="16097"/>
                </a:cubicBezTo>
                <a:cubicBezTo>
                  <a:pt x="22542" y="16150"/>
                  <a:pt x="22542" y="16160"/>
                  <a:pt x="22542" y="16192"/>
                </a:cubicBezTo>
                <a:cubicBezTo>
                  <a:pt x="22619" y="16154"/>
                  <a:pt x="22611" y="16109"/>
                  <a:pt x="22638" y="16034"/>
                </a:cubicBezTo>
                <a:cubicBezTo>
                  <a:pt x="22663" y="15962"/>
                  <a:pt x="22694" y="15888"/>
                  <a:pt x="22701" y="15812"/>
                </a:cubicBezTo>
                <a:cubicBezTo>
                  <a:pt x="22706" y="15759"/>
                  <a:pt x="22710" y="15762"/>
                  <a:pt x="22670" y="15748"/>
                </a:cubicBezTo>
              </a:path>
              <a:path w="2573" h="2191">
                <a:moveTo>
                  <a:pt x="22892" y="15558"/>
                </a:moveTo>
                <a:cubicBezTo>
                  <a:pt x="22877" y="15615"/>
                  <a:pt x="22860" y="15647"/>
                  <a:pt x="22860" y="15716"/>
                </a:cubicBezTo>
                <a:cubicBezTo>
                  <a:pt x="22860" y="15825"/>
                  <a:pt x="22864" y="15910"/>
                  <a:pt x="22892" y="16002"/>
                </a:cubicBezTo>
                <a:cubicBezTo>
                  <a:pt x="22906" y="16049"/>
                  <a:pt x="22940" y="16070"/>
                  <a:pt x="22987" y="16034"/>
                </a:cubicBezTo>
                <a:cubicBezTo>
                  <a:pt x="23047" y="15987"/>
                  <a:pt x="23023" y="15902"/>
                  <a:pt x="23050" y="15843"/>
                </a:cubicBezTo>
                <a:cubicBezTo>
                  <a:pt x="23088" y="15761"/>
                  <a:pt x="23077" y="15797"/>
                  <a:pt x="23050" y="15716"/>
                </a:cubicBezTo>
                <a:cubicBezTo>
                  <a:pt x="23033" y="15666"/>
                  <a:pt x="23041" y="15666"/>
                  <a:pt x="22987" y="15653"/>
                </a:cubicBezTo>
              </a:path>
              <a:path w="2573" h="2191">
                <a:moveTo>
                  <a:pt x="20510" y="16383"/>
                </a:moveTo>
                <a:cubicBezTo>
                  <a:pt x="20554" y="16498"/>
                  <a:pt x="20515" y="16547"/>
                  <a:pt x="20510" y="16669"/>
                </a:cubicBezTo>
                <a:cubicBezTo>
                  <a:pt x="20503" y="16857"/>
                  <a:pt x="20477" y="17098"/>
                  <a:pt x="20542" y="17272"/>
                </a:cubicBezTo>
              </a:path>
              <a:path w="2573" h="2191">
                <a:moveTo>
                  <a:pt x="20669" y="16574"/>
                </a:moveTo>
                <a:cubicBezTo>
                  <a:pt x="20708" y="16561"/>
                  <a:pt x="20722" y="16520"/>
                  <a:pt x="20764" y="16478"/>
                </a:cubicBezTo>
                <a:cubicBezTo>
                  <a:pt x="20807" y="16434"/>
                  <a:pt x="20836" y="16397"/>
                  <a:pt x="20892" y="16383"/>
                </a:cubicBezTo>
                <a:cubicBezTo>
                  <a:pt x="20908" y="16450"/>
                  <a:pt x="20923" y="16493"/>
                  <a:pt x="20923" y="16574"/>
                </a:cubicBezTo>
                <a:cubicBezTo>
                  <a:pt x="20923" y="16717"/>
                  <a:pt x="20875" y="16848"/>
                  <a:pt x="20860" y="16986"/>
                </a:cubicBezTo>
                <a:cubicBezTo>
                  <a:pt x="20849" y="17083"/>
                  <a:pt x="20828" y="17174"/>
                  <a:pt x="20828" y="17272"/>
                </a:cubicBezTo>
                <a:cubicBezTo>
                  <a:pt x="20828" y="17283"/>
                  <a:pt x="20828" y="17293"/>
                  <a:pt x="20828" y="17304"/>
                </a:cubicBezTo>
                <a:cubicBezTo>
                  <a:pt x="20843" y="17244"/>
                  <a:pt x="20890" y="17202"/>
                  <a:pt x="20923" y="17177"/>
                </a:cubicBezTo>
                <a:cubicBezTo>
                  <a:pt x="20972" y="17140"/>
                  <a:pt x="20988" y="17145"/>
                  <a:pt x="21050" y="17145"/>
                </a:cubicBezTo>
              </a:path>
              <a:path w="2573" h="2191">
                <a:moveTo>
                  <a:pt x="21177" y="16637"/>
                </a:moveTo>
                <a:cubicBezTo>
                  <a:pt x="21177" y="16718"/>
                  <a:pt x="21197" y="16785"/>
                  <a:pt x="21209" y="16859"/>
                </a:cubicBezTo>
                <a:cubicBezTo>
                  <a:pt x="21221" y="16933"/>
                  <a:pt x="21201" y="17015"/>
                  <a:pt x="21241" y="17082"/>
                </a:cubicBezTo>
                <a:cubicBezTo>
                  <a:pt x="21251" y="17092"/>
                  <a:pt x="21262" y="17103"/>
                  <a:pt x="21272" y="17113"/>
                </a:cubicBezTo>
                <a:cubicBezTo>
                  <a:pt x="21290" y="17062"/>
                  <a:pt x="21304" y="17042"/>
                  <a:pt x="21304" y="16954"/>
                </a:cubicBezTo>
                <a:cubicBezTo>
                  <a:pt x="21304" y="16842"/>
                  <a:pt x="21328" y="16746"/>
                  <a:pt x="21336" y="16637"/>
                </a:cubicBezTo>
                <a:cubicBezTo>
                  <a:pt x="21336" y="16605"/>
                  <a:pt x="21336" y="16595"/>
                  <a:pt x="21336" y="16574"/>
                </a:cubicBezTo>
                <a:cubicBezTo>
                  <a:pt x="21366" y="16584"/>
                  <a:pt x="21394" y="16650"/>
                  <a:pt x="21400" y="16700"/>
                </a:cubicBezTo>
                <a:cubicBezTo>
                  <a:pt x="21416" y="16840"/>
                  <a:pt x="21449" y="16971"/>
                  <a:pt x="21463" y="17113"/>
                </a:cubicBezTo>
                <a:cubicBezTo>
                  <a:pt x="21474" y="17222"/>
                  <a:pt x="21514" y="17390"/>
                  <a:pt x="21495" y="17494"/>
                </a:cubicBezTo>
                <a:cubicBezTo>
                  <a:pt x="21482" y="17568"/>
                  <a:pt x="21450" y="17652"/>
                  <a:pt x="21431" y="17716"/>
                </a:cubicBezTo>
                <a:cubicBezTo>
                  <a:pt x="21416" y="17765"/>
                  <a:pt x="21384" y="17763"/>
                  <a:pt x="21368" y="17716"/>
                </a:cubicBezTo>
              </a:path>
              <a:path w="2573" h="2191">
                <a:moveTo>
                  <a:pt x="21526" y="16669"/>
                </a:moveTo>
                <a:cubicBezTo>
                  <a:pt x="21558" y="16669"/>
                  <a:pt x="21569" y="16669"/>
                  <a:pt x="21590" y="16669"/>
                </a:cubicBezTo>
                <a:cubicBezTo>
                  <a:pt x="21606" y="16621"/>
                  <a:pt x="21628" y="16637"/>
                  <a:pt x="21685" y="16637"/>
                </a:cubicBezTo>
                <a:cubicBezTo>
                  <a:pt x="21717" y="16637"/>
                  <a:pt x="21748" y="16637"/>
                  <a:pt x="21780" y="16637"/>
                </a:cubicBezTo>
              </a:path>
              <a:path w="2573" h="2191">
                <a:moveTo>
                  <a:pt x="21749" y="16986"/>
                </a:moveTo>
                <a:cubicBezTo>
                  <a:pt x="21787" y="16996"/>
                  <a:pt x="21806" y="17009"/>
                  <a:pt x="21844" y="17018"/>
                </a:cubicBezTo>
              </a:path>
              <a:path w="2573" h="2191">
                <a:moveTo>
                  <a:pt x="22003" y="16351"/>
                </a:moveTo>
                <a:cubicBezTo>
                  <a:pt x="22003" y="16437"/>
                  <a:pt x="22010" y="16502"/>
                  <a:pt x="22034" y="16574"/>
                </a:cubicBezTo>
                <a:cubicBezTo>
                  <a:pt x="22063" y="16661"/>
                  <a:pt x="22038" y="16773"/>
                  <a:pt x="22066" y="16828"/>
                </a:cubicBezTo>
                <a:cubicBezTo>
                  <a:pt x="22066" y="16859"/>
                  <a:pt x="22066" y="16869"/>
                  <a:pt x="22066" y="16828"/>
                </a:cubicBezTo>
              </a:path>
              <a:path w="2573" h="2191">
                <a:moveTo>
                  <a:pt x="21749" y="16288"/>
                </a:moveTo>
                <a:cubicBezTo>
                  <a:pt x="21738" y="16288"/>
                  <a:pt x="21728" y="16288"/>
                  <a:pt x="21717" y="16288"/>
                </a:cubicBezTo>
                <a:cubicBezTo>
                  <a:pt x="21768" y="16275"/>
                  <a:pt x="21797" y="16240"/>
                  <a:pt x="21844" y="16224"/>
                </a:cubicBezTo>
                <a:cubicBezTo>
                  <a:pt x="21876" y="16224"/>
                  <a:pt x="21887" y="16224"/>
                  <a:pt x="21908" y="16224"/>
                </a:cubicBezTo>
              </a:path>
              <a:path w="2573" h="2191">
                <a:moveTo>
                  <a:pt x="22066" y="16510"/>
                </a:moveTo>
                <a:lnTo>
                  <a:pt x="22066" y="16510"/>
                </a:lnTo>
              </a:path>
              <a:path w="2573" h="2191">
                <a:moveTo>
                  <a:pt x="22066" y="16510"/>
                </a:moveTo>
                <a:lnTo>
                  <a:pt x="22066" y="16510"/>
                </a:lnTo>
              </a:path>
              <a:path w="2573" h="2191">
                <a:moveTo>
                  <a:pt x="22066" y="16478"/>
                </a:moveTo>
                <a:cubicBezTo>
                  <a:pt x="22075" y="16416"/>
                  <a:pt x="22097" y="16368"/>
                  <a:pt x="22130" y="16320"/>
                </a:cubicBezTo>
                <a:cubicBezTo>
                  <a:pt x="22171" y="16258"/>
                  <a:pt x="22174" y="16316"/>
                  <a:pt x="22193" y="16256"/>
                </a:cubicBezTo>
                <a:cubicBezTo>
                  <a:pt x="22271" y="16315"/>
                  <a:pt x="22245" y="16298"/>
                  <a:pt x="22288" y="16383"/>
                </a:cubicBezTo>
                <a:cubicBezTo>
                  <a:pt x="22318" y="16443"/>
                  <a:pt x="22320" y="16465"/>
                  <a:pt x="22320" y="16542"/>
                </a:cubicBezTo>
                <a:cubicBezTo>
                  <a:pt x="22320" y="16626"/>
                  <a:pt x="22294" y="16682"/>
                  <a:pt x="22288" y="16764"/>
                </a:cubicBezTo>
                <a:cubicBezTo>
                  <a:pt x="22285" y="16806"/>
                  <a:pt x="22235" y="16872"/>
                  <a:pt x="22193" y="16891"/>
                </a:cubicBezTo>
                <a:cubicBezTo>
                  <a:pt x="22183" y="16891"/>
                  <a:pt x="22172" y="16891"/>
                  <a:pt x="22162" y="16891"/>
                </a:cubicBezTo>
                <a:cubicBezTo>
                  <a:pt x="22178" y="16843"/>
                  <a:pt x="22200" y="16859"/>
                  <a:pt x="22257" y="16859"/>
                </a:cubicBezTo>
                <a:cubicBezTo>
                  <a:pt x="22329" y="16859"/>
                  <a:pt x="22352" y="16875"/>
                  <a:pt x="22384" y="16891"/>
                </a:cubicBezTo>
                <a:cubicBezTo>
                  <a:pt x="22447" y="16923"/>
                  <a:pt x="22384" y="16927"/>
                  <a:pt x="22416" y="16986"/>
                </a:cubicBezTo>
                <a:cubicBezTo>
                  <a:pt x="22433" y="17017"/>
                  <a:pt x="22472" y="17068"/>
                  <a:pt x="22447" y="17113"/>
                </a:cubicBezTo>
                <a:cubicBezTo>
                  <a:pt x="22429" y="17146"/>
                  <a:pt x="22389" y="17197"/>
                  <a:pt x="22384" y="17208"/>
                </a:cubicBezTo>
                <a:cubicBezTo>
                  <a:pt x="22361" y="17253"/>
                  <a:pt x="22334" y="17241"/>
                  <a:pt x="22288" y="17272"/>
                </a:cubicBezTo>
                <a:cubicBezTo>
                  <a:pt x="22238" y="17306"/>
                  <a:pt x="22225" y="17304"/>
                  <a:pt x="22162" y="17304"/>
                </a:cubicBezTo>
                <a:cubicBezTo>
                  <a:pt x="22130" y="17304"/>
                  <a:pt x="22098" y="17304"/>
                  <a:pt x="22066" y="17304"/>
                </a:cubicBezTo>
              </a:path>
              <a:path w="2573" h="2191">
                <a:moveTo>
                  <a:pt x="22606" y="16351"/>
                </a:moveTo>
                <a:cubicBezTo>
                  <a:pt x="22606" y="16536"/>
                  <a:pt x="22607" y="16716"/>
                  <a:pt x="22638" y="16891"/>
                </a:cubicBezTo>
                <a:cubicBezTo>
                  <a:pt x="22646" y="16934"/>
                  <a:pt x="22652" y="17025"/>
                  <a:pt x="22701" y="17050"/>
                </a:cubicBezTo>
                <a:cubicBezTo>
                  <a:pt x="22735" y="17067"/>
                  <a:pt x="22811" y="17052"/>
                  <a:pt x="22828" y="17018"/>
                </a:cubicBezTo>
                <a:cubicBezTo>
                  <a:pt x="22858" y="16958"/>
                  <a:pt x="22906" y="16901"/>
                  <a:pt x="22924" y="16828"/>
                </a:cubicBezTo>
                <a:cubicBezTo>
                  <a:pt x="22933" y="16793"/>
                  <a:pt x="22965" y="16695"/>
                  <a:pt x="22955" y="16669"/>
                </a:cubicBezTo>
                <a:cubicBezTo>
                  <a:pt x="22945" y="16658"/>
                  <a:pt x="22934" y="16648"/>
                  <a:pt x="22924" y="16637"/>
                </a:cubicBezTo>
                <a:cubicBezTo>
                  <a:pt x="22898" y="16646"/>
                  <a:pt x="22853" y="16664"/>
                  <a:pt x="22828" y="16700"/>
                </a:cubicBezTo>
                <a:cubicBezTo>
                  <a:pt x="22805" y="16734"/>
                  <a:pt x="22742" y="16857"/>
                  <a:pt x="22733" y="16891"/>
                </a:cubicBezTo>
                <a:cubicBezTo>
                  <a:pt x="22708" y="16984"/>
                  <a:pt x="22701" y="17077"/>
                  <a:pt x="22701" y="17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23"/>
          <p:cNvSpPr/>
          <p:nvPr/>
        </p:nvSpPr>
        <p:spPr>
          <a:xfrm>
            <a:off x="7326360" y="6251400"/>
            <a:ext cx="446040" cy="287640"/>
          </a:xfrm>
          <a:custGeom>
            <a:avLst/>
            <a:gdLst/>
            <a:ahLst/>
            <a:rect l="l" t="t" r="r" b="b"/>
            <a:pathLst>
              <a:path w="1239" h="795">
                <a:moveTo>
                  <a:pt x="20352" y="17716"/>
                </a:moveTo>
                <a:cubicBezTo>
                  <a:pt x="20402" y="17679"/>
                  <a:pt x="20450" y="17652"/>
                  <a:pt x="20510" y="17621"/>
                </a:cubicBezTo>
                <a:cubicBezTo>
                  <a:pt x="20595" y="17576"/>
                  <a:pt x="20700" y="17509"/>
                  <a:pt x="20796" y="17494"/>
                </a:cubicBezTo>
                <a:cubicBezTo>
                  <a:pt x="20902" y="17478"/>
                  <a:pt x="21009" y="17488"/>
                  <a:pt x="21114" y="17462"/>
                </a:cubicBezTo>
                <a:cubicBezTo>
                  <a:pt x="21220" y="17436"/>
                  <a:pt x="21327" y="17384"/>
                  <a:pt x="21431" y="17367"/>
                </a:cubicBezTo>
                <a:cubicBezTo>
                  <a:pt x="21475" y="17360"/>
                  <a:pt x="21545" y="17367"/>
                  <a:pt x="21590" y="17367"/>
                </a:cubicBezTo>
              </a:path>
              <a:path w="1239" h="795">
                <a:moveTo>
                  <a:pt x="20542" y="17907"/>
                </a:moveTo>
                <a:cubicBezTo>
                  <a:pt x="20556" y="17850"/>
                  <a:pt x="20588" y="17841"/>
                  <a:pt x="20638" y="17812"/>
                </a:cubicBezTo>
                <a:cubicBezTo>
                  <a:pt x="20690" y="17786"/>
                  <a:pt x="20698" y="17775"/>
                  <a:pt x="20733" y="17780"/>
                </a:cubicBezTo>
              </a:path>
              <a:path w="1239" h="795">
                <a:moveTo>
                  <a:pt x="20987" y="17558"/>
                </a:moveTo>
                <a:cubicBezTo>
                  <a:pt x="20987" y="17634"/>
                  <a:pt x="20967" y="17670"/>
                  <a:pt x="20955" y="17748"/>
                </a:cubicBezTo>
                <a:cubicBezTo>
                  <a:pt x="20937" y="17870"/>
                  <a:pt x="20968" y="17986"/>
                  <a:pt x="20987" y="18098"/>
                </a:cubicBezTo>
                <a:cubicBezTo>
                  <a:pt x="20987" y="18119"/>
                  <a:pt x="20987" y="18140"/>
                  <a:pt x="20987" y="18161"/>
                </a:cubicBezTo>
              </a:path>
              <a:path w="1239" h="795">
                <a:moveTo>
                  <a:pt x="21082" y="17653"/>
                </a:moveTo>
                <a:cubicBezTo>
                  <a:pt x="21139" y="17653"/>
                  <a:pt x="21145" y="17645"/>
                  <a:pt x="21177" y="17621"/>
                </a:cubicBezTo>
                <a:cubicBezTo>
                  <a:pt x="21188" y="17611"/>
                  <a:pt x="21198" y="17600"/>
                  <a:pt x="21209" y="17590"/>
                </a:cubicBezTo>
                <a:cubicBezTo>
                  <a:pt x="21229" y="17616"/>
                  <a:pt x="21275" y="17714"/>
                  <a:pt x="21272" y="17748"/>
                </a:cubicBezTo>
                <a:cubicBezTo>
                  <a:pt x="21262" y="17865"/>
                  <a:pt x="21241" y="17975"/>
                  <a:pt x="21241" y="18098"/>
                </a:cubicBezTo>
                <a:cubicBezTo>
                  <a:pt x="21241" y="18151"/>
                  <a:pt x="21228" y="18146"/>
                  <a:pt x="21272" y="18161"/>
                </a:cubicBezTo>
                <a:cubicBezTo>
                  <a:pt x="21321" y="18145"/>
                  <a:pt x="21320" y="18118"/>
                  <a:pt x="21400" y="18098"/>
                </a:cubicBezTo>
                <a:cubicBezTo>
                  <a:pt x="21453" y="18085"/>
                  <a:pt x="21465" y="18075"/>
                  <a:pt x="21526" y="18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24"/>
          <p:cNvSpPr/>
          <p:nvPr/>
        </p:nvSpPr>
        <p:spPr>
          <a:xfrm>
            <a:off x="7978680" y="6183360"/>
            <a:ext cx="319320" cy="342720"/>
          </a:xfrm>
          <a:custGeom>
            <a:avLst/>
            <a:gdLst/>
            <a:ahLst/>
            <a:rect l="l" t="t" r="r" b="b"/>
            <a:pathLst>
              <a:path w="889" h="953">
                <a:moveTo>
                  <a:pt x="22162" y="17399"/>
                </a:moveTo>
                <a:cubicBezTo>
                  <a:pt x="22207" y="17388"/>
                  <a:pt x="22247" y="17345"/>
                  <a:pt x="22288" y="17336"/>
                </a:cubicBezTo>
                <a:cubicBezTo>
                  <a:pt x="22369" y="17319"/>
                  <a:pt x="22434" y="17308"/>
                  <a:pt x="22511" y="17272"/>
                </a:cubicBezTo>
                <a:cubicBezTo>
                  <a:pt x="22580" y="17239"/>
                  <a:pt x="22635" y="17196"/>
                  <a:pt x="22701" y="17177"/>
                </a:cubicBezTo>
                <a:cubicBezTo>
                  <a:pt x="22738" y="17166"/>
                  <a:pt x="22789" y="17177"/>
                  <a:pt x="22828" y="17177"/>
                </a:cubicBezTo>
              </a:path>
              <a:path w="889" h="953">
                <a:moveTo>
                  <a:pt x="22257" y="17685"/>
                </a:moveTo>
                <a:cubicBezTo>
                  <a:pt x="22257" y="17695"/>
                  <a:pt x="22257" y="17706"/>
                  <a:pt x="22257" y="17716"/>
                </a:cubicBezTo>
              </a:path>
              <a:path w="889" h="953">
                <a:moveTo>
                  <a:pt x="22257" y="17685"/>
                </a:moveTo>
                <a:cubicBezTo>
                  <a:pt x="22278" y="17717"/>
                  <a:pt x="22299" y="17748"/>
                  <a:pt x="22320" y="17780"/>
                </a:cubicBezTo>
              </a:path>
              <a:path w="889" h="953">
                <a:moveTo>
                  <a:pt x="22320" y="17780"/>
                </a:moveTo>
                <a:cubicBezTo>
                  <a:pt x="22365" y="17746"/>
                  <a:pt x="22360" y="17748"/>
                  <a:pt x="22416" y="17748"/>
                </a:cubicBezTo>
              </a:path>
              <a:path w="889" h="953">
                <a:moveTo>
                  <a:pt x="22574" y="17494"/>
                </a:moveTo>
                <a:cubicBezTo>
                  <a:pt x="22631" y="17513"/>
                  <a:pt x="22606" y="17585"/>
                  <a:pt x="22606" y="17653"/>
                </a:cubicBezTo>
                <a:cubicBezTo>
                  <a:pt x="22606" y="17746"/>
                  <a:pt x="22632" y="17822"/>
                  <a:pt x="22638" y="17907"/>
                </a:cubicBezTo>
                <a:cubicBezTo>
                  <a:pt x="22644" y="17990"/>
                  <a:pt x="22654" y="18051"/>
                  <a:pt x="22670" y="18129"/>
                </a:cubicBezTo>
              </a:path>
              <a:path w="889" h="953">
                <a:moveTo>
                  <a:pt x="22765" y="17653"/>
                </a:moveTo>
                <a:cubicBezTo>
                  <a:pt x="22781" y="17604"/>
                  <a:pt x="22792" y="17617"/>
                  <a:pt x="22828" y="17590"/>
                </a:cubicBezTo>
                <a:cubicBezTo>
                  <a:pt x="22857" y="17561"/>
                  <a:pt x="22863" y="17550"/>
                  <a:pt x="22892" y="17558"/>
                </a:cubicBezTo>
                <a:cubicBezTo>
                  <a:pt x="22892" y="17720"/>
                  <a:pt x="22903" y="17891"/>
                  <a:pt x="22860" y="18034"/>
                </a:cubicBezTo>
                <a:cubicBezTo>
                  <a:pt x="22860" y="18045"/>
                  <a:pt x="22860" y="18055"/>
                  <a:pt x="22860" y="18066"/>
                </a:cubicBezTo>
                <a:cubicBezTo>
                  <a:pt x="22887" y="18046"/>
                  <a:pt x="22947" y="18006"/>
                  <a:pt x="22955" y="18002"/>
                </a:cubicBezTo>
                <a:cubicBezTo>
                  <a:pt x="22974" y="17993"/>
                  <a:pt x="23029" y="18002"/>
                  <a:pt x="23050" y="18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5"/>
          <p:cNvSpPr/>
          <p:nvPr/>
        </p:nvSpPr>
        <p:spPr>
          <a:xfrm>
            <a:off x="8412120" y="5908680"/>
            <a:ext cx="412920" cy="538200"/>
          </a:xfrm>
          <a:custGeom>
            <a:avLst/>
            <a:gdLst/>
            <a:ahLst/>
            <a:rect l="l" t="t" r="r" b="b"/>
            <a:pathLst>
              <a:path w="1144" h="1493">
                <a:moveTo>
                  <a:pt x="23368" y="16796"/>
                </a:moveTo>
                <a:cubicBezTo>
                  <a:pt x="23368" y="16844"/>
                  <a:pt x="23381" y="16916"/>
                  <a:pt x="23400" y="16954"/>
                </a:cubicBezTo>
                <a:cubicBezTo>
                  <a:pt x="23431" y="17015"/>
                  <a:pt x="23434" y="17086"/>
                  <a:pt x="23463" y="17145"/>
                </a:cubicBezTo>
                <a:cubicBezTo>
                  <a:pt x="23490" y="17198"/>
                  <a:pt x="23513" y="17246"/>
                  <a:pt x="23527" y="17304"/>
                </a:cubicBezTo>
                <a:cubicBezTo>
                  <a:pt x="23558" y="17304"/>
                  <a:pt x="23569" y="17304"/>
                  <a:pt x="23558" y="17272"/>
                </a:cubicBezTo>
              </a:path>
              <a:path w="1144" h="1493">
                <a:moveTo>
                  <a:pt x="23654" y="16605"/>
                </a:moveTo>
                <a:cubicBezTo>
                  <a:pt x="23654" y="16696"/>
                  <a:pt x="23632" y="16772"/>
                  <a:pt x="23622" y="16859"/>
                </a:cubicBezTo>
                <a:cubicBezTo>
                  <a:pt x="23606" y="17005"/>
                  <a:pt x="23595" y="17157"/>
                  <a:pt x="23590" y="17304"/>
                </a:cubicBezTo>
                <a:cubicBezTo>
                  <a:pt x="23583" y="17505"/>
                  <a:pt x="23590" y="17706"/>
                  <a:pt x="23590" y="17907"/>
                </a:cubicBezTo>
              </a:path>
              <a:path w="1144" h="1493">
                <a:moveTo>
                  <a:pt x="23844" y="16828"/>
                </a:moveTo>
                <a:cubicBezTo>
                  <a:pt x="23844" y="16817"/>
                  <a:pt x="23844" y="16807"/>
                  <a:pt x="23844" y="16796"/>
                </a:cubicBezTo>
                <a:cubicBezTo>
                  <a:pt x="23900" y="16796"/>
                  <a:pt x="23895" y="16794"/>
                  <a:pt x="23940" y="16828"/>
                </a:cubicBezTo>
                <a:cubicBezTo>
                  <a:pt x="23940" y="16796"/>
                  <a:pt x="23940" y="16786"/>
                  <a:pt x="23971" y="16796"/>
                </a:cubicBezTo>
              </a:path>
              <a:path w="1144" h="1493">
                <a:moveTo>
                  <a:pt x="23844" y="17208"/>
                </a:moveTo>
                <a:cubicBezTo>
                  <a:pt x="23894" y="17196"/>
                  <a:pt x="23915" y="17177"/>
                  <a:pt x="23971" y="17177"/>
                </a:cubicBezTo>
                <a:cubicBezTo>
                  <a:pt x="23982" y="17177"/>
                  <a:pt x="23992" y="17177"/>
                  <a:pt x="24003" y="17177"/>
                </a:cubicBezTo>
              </a:path>
              <a:path w="1144" h="1493">
                <a:moveTo>
                  <a:pt x="24130" y="16574"/>
                </a:moveTo>
                <a:cubicBezTo>
                  <a:pt x="24144" y="16518"/>
                  <a:pt x="24165" y="16471"/>
                  <a:pt x="24194" y="16446"/>
                </a:cubicBezTo>
                <a:cubicBezTo>
                  <a:pt x="24227" y="16417"/>
                  <a:pt x="24290" y="16385"/>
                  <a:pt x="24320" y="16446"/>
                </a:cubicBezTo>
                <a:cubicBezTo>
                  <a:pt x="24356" y="16519"/>
                  <a:pt x="24340" y="16592"/>
                  <a:pt x="24320" y="16669"/>
                </a:cubicBezTo>
                <a:cubicBezTo>
                  <a:pt x="24303" y="16736"/>
                  <a:pt x="24308" y="16906"/>
                  <a:pt x="24257" y="16859"/>
                </a:cubicBezTo>
                <a:cubicBezTo>
                  <a:pt x="24206" y="16811"/>
                  <a:pt x="24321" y="16762"/>
                  <a:pt x="24352" y="16700"/>
                </a:cubicBezTo>
                <a:cubicBezTo>
                  <a:pt x="24369" y="16667"/>
                  <a:pt x="24416" y="16660"/>
                  <a:pt x="24448" y="16700"/>
                </a:cubicBezTo>
                <a:cubicBezTo>
                  <a:pt x="24502" y="16768"/>
                  <a:pt x="24511" y="16842"/>
                  <a:pt x="24511" y="16923"/>
                </a:cubicBezTo>
                <a:cubicBezTo>
                  <a:pt x="24511" y="17020"/>
                  <a:pt x="24508" y="17119"/>
                  <a:pt x="24479" y="17208"/>
                </a:cubicBezTo>
                <a:cubicBezTo>
                  <a:pt x="24458" y="17274"/>
                  <a:pt x="24397" y="17349"/>
                  <a:pt x="24352" y="17399"/>
                </a:cubicBezTo>
                <a:cubicBezTo>
                  <a:pt x="24323" y="17428"/>
                  <a:pt x="24317" y="17438"/>
                  <a:pt x="24289" y="174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26"/>
          <p:cNvSpPr/>
          <p:nvPr/>
        </p:nvSpPr>
        <p:spPr>
          <a:xfrm>
            <a:off x="5005440" y="3176640"/>
            <a:ext cx="698400" cy="469800"/>
          </a:xfrm>
          <a:custGeom>
            <a:avLst/>
            <a:gdLst/>
            <a:ahLst/>
            <a:rect l="l" t="t" r="r" b="b"/>
            <a:pathLst>
              <a:path w="1938" h="1303">
                <a:moveTo>
                  <a:pt x="13938" y="9334"/>
                </a:moveTo>
                <a:cubicBezTo>
                  <a:pt x="13949" y="9376"/>
                  <a:pt x="13982" y="9492"/>
                  <a:pt x="14002" y="9525"/>
                </a:cubicBezTo>
                <a:cubicBezTo>
                  <a:pt x="14047" y="9598"/>
                  <a:pt x="14106" y="9710"/>
                  <a:pt x="14160" y="9779"/>
                </a:cubicBezTo>
                <a:cubicBezTo>
                  <a:pt x="14204" y="9836"/>
                  <a:pt x="14260" y="9901"/>
                  <a:pt x="14288" y="9970"/>
                </a:cubicBezTo>
                <a:cubicBezTo>
                  <a:pt x="14288" y="10001"/>
                  <a:pt x="14288" y="10012"/>
                  <a:pt x="14288" y="10033"/>
                </a:cubicBezTo>
              </a:path>
              <a:path w="1938" h="1303">
                <a:moveTo>
                  <a:pt x="14319" y="9271"/>
                </a:moveTo>
                <a:cubicBezTo>
                  <a:pt x="14306" y="9336"/>
                  <a:pt x="14252" y="9470"/>
                  <a:pt x="14224" y="9525"/>
                </a:cubicBezTo>
                <a:cubicBezTo>
                  <a:pt x="14159" y="9653"/>
                  <a:pt x="14093" y="9775"/>
                  <a:pt x="14034" y="9906"/>
                </a:cubicBezTo>
                <a:cubicBezTo>
                  <a:pt x="14002" y="9976"/>
                  <a:pt x="13934" y="10033"/>
                  <a:pt x="13906" y="10096"/>
                </a:cubicBezTo>
                <a:cubicBezTo>
                  <a:pt x="13906" y="10107"/>
                  <a:pt x="13906" y="10117"/>
                  <a:pt x="13906" y="10128"/>
                </a:cubicBezTo>
              </a:path>
              <a:path w="1938" h="1303">
                <a:moveTo>
                  <a:pt x="14414" y="9620"/>
                </a:moveTo>
                <a:cubicBezTo>
                  <a:pt x="14483" y="9620"/>
                  <a:pt x="14516" y="9594"/>
                  <a:pt x="14573" y="9588"/>
                </a:cubicBezTo>
                <a:cubicBezTo>
                  <a:pt x="14627" y="9582"/>
                  <a:pt x="14651" y="9569"/>
                  <a:pt x="14700" y="9557"/>
                </a:cubicBezTo>
              </a:path>
              <a:path w="1938" h="1303">
                <a:moveTo>
                  <a:pt x="14478" y="9938"/>
                </a:moveTo>
                <a:cubicBezTo>
                  <a:pt x="14524" y="9926"/>
                  <a:pt x="14593" y="9904"/>
                  <a:pt x="14637" y="9874"/>
                </a:cubicBezTo>
                <a:cubicBezTo>
                  <a:pt x="14668" y="9842"/>
                  <a:pt x="14678" y="9831"/>
                  <a:pt x="14700" y="9811"/>
                </a:cubicBezTo>
              </a:path>
              <a:path w="1938" h="1303">
                <a:moveTo>
                  <a:pt x="15081" y="9017"/>
                </a:moveTo>
                <a:cubicBezTo>
                  <a:pt x="15027" y="9091"/>
                  <a:pt x="15022" y="9176"/>
                  <a:pt x="15018" y="9271"/>
                </a:cubicBezTo>
                <a:cubicBezTo>
                  <a:pt x="15013" y="9411"/>
                  <a:pt x="14986" y="9540"/>
                  <a:pt x="14986" y="9684"/>
                </a:cubicBezTo>
                <a:cubicBezTo>
                  <a:pt x="14986" y="9779"/>
                  <a:pt x="14986" y="9875"/>
                  <a:pt x="14986" y="9970"/>
                </a:cubicBezTo>
              </a:path>
              <a:path w="1938" h="1303">
                <a:moveTo>
                  <a:pt x="15208" y="9779"/>
                </a:moveTo>
                <a:cubicBezTo>
                  <a:pt x="15225" y="9830"/>
                  <a:pt x="15208" y="9826"/>
                  <a:pt x="15240" y="9842"/>
                </a:cubicBezTo>
              </a:path>
              <a:path w="1938" h="1303">
                <a:moveTo>
                  <a:pt x="15558" y="9049"/>
                </a:moveTo>
                <a:cubicBezTo>
                  <a:pt x="15558" y="9116"/>
                  <a:pt x="15553" y="9214"/>
                  <a:pt x="15526" y="9271"/>
                </a:cubicBezTo>
                <a:cubicBezTo>
                  <a:pt x="15495" y="9338"/>
                  <a:pt x="15476" y="9411"/>
                  <a:pt x="15462" y="9493"/>
                </a:cubicBezTo>
                <a:cubicBezTo>
                  <a:pt x="15510" y="9478"/>
                  <a:pt x="15490" y="9462"/>
                  <a:pt x="15558" y="9462"/>
                </a:cubicBezTo>
                <a:cubicBezTo>
                  <a:pt x="15625" y="9462"/>
                  <a:pt x="15648" y="9487"/>
                  <a:pt x="15716" y="9493"/>
                </a:cubicBezTo>
                <a:cubicBezTo>
                  <a:pt x="15743" y="9495"/>
                  <a:pt x="15837" y="9480"/>
                  <a:pt x="15843" y="9462"/>
                </a:cubicBezTo>
                <a:cubicBezTo>
                  <a:pt x="15843" y="9409"/>
                  <a:pt x="15843" y="9398"/>
                  <a:pt x="15843" y="9366"/>
                </a:cubicBezTo>
              </a:path>
              <a:path w="1938" h="1303">
                <a:moveTo>
                  <a:pt x="15843" y="8826"/>
                </a:moveTo>
                <a:cubicBezTo>
                  <a:pt x="15812" y="8880"/>
                  <a:pt x="15789" y="8983"/>
                  <a:pt x="15780" y="9049"/>
                </a:cubicBezTo>
                <a:cubicBezTo>
                  <a:pt x="15742" y="9339"/>
                  <a:pt x="15788" y="9653"/>
                  <a:pt x="15812" y="9938"/>
                </a:cubicBezTo>
                <a:cubicBezTo>
                  <a:pt x="15812" y="9980"/>
                  <a:pt x="15812" y="10023"/>
                  <a:pt x="15812" y="10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27"/>
          <p:cNvSpPr/>
          <p:nvPr/>
        </p:nvSpPr>
        <p:spPr>
          <a:xfrm>
            <a:off x="7772400" y="3508200"/>
            <a:ext cx="1154160" cy="447840"/>
          </a:xfrm>
          <a:custGeom>
            <a:avLst/>
            <a:gdLst/>
            <a:ahLst/>
            <a:rect l="l" t="t" r="r" b="b"/>
            <a:pathLst>
              <a:path w="3208" h="1240">
                <a:moveTo>
                  <a:pt x="21685" y="10287"/>
                </a:moveTo>
                <a:cubicBezTo>
                  <a:pt x="21782" y="10287"/>
                  <a:pt x="21857" y="10280"/>
                  <a:pt x="21939" y="10255"/>
                </a:cubicBezTo>
                <a:cubicBezTo>
                  <a:pt x="21983" y="10242"/>
                  <a:pt x="22026" y="10237"/>
                  <a:pt x="22066" y="10224"/>
                </a:cubicBezTo>
                <a:cubicBezTo>
                  <a:pt x="22077" y="10224"/>
                  <a:pt x="22087" y="10224"/>
                  <a:pt x="22098" y="10224"/>
                </a:cubicBezTo>
                <a:cubicBezTo>
                  <a:pt x="22086" y="10177"/>
                  <a:pt x="22064" y="10111"/>
                  <a:pt x="22034" y="10065"/>
                </a:cubicBezTo>
                <a:cubicBezTo>
                  <a:pt x="21996" y="10008"/>
                  <a:pt x="21957" y="9955"/>
                  <a:pt x="21908" y="9906"/>
                </a:cubicBezTo>
                <a:cubicBezTo>
                  <a:pt x="21848" y="9846"/>
                  <a:pt x="21804" y="9887"/>
                  <a:pt x="21749" y="9938"/>
                </a:cubicBezTo>
                <a:cubicBezTo>
                  <a:pt x="21689" y="9994"/>
                  <a:pt x="21605" y="10106"/>
                  <a:pt x="21590" y="10192"/>
                </a:cubicBezTo>
                <a:cubicBezTo>
                  <a:pt x="21569" y="10309"/>
                  <a:pt x="21582" y="10463"/>
                  <a:pt x="21622" y="10573"/>
                </a:cubicBezTo>
                <a:cubicBezTo>
                  <a:pt x="21636" y="10611"/>
                  <a:pt x="21703" y="10719"/>
                  <a:pt x="21749" y="10732"/>
                </a:cubicBezTo>
                <a:cubicBezTo>
                  <a:pt x="21824" y="10754"/>
                  <a:pt x="21887" y="10715"/>
                  <a:pt x="21939" y="10668"/>
                </a:cubicBezTo>
                <a:cubicBezTo>
                  <a:pt x="21977" y="10630"/>
                  <a:pt x="21991" y="10612"/>
                  <a:pt x="22003" y="10573"/>
                </a:cubicBezTo>
              </a:path>
              <a:path w="3208" h="1240">
                <a:moveTo>
                  <a:pt x="22098" y="9970"/>
                </a:moveTo>
                <a:cubicBezTo>
                  <a:pt x="22098" y="10040"/>
                  <a:pt x="22126" y="10089"/>
                  <a:pt x="22130" y="10160"/>
                </a:cubicBezTo>
                <a:cubicBezTo>
                  <a:pt x="22136" y="10273"/>
                  <a:pt x="22157" y="10368"/>
                  <a:pt x="22162" y="10478"/>
                </a:cubicBezTo>
                <a:cubicBezTo>
                  <a:pt x="22166" y="10555"/>
                  <a:pt x="22151" y="10548"/>
                  <a:pt x="22193" y="10604"/>
                </a:cubicBezTo>
                <a:cubicBezTo>
                  <a:pt x="22193" y="10657"/>
                  <a:pt x="22193" y="10562"/>
                  <a:pt x="22193" y="10509"/>
                </a:cubicBezTo>
                <a:cubicBezTo>
                  <a:pt x="22193" y="10351"/>
                  <a:pt x="22170" y="10182"/>
                  <a:pt x="22225" y="10033"/>
                </a:cubicBezTo>
                <a:cubicBezTo>
                  <a:pt x="22246" y="9975"/>
                  <a:pt x="22279" y="9947"/>
                  <a:pt x="22320" y="9906"/>
                </a:cubicBezTo>
                <a:cubicBezTo>
                  <a:pt x="22338" y="9980"/>
                  <a:pt x="22336" y="10044"/>
                  <a:pt x="22352" y="10128"/>
                </a:cubicBezTo>
                <a:cubicBezTo>
                  <a:pt x="22376" y="10251"/>
                  <a:pt x="22384" y="10349"/>
                  <a:pt x="22384" y="10478"/>
                </a:cubicBezTo>
                <a:cubicBezTo>
                  <a:pt x="22384" y="10507"/>
                  <a:pt x="22418" y="10698"/>
                  <a:pt x="22447" y="10668"/>
                </a:cubicBezTo>
                <a:cubicBezTo>
                  <a:pt x="22447" y="10657"/>
                  <a:pt x="22447" y="10647"/>
                  <a:pt x="22447" y="10636"/>
                </a:cubicBezTo>
              </a:path>
              <a:path w="3208" h="1240">
                <a:moveTo>
                  <a:pt x="22638" y="9747"/>
                </a:moveTo>
                <a:cubicBezTo>
                  <a:pt x="22638" y="9880"/>
                  <a:pt x="22659" y="9998"/>
                  <a:pt x="22670" y="10128"/>
                </a:cubicBezTo>
                <a:cubicBezTo>
                  <a:pt x="22684" y="10293"/>
                  <a:pt x="22665" y="10447"/>
                  <a:pt x="22701" y="10604"/>
                </a:cubicBezTo>
                <a:cubicBezTo>
                  <a:pt x="22701" y="10640"/>
                  <a:pt x="22698" y="10648"/>
                  <a:pt x="22670" y="10604"/>
                </a:cubicBezTo>
              </a:path>
              <a:path w="3208" h="1240">
                <a:moveTo>
                  <a:pt x="22479" y="10287"/>
                </a:moveTo>
                <a:cubicBezTo>
                  <a:pt x="22543" y="10287"/>
                  <a:pt x="22554" y="10272"/>
                  <a:pt x="22606" y="10255"/>
                </a:cubicBezTo>
                <a:cubicBezTo>
                  <a:pt x="22655" y="10239"/>
                  <a:pt x="22719" y="10201"/>
                  <a:pt x="22765" y="10192"/>
                </a:cubicBezTo>
                <a:cubicBezTo>
                  <a:pt x="22839" y="10177"/>
                  <a:pt x="22857" y="10145"/>
                  <a:pt x="22892" y="10128"/>
                </a:cubicBezTo>
                <a:cubicBezTo>
                  <a:pt x="22902" y="10123"/>
                  <a:pt x="22961" y="10060"/>
                  <a:pt x="22955" y="10033"/>
                </a:cubicBezTo>
                <a:cubicBezTo>
                  <a:pt x="22951" y="10016"/>
                  <a:pt x="22901" y="9880"/>
                  <a:pt x="22892" y="9874"/>
                </a:cubicBezTo>
                <a:cubicBezTo>
                  <a:pt x="22881" y="9874"/>
                  <a:pt x="22871" y="9874"/>
                  <a:pt x="22860" y="9874"/>
                </a:cubicBezTo>
                <a:cubicBezTo>
                  <a:pt x="22841" y="9970"/>
                  <a:pt x="22800" y="9992"/>
                  <a:pt x="22796" y="10096"/>
                </a:cubicBezTo>
                <a:cubicBezTo>
                  <a:pt x="22790" y="10249"/>
                  <a:pt x="22776" y="10359"/>
                  <a:pt x="22796" y="10509"/>
                </a:cubicBezTo>
                <a:cubicBezTo>
                  <a:pt x="22805" y="10578"/>
                  <a:pt x="22812" y="10627"/>
                  <a:pt x="22892" y="10636"/>
                </a:cubicBezTo>
                <a:cubicBezTo>
                  <a:pt x="22957" y="10643"/>
                  <a:pt x="22995" y="10555"/>
                  <a:pt x="23019" y="10509"/>
                </a:cubicBezTo>
                <a:cubicBezTo>
                  <a:pt x="23056" y="10438"/>
                  <a:pt x="23072" y="10395"/>
                  <a:pt x="23082" y="10319"/>
                </a:cubicBezTo>
              </a:path>
              <a:path w="3208" h="1240">
                <a:moveTo>
                  <a:pt x="23114" y="9842"/>
                </a:moveTo>
                <a:cubicBezTo>
                  <a:pt x="23114" y="9957"/>
                  <a:pt x="23130" y="10049"/>
                  <a:pt x="23146" y="10160"/>
                </a:cubicBezTo>
                <a:cubicBezTo>
                  <a:pt x="23156" y="10230"/>
                  <a:pt x="23154" y="10348"/>
                  <a:pt x="23178" y="10414"/>
                </a:cubicBezTo>
                <a:cubicBezTo>
                  <a:pt x="23206" y="10443"/>
                  <a:pt x="23221" y="10453"/>
                  <a:pt x="23178" y="10446"/>
                </a:cubicBezTo>
                <a:cubicBezTo>
                  <a:pt x="23178" y="10374"/>
                  <a:pt x="23155" y="10320"/>
                  <a:pt x="23146" y="10255"/>
                </a:cubicBezTo>
                <a:cubicBezTo>
                  <a:pt x="23133" y="10156"/>
                  <a:pt x="23140" y="9996"/>
                  <a:pt x="23178" y="9906"/>
                </a:cubicBezTo>
                <a:cubicBezTo>
                  <a:pt x="23196" y="9864"/>
                  <a:pt x="23238" y="9851"/>
                  <a:pt x="23273" y="9842"/>
                </a:cubicBezTo>
              </a:path>
              <a:path w="3208" h="1240">
                <a:moveTo>
                  <a:pt x="23432" y="10541"/>
                </a:moveTo>
                <a:cubicBezTo>
                  <a:pt x="23445" y="10650"/>
                  <a:pt x="23449" y="10690"/>
                  <a:pt x="23432" y="10795"/>
                </a:cubicBezTo>
                <a:cubicBezTo>
                  <a:pt x="23422" y="10855"/>
                  <a:pt x="23432" y="10924"/>
                  <a:pt x="23432" y="10986"/>
                </a:cubicBezTo>
              </a:path>
              <a:path w="3208" h="1240">
                <a:moveTo>
                  <a:pt x="23527" y="10224"/>
                </a:moveTo>
                <a:cubicBezTo>
                  <a:pt x="23566" y="10184"/>
                  <a:pt x="23640" y="10116"/>
                  <a:pt x="23654" y="10065"/>
                </a:cubicBezTo>
                <a:cubicBezTo>
                  <a:pt x="23672" y="9999"/>
                  <a:pt x="23703" y="9944"/>
                  <a:pt x="23717" y="9874"/>
                </a:cubicBezTo>
                <a:cubicBezTo>
                  <a:pt x="23655" y="9874"/>
                  <a:pt x="23607" y="9906"/>
                  <a:pt x="23590" y="9970"/>
                </a:cubicBezTo>
                <a:cubicBezTo>
                  <a:pt x="23560" y="10080"/>
                  <a:pt x="23531" y="10203"/>
                  <a:pt x="23527" y="10319"/>
                </a:cubicBezTo>
                <a:cubicBezTo>
                  <a:pt x="23524" y="10413"/>
                  <a:pt x="23539" y="10471"/>
                  <a:pt x="23590" y="10509"/>
                </a:cubicBezTo>
                <a:cubicBezTo>
                  <a:pt x="23601" y="10520"/>
                  <a:pt x="23611" y="10530"/>
                  <a:pt x="23622" y="10541"/>
                </a:cubicBezTo>
                <a:cubicBezTo>
                  <a:pt x="23636" y="10499"/>
                  <a:pt x="23686" y="10446"/>
                  <a:pt x="23717" y="10382"/>
                </a:cubicBezTo>
              </a:path>
              <a:path w="3208" h="1240">
                <a:moveTo>
                  <a:pt x="23844" y="9874"/>
                </a:moveTo>
                <a:cubicBezTo>
                  <a:pt x="23844" y="9957"/>
                  <a:pt x="23817" y="10016"/>
                  <a:pt x="23812" y="10096"/>
                </a:cubicBezTo>
                <a:cubicBezTo>
                  <a:pt x="23807" y="10189"/>
                  <a:pt x="23785" y="10407"/>
                  <a:pt x="23844" y="10446"/>
                </a:cubicBezTo>
                <a:cubicBezTo>
                  <a:pt x="23844" y="10499"/>
                  <a:pt x="23844" y="10403"/>
                  <a:pt x="23844" y="10350"/>
                </a:cubicBezTo>
                <a:cubicBezTo>
                  <a:pt x="23844" y="10219"/>
                  <a:pt x="23830" y="10095"/>
                  <a:pt x="23876" y="9970"/>
                </a:cubicBezTo>
                <a:cubicBezTo>
                  <a:pt x="23899" y="9907"/>
                  <a:pt x="23923" y="9866"/>
                  <a:pt x="23971" y="9842"/>
                </a:cubicBezTo>
                <a:cubicBezTo>
                  <a:pt x="24017" y="9919"/>
                  <a:pt x="24003" y="10000"/>
                  <a:pt x="24003" y="10096"/>
                </a:cubicBezTo>
                <a:cubicBezTo>
                  <a:pt x="24003" y="10226"/>
                  <a:pt x="23994" y="10399"/>
                  <a:pt x="24035" y="10478"/>
                </a:cubicBezTo>
                <a:cubicBezTo>
                  <a:pt x="24050" y="10508"/>
                  <a:pt x="24025" y="10501"/>
                  <a:pt x="24066" y="10446"/>
                </a:cubicBezTo>
              </a:path>
              <a:path w="3208" h="1240">
                <a:moveTo>
                  <a:pt x="24130" y="9779"/>
                </a:moveTo>
                <a:cubicBezTo>
                  <a:pt x="24130" y="9863"/>
                  <a:pt x="24108" y="9925"/>
                  <a:pt x="24098" y="10001"/>
                </a:cubicBezTo>
                <a:cubicBezTo>
                  <a:pt x="24081" y="10133"/>
                  <a:pt x="24108" y="10256"/>
                  <a:pt x="24130" y="10382"/>
                </a:cubicBezTo>
                <a:cubicBezTo>
                  <a:pt x="24130" y="10414"/>
                  <a:pt x="24130" y="10425"/>
                  <a:pt x="24130" y="10446"/>
                </a:cubicBezTo>
              </a:path>
              <a:path w="3208" h="1240">
                <a:moveTo>
                  <a:pt x="24066" y="10192"/>
                </a:moveTo>
                <a:cubicBezTo>
                  <a:pt x="24119" y="10179"/>
                  <a:pt x="24183" y="10133"/>
                  <a:pt x="24225" y="10096"/>
                </a:cubicBezTo>
                <a:cubicBezTo>
                  <a:pt x="24275" y="10052"/>
                  <a:pt x="24327" y="10029"/>
                  <a:pt x="24352" y="10001"/>
                </a:cubicBezTo>
                <a:cubicBezTo>
                  <a:pt x="24365" y="9987"/>
                  <a:pt x="24465" y="9945"/>
                  <a:pt x="24416" y="9906"/>
                </a:cubicBezTo>
                <a:cubicBezTo>
                  <a:pt x="24390" y="9886"/>
                  <a:pt x="24386" y="9885"/>
                  <a:pt x="24352" y="9874"/>
                </a:cubicBezTo>
                <a:cubicBezTo>
                  <a:pt x="24312" y="9928"/>
                  <a:pt x="24299" y="10026"/>
                  <a:pt x="24289" y="10096"/>
                </a:cubicBezTo>
                <a:cubicBezTo>
                  <a:pt x="24276" y="10191"/>
                  <a:pt x="24312" y="10264"/>
                  <a:pt x="24320" y="10350"/>
                </a:cubicBezTo>
                <a:cubicBezTo>
                  <a:pt x="24327" y="10425"/>
                  <a:pt x="24366" y="10426"/>
                  <a:pt x="24416" y="10382"/>
                </a:cubicBezTo>
                <a:cubicBezTo>
                  <a:pt x="24427" y="10371"/>
                  <a:pt x="24437" y="10361"/>
                  <a:pt x="24448" y="10350"/>
                </a:cubicBezTo>
              </a:path>
              <a:path w="3208" h="1240">
                <a:moveTo>
                  <a:pt x="24543" y="9874"/>
                </a:moveTo>
                <a:cubicBezTo>
                  <a:pt x="24543" y="10018"/>
                  <a:pt x="24543" y="10151"/>
                  <a:pt x="24574" y="10287"/>
                </a:cubicBezTo>
                <a:cubicBezTo>
                  <a:pt x="24588" y="10349"/>
                  <a:pt x="24574" y="10362"/>
                  <a:pt x="24574" y="10287"/>
                </a:cubicBezTo>
                <a:cubicBezTo>
                  <a:pt x="24574" y="10172"/>
                  <a:pt x="24570" y="10077"/>
                  <a:pt x="24606" y="9970"/>
                </a:cubicBezTo>
                <a:cubicBezTo>
                  <a:pt x="24611" y="9954"/>
                  <a:pt x="24645" y="9772"/>
                  <a:pt x="24702" y="9779"/>
                </a:cubicBezTo>
                <a:cubicBezTo>
                  <a:pt x="24712" y="9790"/>
                  <a:pt x="24723" y="9800"/>
                  <a:pt x="24733" y="9811"/>
                </a:cubicBezTo>
              </a:path>
              <a:path w="3208" h="1240">
                <a:moveTo>
                  <a:pt x="24797" y="10287"/>
                </a:moveTo>
                <a:cubicBezTo>
                  <a:pt x="24797" y="10410"/>
                  <a:pt x="24808" y="10523"/>
                  <a:pt x="24765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28"/>
          <p:cNvSpPr/>
          <p:nvPr/>
        </p:nvSpPr>
        <p:spPr>
          <a:xfrm>
            <a:off x="8504280" y="3863880"/>
            <a:ext cx="525600" cy="331920"/>
          </a:xfrm>
          <a:custGeom>
            <a:avLst/>
            <a:gdLst/>
            <a:ahLst/>
            <a:rect l="l" t="t" r="r" b="b"/>
            <a:pathLst>
              <a:path w="1461" h="921">
                <a:moveTo>
                  <a:pt x="23622" y="11240"/>
                </a:moveTo>
                <a:cubicBezTo>
                  <a:pt x="23622" y="11273"/>
                  <a:pt x="23631" y="11351"/>
                  <a:pt x="23654" y="11366"/>
                </a:cubicBezTo>
                <a:cubicBezTo>
                  <a:pt x="23686" y="11366"/>
                  <a:pt x="23697" y="11366"/>
                  <a:pt x="23686" y="11398"/>
                </a:cubicBezTo>
                <a:cubicBezTo>
                  <a:pt x="23742" y="11364"/>
                  <a:pt x="23801" y="11369"/>
                  <a:pt x="23844" y="11303"/>
                </a:cubicBezTo>
                <a:cubicBezTo>
                  <a:pt x="23878" y="11250"/>
                  <a:pt x="23947" y="11108"/>
                  <a:pt x="23940" y="11049"/>
                </a:cubicBezTo>
                <a:cubicBezTo>
                  <a:pt x="23935" y="11007"/>
                  <a:pt x="23900" y="10954"/>
                  <a:pt x="23876" y="10922"/>
                </a:cubicBezTo>
                <a:cubicBezTo>
                  <a:pt x="23813" y="10985"/>
                  <a:pt x="23810" y="11028"/>
                  <a:pt x="23781" y="11112"/>
                </a:cubicBezTo>
                <a:cubicBezTo>
                  <a:pt x="23731" y="11256"/>
                  <a:pt x="23736" y="11386"/>
                  <a:pt x="23749" y="11525"/>
                </a:cubicBezTo>
                <a:cubicBezTo>
                  <a:pt x="23749" y="11591"/>
                  <a:pt x="23750" y="11615"/>
                  <a:pt x="23781" y="11652"/>
                </a:cubicBezTo>
                <a:cubicBezTo>
                  <a:pt x="23834" y="11652"/>
                  <a:pt x="23903" y="11632"/>
                  <a:pt x="23940" y="11589"/>
                </a:cubicBezTo>
                <a:cubicBezTo>
                  <a:pt x="23950" y="11568"/>
                  <a:pt x="23961" y="11546"/>
                  <a:pt x="23971" y="11525"/>
                </a:cubicBezTo>
              </a:path>
              <a:path w="1461" h="921">
                <a:moveTo>
                  <a:pt x="24098" y="10986"/>
                </a:moveTo>
                <a:cubicBezTo>
                  <a:pt x="24082" y="11065"/>
                  <a:pt x="24066" y="11123"/>
                  <a:pt x="24066" y="11208"/>
                </a:cubicBezTo>
                <a:cubicBezTo>
                  <a:pt x="24066" y="11323"/>
                  <a:pt x="24041" y="11463"/>
                  <a:pt x="24098" y="11557"/>
                </a:cubicBezTo>
                <a:cubicBezTo>
                  <a:pt x="24098" y="11434"/>
                  <a:pt x="24117" y="11326"/>
                  <a:pt x="24130" y="11208"/>
                </a:cubicBezTo>
                <a:cubicBezTo>
                  <a:pt x="24137" y="11143"/>
                  <a:pt x="24140" y="10968"/>
                  <a:pt x="24194" y="10922"/>
                </a:cubicBezTo>
                <a:cubicBezTo>
                  <a:pt x="24225" y="10922"/>
                  <a:pt x="24236" y="10922"/>
                  <a:pt x="24257" y="10922"/>
                </a:cubicBezTo>
                <a:cubicBezTo>
                  <a:pt x="24257" y="11003"/>
                  <a:pt x="24286" y="11059"/>
                  <a:pt x="24289" y="11144"/>
                </a:cubicBezTo>
                <a:cubicBezTo>
                  <a:pt x="24294" y="11279"/>
                  <a:pt x="24286" y="11408"/>
                  <a:pt x="24320" y="11525"/>
                </a:cubicBezTo>
                <a:cubicBezTo>
                  <a:pt x="24320" y="11557"/>
                  <a:pt x="24320" y="11568"/>
                  <a:pt x="24352" y="11557"/>
                </a:cubicBezTo>
              </a:path>
              <a:path w="1461" h="921">
                <a:moveTo>
                  <a:pt x="24416" y="10858"/>
                </a:moveTo>
                <a:cubicBezTo>
                  <a:pt x="24416" y="11043"/>
                  <a:pt x="24426" y="11216"/>
                  <a:pt x="24448" y="11398"/>
                </a:cubicBezTo>
                <a:cubicBezTo>
                  <a:pt x="24454" y="11449"/>
                  <a:pt x="24448" y="11505"/>
                  <a:pt x="24448" y="11557"/>
                </a:cubicBezTo>
              </a:path>
              <a:path w="1461" h="921">
                <a:moveTo>
                  <a:pt x="24352" y="11176"/>
                </a:moveTo>
                <a:cubicBezTo>
                  <a:pt x="24410" y="11176"/>
                  <a:pt x="24427" y="11150"/>
                  <a:pt x="24479" y="11144"/>
                </a:cubicBezTo>
                <a:cubicBezTo>
                  <a:pt x="24515" y="11140"/>
                  <a:pt x="24606" y="11129"/>
                  <a:pt x="24638" y="11112"/>
                </a:cubicBezTo>
                <a:cubicBezTo>
                  <a:pt x="24681" y="11089"/>
                  <a:pt x="24728" y="11030"/>
                  <a:pt x="24733" y="10986"/>
                </a:cubicBezTo>
                <a:cubicBezTo>
                  <a:pt x="24737" y="10945"/>
                  <a:pt x="24746" y="10880"/>
                  <a:pt x="24702" y="10858"/>
                </a:cubicBezTo>
                <a:cubicBezTo>
                  <a:pt x="24691" y="10858"/>
                  <a:pt x="24681" y="10858"/>
                  <a:pt x="24670" y="10858"/>
                </a:cubicBezTo>
                <a:cubicBezTo>
                  <a:pt x="24670" y="10950"/>
                  <a:pt x="24648" y="11029"/>
                  <a:pt x="24638" y="11112"/>
                </a:cubicBezTo>
                <a:cubicBezTo>
                  <a:pt x="24627" y="11203"/>
                  <a:pt x="24633" y="11349"/>
                  <a:pt x="24670" y="11430"/>
                </a:cubicBezTo>
                <a:cubicBezTo>
                  <a:pt x="24681" y="11441"/>
                  <a:pt x="24691" y="11451"/>
                  <a:pt x="24702" y="11462"/>
                </a:cubicBezTo>
                <a:cubicBezTo>
                  <a:pt x="24765" y="11446"/>
                  <a:pt x="24760" y="11415"/>
                  <a:pt x="24797" y="11366"/>
                </a:cubicBezTo>
              </a:path>
              <a:path w="1461" h="921">
                <a:moveTo>
                  <a:pt x="24860" y="10986"/>
                </a:moveTo>
                <a:cubicBezTo>
                  <a:pt x="24860" y="11145"/>
                  <a:pt x="24860" y="11303"/>
                  <a:pt x="24860" y="11462"/>
                </a:cubicBezTo>
                <a:cubicBezTo>
                  <a:pt x="24860" y="11290"/>
                  <a:pt x="24845" y="11119"/>
                  <a:pt x="24892" y="10954"/>
                </a:cubicBezTo>
                <a:cubicBezTo>
                  <a:pt x="24911" y="10888"/>
                  <a:pt x="24911" y="10765"/>
                  <a:pt x="24987" y="10732"/>
                </a:cubicBezTo>
                <a:cubicBezTo>
                  <a:pt x="25008" y="10723"/>
                  <a:pt x="25059" y="10732"/>
                  <a:pt x="25082" y="10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29"/>
          <p:cNvSpPr/>
          <p:nvPr/>
        </p:nvSpPr>
        <p:spPr>
          <a:xfrm>
            <a:off x="1371600" y="5954760"/>
            <a:ext cx="3041640" cy="92160"/>
          </a:xfrm>
          <a:custGeom>
            <a:avLst/>
            <a:gdLst/>
            <a:ahLst/>
            <a:rect l="l" t="t" r="r" b="b"/>
            <a:pathLst>
              <a:path w="8447" h="255">
                <a:moveTo>
                  <a:pt x="3810" y="16542"/>
                </a:moveTo>
                <a:cubicBezTo>
                  <a:pt x="3860" y="16580"/>
                  <a:pt x="3885" y="16614"/>
                  <a:pt x="3937" y="16637"/>
                </a:cubicBezTo>
                <a:cubicBezTo>
                  <a:pt x="3980" y="16656"/>
                  <a:pt x="4017" y="16655"/>
                  <a:pt x="4064" y="16669"/>
                </a:cubicBezTo>
                <a:cubicBezTo>
                  <a:pt x="4125" y="16688"/>
                  <a:pt x="4198" y="16748"/>
                  <a:pt x="4254" y="16764"/>
                </a:cubicBezTo>
                <a:cubicBezTo>
                  <a:pt x="4293" y="16776"/>
                  <a:pt x="4387" y="16793"/>
                  <a:pt x="4413" y="16796"/>
                </a:cubicBezTo>
                <a:cubicBezTo>
                  <a:pt x="4716" y="16829"/>
                  <a:pt x="5042" y="16783"/>
                  <a:pt x="5334" y="16764"/>
                </a:cubicBezTo>
                <a:cubicBezTo>
                  <a:pt x="5439" y="16757"/>
                  <a:pt x="5562" y="16801"/>
                  <a:pt x="5652" y="16796"/>
                </a:cubicBezTo>
                <a:cubicBezTo>
                  <a:pt x="5731" y="16792"/>
                  <a:pt x="5817" y="16764"/>
                  <a:pt x="5906" y="16764"/>
                </a:cubicBezTo>
                <a:cubicBezTo>
                  <a:pt x="6099" y="16764"/>
                  <a:pt x="6288" y="16717"/>
                  <a:pt x="6445" y="16700"/>
                </a:cubicBezTo>
                <a:cubicBezTo>
                  <a:pt x="6597" y="16684"/>
                  <a:pt x="6700" y="16750"/>
                  <a:pt x="6826" y="16764"/>
                </a:cubicBezTo>
                <a:cubicBezTo>
                  <a:pt x="6942" y="16777"/>
                  <a:pt x="7034" y="16706"/>
                  <a:pt x="7112" y="16700"/>
                </a:cubicBezTo>
                <a:cubicBezTo>
                  <a:pt x="7509" y="16669"/>
                  <a:pt x="7919" y="16720"/>
                  <a:pt x="8287" y="16764"/>
                </a:cubicBezTo>
                <a:cubicBezTo>
                  <a:pt x="8688" y="16812"/>
                  <a:pt x="9121" y="16742"/>
                  <a:pt x="9493" y="16700"/>
                </a:cubicBezTo>
                <a:cubicBezTo>
                  <a:pt x="9645" y="16683"/>
                  <a:pt x="9822" y="16676"/>
                  <a:pt x="9970" y="16669"/>
                </a:cubicBezTo>
                <a:cubicBezTo>
                  <a:pt x="10237" y="16656"/>
                  <a:pt x="10503" y="16686"/>
                  <a:pt x="10763" y="16700"/>
                </a:cubicBezTo>
                <a:cubicBezTo>
                  <a:pt x="10927" y="16709"/>
                  <a:pt x="11083" y="16678"/>
                  <a:pt x="11240" y="16669"/>
                </a:cubicBezTo>
                <a:cubicBezTo>
                  <a:pt x="11363" y="16662"/>
                  <a:pt x="11470" y="16658"/>
                  <a:pt x="11589" y="16637"/>
                </a:cubicBezTo>
                <a:cubicBezTo>
                  <a:pt x="11696" y="16618"/>
                  <a:pt x="11794" y="16608"/>
                  <a:pt x="11906" y="16605"/>
                </a:cubicBezTo>
                <a:cubicBezTo>
                  <a:pt x="12023" y="16602"/>
                  <a:pt x="12118" y="16624"/>
                  <a:pt x="12224" y="16637"/>
                </a:cubicBezTo>
                <a:cubicBezTo>
                  <a:pt x="12235" y="16637"/>
                  <a:pt x="12245" y="16637"/>
                  <a:pt x="12256" y="16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30"/>
          <p:cNvSpPr/>
          <p:nvPr/>
        </p:nvSpPr>
        <p:spPr>
          <a:xfrm>
            <a:off x="5886360" y="1336680"/>
            <a:ext cx="274680" cy="3178080"/>
          </a:xfrm>
          <a:custGeom>
            <a:avLst/>
            <a:gdLst/>
            <a:ahLst/>
            <a:rect l="l" t="t" r="r" b="b"/>
            <a:pathLst>
              <a:path w="763" h="8827">
                <a:moveTo>
                  <a:pt x="16891" y="3715"/>
                </a:moveTo>
                <a:cubicBezTo>
                  <a:pt x="16802" y="3750"/>
                  <a:pt x="16752" y="3730"/>
                  <a:pt x="16669" y="3810"/>
                </a:cubicBezTo>
                <a:cubicBezTo>
                  <a:pt x="16595" y="3882"/>
                  <a:pt x="16560" y="3945"/>
                  <a:pt x="16510" y="4032"/>
                </a:cubicBezTo>
                <a:cubicBezTo>
                  <a:pt x="16461" y="4117"/>
                  <a:pt x="16410" y="4256"/>
                  <a:pt x="16383" y="4350"/>
                </a:cubicBezTo>
                <a:cubicBezTo>
                  <a:pt x="16348" y="4470"/>
                  <a:pt x="16383" y="4528"/>
                  <a:pt x="16383" y="4636"/>
                </a:cubicBezTo>
                <a:cubicBezTo>
                  <a:pt x="16383" y="4831"/>
                  <a:pt x="16406" y="5015"/>
                  <a:pt x="16415" y="5207"/>
                </a:cubicBezTo>
                <a:cubicBezTo>
                  <a:pt x="16424" y="5397"/>
                  <a:pt x="16438" y="5592"/>
                  <a:pt x="16446" y="5778"/>
                </a:cubicBezTo>
                <a:cubicBezTo>
                  <a:pt x="16458" y="6053"/>
                  <a:pt x="16466" y="6332"/>
                  <a:pt x="16478" y="6604"/>
                </a:cubicBezTo>
                <a:cubicBezTo>
                  <a:pt x="16488" y="6826"/>
                  <a:pt x="16500" y="7053"/>
                  <a:pt x="16510" y="7271"/>
                </a:cubicBezTo>
                <a:cubicBezTo>
                  <a:pt x="16517" y="7412"/>
                  <a:pt x="16524" y="7545"/>
                  <a:pt x="16542" y="7684"/>
                </a:cubicBezTo>
                <a:cubicBezTo>
                  <a:pt x="16563" y="7844"/>
                  <a:pt x="16572" y="7996"/>
                  <a:pt x="16574" y="8160"/>
                </a:cubicBezTo>
                <a:cubicBezTo>
                  <a:pt x="16581" y="8590"/>
                  <a:pt x="16533" y="9041"/>
                  <a:pt x="16605" y="9462"/>
                </a:cubicBezTo>
                <a:cubicBezTo>
                  <a:pt x="16626" y="9584"/>
                  <a:pt x="16656" y="9695"/>
                  <a:pt x="16700" y="9811"/>
                </a:cubicBezTo>
                <a:cubicBezTo>
                  <a:pt x="16749" y="9941"/>
                  <a:pt x="16785" y="10062"/>
                  <a:pt x="16828" y="10192"/>
                </a:cubicBezTo>
                <a:cubicBezTo>
                  <a:pt x="16896" y="10397"/>
                  <a:pt x="16950" y="10585"/>
                  <a:pt x="16986" y="10795"/>
                </a:cubicBezTo>
                <a:cubicBezTo>
                  <a:pt x="17012" y="10942"/>
                  <a:pt x="17028" y="11091"/>
                  <a:pt x="17050" y="11240"/>
                </a:cubicBezTo>
                <a:cubicBezTo>
                  <a:pt x="17073" y="11389"/>
                  <a:pt x="17068" y="11532"/>
                  <a:pt x="17082" y="11684"/>
                </a:cubicBezTo>
                <a:cubicBezTo>
                  <a:pt x="17094" y="11821"/>
                  <a:pt x="17110" y="11955"/>
                  <a:pt x="17113" y="12097"/>
                </a:cubicBezTo>
                <a:cubicBezTo>
                  <a:pt x="17116" y="12245"/>
                  <a:pt x="17113" y="12393"/>
                  <a:pt x="17113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two numbers is 59.  Their difference is 11.  What are the two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Identify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Write the system of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4"/>
          <p:cNvSpPr/>
          <p:nvPr/>
        </p:nvSpPr>
        <p:spPr>
          <a:xfrm>
            <a:off x="5875200" y="4950000"/>
            <a:ext cx="1074960" cy="1233360"/>
          </a:xfrm>
          <a:custGeom>
            <a:avLst/>
            <a:gdLst/>
            <a:ahLst/>
            <a:rect l="l" t="t" r="r" b="b"/>
            <a:pathLst>
              <a:path w="2985" h="3430">
                <a:moveTo>
                  <a:pt x="17907" y="14319"/>
                </a:moveTo>
                <a:cubicBezTo>
                  <a:pt x="17949" y="14319"/>
                  <a:pt x="17992" y="14319"/>
                  <a:pt x="18034" y="14319"/>
                </a:cubicBezTo>
              </a:path>
              <a:path w="2985" h="3430">
                <a:moveTo>
                  <a:pt x="18352" y="14034"/>
                </a:moveTo>
                <a:cubicBezTo>
                  <a:pt x="18390" y="14034"/>
                  <a:pt x="18405" y="14000"/>
                  <a:pt x="18415" y="13970"/>
                </a:cubicBezTo>
              </a:path>
              <a:path w="2985" h="3430">
                <a:moveTo>
                  <a:pt x="18478" y="13938"/>
                </a:moveTo>
                <a:cubicBezTo>
                  <a:pt x="18526" y="13922"/>
                  <a:pt x="18505" y="13906"/>
                  <a:pt x="18574" y="13906"/>
                </a:cubicBezTo>
                <a:cubicBezTo>
                  <a:pt x="18585" y="13906"/>
                  <a:pt x="18595" y="13906"/>
                  <a:pt x="18606" y="13906"/>
                </a:cubicBezTo>
                <a:cubicBezTo>
                  <a:pt x="18606" y="13971"/>
                  <a:pt x="18616" y="14013"/>
                  <a:pt x="18574" y="14065"/>
                </a:cubicBezTo>
                <a:cubicBezTo>
                  <a:pt x="18531" y="14118"/>
                  <a:pt x="18516" y="14174"/>
                  <a:pt x="18478" y="14224"/>
                </a:cubicBezTo>
                <a:cubicBezTo>
                  <a:pt x="18523" y="14209"/>
                  <a:pt x="18516" y="14154"/>
                  <a:pt x="18574" y="14129"/>
                </a:cubicBezTo>
                <a:cubicBezTo>
                  <a:pt x="18623" y="14108"/>
                  <a:pt x="18653" y="14097"/>
                  <a:pt x="18701" y="14129"/>
                </a:cubicBezTo>
                <a:cubicBezTo>
                  <a:pt x="18742" y="14156"/>
                  <a:pt x="18744" y="14245"/>
                  <a:pt x="18732" y="14288"/>
                </a:cubicBezTo>
                <a:cubicBezTo>
                  <a:pt x="18708" y="14373"/>
                  <a:pt x="18690" y="14466"/>
                  <a:pt x="18637" y="14542"/>
                </a:cubicBezTo>
                <a:cubicBezTo>
                  <a:pt x="18611" y="14580"/>
                  <a:pt x="18572" y="14633"/>
                  <a:pt x="18542" y="14637"/>
                </a:cubicBezTo>
                <a:cubicBezTo>
                  <a:pt x="18493" y="14643"/>
                  <a:pt x="18453" y="14652"/>
                  <a:pt x="18447" y="14605"/>
                </a:cubicBezTo>
                <a:cubicBezTo>
                  <a:pt x="18447" y="14594"/>
                  <a:pt x="18447" y="14584"/>
                  <a:pt x="18447" y="14573"/>
                </a:cubicBezTo>
              </a:path>
              <a:path w="2985" h="3430">
                <a:moveTo>
                  <a:pt x="19304" y="13780"/>
                </a:moveTo>
                <a:lnTo>
                  <a:pt x="19304" y="13748"/>
                </a:lnTo>
                <a:lnTo>
                  <a:pt x="19272" y="13780"/>
                </a:lnTo>
                <a:lnTo>
                  <a:pt x="19240" y="13811"/>
                </a:lnTo>
                <a:lnTo>
                  <a:pt x="19209" y="13811"/>
                </a:lnTo>
                <a:lnTo>
                  <a:pt x="19177" y="13843"/>
                </a:lnTo>
                <a:lnTo>
                  <a:pt x="19145" y="13875"/>
                </a:lnTo>
                <a:lnTo>
                  <a:pt x="19114" y="13875"/>
                </a:lnTo>
                <a:lnTo>
                  <a:pt x="19082" y="13875"/>
                </a:lnTo>
                <a:lnTo>
                  <a:pt x="19050" y="13875"/>
                </a:lnTo>
                <a:lnTo>
                  <a:pt x="19018" y="13875"/>
                </a:lnTo>
                <a:lnTo>
                  <a:pt x="19018" y="13906"/>
                </a:lnTo>
                <a:lnTo>
                  <a:pt x="19018" y="13970"/>
                </a:lnTo>
                <a:lnTo>
                  <a:pt x="18986" y="14002"/>
                </a:lnTo>
                <a:lnTo>
                  <a:pt x="18986" y="14065"/>
                </a:lnTo>
                <a:lnTo>
                  <a:pt x="18986" y="14129"/>
                </a:lnTo>
                <a:lnTo>
                  <a:pt x="18955" y="14160"/>
                </a:lnTo>
                <a:lnTo>
                  <a:pt x="18955" y="14224"/>
                </a:lnTo>
                <a:lnTo>
                  <a:pt x="18955" y="14256"/>
                </a:lnTo>
                <a:lnTo>
                  <a:pt x="18955" y="14224"/>
                </a:lnTo>
                <a:lnTo>
                  <a:pt x="18986" y="14192"/>
                </a:lnTo>
                <a:lnTo>
                  <a:pt x="19018" y="14160"/>
                </a:lnTo>
                <a:lnTo>
                  <a:pt x="19050" y="14129"/>
                </a:lnTo>
                <a:lnTo>
                  <a:pt x="19082" y="14097"/>
                </a:lnTo>
                <a:lnTo>
                  <a:pt x="19114" y="14097"/>
                </a:lnTo>
                <a:lnTo>
                  <a:pt x="19145" y="14097"/>
                </a:lnTo>
                <a:lnTo>
                  <a:pt x="19177" y="14097"/>
                </a:lnTo>
                <a:lnTo>
                  <a:pt x="19209" y="14129"/>
                </a:lnTo>
                <a:lnTo>
                  <a:pt x="19240" y="14160"/>
                </a:lnTo>
                <a:lnTo>
                  <a:pt x="19240" y="14192"/>
                </a:lnTo>
                <a:lnTo>
                  <a:pt x="19240" y="14224"/>
                </a:lnTo>
                <a:lnTo>
                  <a:pt x="19272" y="14256"/>
                </a:lnTo>
                <a:lnTo>
                  <a:pt x="19240" y="14319"/>
                </a:lnTo>
                <a:lnTo>
                  <a:pt x="19240" y="14351"/>
                </a:lnTo>
                <a:lnTo>
                  <a:pt x="19209" y="14414"/>
                </a:lnTo>
                <a:lnTo>
                  <a:pt x="19145" y="14478"/>
                </a:lnTo>
                <a:lnTo>
                  <a:pt x="19082" y="14510"/>
                </a:lnTo>
                <a:lnTo>
                  <a:pt x="19050" y="14573"/>
                </a:lnTo>
                <a:lnTo>
                  <a:pt x="18986" y="14605"/>
                </a:lnTo>
              </a:path>
              <a:path w="2985" h="3430">
                <a:moveTo>
                  <a:pt x="16478" y="15240"/>
                </a:moveTo>
                <a:cubicBezTo>
                  <a:pt x="16498" y="15342"/>
                  <a:pt x="16484" y="15383"/>
                  <a:pt x="16478" y="15494"/>
                </a:cubicBezTo>
                <a:cubicBezTo>
                  <a:pt x="16473" y="15597"/>
                  <a:pt x="16460" y="15679"/>
                  <a:pt x="16446" y="15780"/>
                </a:cubicBezTo>
                <a:cubicBezTo>
                  <a:pt x="16431" y="15885"/>
                  <a:pt x="16420" y="15992"/>
                  <a:pt x="16415" y="16097"/>
                </a:cubicBezTo>
                <a:cubicBezTo>
                  <a:pt x="16414" y="16128"/>
                  <a:pt x="16415" y="16160"/>
                  <a:pt x="16415" y="16192"/>
                </a:cubicBezTo>
                <a:cubicBezTo>
                  <a:pt x="16441" y="16171"/>
                  <a:pt x="16481" y="16173"/>
                  <a:pt x="16510" y="16129"/>
                </a:cubicBezTo>
                <a:cubicBezTo>
                  <a:pt x="16557" y="16057"/>
                  <a:pt x="16598" y="15985"/>
                  <a:pt x="16637" y="15907"/>
                </a:cubicBezTo>
                <a:cubicBezTo>
                  <a:pt x="16681" y="15819"/>
                  <a:pt x="16701" y="15742"/>
                  <a:pt x="16732" y="15653"/>
                </a:cubicBezTo>
                <a:cubicBezTo>
                  <a:pt x="16744" y="15620"/>
                  <a:pt x="16745" y="15519"/>
                  <a:pt x="16764" y="15494"/>
                </a:cubicBezTo>
                <a:cubicBezTo>
                  <a:pt x="16775" y="15494"/>
                  <a:pt x="16785" y="15494"/>
                  <a:pt x="16796" y="15494"/>
                </a:cubicBezTo>
                <a:cubicBezTo>
                  <a:pt x="16790" y="15550"/>
                  <a:pt x="16771" y="15601"/>
                  <a:pt x="16764" y="15653"/>
                </a:cubicBezTo>
                <a:cubicBezTo>
                  <a:pt x="16746" y="15787"/>
                  <a:pt x="16782" y="15907"/>
                  <a:pt x="16796" y="16034"/>
                </a:cubicBezTo>
                <a:cubicBezTo>
                  <a:pt x="16819" y="16237"/>
                  <a:pt x="16783" y="16441"/>
                  <a:pt x="16764" y="16637"/>
                </a:cubicBezTo>
                <a:cubicBezTo>
                  <a:pt x="16751" y="16779"/>
                  <a:pt x="16732" y="16859"/>
                  <a:pt x="16669" y="16986"/>
                </a:cubicBezTo>
                <a:cubicBezTo>
                  <a:pt x="16629" y="17067"/>
                  <a:pt x="16557" y="17103"/>
                  <a:pt x="16478" y="17145"/>
                </a:cubicBezTo>
                <a:cubicBezTo>
                  <a:pt x="16409" y="17182"/>
                  <a:pt x="16389" y="17169"/>
                  <a:pt x="16320" y="17177"/>
                </a:cubicBezTo>
              </a:path>
              <a:path w="2985" h="3430">
                <a:moveTo>
                  <a:pt x="16954" y="15716"/>
                </a:moveTo>
                <a:cubicBezTo>
                  <a:pt x="17013" y="15716"/>
                  <a:pt x="17030" y="15690"/>
                  <a:pt x="17082" y="15684"/>
                </a:cubicBezTo>
                <a:cubicBezTo>
                  <a:pt x="17144" y="15677"/>
                  <a:pt x="17210" y="15684"/>
                  <a:pt x="17272" y="15684"/>
                </a:cubicBezTo>
              </a:path>
              <a:path w="2985" h="3430">
                <a:moveTo>
                  <a:pt x="17113" y="16161"/>
                </a:moveTo>
                <a:cubicBezTo>
                  <a:pt x="17171" y="16161"/>
                  <a:pt x="17189" y="16188"/>
                  <a:pt x="17240" y="16192"/>
                </a:cubicBezTo>
                <a:cubicBezTo>
                  <a:pt x="17293" y="16192"/>
                  <a:pt x="17304" y="16192"/>
                  <a:pt x="17336" y="16192"/>
                </a:cubicBezTo>
              </a:path>
              <a:path w="2985" h="3430">
                <a:moveTo>
                  <a:pt x="17685" y="15494"/>
                </a:moveTo>
                <a:cubicBezTo>
                  <a:pt x="17657" y="15485"/>
                  <a:pt x="17627" y="15444"/>
                  <a:pt x="17653" y="15399"/>
                </a:cubicBezTo>
                <a:cubicBezTo>
                  <a:pt x="17688" y="15337"/>
                  <a:pt x="17692" y="15296"/>
                  <a:pt x="17748" y="15240"/>
                </a:cubicBezTo>
                <a:cubicBezTo>
                  <a:pt x="17786" y="15202"/>
                  <a:pt x="17835" y="15165"/>
                  <a:pt x="17875" y="15145"/>
                </a:cubicBezTo>
                <a:cubicBezTo>
                  <a:pt x="17889" y="15226"/>
                  <a:pt x="17933" y="15194"/>
                  <a:pt x="17939" y="15272"/>
                </a:cubicBezTo>
                <a:cubicBezTo>
                  <a:pt x="17949" y="15407"/>
                  <a:pt x="17922" y="15525"/>
                  <a:pt x="17907" y="15653"/>
                </a:cubicBezTo>
                <a:cubicBezTo>
                  <a:pt x="17893" y="15774"/>
                  <a:pt x="17882" y="15888"/>
                  <a:pt x="17844" y="16002"/>
                </a:cubicBezTo>
                <a:cubicBezTo>
                  <a:pt x="17822" y="16069"/>
                  <a:pt x="17787" y="16155"/>
                  <a:pt x="17780" y="16224"/>
                </a:cubicBezTo>
                <a:cubicBezTo>
                  <a:pt x="17780" y="16260"/>
                  <a:pt x="17777" y="16274"/>
                  <a:pt x="17748" y="16288"/>
                </a:cubicBezTo>
                <a:cubicBezTo>
                  <a:pt x="17796" y="16272"/>
                  <a:pt x="17775" y="16256"/>
                  <a:pt x="17844" y="16256"/>
                </a:cubicBezTo>
                <a:cubicBezTo>
                  <a:pt x="17903" y="16256"/>
                  <a:pt x="17925" y="16248"/>
                  <a:pt x="17970" y="16288"/>
                </a:cubicBezTo>
                <a:cubicBezTo>
                  <a:pt x="17988" y="16304"/>
                  <a:pt x="18069" y="16412"/>
                  <a:pt x="18098" y="16383"/>
                </a:cubicBezTo>
                <a:cubicBezTo>
                  <a:pt x="18098" y="16372"/>
                  <a:pt x="18098" y="16362"/>
                  <a:pt x="18098" y="16351"/>
                </a:cubicBezTo>
              </a:path>
              <a:path w="2985" h="3430">
                <a:moveTo>
                  <a:pt x="18224" y="15272"/>
                </a:moveTo>
                <a:cubicBezTo>
                  <a:pt x="18282" y="15349"/>
                  <a:pt x="18240" y="15340"/>
                  <a:pt x="18224" y="15430"/>
                </a:cubicBezTo>
                <a:cubicBezTo>
                  <a:pt x="18209" y="15512"/>
                  <a:pt x="18215" y="15580"/>
                  <a:pt x="18193" y="15653"/>
                </a:cubicBezTo>
                <a:cubicBezTo>
                  <a:pt x="18193" y="15684"/>
                  <a:pt x="18193" y="15695"/>
                  <a:pt x="18193" y="15716"/>
                </a:cubicBezTo>
                <a:cubicBezTo>
                  <a:pt x="18234" y="15685"/>
                  <a:pt x="18282" y="15678"/>
                  <a:pt x="18320" y="15653"/>
                </a:cubicBezTo>
                <a:cubicBezTo>
                  <a:pt x="18379" y="15614"/>
                  <a:pt x="18372" y="15589"/>
                  <a:pt x="18447" y="15589"/>
                </a:cubicBezTo>
                <a:cubicBezTo>
                  <a:pt x="18512" y="15589"/>
                  <a:pt x="18515" y="15608"/>
                  <a:pt x="18542" y="15621"/>
                </a:cubicBezTo>
                <a:cubicBezTo>
                  <a:pt x="18574" y="15621"/>
                  <a:pt x="18585" y="15621"/>
                  <a:pt x="18606" y="15621"/>
                </a:cubicBezTo>
              </a:path>
              <a:path w="2985" h="3430">
                <a:moveTo>
                  <a:pt x="18606" y="14986"/>
                </a:moveTo>
                <a:cubicBezTo>
                  <a:pt x="18606" y="15152"/>
                  <a:pt x="18566" y="15337"/>
                  <a:pt x="18574" y="15494"/>
                </a:cubicBezTo>
                <a:cubicBezTo>
                  <a:pt x="18588" y="15775"/>
                  <a:pt x="18605" y="16071"/>
                  <a:pt x="18637" y="16351"/>
                </a:cubicBezTo>
                <a:cubicBezTo>
                  <a:pt x="18648" y="16415"/>
                  <a:pt x="18658" y="16478"/>
                  <a:pt x="18669" y="16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5"/>
          <p:cNvSpPr/>
          <p:nvPr/>
        </p:nvSpPr>
        <p:spPr>
          <a:xfrm>
            <a:off x="7464600" y="4457880"/>
            <a:ext cx="1268280" cy="1257120"/>
          </a:xfrm>
          <a:custGeom>
            <a:avLst/>
            <a:gdLst/>
            <a:ahLst/>
            <a:rect l="l" t="t" r="r" b="b"/>
            <a:pathLst>
              <a:path w="3525" h="3494">
                <a:moveTo>
                  <a:pt x="21590" y="12605"/>
                </a:moveTo>
                <a:cubicBezTo>
                  <a:pt x="21590" y="12569"/>
                  <a:pt x="21587" y="12555"/>
                  <a:pt x="21558" y="12541"/>
                </a:cubicBezTo>
                <a:cubicBezTo>
                  <a:pt x="21541" y="12558"/>
                  <a:pt x="21490" y="12598"/>
                  <a:pt x="21463" y="12636"/>
                </a:cubicBezTo>
                <a:cubicBezTo>
                  <a:pt x="21421" y="12695"/>
                  <a:pt x="21330" y="12799"/>
                  <a:pt x="21304" y="12859"/>
                </a:cubicBezTo>
                <a:cubicBezTo>
                  <a:pt x="21229" y="13032"/>
                  <a:pt x="21121" y="13182"/>
                  <a:pt x="21050" y="13367"/>
                </a:cubicBezTo>
                <a:cubicBezTo>
                  <a:pt x="20961" y="13598"/>
                  <a:pt x="20879" y="13824"/>
                  <a:pt x="20828" y="14065"/>
                </a:cubicBezTo>
                <a:cubicBezTo>
                  <a:pt x="20781" y="14291"/>
                  <a:pt x="20737" y="14502"/>
                  <a:pt x="20733" y="14732"/>
                </a:cubicBezTo>
                <a:cubicBezTo>
                  <a:pt x="20729" y="14965"/>
                  <a:pt x="20718" y="15202"/>
                  <a:pt x="20764" y="15430"/>
                </a:cubicBezTo>
                <a:cubicBezTo>
                  <a:pt x="20794" y="15576"/>
                  <a:pt x="20829" y="15699"/>
                  <a:pt x="20923" y="15812"/>
                </a:cubicBezTo>
                <a:cubicBezTo>
                  <a:pt x="20953" y="15848"/>
                  <a:pt x="20991" y="15855"/>
                  <a:pt x="21018" y="15875"/>
                </a:cubicBezTo>
              </a:path>
              <a:path w="3525" h="3494">
                <a:moveTo>
                  <a:pt x="21272" y="14192"/>
                </a:moveTo>
                <a:cubicBezTo>
                  <a:pt x="21272" y="14119"/>
                  <a:pt x="21292" y="14061"/>
                  <a:pt x="21304" y="14002"/>
                </a:cubicBezTo>
                <a:cubicBezTo>
                  <a:pt x="21323" y="13908"/>
                  <a:pt x="21351" y="13862"/>
                  <a:pt x="21400" y="13780"/>
                </a:cubicBezTo>
                <a:cubicBezTo>
                  <a:pt x="21439" y="13715"/>
                  <a:pt x="21453" y="13671"/>
                  <a:pt x="21526" y="13652"/>
                </a:cubicBezTo>
                <a:cubicBezTo>
                  <a:pt x="21570" y="13711"/>
                  <a:pt x="21604" y="13757"/>
                  <a:pt x="21590" y="13843"/>
                </a:cubicBezTo>
                <a:cubicBezTo>
                  <a:pt x="21572" y="13956"/>
                  <a:pt x="21530" y="14087"/>
                  <a:pt x="21495" y="14192"/>
                </a:cubicBezTo>
                <a:cubicBezTo>
                  <a:pt x="21467" y="14278"/>
                  <a:pt x="21417" y="14360"/>
                  <a:pt x="21400" y="14446"/>
                </a:cubicBezTo>
                <a:cubicBezTo>
                  <a:pt x="21414" y="14390"/>
                  <a:pt x="21452" y="14362"/>
                  <a:pt x="21495" y="14319"/>
                </a:cubicBezTo>
                <a:cubicBezTo>
                  <a:pt x="21520" y="14294"/>
                  <a:pt x="21582" y="14267"/>
                  <a:pt x="21622" y="14288"/>
                </a:cubicBezTo>
                <a:cubicBezTo>
                  <a:pt x="21672" y="14315"/>
                  <a:pt x="21722" y="14430"/>
                  <a:pt x="21717" y="14478"/>
                </a:cubicBezTo>
                <a:cubicBezTo>
                  <a:pt x="21704" y="14596"/>
                  <a:pt x="21658" y="14740"/>
                  <a:pt x="21622" y="14859"/>
                </a:cubicBezTo>
                <a:cubicBezTo>
                  <a:pt x="21590" y="14966"/>
                  <a:pt x="21551" y="15052"/>
                  <a:pt x="21495" y="15145"/>
                </a:cubicBezTo>
                <a:cubicBezTo>
                  <a:pt x="21459" y="15205"/>
                  <a:pt x="21419" y="15297"/>
                  <a:pt x="21336" y="15208"/>
                </a:cubicBezTo>
                <a:cubicBezTo>
                  <a:pt x="21300" y="15136"/>
                  <a:pt x="21286" y="15106"/>
                  <a:pt x="21272" y="15050"/>
                </a:cubicBezTo>
              </a:path>
              <a:path w="3525" h="3494">
                <a:moveTo>
                  <a:pt x="22162" y="13430"/>
                </a:moveTo>
                <a:cubicBezTo>
                  <a:pt x="22136" y="13466"/>
                  <a:pt x="22123" y="13511"/>
                  <a:pt x="22066" y="13526"/>
                </a:cubicBezTo>
                <a:cubicBezTo>
                  <a:pt x="21983" y="13548"/>
                  <a:pt x="21915" y="13501"/>
                  <a:pt x="21844" y="13557"/>
                </a:cubicBezTo>
                <a:cubicBezTo>
                  <a:pt x="21805" y="13588"/>
                  <a:pt x="21816" y="13584"/>
                  <a:pt x="21812" y="13652"/>
                </a:cubicBezTo>
                <a:cubicBezTo>
                  <a:pt x="21807" y="13738"/>
                  <a:pt x="21834" y="13797"/>
                  <a:pt x="21844" y="13875"/>
                </a:cubicBezTo>
                <a:cubicBezTo>
                  <a:pt x="21857" y="13971"/>
                  <a:pt x="21827" y="14048"/>
                  <a:pt x="21876" y="14129"/>
                </a:cubicBezTo>
                <a:cubicBezTo>
                  <a:pt x="21889" y="14151"/>
                  <a:pt x="21876" y="14125"/>
                  <a:pt x="21908" y="14065"/>
                </a:cubicBezTo>
                <a:cubicBezTo>
                  <a:pt x="21925" y="14033"/>
                  <a:pt x="21953" y="13952"/>
                  <a:pt x="22003" y="13938"/>
                </a:cubicBezTo>
                <a:cubicBezTo>
                  <a:pt x="22064" y="13920"/>
                  <a:pt x="22092" y="13964"/>
                  <a:pt x="22130" y="14002"/>
                </a:cubicBezTo>
                <a:cubicBezTo>
                  <a:pt x="22163" y="14035"/>
                  <a:pt x="22216" y="14173"/>
                  <a:pt x="22225" y="14224"/>
                </a:cubicBezTo>
                <a:cubicBezTo>
                  <a:pt x="22248" y="14354"/>
                  <a:pt x="22216" y="14511"/>
                  <a:pt x="22193" y="14637"/>
                </a:cubicBezTo>
                <a:cubicBezTo>
                  <a:pt x="22171" y="14759"/>
                  <a:pt x="22103" y="14917"/>
                  <a:pt x="22034" y="15018"/>
                </a:cubicBezTo>
                <a:cubicBezTo>
                  <a:pt x="21969" y="15113"/>
                  <a:pt x="21896" y="15201"/>
                  <a:pt x="21812" y="15272"/>
                </a:cubicBezTo>
                <a:cubicBezTo>
                  <a:pt x="21743" y="15330"/>
                  <a:pt x="21757" y="15269"/>
                  <a:pt x="21749" y="15208"/>
                </a:cubicBezTo>
              </a:path>
              <a:path w="3525" h="3494">
                <a:moveTo>
                  <a:pt x="22352" y="14732"/>
                </a:moveTo>
                <a:cubicBezTo>
                  <a:pt x="22372" y="14833"/>
                  <a:pt x="22409" y="14943"/>
                  <a:pt x="22416" y="15050"/>
                </a:cubicBezTo>
                <a:cubicBezTo>
                  <a:pt x="22429" y="15249"/>
                  <a:pt x="22416" y="15454"/>
                  <a:pt x="22416" y="15653"/>
                </a:cubicBezTo>
              </a:path>
              <a:path w="3525" h="3494">
                <a:moveTo>
                  <a:pt x="22638" y="13748"/>
                </a:moveTo>
                <a:cubicBezTo>
                  <a:pt x="22651" y="13684"/>
                  <a:pt x="22661" y="13606"/>
                  <a:pt x="22701" y="13557"/>
                </a:cubicBezTo>
                <a:cubicBezTo>
                  <a:pt x="22731" y="13520"/>
                  <a:pt x="22787" y="13476"/>
                  <a:pt x="22828" y="13462"/>
                </a:cubicBezTo>
                <a:cubicBezTo>
                  <a:pt x="22870" y="13448"/>
                  <a:pt x="22922" y="13500"/>
                  <a:pt x="22924" y="13526"/>
                </a:cubicBezTo>
                <a:cubicBezTo>
                  <a:pt x="22934" y="13660"/>
                  <a:pt x="22905" y="13776"/>
                  <a:pt x="22892" y="13906"/>
                </a:cubicBezTo>
                <a:cubicBezTo>
                  <a:pt x="22876" y="14070"/>
                  <a:pt x="22836" y="14222"/>
                  <a:pt x="22796" y="14383"/>
                </a:cubicBezTo>
                <a:cubicBezTo>
                  <a:pt x="22765" y="14507"/>
                  <a:pt x="22771" y="14645"/>
                  <a:pt x="22733" y="14764"/>
                </a:cubicBezTo>
                <a:cubicBezTo>
                  <a:pt x="22722" y="14785"/>
                  <a:pt x="22712" y="14806"/>
                  <a:pt x="22701" y="14827"/>
                </a:cubicBezTo>
                <a:cubicBezTo>
                  <a:pt x="22750" y="14792"/>
                  <a:pt x="22767" y="14796"/>
                  <a:pt x="22828" y="14796"/>
                </a:cubicBezTo>
                <a:cubicBezTo>
                  <a:pt x="22886" y="14796"/>
                  <a:pt x="22904" y="14821"/>
                  <a:pt x="22955" y="14827"/>
                </a:cubicBezTo>
                <a:cubicBezTo>
                  <a:pt x="23017" y="14834"/>
                  <a:pt x="22995" y="14874"/>
                  <a:pt x="23019" y="14827"/>
                </a:cubicBezTo>
              </a:path>
              <a:path w="3525" h="3494">
                <a:moveTo>
                  <a:pt x="23304" y="13526"/>
                </a:moveTo>
                <a:cubicBezTo>
                  <a:pt x="23380" y="13620"/>
                  <a:pt x="23368" y="13691"/>
                  <a:pt x="23368" y="13811"/>
                </a:cubicBezTo>
                <a:cubicBezTo>
                  <a:pt x="23368" y="13959"/>
                  <a:pt x="23368" y="14108"/>
                  <a:pt x="23368" y="14256"/>
                </a:cubicBezTo>
                <a:cubicBezTo>
                  <a:pt x="23378" y="14227"/>
                  <a:pt x="23422" y="14206"/>
                  <a:pt x="23463" y="14192"/>
                </a:cubicBezTo>
                <a:cubicBezTo>
                  <a:pt x="23561" y="14159"/>
                  <a:pt x="23662" y="14226"/>
                  <a:pt x="23749" y="14160"/>
                </a:cubicBezTo>
              </a:path>
              <a:path w="3525" h="3494">
                <a:moveTo>
                  <a:pt x="23622" y="13272"/>
                </a:moveTo>
                <a:cubicBezTo>
                  <a:pt x="23683" y="13373"/>
                  <a:pt x="23669" y="13501"/>
                  <a:pt x="23686" y="13621"/>
                </a:cubicBezTo>
                <a:cubicBezTo>
                  <a:pt x="23722" y="13874"/>
                  <a:pt x="23715" y="14130"/>
                  <a:pt x="23749" y="14383"/>
                </a:cubicBezTo>
                <a:cubicBezTo>
                  <a:pt x="23772" y="14553"/>
                  <a:pt x="23805" y="14720"/>
                  <a:pt x="23812" y="14891"/>
                </a:cubicBezTo>
                <a:cubicBezTo>
                  <a:pt x="23812" y="14944"/>
                  <a:pt x="23812" y="14975"/>
                  <a:pt x="23812" y="14922"/>
                </a:cubicBezTo>
              </a:path>
              <a:path w="3525" h="3494">
                <a:moveTo>
                  <a:pt x="23590" y="12382"/>
                </a:moveTo>
                <a:cubicBezTo>
                  <a:pt x="23705" y="12411"/>
                  <a:pt x="23681" y="12389"/>
                  <a:pt x="23781" y="12478"/>
                </a:cubicBezTo>
                <a:cubicBezTo>
                  <a:pt x="23943" y="12623"/>
                  <a:pt x="23987" y="12828"/>
                  <a:pt x="24066" y="13018"/>
                </a:cubicBezTo>
                <a:cubicBezTo>
                  <a:pt x="24164" y="13252"/>
                  <a:pt x="24238" y="13457"/>
                  <a:pt x="24257" y="13716"/>
                </a:cubicBezTo>
                <a:cubicBezTo>
                  <a:pt x="24281" y="14047"/>
                  <a:pt x="24272" y="14405"/>
                  <a:pt x="24225" y="14732"/>
                </a:cubicBezTo>
                <a:cubicBezTo>
                  <a:pt x="24197" y="14923"/>
                  <a:pt x="24162" y="15114"/>
                  <a:pt x="2413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6"/>
          <p:cNvSpPr/>
          <p:nvPr/>
        </p:nvSpPr>
        <p:spPr>
          <a:xfrm>
            <a:off x="2639880" y="3681360"/>
            <a:ext cx="4378320" cy="1793880"/>
          </a:xfrm>
          <a:custGeom>
            <a:avLst/>
            <a:gdLst/>
            <a:ahLst/>
            <a:rect l="l" t="t" r="r" b="b"/>
            <a:pathLst>
              <a:path w="12161" h="4985">
                <a:moveTo>
                  <a:pt x="7334" y="10255"/>
                </a:moveTo>
                <a:cubicBezTo>
                  <a:pt x="7334" y="10320"/>
                  <a:pt x="7357" y="10359"/>
                  <a:pt x="7398" y="10414"/>
                </a:cubicBezTo>
                <a:cubicBezTo>
                  <a:pt x="7457" y="10492"/>
                  <a:pt x="7530" y="10557"/>
                  <a:pt x="7588" y="10636"/>
                </a:cubicBezTo>
                <a:cubicBezTo>
                  <a:pt x="7666" y="10742"/>
                  <a:pt x="7749" y="10828"/>
                  <a:pt x="7842" y="10922"/>
                </a:cubicBezTo>
                <a:cubicBezTo>
                  <a:pt x="7888" y="10968"/>
                  <a:pt x="7948" y="11061"/>
                  <a:pt x="7969" y="11017"/>
                </a:cubicBezTo>
              </a:path>
              <a:path w="12161" h="4985">
                <a:moveTo>
                  <a:pt x="7906" y="10350"/>
                </a:moveTo>
                <a:cubicBezTo>
                  <a:pt x="7871" y="10374"/>
                  <a:pt x="7860" y="10428"/>
                  <a:pt x="7810" y="10478"/>
                </a:cubicBezTo>
                <a:cubicBezTo>
                  <a:pt x="7736" y="10552"/>
                  <a:pt x="7650" y="10647"/>
                  <a:pt x="7588" y="10732"/>
                </a:cubicBezTo>
                <a:cubicBezTo>
                  <a:pt x="7529" y="10813"/>
                  <a:pt x="7491" y="10880"/>
                  <a:pt x="7430" y="10954"/>
                </a:cubicBezTo>
                <a:cubicBezTo>
                  <a:pt x="7402" y="10988"/>
                  <a:pt x="7365" y="11018"/>
                  <a:pt x="7334" y="11049"/>
                </a:cubicBezTo>
              </a:path>
              <a:path w="12161" h="4985">
                <a:moveTo>
                  <a:pt x="8604" y="10446"/>
                </a:moveTo>
                <a:cubicBezTo>
                  <a:pt x="8604" y="10581"/>
                  <a:pt x="8591" y="10697"/>
                  <a:pt x="8572" y="10827"/>
                </a:cubicBezTo>
                <a:cubicBezTo>
                  <a:pt x="8562" y="10898"/>
                  <a:pt x="8572" y="10977"/>
                  <a:pt x="8572" y="11049"/>
                </a:cubicBezTo>
              </a:path>
              <a:path w="12161" h="4985">
                <a:moveTo>
                  <a:pt x="8350" y="10700"/>
                </a:moveTo>
                <a:cubicBezTo>
                  <a:pt x="8432" y="10700"/>
                  <a:pt x="8497" y="10722"/>
                  <a:pt x="8572" y="10732"/>
                </a:cubicBezTo>
                <a:cubicBezTo>
                  <a:pt x="8684" y="10747"/>
                  <a:pt x="8809" y="10732"/>
                  <a:pt x="8922" y="10732"/>
                </a:cubicBezTo>
              </a:path>
              <a:path w="12161" h="4985">
                <a:moveTo>
                  <a:pt x="9144" y="10287"/>
                </a:moveTo>
                <a:cubicBezTo>
                  <a:pt x="9144" y="10362"/>
                  <a:pt x="9153" y="10441"/>
                  <a:pt x="9176" y="10509"/>
                </a:cubicBezTo>
                <a:cubicBezTo>
                  <a:pt x="9217" y="10631"/>
                  <a:pt x="9298" y="10725"/>
                  <a:pt x="9366" y="10827"/>
                </a:cubicBezTo>
                <a:cubicBezTo>
                  <a:pt x="9425" y="10915"/>
                  <a:pt x="9415" y="10922"/>
                  <a:pt x="9525" y="10922"/>
                </a:cubicBezTo>
              </a:path>
              <a:path w="12161" h="4985">
                <a:moveTo>
                  <a:pt x="9811" y="10350"/>
                </a:moveTo>
                <a:cubicBezTo>
                  <a:pt x="9797" y="10420"/>
                  <a:pt x="9774" y="10504"/>
                  <a:pt x="9747" y="10573"/>
                </a:cubicBezTo>
                <a:cubicBezTo>
                  <a:pt x="9697" y="10698"/>
                  <a:pt x="9647" y="10836"/>
                  <a:pt x="9588" y="10954"/>
                </a:cubicBezTo>
                <a:cubicBezTo>
                  <a:pt x="9524" y="11082"/>
                  <a:pt x="9476" y="11198"/>
                  <a:pt x="9430" y="11335"/>
                </a:cubicBezTo>
                <a:cubicBezTo>
                  <a:pt x="9404" y="11414"/>
                  <a:pt x="9366" y="11475"/>
                  <a:pt x="9366" y="11557"/>
                </a:cubicBezTo>
                <a:cubicBezTo>
                  <a:pt x="9366" y="11568"/>
                  <a:pt x="9366" y="11578"/>
                  <a:pt x="9366" y="11589"/>
                </a:cubicBezTo>
              </a:path>
              <a:path w="12161" h="4985">
                <a:moveTo>
                  <a:pt x="10287" y="10541"/>
                </a:moveTo>
                <a:cubicBezTo>
                  <a:pt x="10400" y="10541"/>
                  <a:pt x="10500" y="10533"/>
                  <a:pt x="10604" y="10573"/>
                </a:cubicBezTo>
              </a:path>
              <a:path w="12161" h="4985">
                <a:moveTo>
                  <a:pt x="10287" y="10890"/>
                </a:moveTo>
                <a:cubicBezTo>
                  <a:pt x="10414" y="10890"/>
                  <a:pt x="10541" y="10890"/>
                  <a:pt x="10668" y="10890"/>
                </a:cubicBezTo>
              </a:path>
              <a:path w="12161" h="4985">
                <a:moveTo>
                  <a:pt x="11557" y="10382"/>
                </a:moveTo>
                <a:cubicBezTo>
                  <a:pt x="11510" y="10366"/>
                  <a:pt x="11471" y="10370"/>
                  <a:pt x="11398" y="10350"/>
                </a:cubicBezTo>
                <a:cubicBezTo>
                  <a:pt x="11311" y="10326"/>
                  <a:pt x="11236" y="10292"/>
                  <a:pt x="11144" y="10287"/>
                </a:cubicBezTo>
                <a:cubicBezTo>
                  <a:pt x="11102" y="10285"/>
                  <a:pt x="11059" y="10287"/>
                  <a:pt x="11017" y="10287"/>
                </a:cubicBezTo>
                <a:cubicBezTo>
                  <a:pt x="11017" y="10358"/>
                  <a:pt x="11005" y="10388"/>
                  <a:pt x="10986" y="10446"/>
                </a:cubicBezTo>
                <a:cubicBezTo>
                  <a:pt x="10971" y="10494"/>
                  <a:pt x="10954" y="10517"/>
                  <a:pt x="10954" y="10573"/>
                </a:cubicBezTo>
                <a:cubicBezTo>
                  <a:pt x="10954" y="10583"/>
                  <a:pt x="10954" y="10594"/>
                  <a:pt x="10954" y="10604"/>
                </a:cubicBezTo>
                <a:cubicBezTo>
                  <a:pt x="11013" y="10604"/>
                  <a:pt x="11035" y="10583"/>
                  <a:pt x="11081" y="10573"/>
                </a:cubicBezTo>
                <a:cubicBezTo>
                  <a:pt x="11177" y="10553"/>
                  <a:pt x="11279" y="10584"/>
                  <a:pt x="11366" y="10604"/>
                </a:cubicBezTo>
                <a:cubicBezTo>
                  <a:pt x="11430" y="10618"/>
                  <a:pt x="11533" y="10659"/>
                  <a:pt x="11557" y="10732"/>
                </a:cubicBezTo>
                <a:cubicBezTo>
                  <a:pt x="11579" y="10799"/>
                  <a:pt x="11589" y="10885"/>
                  <a:pt x="11557" y="10954"/>
                </a:cubicBezTo>
                <a:cubicBezTo>
                  <a:pt x="11532" y="11008"/>
                  <a:pt x="11458" y="11096"/>
                  <a:pt x="11398" y="11112"/>
                </a:cubicBezTo>
                <a:cubicBezTo>
                  <a:pt x="11310" y="11135"/>
                  <a:pt x="11252" y="11152"/>
                  <a:pt x="11176" y="11112"/>
                </a:cubicBezTo>
                <a:cubicBezTo>
                  <a:pt x="11129" y="11088"/>
                  <a:pt x="11041" y="11040"/>
                  <a:pt x="11017" y="10986"/>
                </a:cubicBezTo>
                <a:cubicBezTo>
                  <a:pt x="11017" y="10954"/>
                  <a:pt x="11017" y="10943"/>
                  <a:pt x="11017" y="10922"/>
                </a:cubicBezTo>
              </a:path>
              <a:path w="12161" h="4985">
                <a:moveTo>
                  <a:pt x="12192" y="10668"/>
                </a:moveTo>
                <a:cubicBezTo>
                  <a:pt x="12192" y="10565"/>
                  <a:pt x="12216" y="10440"/>
                  <a:pt x="12160" y="10350"/>
                </a:cubicBezTo>
                <a:cubicBezTo>
                  <a:pt x="12120" y="10285"/>
                  <a:pt x="12046" y="10229"/>
                  <a:pt x="11970" y="10224"/>
                </a:cubicBezTo>
                <a:cubicBezTo>
                  <a:pt x="11847" y="10216"/>
                  <a:pt x="11781" y="10304"/>
                  <a:pt x="11748" y="10414"/>
                </a:cubicBezTo>
                <a:cubicBezTo>
                  <a:pt x="11734" y="10459"/>
                  <a:pt x="11761" y="10568"/>
                  <a:pt x="11779" y="10604"/>
                </a:cubicBezTo>
                <a:cubicBezTo>
                  <a:pt x="11810" y="10665"/>
                  <a:pt x="11912" y="10690"/>
                  <a:pt x="11970" y="10700"/>
                </a:cubicBezTo>
                <a:cubicBezTo>
                  <a:pt x="12030" y="10710"/>
                  <a:pt x="12145" y="10665"/>
                  <a:pt x="12192" y="10636"/>
                </a:cubicBezTo>
                <a:cubicBezTo>
                  <a:pt x="12247" y="10603"/>
                  <a:pt x="12256" y="10567"/>
                  <a:pt x="12256" y="10509"/>
                </a:cubicBezTo>
                <a:cubicBezTo>
                  <a:pt x="12211" y="10583"/>
                  <a:pt x="12197" y="10639"/>
                  <a:pt x="12192" y="10732"/>
                </a:cubicBezTo>
                <a:cubicBezTo>
                  <a:pt x="12186" y="10842"/>
                  <a:pt x="12164" y="10940"/>
                  <a:pt x="12160" y="11049"/>
                </a:cubicBezTo>
                <a:cubicBezTo>
                  <a:pt x="12156" y="11165"/>
                  <a:pt x="12160" y="11282"/>
                  <a:pt x="12160" y="11398"/>
                </a:cubicBezTo>
              </a:path>
              <a:path w="12161" h="4985">
                <a:moveTo>
                  <a:pt x="7334" y="11240"/>
                </a:moveTo>
                <a:cubicBezTo>
                  <a:pt x="7349" y="11283"/>
                  <a:pt x="7367" y="11281"/>
                  <a:pt x="7398" y="11335"/>
                </a:cubicBezTo>
                <a:cubicBezTo>
                  <a:pt x="7446" y="11418"/>
                  <a:pt x="7500" y="11481"/>
                  <a:pt x="7556" y="11557"/>
                </a:cubicBezTo>
                <a:cubicBezTo>
                  <a:pt x="7636" y="11665"/>
                  <a:pt x="7686" y="11776"/>
                  <a:pt x="7779" y="11874"/>
                </a:cubicBezTo>
                <a:cubicBezTo>
                  <a:pt x="7849" y="11948"/>
                  <a:pt x="7943" y="12025"/>
                  <a:pt x="8001" y="12097"/>
                </a:cubicBezTo>
                <a:cubicBezTo>
                  <a:pt x="8032" y="12136"/>
                  <a:pt x="8064" y="12217"/>
                  <a:pt x="8064" y="12160"/>
                </a:cubicBezTo>
              </a:path>
              <a:path w="12161" h="4985">
                <a:moveTo>
                  <a:pt x="7906" y="11335"/>
                </a:moveTo>
                <a:cubicBezTo>
                  <a:pt x="7893" y="11400"/>
                  <a:pt x="7853" y="11472"/>
                  <a:pt x="7810" y="11525"/>
                </a:cubicBezTo>
                <a:cubicBezTo>
                  <a:pt x="7735" y="11616"/>
                  <a:pt x="7655" y="11714"/>
                  <a:pt x="7588" y="11811"/>
                </a:cubicBezTo>
                <a:cubicBezTo>
                  <a:pt x="7538" y="11883"/>
                  <a:pt x="7477" y="11924"/>
                  <a:pt x="7430" y="12002"/>
                </a:cubicBezTo>
                <a:cubicBezTo>
                  <a:pt x="7396" y="12059"/>
                  <a:pt x="7379" y="12090"/>
                  <a:pt x="7366" y="12128"/>
                </a:cubicBezTo>
              </a:path>
              <a:path w="12161" h="4985">
                <a:moveTo>
                  <a:pt x="8446" y="11716"/>
                </a:moveTo>
                <a:cubicBezTo>
                  <a:pt x="8551" y="11716"/>
                  <a:pt x="8629" y="11733"/>
                  <a:pt x="8731" y="11748"/>
                </a:cubicBezTo>
                <a:cubicBezTo>
                  <a:pt x="8816" y="11760"/>
                  <a:pt x="8902" y="11774"/>
                  <a:pt x="8985" y="11779"/>
                </a:cubicBezTo>
                <a:cubicBezTo>
                  <a:pt x="9027" y="11781"/>
                  <a:pt x="9070" y="11779"/>
                  <a:pt x="9112" y="11779"/>
                </a:cubicBezTo>
              </a:path>
              <a:path w="12161" h="4985">
                <a:moveTo>
                  <a:pt x="9398" y="11494"/>
                </a:moveTo>
                <a:cubicBezTo>
                  <a:pt x="9385" y="11543"/>
                  <a:pt x="9366" y="11563"/>
                  <a:pt x="9366" y="11620"/>
                </a:cubicBezTo>
                <a:cubicBezTo>
                  <a:pt x="9366" y="11717"/>
                  <a:pt x="9334" y="11803"/>
                  <a:pt x="9334" y="11906"/>
                </a:cubicBezTo>
                <a:cubicBezTo>
                  <a:pt x="9334" y="11951"/>
                  <a:pt x="9359" y="12073"/>
                  <a:pt x="9398" y="12097"/>
                </a:cubicBezTo>
                <a:cubicBezTo>
                  <a:pt x="9424" y="12113"/>
                  <a:pt x="9487" y="12141"/>
                  <a:pt x="9525" y="12128"/>
                </a:cubicBezTo>
                <a:cubicBezTo>
                  <a:pt x="9604" y="12100"/>
                  <a:pt x="9664" y="12076"/>
                  <a:pt x="9716" y="12002"/>
                </a:cubicBezTo>
                <a:cubicBezTo>
                  <a:pt x="9751" y="11952"/>
                  <a:pt x="9828" y="11839"/>
                  <a:pt x="9842" y="11779"/>
                </a:cubicBezTo>
                <a:cubicBezTo>
                  <a:pt x="9859" y="11707"/>
                  <a:pt x="9862" y="11679"/>
                  <a:pt x="9906" y="11620"/>
                </a:cubicBezTo>
                <a:cubicBezTo>
                  <a:pt x="9906" y="11547"/>
                  <a:pt x="9883" y="11686"/>
                  <a:pt x="9874" y="11716"/>
                </a:cubicBezTo>
                <a:cubicBezTo>
                  <a:pt x="9843" y="11818"/>
                  <a:pt x="9815" y="11926"/>
                  <a:pt x="9811" y="12033"/>
                </a:cubicBezTo>
                <a:cubicBezTo>
                  <a:pt x="9806" y="12165"/>
                  <a:pt x="9784" y="12285"/>
                  <a:pt x="9779" y="12414"/>
                </a:cubicBezTo>
                <a:cubicBezTo>
                  <a:pt x="9774" y="12539"/>
                  <a:pt x="9771" y="12616"/>
                  <a:pt x="9716" y="12732"/>
                </a:cubicBezTo>
                <a:cubicBezTo>
                  <a:pt x="9668" y="12834"/>
                  <a:pt x="9647" y="12828"/>
                  <a:pt x="9557" y="12859"/>
                </a:cubicBezTo>
                <a:cubicBezTo>
                  <a:pt x="9456" y="12894"/>
                  <a:pt x="9440" y="12867"/>
                  <a:pt x="9334" y="12859"/>
                </a:cubicBezTo>
                <a:cubicBezTo>
                  <a:pt x="9270" y="12854"/>
                  <a:pt x="9243" y="12819"/>
                  <a:pt x="9271" y="12795"/>
                </a:cubicBezTo>
                <a:cubicBezTo>
                  <a:pt x="9282" y="12785"/>
                  <a:pt x="9292" y="12774"/>
                  <a:pt x="9303" y="12764"/>
                </a:cubicBezTo>
              </a:path>
              <a:path w="12161" h="4985">
                <a:moveTo>
                  <a:pt x="10350" y="11811"/>
                </a:moveTo>
                <a:cubicBezTo>
                  <a:pt x="10425" y="11811"/>
                  <a:pt x="10472" y="11833"/>
                  <a:pt x="10541" y="11843"/>
                </a:cubicBezTo>
                <a:cubicBezTo>
                  <a:pt x="10638" y="11856"/>
                  <a:pt x="10704" y="11852"/>
                  <a:pt x="10795" y="11874"/>
                </a:cubicBezTo>
                <a:cubicBezTo>
                  <a:pt x="10827" y="11874"/>
                  <a:pt x="10837" y="11874"/>
                  <a:pt x="10858" y="11874"/>
                </a:cubicBezTo>
              </a:path>
              <a:path w="12161" h="4985">
                <a:moveTo>
                  <a:pt x="10446" y="12128"/>
                </a:moveTo>
                <a:cubicBezTo>
                  <a:pt x="10446" y="12139"/>
                  <a:pt x="10446" y="12149"/>
                  <a:pt x="10446" y="12160"/>
                </a:cubicBezTo>
                <a:cubicBezTo>
                  <a:pt x="10553" y="12160"/>
                  <a:pt x="10632" y="12169"/>
                  <a:pt x="10732" y="12192"/>
                </a:cubicBezTo>
                <a:cubicBezTo>
                  <a:pt x="10789" y="12205"/>
                  <a:pt x="10863" y="12192"/>
                  <a:pt x="10922" y="12192"/>
                </a:cubicBezTo>
              </a:path>
              <a:path w="12161" h="4985">
                <a:moveTo>
                  <a:pt x="11462" y="11462"/>
                </a:moveTo>
                <a:cubicBezTo>
                  <a:pt x="11462" y="11543"/>
                  <a:pt x="11433" y="11600"/>
                  <a:pt x="11430" y="11684"/>
                </a:cubicBezTo>
                <a:cubicBezTo>
                  <a:pt x="11425" y="11825"/>
                  <a:pt x="11398" y="11952"/>
                  <a:pt x="11398" y="12097"/>
                </a:cubicBezTo>
                <a:cubicBezTo>
                  <a:pt x="11398" y="12225"/>
                  <a:pt x="11403" y="12327"/>
                  <a:pt x="11430" y="12446"/>
                </a:cubicBezTo>
                <a:cubicBezTo>
                  <a:pt x="11430" y="12457"/>
                  <a:pt x="11430" y="12467"/>
                  <a:pt x="11430" y="12478"/>
                </a:cubicBezTo>
              </a:path>
              <a:path w="12161" h="4985">
                <a:moveTo>
                  <a:pt x="12002" y="11525"/>
                </a:moveTo>
                <a:cubicBezTo>
                  <a:pt x="11969" y="11542"/>
                  <a:pt x="12020" y="11597"/>
                  <a:pt x="12002" y="11684"/>
                </a:cubicBezTo>
                <a:cubicBezTo>
                  <a:pt x="11976" y="11815"/>
                  <a:pt x="11920" y="11960"/>
                  <a:pt x="11938" y="12097"/>
                </a:cubicBezTo>
                <a:cubicBezTo>
                  <a:pt x="11958" y="12247"/>
                  <a:pt x="11997" y="12387"/>
                  <a:pt x="12002" y="12541"/>
                </a:cubicBezTo>
                <a:cubicBezTo>
                  <a:pt x="12002" y="12626"/>
                  <a:pt x="12002" y="12647"/>
                  <a:pt x="12002" y="12700"/>
                </a:cubicBezTo>
              </a:path>
              <a:path w="12161" h="4985">
                <a:moveTo>
                  <a:pt x="12890" y="10573"/>
                </a:moveTo>
                <a:lnTo>
                  <a:pt x="12890" y="10573"/>
                </a:lnTo>
              </a:path>
              <a:path w="12161" h="4985">
                <a:moveTo>
                  <a:pt x="12890" y="10573"/>
                </a:moveTo>
                <a:lnTo>
                  <a:pt x="12890" y="10573"/>
                </a:lnTo>
              </a:path>
              <a:path w="12161" h="4985">
                <a:moveTo>
                  <a:pt x="12954" y="10573"/>
                </a:moveTo>
                <a:cubicBezTo>
                  <a:pt x="13002" y="10588"/>
                  <a:pt x="13028" y="10598"/>
                  <a:pt x="13081" y="10604"/>
                </a:cubicBezTo>
                <a:cubicBezTo>
                  <a:pt x="13177" y="10615"/>
                  <a:pt x="13244" y="10611"/>
                  <a:pt x="13335" y="10636"/>
                </a:cubicBezTo>
                <a:cubicBezTo>
                  <a:pt x="13448" y="10667"/>
                  <a:pt x="13571" y="10688"/>
                  <a:pt x="13684" y="10732"/>
                </a:cubicBezTo>
                <a:cubicBezTo>
                  <a:pt x="13779" y="10769"/>
                  <a:pt x="13892" y="10828"/>
                  <a:pt x="13970" y="10890"/>
                </a:cubicBezTo>
                <a:cubicBezTo>
                  <a:pt x="14072" y="10971"/>
                  <a:pt x="14141" y="11080"/>
                  <a:pt x="14224" y="11176"/>
                </a:cubicBezTo>
                <a:cubicBezTo>
                  <a:pt x="14321" y="11289"/>
                  <a:pt x="14375" y="11398"/>
                  <a:pt x="14446" y="11525"/>
                </a:cubicBezTo>
                <a:cubicBezTo>
                  <a:pt x="14524" y="11664"/>
                  <a:pt x="14559" y="11785"/>
                  <a:pt x="14605" y="11938"/>
                </a:cubicBezTo>
                <a:cubicBezTo>
                  <a:pt x="14649" y="12083"/>
                  <a:pt x="14685" y="12232"/>
                  <a:pt x="14700" y="12382"/>
                </a:cubicBezTo>
                <a:cubicBezTo>
                  <a:pt x="14726" y="12641"/>
                  <a:pt x="14700" y="12915"/>
                  <a:pt x="14700" y="13176"/>
                </a:cubicBezTo>
              </a:path>
              <a:path w="12161" h="4985">
                <a:moveTo>
                  <a:pt x="14414" y="12986"/>
                </a:moveTo>
                <a:cubicBezTo>
                  <a:pt x="14404" y="12986"/>
                  <a:pt x="14393" y="12986"/>
                  <a:pt x="14383" y="12986"/>
                </a:cubicBezTo>
                <a:cubicBezTo>
                  <a:pt x="14396" y="13039"/>
                  <a:pt x="14441" y="13103"/>
                  <a:pt x="14478" y="13144"/>
                </a:cubicBezTo>
                <a:cubicBezTo>
                  <a:pt x="14508" y="13178"/>
                  <a:pt x="14553" y="13257"/>
                  <a:pt x="14573" y="13303"/>
                </a:cubicBezTo>
                <a:cubicBezTo>
                  <a:pt x="14593" y="13349"/>
                  <a:pt x="14597" y="13374"/>
                  <a:pt x="14605" y="13430"/>
                </a:cubicBezTo>
                <a:cubicBezTo>
                  <a:pt x="14624" y="13417"/>
                  <a:pt x="14661" y="13350"/>
                  <a:pt x="14668" y="13335"/>
                </a:cubicBezTo>
                <a:cubicBezTo>
                  <a:pt x="14693" y="13283"/>
                  <a:pt x="14731" y="13230"/>
                  <a:pt x="14764" y="13176"/>
                </a:cubicBezTo>
                <a:cubicBezTo>
                  <a:pt x="14813" y="13096"/>
                  <a:pt x="14872" y="13064"/>
                  <a:pt x="14954" y="13018"/>
                </a:cubicBezTo>
              </a:path>
              <a:path w="12161" h="4985">
                <a:moveTo>
                  <a:pt x="15399" y="13113"/>
                </a:moveTo>
                <a:cubicBezTo>
                  <a:pt x="15345" y="13095"/>
                  <a:pt x="15360" y="13062"/>
                  <a:pt x="15399" y="13018"/>
                </a:cubicBezTo>
                <a:cubicBezTo>
                  <a:pt x="15420" y="12994"/>
                  <a:pt x="15495" y="12936"/>
                  <a:pt x="15526" y="12922"/>
                </a:cubicBezTo>
                <a:cubicBezTo>
                  <a:pt x="15554" y="12909"/>
                  <a:pt x="15644" y="12941"/>
                  <a:pt x="15653" y="12954"/>
                </a:cubicBezTo>
                <a:cubicBezTo>
                  <a:pt x="15685" y="13003"/>
                  <a:pt x="15638" y="13138"/>
                  <a:pt x="15621" y="13176"/>
                </a:cubicBezTo>
                <a:cubicBezTo>
                  <a:pt x="15585" y="13256"/>
                  <a:pt x="15566" y="13355"/>
                  <a:pt x="15526" y="13430"/>
                </a:cubicBezTo>
                <a:cubicBezTo>
                  <a:pt x="15504" y="13471"/>
                  <a:pt x="15448" y="13530"/>
                  <a:pt x="15462" y="13494"/>
                </a:cubicBezTo>
                <a:cubicBezTo>
                  <a:pt x="15487" y="13431"/>
                  <a:pt x="15516" y="13429"/>
                  <a:pt x="15558" y="13367"/>
                </a:cubicBezTo>
                <a:cubicBezTo>
                  <a:pt x="15601" y="13389"/>
                  <a:pt x="15642" y="13424"/>
                  <a:pt x="15684" y="13462"/>
                </a:cubicBezTo>
                <a:cubicBezTo>
                  <a:pt x="15731" y="13504"/>
                  <a:pt x="15743" y="13560"/>
                  <a:pt x="15748" y="13621"/>
                </a:cubicBezTo>
                <a:cubicBezTo>
                  <a:pt x="15756" y="13717"/>
                  <a:pt x="15729" y="13783"/>
                  <a:pt x="15716" y="13875"/>
                </a:cubicBezTo>
                <a:cubicBezTo>
                  <a:pt x="15705" y="13954"/>
                  <a:pt x="15678" y="14002"/>
                  <a:pt x="15621" y="14065"/>
                </a:cubicBezTo>
                <a:cubicBezTo>
                  <a:pt x="15579" y="14112"/>
                  <a:pt x="15523" y="14124"/>
                  <a:pt x="15462" y="14129"/>
                </a:cubicBezTo>
                <a:cubicBezTo>
                  <a:pt x="15401" y="14134"/>
                  <a:pt x="15362" y="14103"/>
                  <a:pt x="15304" y="14097"/>
                </a:cubicBezTo>
                <a:cubicBezTo>
                  <a:pt x="15263" y="14093"/>
                  <a:pt x="15247" y="14075"/>
                  <a:pt x="15208" y="14065"/>
                </a:cubicBezTo>
              </a:path>
              <a:path w="12161" h="4985">
                <a:moveTo>
                  <a:pt x="16288" y="12890"/>
                </a:moveTo>
                <a:cubicBezTo>
                  <a:pt x="16250" y="12903"/>
                  <a:pt x="16233" y="12944"/>
                  <a:pt x="16192" y="12986"/>
                </a:cubicBezTo>
                <a:cubicBezTo>
                  <a:pt x="16159" y="13019"/>
                  <a:pt x="16077" y="13064"/>
                  <a:pt x="16034" y="13081"/>
                </a:cubicBezTo>
                <a:cubicBezTo>
                  <a:pt x="15996" y="13096"/>
                  <a:pt x="15931" y="13065"/>
                  <a:pt x="15907" y="13049"/>
                </a:cubicBezTo>
                <a:cubicBezTo>
                  <a:pt x="15861" y="13019"/>
                  <a:pt x="15868" y="13018"/>
                  <a:pt x="15812" y="13018"/>
                </a:cubicBezTo>
                <a:cubicBezTo>
                  <a:pt x="15826" y="13089"/>
                  <a:pt x="15843" y="13133"/>
                  <a:pt x="15843" y="13208"/>
                </a:cubicBezTo>
                <a:cubicBezTo>
                  <a:pt x="15843" y="13284"/>
                  <a:pt x="15875" y="13345"/>
                  <a:pt x="15875" y="13430"/>
                </a:cubicBezTo>
                <a:cubicBezTo>
                  <a:pt x="15875" y="13462"/>
                  <a:pt x="15875" y="13494"/>
                  <a:pt x="15875" y="13526"/>
                </a:cubicBezTo>
                <a:cubicBezTo>
                  <a:pt x="15917" y="13512"/>
                  <a:pt x="15925" y="13426"/>
                  <a:pt x="15938" y="13367"/>
                </a:cubicBezTo>
                <a:cubicBezTo>
                  <a:pt x="15950" y="13315"/>
                  <a:pt x="15992" y="13292"/>
                  <a:pt x="16002" y="13272"/>
                </a:cubicBezTo>
                <a:cubicBezTo>
                  <a:pt x="16014" y="13249"/>
                  <a:pt x="16049" y="13213"/>
                  <a:pt x="16097" y="13240"/>
                </a:cubicBezTo>
                <a:cubicBezTo>
                  <a:pt x="16116" y="13251"/>
                  <a:pt x="16181" y="13345"/>
                  <a:pt x="16192" y="13367"/>
                </a:cubicBezTo>
                <a:cubicBezTo>
                  <a:pt x="16232" y="13452"/>
                  <a:pt x="16224" y="13531"/>
                  <a:pt x="16224" y="13621"/>
                </a:cubicBezTo>
                <a:cubicBezTo>
                  <a:pt x="16224" y="13707"/>
                  <a:pt x="16218" y="13796"/>
                  <a:pt x="16192" y="13875"/>
                </a:cubicBezTo>
                <a:cubicBezTo>
                  <a:pt x="16171" y="13939"/>
                  <a:pt x="16110" y="14016"/>
                  <a:pt x="16066" y="14065"/>
                </a:cubicBezTo>
                <a:cubicBezTo>
                  <a:pt x="16008" y="14129"/>
                  <a:pt x="15992" y="14129"/>
                  <a:pt x="15907" y="14129"/>
                </a:cubicBezTo>
                <a:cubicBezTo>
                  <a:pt x="15852" y="14129"/>
                  <a:pt x="15858" y="14142"/>
                  <a:pt x="15843" y="14097"/>
                </a:cubicBezTo>
              </a:path>
              <a:path w="12161" h="4985">
                <a:moveTo>
                  <a:pt x="16700" y="13018"/>
                </a:moveTo>
                <a:cubicBezTo>
                  <a:pt x="16700" y="13304"/>
                  <a:pt x="16700" y="13589"/>
                  <a:pt x="16700" y="13875"/>
                </a:cubicBezTo>
              </a:path>
              <a:path w="12161" h="4985">
                <a:moveTo>
                  <a:pt x="16510" y="13367"/>
                </a:moveTo>
                <a:cubicBezTo>
                  <a:pt x="16592" y="13367"/>
                  <a:pt x="16569" y="13420"/>
                  <a:pt x="16637" y="13430"/>
                </a:cubicBezTo>
                <a:cubicBezTo>
                  <a:pt x="16707" y="13440"/>
                  <a:pt x="16788" y="13430"/>
                  <a:pt x="16859" y="13430"/>
                </a:cubicBezTo>
              </a:path>
              <a:path w="12161" h="4985">
                <a:moveTo>
                  <a:pt x="17113" y="12954"/>
                </a:moveTo>
                <a:cubicBezTo>
                  <a:pt x="17113" y="13119"/>
                  <a:pt x="17123" y="13270"/>
                  <a:pt x="17145" y="13430"/>
                </a:cubicBezTo>
                <a:cubicBezTo>
                  <a:pt x="17157" y="13517"/>
                  <a:pt x="17140" y="13609"/>
                  <a:pt x="17177" y="13684"/>
                </a:cubicBezTo>
                <a:cubicBezTo>
                  <a:pt x="17205" y="13713"/>
                  <a:pt x="17211" y="13724"/>
                  <a:pt x="17240" y="13716"/>
                </a:cubicBezTo>
                <a:cubicBezTo>
                  <a:pt x="17289" y="13643"/>
                  <a:pt x="17299" y="13590"/>
                  <a:pt x="17304" y="13494"/>
                </a:cubicBezTo>
                <a:cubicBezTo>
                  <a:pt x="17310" y="13374"/>
                  <a:pt x="17336" y="13266"/>
                  <a:pt x="17336" y="13144"/>
                </a:cubicBezTo>
                <a:cubicBezTo>
                  <a:pt x="17336" y="13091"/>
                  <a:pt x="17336" y="13039"/>
                  <a:pt x="17336" y="12986"/>
                </a:cubicBezTo>
                <a:cubicBezTo>
                  <a:pt x="17355" y="13029"/>
                  <a:pt x="17388" y="13093"/>
                  <a:pt x="17399" y="13144"/>
                </a:cubicBezTo>
                <a:cubicBezTo>
                  <a:pt x="17426" y="13264"/>
                  <a:pt x="17409" y="13404"/>
                  <a:pt x="17431" y="13526"/>
                </a:cubicBezTo>
                <a:cubicBezTo>
                  <a:pt x="17460" y="13686"/>
                  <a:pt x="17489" y="13839"/>
                  <a:pt x="17494" y="14002"/>
                </a:cubicBezTo>
                <a:cubicBezTo>
                  <a:pt x="17498" y="14133"/>
                  <a:pt x="17526" y="14249"/>
                  <a:pt x="17526" y="14383"/>
                </a:cubicBezTo>
                <a:cubicBezTo>
                  <a:pt x="17526" y="14466"/>
                  <a:pt x="17529" y="14568"/>
                  <a:pt x="17494" y="14637"/>
                </a:cubicBezTo>
                <a:cubicBezTo>
                  <a:pt x="17469" y="14687"/>
                  <a:pt x="17390" y="14736"/>
                  <a:pt x="17336" y="14732"/>
                </a:cubicBezTo>
                <a:cubicBezTo>
                  <a:pt x="17268" y="14727"/>
                  <a:pt x="17197" y="14657"/>
                  <a:pt x="17145" y="14605"/>
                </a:cubicBezTo>
                <a:cubicBezTo>
                  <a:pt x="17071" y="14531"/>
                  <a:pt x="17062" y="14511"/>
                  <a:pt x="17050" y="14414"/>
                </a:cubicBezTo>
              </a:path>
              <a:path w="12161" h="4985">
                <a:moveTo>
                  <a:pt x="17716" y="13018"/>
                </a:moveTo>
                <a:cubicBezTo>
                  <a:pt x="17784" y="12950"/>
                  <a:pt x="17810" y="12954"/>
                  <a:pt x="17907" y="12954"/>
                </a:cubicBezTo>
                <a:cubicBezTo>
                  <a:pt x="17971" y="12954"/>
                  <a:pt x="17982" y="12969"/>
                  <a:pt x="18034" y="12986"/>
                </a:cubicBezTo>
                <a:cubicBezTo>
                  <a:pt x="18066" y="12986"/>
                  <a:pt x="18077" y="12986"/>
                  <a:pt x="18098" y="12986"/>
                </a:cubicBezTo>
              </a:path>
              <a:path w="12161" h="4985">
                <a:moveTo>
                  <a:pt x="17716" y="13462"/>
                </a:moveTo>
                <a:cubicBezTo>
                  <a:pt x="17716" y="13473"/>
                  <a:pt x="17716" y="13483"/>
                  <a:pt x="17716" y="13494"/>
                </a:cubicBezTo>
                <a:cubicBezTo>
                  <a:pt x="17828" y="13494"/>
                  <a:pt x="17931" y="13506"/>
                  <a:pt x="18034" y="13462"/>
                </a:cubicBezTo>
              </a:path>
              <a:path w="12161" h="4985">
                <a:moveTo>
                  <a:pt x="18986" y="12478"/>
                </a:moveTo>
                <a:cubicBezTo>
                  <a:pt x="18952" y="12490"/>
                  <a:pt x="18911" y="12507"/>
                  <a:pt x="18860" y="12541"/>
                </a:cubicBezTo>
                <a:cubicBezTo>
                  <a:pt x="18801" y="12580"/>
                  <a:pt x="18741" y="12599"/>
                  <a:pt x="18669" y="12605"/>
                </a:cubicBezTo>
                <a:cubicBezTo>
                  <a:pt x="18617" y="12609"/>
                  <a:pt x="18562" y="12605"/>
                  <a:pt x="18510" y="12605"/>
                </a:cubicBezTo>
                <a:cubicBezTo>
                  <a:pt x="18510" y="12675"/>
                  <a:pt x="18482" y="12724"/>
                  <a:pt x="18478" y="12795"/>
                </a:cubicBezTo>
                <a:cubicBezTo>
                  <a:pt x="18473" y="12887"/>
                  <a:pt x="18454" y="12961"/>
                  <a:pt x="18447" y="13049"/>
                </a:cubicBezTo>
                <a:cubicBezTo>
                  <a:pt x="18443" y="13100"/>
                  <a:pt x="18380" y="13192"/>
                  <a:pt x="18415" y="13144"/>
                </a:cubicBezTo>
                <a:cubicBezTo>
                  <a:pt x="18449" y="13097"/>
                  <a:pt x="18465" y="13063"/>
                  <a:pt x="18510" y="13018"/>
                </a:cubicBezTo>
                <a:cubicBezTo>
                  <a:pt x="18560" y="12968"/>
                  <a:pt x="18601" y="12954"/>
                  <a:pt x="18669" y="12954"/>
                </a:cubicBezTo>
                <a:cubicBezTo>
                  <a:pt x="18737" y="12954"/>
                  <a:pt x="18789" y="12989"/>
                  <a:pt x="18828" y="13049"/>
                </a:cubicBezTo>
                <a:cubicBezTo>
                  <a:pt x="18877" y="13124"/>
                  <a:pt x="18891" y="13185"/>
                  <a:pt x="18891" y="13272"/>
                </a:cubicBezTo>
                <a:cubicBezTo>
                  <a:pt x="18891" y="13381"/>
                  <a:pt x="18893" y="13464"/>
                  <a:pt x="18828" y="13557"/>
                </a:cubicBezTo>
                <a:cubicBezTo>
                  <a:pt x="18791" y="13610"/>
                  <a:pt x="18721" y="13652"/>
                  <a:pt x="18669" y="13684"/>
                </a:cubicBezTo>
                <a:cubicBezTo>
                  <a:pt x="18573" y="13742"/>
                  <a:pt x="18539" y="13707"/>
                  <a:pt x="18447" y="13684"/>
                </a:cubicBezTo>
                <a:cubicBezTo>
                  <a:pt x="18396" y="13671"/>
                  <a:pt x="18396" y="13672"/>
                  <a:pt x="18383" y="13621"/>
                </a:cubicBezTo>
              </a:path>
              <a:path w="12161" h="4985">
                <a:moveTo>
                  <a:pt x="19494" y="12668"/>
                </a:moveTo>
                <a:cubicBezTo>
                  <a:pt x="19466" y="12630"/>
                  <a:pt x="19449" y="12564"/>
                  <a:pt x="19399" y="12541"/>
                </a:cubicBezTo>
                <a:cubicBezTo>
                  <a:pt x="19352" y="12520"/>
                  <a:pt x="19288" y="12493"/>
                  <a:pt x="19240" y="12478"/>
                </a:cubicBezTo>
                <a:cubicBezTo>
                  <a:pt x="19187" y="12462"/>
                  <a:pt x="19165" y="12444"/>
                  <a:pt x="19114" y="12478"/>
                </a:cubicBezTo>
                <a:cubicBezTo>
                  <a:pt x="19084" y="12498"/>
                  <a:pt x="19025" y="12659"/>
                  <a:pt x="19018" y="12700"/>
                </a:cubicBezTo>
                <a:cubicBezTo>
                  <a:pt x="19004" y="12777"/>
                  <a:pt x="18986" y="13018"/>
                  <a:pt x="19050" y="13081"/>
                </a:cubicBezTo>
                <a:cubicBezTo>
                  <a:pt x="19107" y="13138"/>
                  <a:pt x="19153" y="13082"/>
                  <a:pt x="19209" y="13049"/>
                </a:cubicBezTo>
                <a:cubicBezTo>
                  <a:pt x="19300" y="12995"/>
                  <a:pt x="19320" y="12956"/>
                  <a:pt x="19368" y="12859"/>
                </a:cubicBezTo>
                <a:cubicBezTo>
                  <a:pt x="19399" y="12795"/>
                  <a:pt x="19409" y="12774"/>
                  <a:pt x="19431" y="12732"/>
                </a:cubicBezTo>
                <a:cubicBezTo>
                  <a:pt x="19431" y="12655"/>
                  <a:pt x="19462" y="12860"/>
                  <a:pt x="19463" y="12890"/>
                </a:cubicBezTo>
                <a:cubicBezTo>
                  <a:pt x="19476" y="13195"/>
                  <a:pt x="19400" y="13556"/>
                  <a:pt x="19494" y="13843"/>
                </a:cubicBezTo>
              </a:path>
              <a:path w="12161" h="4985">
                <a:moveTo>
                  <a:pt x="14827" y="14605"/>
                </a:moveTo>
                <a:cubicBezTo>
                  <a:pt x="14892" y="14605"/>
                  <a:pt x="14902" y="14591"/>
                  <a:pt x="14954" y="14573"/>
                </a:cubicBezTo>
                <a:cubicBezTo>
                  <a:pt x="14978" y="14565"/>
                  <a:pt x="15024" y="14573"/>
                  <a:pt x="15050" y="14573"/>
                </a:cubicBezTo>
              </a:path>
              <a:path w="12161" h="4985">
                <a:moveTo>
                  <a:pt x="15430" y="14478"/>
                </a:moveTo>
                <a:cubicBezTo>
                  <a:pt x="15480" y="14461"/>
                  <a:pt x="15464" y="14428"/>
                  <a:pt x="15494" y="14383"/>
                </a:cubicBezTo>
                <a:cubicBezTo>
                  <a:pt x="15525" y="14336"/>
                  <a:pt x="15573" y="14300"/>
                  <a:pt x="15621" y="14288"/>
                </a:cubicBezTo>
                <a:cubicBezTo>
                  <a:pt x="15658" y="14336"/>
                  <a:pt x="15653" y="14352"/>
                  <a:pt x="15653" y="14414"/>
                </a:cubicBezTo>
                <a:cubicBezTo>
                  <a:pt x="15653" y="14503"/>
                  <a:pt x="15610" y="14555"/>
                  <a:pt x="15589" y="14637"/>
                </a:cubicBezTo>
                <a:cubicBezTo>
                  <a:pt x="15570" y="14711"/>
                  <a:pt x="15561" y="14650"/>
                  <a:pt x="15589" y="14637"/>
                </a:cubicBezTo>
                <a:cubicBezTo>
                  <a:pt x="15645" y="14610"/>
                  <a:pt x="15664" y="14592"/>
                  <a:pt x="15716" y="14637"/>
                </a:cubicBezTo>
                <a:cubicBezTo>
                  <a:pt x="15756" y="14672"/>
                  <a:pt x="15766" y="14744"/>
                  <a:pt x="15748" y="14796"/>
                </a:cubicBezTo>
                <a:cubicBezTo>
                  <a:pt x="15722" y="14873"/>
                  <a:pt x="15716" y="14980"/>
                  <a:pt x="15684" y="15050"/>
                </a:cubicBezTo>
                <a:cubicBezTo>
                  <a:pt x="15660" y="15102"/>
                  <a:pt x="15613" y="15115"/>
                  <a:pt x="15589" y="15145"/>
                </a:cubicBezTo>
                <a:cubicBezTo>
                  <a:pt x="15535" y="15211"/>
                  <a:pt x="15512" y="15254"/>
                  <a:pt x="15494" y="15145"/>
                </a:cubicBezTo>
              </a:path>
              <a:path w="12161" h="4985">
                <a:moveTo>
                  <a:pt x="16097" y="14288"/>
                </a:moveTo>
                <a:cubicBezTo>
                  <a:pt x="16108" y="14277"/>
                  <a:pt x="16118" y="14267"/>
                  <a:pt x="16129" y="14256"/>
                </a:cubicBezTo>
                <a:cubicBezTo>
                  <a:pt x="16087" y="14288"/>
                  <a:pt x="16072" y="14314"/>
                  <a:pt x="16034" y="14319"/>
                </a:cubicBezTo>
                <a:cubicBezTo>
                  <a:pt x="15982" y="14325"/>
                  <a:pt x="15965" y="14351"/>
                  <a:pt x="15907" y="14351"/>
                </a:cubicBezTo>
                <a:cubicBezTo>
                  <a:pt x="15873" y="14351"/>
                  <a:pt x="15847" y="14383"/>
                  <a:pt x="15843" y="14414"/>
                </a:cubicBezTo>
                <a:cubicBezTo>
                  <a:pt x="15837" y="14460"/>
                  <a:pt x="15875" y="14488"/>
                  <a:pt x="15875" y="14542"/>
                </a:cubicBezTo>
                <a:cubicBezTo>
                  <a:pt x="15875" y="14557"/>
                  <a:pt x="15875" y="14690"/>
                  <a:pt x="15875" y="14605"/>
                </a:cubicBezTo>
                <a:cubicBezTo>
                  <a:pt x="15875" y="14589"/>
                  <a:pt x="15911" y="14524"/>
                  <a:pt x="15938" y="14510"/>
                </a:cubicBezTo>
                <a:cubicBezTo>
                  <a:pt x="15994" y="14482"/>
                  <a:pt x="16022" y="14536"/>
                  <a:pt x="16034" y="14542"/>
                </a:cubicBezTo>
                <a:cubicBezTo>
                  <a:pt x="16077" y="14564"/>
                  <a:pt x="16074" y="14583"/>
                  <a:pt x="16097" y="14637"/>
                </a:cubicBezTo>
                <a:cubicBezTo>
                  <a:pt x="16132" y="14719"/>
                  <a:pt x="16129" y="14768"/>
                  <a:pt x="16129" y="14859"/>
                </a:cubicBezTo>
                <a:cubicBezTo>
                  <a:pt x="16129" y="14934"/>
                  <a:pt x="16106" y="15048"/>
                  <a:pt x="16066" y="15113"/>
                </a:cubicBezTo>
                <a:cubicBezTo>
                  <a:pt x="16053" y="15134"/>
                  <a:pt x="15960" y="15173"/>
                  <a:pt x="15938" y="15145"/>
                </a:cubicBezTo>
                <a:cubicBezTo>
                  <a:pt x="15938" y="15134"/>
                  <a:pt x="15938" y="15124"/>
                  <a:pt x="15938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7"/>
          <p:cNvSpPr/>
          <p:nvPr/>
        </p:nvSpPr>
        <p:spPr>
          <a:xfrm>
            <a:off x="2217600" y="4400640"/>
            <a:ext cx="2606760" cy="239760"/>
          </a:xfrm>
          <a:custGeom>
            <a:avLst/>
            <a:gdLst/>
            <a:ahLst/>
            <a:rect l="l" t="t" r="r" b="b"/>
            <a:pathLst>
              <a:path w="7239" h="667">
                <a:moveTo>
                  <a:pt x="6160" y="12224"/>
                </a:moveTo>
                <a:cubicBezTo>
                  <a:pt x="6235" y="12228"/>
                  <a:pt x="6325" y="12251"/>
                  <a:pt x="6382" y="12256"/>
                </a:cubicBezTo>
                <a:cubicBezTo>
                  <a:pt x="6487" y="12265"/>
                  <a:pt x="6602" y="12279"/>
                  <a:pt x="6699" y="12287"/>
                </a:cubicBezTo>
                <a:cubicBezTo>
                  <a:pt x="6798" y="12295"/>
                  <a:pt x="6888" y="12303"/>
                  <a:pt x="6985" y="12319"/>
                </a:cubicBezTo>
                <a:cubicBezTo>
                  <a:pt x="7107" y="12339"/>
                  <a:pt x="7243" y="12371"/>
                  <a:pt x="7366" y="12382"/>
                </a:cubicBezTo>
                <a:cubicBezTo>
                  <a:pt x="7516" y="12395"/>
                  <a:pt x="7661" y="12435"/>
                  <a:pt x="7810" y="12446"/>
                </a:cubicBezTo>
                <a:cubicBezTo>
                  <a:pt x="7961" y="12457"/>
                  <a:pt x="8106" y="12455"/>
                  <a:pt x="8255" y="12478"/>
                </a:cubicBezTo>
                <a:cubicBezTo>
                  <a:pt x="8456" y="12509"/>
                  <a:pt x="8656" y="12517"/>
                  <a:pt x="8858" y="12541"/>
                </a:cubicBezTo>
                <a:cubicBezTo>
                  <a:pt x="9017" y="12560"/>
                  <a:pt x="9170" y="12600"/>
                  <a:pt x="9334" y="12605"/>
                </a:cubicBezTo>
                <a:cubicBezTo>
                  <a:pt x="9497" y="12610"/>
                  <a:pt x="9649" y="12654"/>
                  <a:pt x="9811" y="12668"/>
                </a:cubicBezTo>
                <a:cubicBezTo>
                  <a:pt x="9980" y="12682"/>
                  <a:pt x="10151" y="12695"/>
                  <a:pt x="10319" y="12700"/>
                </a:cubicBezTo>
                <a:cubicBezTo>
                  <a:pt x="10545" y="12706"/>
                  <a:pt x="10764" y="12713"/>
                  <a:pt x="10986" y="12732"/>
                </a:cubicBezTo>
                <a:cubicBezTo>
                  <a:pt x="11192" y="12749"/>
                  <a:pt x="11389" y="12711"/>
                  <a:pt x="11589" y="12700"/>
                </a:cubicBezTo>
                <a:cubicBezTo>
                  <a:pt x="11738" y="12692"/>
                  <a:pt x="11887" y="12677"/>
                  <a:pt x="12033" y="12668"/>
                </a:cubicBezTo>
                <a:cubicBezTo>
                  <a:pt x="12237" y="12655"/>
                  <a:pt x="12439" y="12672"/>
                  <a:pt x="12636" y="12700"/>
                </a:cubicBezTo>
                <a:cubicBezTo>
                  <a:pt x="12756" y="12717"/>
                  <a:pt x="12871" y="12742"/>
                  <a:pt x="12986" y="12764"/>
                </a:cubicBezTo>
                <a:cubicBezTo>
                  <a:pt x="13097" y="12785"/>
                  <a:pt x="13164" y="12824"/>
                  <a:pt x="13272" y="12859"/>
                </a:cubicBezTo>
                <a:cubicBezTo>
                  <a:pt x="13315" y="12873"/>
                  <a:pt x="13354" y="12876"/>
                  <a:pt x="13398" y="12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8"/>
          <p:cNvSpPr/>
          <p:nvPr/>
        </p:nvSpPr>
        <p:spPr>
          <a:xfrm>
            <a:off x="2422440" y="5292720"/>
            <a:ext cx="1635120" cy="811080"/>
          </a:xfrm>
          <a:custGeom>
            <a:avLst/>
            <a:gdLst/>
            <a:ahLst/>
            <a:rect l="l" t="t" r="r" b="b"/>
            <a:pathLst>
              <a:path w="4541" h="2255">
                <a:moveTo>
                  <a:pt x="8096" y="14700"/>
                </a:moveTo>
                <a:cubicBezTo>
                  <a:pt x="8074" y="14765"/>
                  <a:pt x="8034" y="14710"/>
                  <a:pt x="7969" y="14732"/>
                </a:cubicBezTo>
                <a:cubicBezTo>
                  <a:pt x="7875" y="14764"/>
                  <a:pt x="7780" y="14772"/>
                  <a:pt x="7684" y="14796"/>
                </a:cubicBezTo>
                <a:cubicBezTo>
                  <a:pt x="7508" y="14839"/>
                  <a:pt x="7267" y="14898"/>
                  <a:pt x="7112" y="14986"/>
                </a:cubicBezTo>
                <a:cubicBezTo>
                  <a:pt x="7000" y="15050"/>
                  <a:pt x="6917" y="15117"/>
                  <a:pt x="6826" y="15208"/>
                </a:cubicBezTo>
                <a:cubicBezTo>
                  <a:pt x="6784" y="15250"/>
                  <a:pt x="6770" y="15291"/>
                  <a:pt x="6731" y="15304"/>
                </a:cubicBezTo>
              </a:path>
              <a:path w="4541" h="2255">
                <a:moveTo>
                  <a:pt x="7366" y="14891"/>
                </a:moveTo>
                <a:cubicBezTo>
                  <a:pt x="7403" y="14898"/>
                  <a:pt x="7493" y="14904"/>
                  <a:pt x="7525" y="14922"/>
                </a:cubicBezTo>
                <a:cubicBezTo>
                  <a:pt x="7577" y="14951"/>
                  <a:pt x="7629" y="14949"/>
                  <a:pt x="7684" y="14986"/>
                </a:cubicBezTo>
                <a:cubicBezTo>
                  <a:pt x="7748" y="15029"/>
                  <a:pt x="7710" y="15062"/>
                  <a:pt x="7684" y="15081"/>
                </a:cubicBezTo>
                <a:cubicBezTo>
                  <a:pt x="7631" y="15121"/>
                  <a:pt x="7649" y="15196"/>
                  <a:pt x="7588" y="15240"/>
                </a:cubicBezTo>
                <a:cubicBezTo>
                  <a:pt x="7542" y="15273"/>
                  <a:pt x="7456" y="15308"/>
                  <a:pt x="7430" y="15367"/>
                </a:cubicBezTo>
                <a:cubicBezTo>
                  <a:pt x="7413" y="15405"/>
                  <a:pt x="7367" y="15462"/>
                  <a:pt x="7430" y="15494"/>
                </a:cubicBezTo>
                <a:cubicBezTo>
                  <a:pt x="7499" y="15529"/>
                  <a:pt x="7631" y="15480"/>
                  <a:pt x="7684" y="15462"/>
                </a:cubicBezTo>
                <a:cubicBezTo>
                  <a:pt x="7715" y="15462"/>
                  <a:pt x="7726" y="15462"/>
                  <a:pt x="7747" y="15462"/>
                </a:cubicBezTo>
              </a:path>
              <a:path w="4541" h="2255">
                <a:moveTo>
                  <a:pt x="11271" y="14827"/>
                </a:moveTo>
                <a:cubicBezTo>
                  <a:pt x="11254" y="14879"/>
                  <a:pt x="11203" y="14868"/>
                  <a:pt x="11144" y="14891"/>
                </a:cubicBezTo>
                <a:cubicBezTo>
                  <a:pt x="11047" y="14929"/>
                  <a:pt x="10954" y="14953"/>
                  <a:pt x="10858" y="14986"/>
                </a:cubicBezTo>
                <a:cubicBezTo>
                  <a:pt x="10741" y="15027"/>
                  <a:pt x="10626" y="15072"/>
                  <a:pt x="10509" y="15113"/>
                </a:cubicBezTo>
                <a:cubicBezTo>
                  <a:pt x="10386" y="15156"/>
                  <a:pt x="10355" y="15275"/>
                  <a:pt x="10224" y="15304"/>
                </a:cubicBezTo>
                <a:cubicBezTo>
                  <a:pt x="10158" y="15304"/>
                  <a:pt x="10134" y="15305"/>
                  <a:pt x="10096" y="15335"/>
                </a:cubicBezTo>
              </a:path>
              <a:path w="4541" h="2255">
                <a:moveTo>
                  <a:pt x="10604" y="15208"/>
                </a:moveTo>
                <a:cubicBezTo>
                  <a:pt x="10671" y="15175"/>
                  <a:pt x="10667" y="15145"/>
                  <a:pt x="10763" y="15145"/>
                </a:cubicBezTo>
                <a:cubicBezTo>
                  <a:pt x="10818" y="15145"/>
                  <a:pt x="10916" y="15159"/>
                  <a:pt x="10890" y="15208"/>
                </a:cubicBezTo>
                <a:cubicBezTo>
                  <a:pt x="10888" y="15212"/>
                  <a:pt x="10782" y="15285"/>
                  <a:pt x="10763" y="15304"/>
                </a:cubicBezTo>
                <a:cubicBezTo>
                  <a:pt x="10699" y="15368"/>
                  <a:pt x="10594" y="15441"/>
                  <a:pt x="10573" y="15526"/>
                </a:cubicBezTo>
                <a:cubicBezTo>
                  <a:pt x="10628" y="15568"/>
                  <a:pt x="10659" y="15583"/>
                  <a:pt x="10732" y="15589"/>
                </a:cubicBezTo>
                <a:cubicBezTo>
                  <a:pt x="10799" y="15594"/>
                  <a:pt x="10831" y="15646"/>
                  <a:pt x="10890" y="15653"/>
                </a:cubicBezTo>
                <a:cubicBezTo>
                  <a:pt x="10901" y="15653"/>
                  <a:pt x="10911" y="15653"/>
                  <a:pt x="10922" y="15653"/>
                </a:cubicBezTo>
              </a:path>
              <a:path w="4541" h="2255">
                <a:moveTo>
                  <a:pt x="8223" y="15716"/>
                </a:moveTo>
                <a:cubicBezTo>
                  <a:pt x="8250" y="15663"/>
                  <a:pt x="8252" y="15740"/>
                  <a:pt x="8287" y="15780"/>
                </a:cubicBezTo>
                <a:cubicBezTo>
                  <a:pt x="8340" y="15841"/>
                  <a:pt x="8325" y="15928"/>
                  <a:pt x="8350" y="16002"/>
                </a:cubicBezTo>
                <a:cubicBezTo>
                  <a:pt x="8385" y="16106"/>
                  <a:pt x="8413" y="16212"/>
                  <a:pt x="8446" y="16320"/>
                </a:cubicBezTo>
                <a:cubicBezTo>
                  <a:pt x="8481" y="16434"/>
                  <a:pt x="8553" y="16585"/>
                  <a:pt x="8572" y="16700"/>
                </a:cubicBezTo>
                <a:cubicBezTo>
                  <a:pt x="8572" y="16779"/>
                  <a:pt x="8560" y="16799"/>
                  <a:pt x="8604" y="16828"/>
                </a:cubicBezTo>
              </a:path>
              <a:path w="4541" h="2255">
                <a:moveTo>
                  <a:pt x="8572" y="15812"/>
                </a:moveTo>
                <a:cubicBezTo>
                  <a:pt x="8557" y="15874"/>
                  <a:pt x="8508" y="15938"/>
                  <a:pt x="8477" y="16002"/>
                </a:cubicBezTo>
                <a:cubicBezTo>
                  <a:pt x="8424" y="16109"/>
                  <a:pt x="8354" y="16162"/>
                  <a:pt x="8287" y="16256"/>
                </a:cubicBezTo>
                <a:cubicBezTo>
                  <a:pt x="8222" y="16346"/>
                  <a:pt x="8130" y="16401"/>
                  <a:pt x="8064" y="16478"/>
                </a:cubicBezTo>
                <a:cubicBezTo>
                  <a:pt x="8021" y="16529"/>
                  <a:pt x="7988" y="16587"/>
                  <a:pt x="7938" y="16637"/>
                </a:cubicBezTo>
              </a:path>
              <a:path w="4541" h="2255">
                <a:moveTo>
                  <a:pt x="8858" y="16129"/>
                </a:moveTo>
                <a:cubicBezTo>
                  <a:pt x="8899" y="16067"/>
                  <a:pt x="8972" y="16100"/>
                  <a:pt x="9049" y="16129"/>
                </a:cubicBezTo>
              </a:path>
              <a:path w="4541" h="2255">
                <a:moveTo>
                  <a:pt x="8795" y="16383"/>
                </a:moveTo>
                <a:cubicBezTo>
                  <a:pt x="8869" y="16383"/>
                  <a:pt x="8943" y="16383"/>
                  <a:pt x="9017" y="16383"/>
                </a:cubicBezTo>
              </a:path>
              <a:path w="4541" h="2255">
                <a:moveTo>
                  <a:pt x="9462" y="15843"/>
                </a:moveTo>
                <a:cubicBezTo>
                  <a:pt x="9507" y="15798"/>
                  <a:pt x="9542" y="15783"/>
                  <a:pt x="9588" y="15748"/>
                </a:cubicBezTo>
                <a:cubicBezTo>
                  <a:pt x="9601" y="15787"/>
                  <a:pt x="9655" y="15806"/>
                  <a:pt x="9684" y="15843"/>
                </a:cubicBezTo>
                <a:cubicBezTo>
                  <a:pt x="9721" y="15890"/>
                  <a:pt x="9772" y="15910"/>
                  <a:pt x="9779" y="15970"/>
                </a:cubicBezTo>
                <a:cubicBezTo>
                  <a:pt x="9786" y="16036"/>
                  <a:pt x="9761" y="16052"/>
                  <a:pt x="9716" y="16097"/>
                </a:cubicBezTo>
                <a:cubicBezTo>
                  <a:pt x="9654" y="16159"/>
                  <a:pt x="9646" y="16161"/>
                  <a:pt x="9557" y="16161"/>
                </a:cubicBezTo>
                <a:cubicBezTo>
                  <a:pt x="9508" y="16161"/>
                  <a:pt x="9455" y="16134"/>
                  <a:pt x="9493" y="16161"/>
                </a:cubicBezTo>
                <a:cubicBezTo>
                  <a:pt x="9544" y="16196"/>
                  <a:pt x="9621" y="16186"/>
                  <a:pt x="9652" y="16256"/>
                </a:cubicBezTo>
                <a:cubicBezTo>
                  <a:pt x="9671" y="16299"/>
                  <a:pt x="9707" y="16372"/>
                  <a:pt x="9716" y="16415"/>
                </a:cubicBezTo>
                <a:cubicBezTo>
                  <a:pt x="9735" y="16508"/>
                  <a:pt x="9704" y="16586"/>
                  <a:pt x="9684" y="16669"/>
                </a:cubicBezTo>
                <a:cubicBezTo>
                  <a:pt x="9673" y="16717"/>
                  <a:pt x="9674" y="16833"/>
                  <a:pt x="9620" y="16859"/>
                </a:cubicBezTo>
                <a:cubicBezTo>
                  <a:pt x="9589" y="16874"/>
                  <a:pt x="9535" y="16906"/>
                  <a:pt x="9493" y="16891"/>
                </a:cubicBezTo>
                <a:cubicBezTo>
                  <a:pt x="9449" y="16875"/>
                  <a:pt x="9368" y="16851"/>
                  <a:pt x="9334" y="16828"/>
                </a:cubicBezTo>
                <a:cubicBezTo>
                  <a:pt x="9287" y="16796"/>
                  <a:pt x="9253" y="16806"/>
                  <a:pt x="9239" y="16764"/>
                </a:cubicBezTo>
              </a:path>
              <a:path w="4541" h="2255">
                <a:moveTo>
                  <a:pt x="10319" y="16066"/>
                </a:moveTo>
                <a:cubicBezTo>
                  <a:pt x="10296" y="15997"/>
                  <a:pt x="10279" y="16065"/>
                  <a:pt x="10224" y="16034"/>
                </a:cubicBezTo>
                <a:cubicBezTo>
                  <a:pt x="10178" y="16008"/>
                  <a:pt x="10150" y="15976"/>
                  <a:pt x="10096" y="15970"/>
                </a:cubicBezTo>
                <a:cubicBezTo>
                  <a:pt x="10045" y="15964"/>
                  <a:pt x="9993" y="15982"/>
                  <a:pt x="9970" y="16034"/>
                </a:cubicBezTo>
                <a:cubicBezTo>
                  <a:pt x="9950" y="16081"/>
                  <a:pt x="9933" y="16115"/>
                  <a:pt x="9906" y="16161"/>
                </a:cubicBezTo>
                <a:cubicBezTo>
                  <a:pt x="9885" y="16197"/>
                  <a:pt x="9848" y="16277"/>
                  <a:pt x="9842" y="16288"/>
                </a:cubicBezTo>
                <a:cubicBezTo>
                  <a:pt x="9842" y="16299"/>
                  <a:pt x="9842" y="16309"/>
                  <a:pt x="9842" y="16320"/>
                </a:cubicBezTo>
                <a:cubicBezTo>
                  <a:pt x="9891" y="16356"/>
                  <a:pt x="9920" y="16354"/>
                  <a:pt x="9970" y="16320"/>
                </a:cubicBezTo>
                <a:cubicBezTo>
                  <a:pt x="10028" y="16281"/>
                  <a:pt x="10055" y="16256"/>
                  <a:pt x="10128" y="16256"/>
                </a:cubicBezTo>
                <a:cubicBezTo>
                  <a:pt x="10183" y="16256"/>
                  <a:pt x="10205" y="16263"/>
                  <a:pt x="10224" y="16320"/>
                </a:cubicBezTo>
                <a:cubicBezTo>
                  <a:pt x="10253" y="16405"/>
                  <a:pt x="10237" y="16488"/>
                  <a:pt x="10255" y="16574"/>
                </a:cubicBezTo>
                <a:cubicBezTo>
                  <a:pt x="10276" y="16674"/>
                  <a:pt x="10311" y="16764"/>
                  <a:pt x="10255" y="16859"/>
                </a:cubicBezTo>
                <a:cubicBezTo>
                  <a:pt x="10233" y="16897"/>
                  <a:pt x="10188" y="16951"/>
                  <a:pt x="10160" y="16954"/>
                </a:cubicBezTo>
                <a:cubicBezTo>
                  <a:pt x="10081" y="16964"/>
                  <a:pt x="10033" y="16943"/>
                  <a:pt x="9970" y="16923"/>
                </a:cubicBezTo>
                <a:cubicBezTo>
                  <a:pt x="9959" y="16923"/>
                  <a:pt x="9949" y="16923"/>
                  <a:pt x="9938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9"/>
          <p:cNvSpPr/>
          <p:nvPr/>
        </p:nvSpPr>
        <p:spPr>
          <a:xfrm>
            <a:off x="2435400" y="2754360"/>
            <a:ext cx="261720" cy="446040"/>
          </a:xfrm>
          <a:custGeom>
            <a:avLst/>
            <a:gdLst/>
            <a:ahLst/>
            <a:rect l="l" t="t" r="r" b="b"/>
            <a:pathLst>
              <a:path w="731" h="1239">
                <a:moveTo>
                  <a:pt x="6763" y="7652"/>
                </a:moveTo>
                <a:cubicBezTo>
                  <a:pt x="6776" y="7706"/>
                  <a:pt x="6799" y="7754"/>
                  <a:pt x="6826" y="7810"/>
                </a:cubicBezTo>
                <a:cubicBezTo>
                  <a:pt x="6876" y="7915"/>
                  <a:pt x="6944" y="7989"/>
                  <a:pt x="6985" y="8096"/>
                </a:cubicBezTo>
                <a:cubicBezTo>
                  <a:pt x="7037" y="8231"/>
                  <a:pt x="7118" y="8346"/>
                  <a:pt x="7176" y="8477"/>
                </a:cubicBezTo>
                <a:cubicBezTo>
                  <a:pt x="7213" y="8561"/>
                  <a:pt x="7268" y="8730"/>
                  <a:pt x="7334" y="8795"/>
                </a:cubicBezTo>
                <a:cubicBezTo>
                  <a:pt x="7366" y="8827"/>
                  <a:pt x="7452" y="8880"/>
                  <a:pt x="7493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0"/>
          <p:cNvSpPr/>
          <p:nvPr/>
        </p:nvSpPr>
        <p:spPr>
          <a:xfrm>
            <a:off x="2400480" y="2822400"/>
            <a:ext cx="320400" cy="446400"/>
          </a:xfrm>
          <a:custGeom>
            <a:avLst/>
            <a:gdLst/>
            <a:ahLst/>
            <a:rect l="l" t="t" r="r" b="b"/>
            <a:pathLst>
              <a:path w="889" h="1239">
                <a:moveTo>
                  <a:pt x="7556" y="7842"/>
                </a:moveTo>
                <a:cubicBezTo>
                  <a:pt x="7457" y="7899"/>
                  <a:pt x="7413" y="7981"/>
                  <a:pt x="7334" y="8064"/>
                </a:cubicBezTo>
                <a:cubicBezTo>
                  <a:pt x="7231" y="8173"/>
                  <a:pt x="7204" y="8326"/>
                  <a:pt x="7112" y="8446"/>
                </a:cubicBezTo>
                <a:cubicBezTo>
                  <a:pt x="7007" y="8583"/>
                  <a:pt x="6920" y="8711"/>
                  <a:pt x="6826" y="8858"/>
                </a:cubicBezTo>
                <a:cubicBezTo>
                  <a:pt x="6775" y="8938"/>
                  <a:pt x="6717" y="9001"/>
                  <a:pt x="6668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1"/>
          <p:cNvSpPr/>
          <p:nvPr/>
        </p:nvSpPr>
        <p:spPr>
          <a:xfrm>
            <a:off x="3029040" y="2846520"/>
            <a:ext cx="206280" cy="307800"/>
          </a:xfrm>
          <a:custGeom>
            <a:avLst/>
            <a:gdLst/>
            <a:ahLst/>
            <a:rect l="l" t="t" r="r" b="b"/>
            <a:pathLst>
              <a:path w="572" h="858">
                <a:moveTo>
                  <a:pt x="8985" y="8001"/>
                </a:moveTo>
                <a:cubicBezTo>
                  <a:pt x="8965" y="7901"/>
                  <a:pt x="8955" y="7906"/>
                  <a:pt x="8858" y="7906"/>
                </a:cubicBezTo>
                <a:cubicBezTo>
                  <a:pt x="8777" y="7906"/>
                  <a:pt x="8709" y="7910"/>
                  <a:pt x="8636" y="7938"/>
                </a:cubicBezTo>
                <a:cubicBezTo>
                  <a:pt x="8574" y="7962"/>
                  <a:pt x="8555" y="7991"/>
                  <a:pt x="8541" y="8033"/>
                </a:cubicBezTo>
                <a:cubicBezTo>
                  <a:pt x="8586" y="8078"/>
                  <a:pt x="8616" y="8106"/>
                  <a:pt x="8668" y="8128"/>
                </a:cubicBezTo>
                <a:cubicBezTo>
                  <a:pt x="8726" y="8153"/>
                  <a:pt x="8771" y="8178"/>
                  <a:pt x="8826" y="8192"/>
                </a:cubicBezTo>
                <a:cubicBezTo>
                  <a:pt x="8771" y="8247"/>
                  <a:pt x="8731" y="8254"/>
                  <a:pt x="8668" y="8287"/>
                </a:cubicBezTo>
                <a:cubicBezTo>
                  <a:pt x="8580" y="8333"/>
                  <a:pt x="8537" y="8373"/>
                  <a:pt x="8477" y="8446"/>
                </a:cubicBezTo>
                <a:cubicBezTo>
                  <a:pt x="8449" y="8480"/>
                  <a:pt x="8398" y="8588"/>
                  <a:pt x="8414" y="8636"/>
                </a:cubicBezTo>
                <a:cubicBezTo>
                  <a:pt x="8432" y="8689"/>
                  <a:pt x="8464" y="8712"/>
                  <a:pt x="8509" y="8731"/>
                </a:cubicBezTo>
                <a:cubicBezTo>
                  <a:pt x="8611" y="8775"/>
                  <a:pt x="8630" y="8750"/>
                  <a:pt x="8731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2"/>
          <p:cNvSpPr/>
          <p:nvPr/>
        </p:nvSpPr>
        <p:spPr>
          <a:xfrm>
            <a:off x="3165480" y="2708280"/>
            <a:ext cx="12600" cy="252360"/>
          </a:xfrm>
          <a:custGeom>
            <a:avLst/>
            <a:gdLst/>
            <a:ahLst/>
            <a:rect l="l" t="t" r="r" b="b"/>
            <a:pathLst>
              <a:path w="32" h="699">
                <a:moveTo>
                  <a:pt x="8826" y="7525"/>
                </a:moveTo>
                <a:cubicBezTo>
                  <a:pt x="8777" y="7558"/>
                  <a:pt x="8795" y="7638"/>
                  <a:pt x="8795" y="7715"/>
                </a:cubicBezTo>
                <a:cubicBezTo>
                  <a:pt x="8795" y="7884"/>
                  <a:pt x="8795" y="8054"/>
                  <a:pt x="8795" y="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3"/>
          <p:cNvSpPr/>
          <p:nvPr/>
        </p:nvSpPr>
        <p:spPr>
          <a:xfrm>
            <a:off x="3143160" y="33829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731" y="9398"/>
                </a:moveTo>
                <a:lnTo>
                  <a:pt x="8731" y="939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4"/>
          <p:cNvSpPr/>
          <p:nvPr/>
        </p:nvSpPr>
        <p:spPr>
          <a:xfrm>
            <a:off x="3532320" y="2789280"/>
            <a:ext cx="206280" cy="650880"/>
          </a:xfrm>
          <a:custGeom>
            <a:avLst/>
            <a:gdLst/>
            <a:ahLst/>
            <a:rect l="l" t="t" r="r" b="b"/>
            <a:pathLst>
              <a:path w="572" h="1811">
                <a:moveTo>
                  <a:pt x="9842" y="7747"/>
                </a:moveTo>
                <a:cubicBezTo>
                  <a:pt x="9842" y="7849"/>
                  <a:pt x="9822" y="7935"/>
                  <a:pt x="9811" y="8033"/>
                </a:cubicBezTo>
                <a:cubicBezTo>
                  <a:pt x="9794" y="8186"/>
                  <a:pt x="9761" y="8503"/>
                  <a:pt x="9842" y="8636"/>
                </a:cubicBezTo>
                <a:cubicBezTo>
                  <a:pt x="9881" y="8700"/>
                  <a:pt x="9984" y="8670"/>
                  <a:pt x="10033" y="8636"/>
                </a:cubicBezTo>
                <a:cubicBezTo>
                  <a:pt x="10152" y="8554"/>
                  <a:pt x="10219" y="8408"/>
                  <a:pt x="10287" y="8287"/>
                </a:cubicBezTo>
                <a:cubicBezTo>
                  <a:pt x="10335" y="8201"/>
                  <a:pt x="10346" y="8128"/>
                  <a:pt x="10350" y="8033"/>
                </a:cubicBezTo>
                <a:cubicBezTo>
                  <a:pt x="10357" y="7868"/>
                  <a:pt x="10350" y="8152"/>
                  <a:pt x="10350" y="8192"/>
                </a:cubicBezTo>
                <a:cubicBezTo>
                  <a:pt x="10350" y="8356"/>
                  <a:pt x="10377" y="8506"/>
                  <a:pt x="10382" y="8668"/>
                </a:cubicBezTo>
                <a:cubicBezTo>
                  <a:pt x="10388" y="8865"/>
                  <a:pt x="10426" y="9151"/>
                  <a:pt x="10350" y="9334"/>
                </a:cubicBezTo>
                <a:cubicBezTo>
                  <a:pt x="10325" y="9394"/>
                  <a:pt x="10286" y="9485"/>
                  <a:pt x="10224" y="9525"/>
                </a:cubicBezTo>
                <a:cubicBezTo>
                  <a:pt x="10135" y="9582"/>
                  <a:pt x="10077" y="9550"/>
                  <a:pt x="10001" y="9493"/>
                </a:cubicBezTo>
                <a:cubicBezTo>
                  <a:pt x="9963" y="9455"/>
                  <a:pt x="9949" y="9437"/>
                  <a:pt x="9938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5"/>
          <p:cNvSpPr/>
          <p:nvPr/>
        </p:nvSpPr>
        <p:spPr>
          <a:xfrm>
            <a:off x="2217600" y="3863880"/>
            <a:ext cx="22320" cy="400320"/>
          </a:xfrm>
          <a:custGeom>
            <a:avLst/>
            <a:gdLst/>
            <a:ahLst/>
            <a:rect l="l" t="t" r="r" b="b"/>
            <a:pathLst>
              <a:path w="64" h="1112">
                <a:moveTo>
                  <a:pt x="6223" y="10732"/>
                </a:moveTo>
                <a:cubicBezTo>
                  <a:pt x="6166" y="10750"/>
                  <a:pt x="6217" y="10757"/>
                  <a:pt x="6223" y="10827"/>
                </a:cubicBezTo>
                <a:cubicBezTo>
                  <a:pt x="6230" y="10898"/>
                  <a:pt x="6191" y="10999"/>
                  <a:pt x="6191" y="11081"/>
                </a:cubicBezTo>
                <a:cubicBezTo>
                  <a:pt x="6191" y="11220"/>
                  <a:pt x="6160" y="11351"/>
                  <a:pt x="6160" y="11494"/>
                </a:cubicBezTo>
                <a:cubicBezTo>
                  <a:pt x="6160" y="11592"/>
                  <a:pt x="6191" y="11679"/>
                  <a:pt x="6191" y="11779"/>
                </a:cubicBezTo>
                <a:cubicBezTo>
                  <a:pt x="6191" y="11811"/>
                  <a:pt x="6191" y="11822"/>
                  <a:pt x="6191" y="11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6"/>
          <p:cNvSpPr/>
          <p:nvPr/>
        </p:nvSpPr>
        <p:spPr>
          <a:xfrm>
            <a:off x="2011320" y="4022640"/>
            <a:ext cx="399960" cy="58680"/>
          </a:xfrm>
          <a:custGeom>
            <a:avLst/>
            <a:gdLst/>
            <a:ahLst/>
            <a:rect l="l" t="t" r="r" b="b"/>
            <a:pathLst>
              <a:path w="1112" h="160">
                <a:moveTo>
                  <a:pt x="5620" y="11176"/>
                </a:moveTo>
                <a:cubicBezTo>
                  <a:pt x="5569" y="11176"/>
                  <a:pt x="5635" y="11228"/>
                  <a:pt x="5683" y="11240"/>
                </a:cubicBezTo>
                <a:cubicBezTo>
                  <a:pt x="5790" y="11267"/>
                  <a:pt x="5920" y="11293"/>
                  <a:pt x="6032" y="11303"/>
                </a:cubicBezTo>
                <a:cubicBezTo>
                  <a:pt x="6194" y="11317"/>
                  <a:pt x="6344" y="11335"/>
                  <a:pt x="6509" y="11335"/>
                </a:cubicBezTo>
                <a:cubicBezTo>
                  <a:pt x="6604" y="11335"/>
                  <a:pt x="6636" y="11335"/>
                  <a:pt x="669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7"/>
          <p:cNvSpPr/>
          <p:nvPr/>
        </p:nvSpPr>
        <p:spPr>
          <a:xfrm>
            <a:off x="2343240" y="4789440"/>
            <a:ext cx="320760" cy="422280"/>
          </a:xfrm>
          <a:custGeom>
            <a:avLst/>
            <a:gdLst/>
            <a:ahLst/>
            <a:rect l="l" t="t" r="r" b="b"/>
            <a:pathLst>
              <a:path w="890" h="1176">
                <a:moveTo>
                  <a:pt x="6509" y="13462"/>
                </a:moveTo>
                <a:cubicBezTo>
                  <a:pt x="6513" y="13449"/>
                  <a:pt x="6582" y="13381"/>
                  <a:pt x="6604" y="13367"/>
                </a:cubicBezTo>
                <a:cubicBezTo>
                  <a:pt x="6640" y="13344"/>
                  <a:pt x="6725" y="13354"/>
                  <a:pt x="6763" y="13335"/>
                </a:cubicBezTo>
                <a:cubicBezTo>
                  <a:pt x="6835" y="13298"/>
                  <a:pt x="6896" y="13303"/>
                  <a:pt x="6985" y="13303"/>
                </a:cubicBezTo>
                <a:cubicBezTo>
                  <a:pt x="7058" y="13303"/>
                  <a:pt x="7127" y="13298"/>
                  <a:pt x="7176" y="13367"/>
                </a:cubicBezTo>
                <a:cubicBezTo>
                  <a:pt x="7213" y="13419"/>
                  <a:pt x="7236" y="13499"/>
                  <a:pt x="7239" y="13557"/>
                </a:cubicBezTo>
                <a:cubicBezTo>
                  <a:pt x="7247" y="13693"/>
                  <a:pt x="7164" y="13762"/>
                  <a:pt x="7112" y="13875"/>
                </a:cubicBezTo>
                <a:cubicBezTo>
                  <a:pt x="7055" y="13997"/>
                  <a:pt x="6985" y="14092"/>
                  <a:pt x="6890" y="14192"/>
                </a:cubicBezTo>
                <a:cubicBezTo>
                  <a:pt x="6818" y="14268"/>
                  <a:pt x="6742" y="14340"/>
                  <a:pt x="6668" y="14414"/>
                </a:cubicBezTo>
                <a:cubicBezTo>
                  <a:pt x="6732" y="14453"/>
                  <a:pt x="6779" y="14446"/>
                  <a:pt x="6858" y="14446"/>
                </a:cubicBezTo>
                <a:cubicBezTo>
                  <a:pt x="6956" y="14446"/>
                  <a:pt x="7023" y="14462"/>
                  <a:pt x="7112" y="14478"/>
                </a:cubicBezTo>
                <a:cubicBezTo>
                  <a:pt x="7208" y="14495"/>
                  <a:pt x="7312" y="14483"/>
                  <a:pt x="7398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8"/>
          <p:cNvSpPr/>
          <p:nvPr/>
        </p:nvSpPr>
        <p:spPr>
          <a:xfrm>
            <a:off x="2754360" y="4869000"/>
            <a:ext cx="171360" cy="423720"/>
          </a:xfrm>
          <a:custGeom>
            <a:avLst/>
            <a:gdLst/>
            <a:ahLst/>
            <a:rect l="l" t="t" r="r" b="b"/>
            <a:pathLst>
              <a:path w="477" h="1175">
                <a:moveTo>
                  <a:pt x="7652" y="13526"/>
                </a:moveTo>
                <a:cubicBezTo>
                  <a:pt x="7652" y="13591"/>
                  <a:pt x="7676" y="13623"/>
                  <a:pt x="7684" y="13684"/>
                </a:cubicBezTo>
                <a:cubicBezTo>
                  <a:pt x="7701" y="13811"/>
                  <a:pt x="7717" y="13946"/>
                  <a:pt x="7779" y="14065"/>
                </a:cubicBezTo>
                <a:cubicBezTo>
                  <a:pt x="7848" y="14199"/>
                  <a:pt x="7907" y="14340"/>
                  <a:pt x="7969" y="14478"/>
                </a:cubicBezTo>
                <a:cubicBezTo>
                  <a:pt x="8022" y="14597"/>
                  <a:pt x="8030" y="14622"/>
                  <a:pt x="8128" y="14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9"/>
          <p:cNvSpPr/>
          <p:nvPr/>
        </p:nvSpPr>
        <p:spPr>
          <a:xfrm>
            <a:off x="2617920" y="4971960"/>
            <a:ext cx="263520" cy="389160"/>
          </a:xfrm>
          <a:custGeom>
            <a:avLst/>
            <a:gdLst/>
            <a:ahLst/>
            <a:rect l="l" t="t" r="r" b="b"/>
            <a:pathLst>
              <a:path w="731" h="1081">
                <a:moveTo>
                  <a:pt x="8001" y="13811"/>
                </a:moveTo>
                <a:cubicBezTo>
                  <a:pt x="7913" y="13899"/>
                  <a:pt x="7899" y="13959"/>
                  <a:pt x="7842" y="14065"/>
                </a:cubicBezTo>
                <a:cubicBezTo>
                  <a:pt x="7749" y="14238"/>
                  <a:pt x="7626" y="14405"/>
                  <a:pt x="7525" y="14573"/>
                </a:cubicBezTo>
                <a:cubicBezTo>
                  <a:pt x="7452" y="14694"/>
                  <a:pt x="7370" y="14791"/>
                  <a:pt x="7271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20"/>
          <p:cNvSpPr/>
          <p:nvPr/>
        </p:nvSpPr>
        <p:spPr>
          <a:xfrm>
            <a:off x="3051000" y="3497400"/>
            <a:ext cx="470160" cy="1098360"/>
          </a:xfrm>
          <a:custGeom>
            <a:avLst/>
            <a:gdLst/>
            <a:ahLst/>
            <a:rect l="l" t="t" r="r" b="b"/>
            <a:pathLst>
              <a:path w="1303" h="3049">
                <a:moveTo>
                  <a:pt x="8477" y="9716"/>
                </a:moveTo>
                <a:cubicBezTo>
                  <a:pt x="8513" y="9787"/>
                  <a:pt x="8514" y="9840"/>
                  <a:pt x="8541" y="9906"/>
                </a:cubicBezTo>
                <a:cubicBezTo>
                  <a:pt x="8580" y="10003"/>
                  <a:pt x="8631" y="10094"/>
                  <a:pt x="8668" y="10192"/>
                </a:cubicBezTo>
                <a:cubicBezTo>
                  <a:pt x="8728" y="10352"/>
                  <a:pt x="8779" y="10483"/>
                  <a:pt x="8858" y="10636"/>
                </a:cubicBezTo>
                <a:cubicBezTo>
                  <a:pt x="8951" y="10815"/>
                  <a:pt x="9015" y="10996"/>
                  <a:pt x="9112" y="11176"/>
                </a:cubicBezTo>
                <a:cubicBezTo>
                  <a:pt x="9238" y="11409"/>
                  <a:pt x="9319" y="11666"/>
                  <a:pt x="9430" y="11906"/>
                </a:cubicBezTo>
                <a:cubicBezTo>
                  <a:pt x="9508" y="12076"/>
                  <a:pt x="9580" y="12246"/>
                  <a:pt x="9652" y="12414"/>
                </a:cubicBezTo>
                <a:cubicBezTo>
                  <a:pt x="9705" y="12536"/>
                  <a:pt x="9746" y="12641"/>
                  <a:pt x="9779" y="12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21"/>
          <p:cNvSpPr/>
          <p:nvPr/>
        </p:nvSpPr>
        <p:spPr>
          <a:xfrm>
            <a:off x="3165480" y="4960800"/>
            <a:ext cx="230040" cy="34920"/>
          </a:xfrm>
          <a:custGeom>
            <a:avLst/>
            <a:gdLst/>
            <a:ahLst/>
            <a:rect l="l" t="t" r="r" b="b"/>
            <a:pathLst>
              <a:path w="636" h="96">
                <a:moveTo>
                  <a:pt x="8795" y="13780"/>
                </a:moveTo>
                <a:cubicBezTo>
                  <a:pt x="8887" y="13780"/>
                  <a:pt x="8965" y="13800"/>
                  <a:pt x="9049" y="13811"/>
                </a:cubicBezTo>
                <a:cubicBezTo>
                  <a:pt x="9159" y="13825"/>
                  <a:pt x="9262" y="13858"/>
                  <a:pt x="9366" y="13875"/>
                </a:cubicBezTo>
                <a:cubicBezTo>
                  <a:pt x="9387" y="13875"/>
                  <a:pt x="9409" y="13875"/>
                  <a:pt x="9430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22"/>
          <p:cNvSpPr/>
          <p:nvPr/>
        </p:nvSpPr>
        <p:spPr>
          <a:xfrm>
            <a:off x="3189240" y="5121360"/>
            <a:ext cx="149400" cy="33120"/>
          </a:xfrm>
          <a:custGeom>
            <a:avLst/>
            <a:gdLst/>
            <a:ahLst/>
            <a:rect l="l" t="t" r="r" b="b"/>
            <a:pathLst>
              <a:path w="414" h="96">
                <a:moveTo>
                  <a:pt x="8890" y="14224"/>
                </a:moveTo>
                <a:cubicBezTo>
                  <a:pt x="8879" y="14224"/>
                  <a:pt x="8869" y="14224"/>
                  <a:pt x="8858" y="14224"/>
                </a:cubicBezTo>
                <a:cubicBezTo>
                  <a:pt x="8872" y="14266"/>
                  <a:pt x="8923" y="14284"/>
                  <a:pt x="8985" y="14288"/>
                </a:cubicBezTo>
                <a:cubicBezTo>
                  <a:pt x="9067" y="14293"/>
                  <a:pt x="9124" y="14319"/>
                  <a:pt x="9208" y="14319"/>
                </a:cubicBezTo>
                <a:cubicBezTo>
                  <a:pt x="9239" y="14319"/>
                  <a:pt x="9250" y="14319"/>
                  <a:pt x="9271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23"/>
          <p:cNvSpPr/>
          <p:nvPr/>
        </p:nvSpPr>
        <p:spPr>
          <a:xfrm>
            <a:off x="3532320" y="4869000"/>
            <a:ext cx="274680" cy="412560"/>
          </a:xfrm>
          <a:custGeom>
            <a:avLst/>
            <a:gdLst/>
            <a:ahLst/>
            <a:rect l="l" t="t" r="r" b="b"/>
            <a:pathLst>
              <a:path w="763" h="1143">
                <a:moveTo>
                  <a:pt x="9811" y="13526"/>
                </a:moveTo>
                <a:cubicBezTo>
                  <a:pt x="10006" y="13526"/>
                  <a:pt x="10197" y="13525"/>
                  <a:pt x="10382" y="13557"/>
                </a:cubicBezTo>
                <a:cubicBezTo>
                  <a:pt x="10468" y="13572"/>
                  <a:pt x="10493" y="13591"/>
                  <a:pt x="10541" y="13652"/>
                </a:cubicBezTo>
                <a:cubicBezTo>
                  <a:pt x="10571" y="13690"/>
                  <a:pt x="10583" y="13745"/>
                  <a:pt x="10541" y="13780"/>
                </a:cubicBezTo>
                <a:cubicBezTo>
                  <a:pt x="10469" y="13839"/>
                  <a:pt x="10428" y="13883"/>
                  <a:pt x="10382" y="13970"/>
                </a:cubicBezTo>
                <a:cubicBezTo>
                  <a:pt x="10335" y="14059"/>
                  <a:pt x="10292" y="14162"/>
                  <a:pt x="10255" y="14256"/>
                </a:cubicBezTo>
                <a:cubicBezTo>
                  <a:pt x="10219" y="14350"/>
                  <a:pt x="10225" y="14458"/>
                  <a:pt x="10192" y="14542"/>
                </a:cubicBezTo>
                <a:cubicBezTo>
                  <a:pt x="10166" y="14609"/>
                  <a:pt x="10140" y="14600"/>
                  <a:pt x="10192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24"/>
          <p:cNvSpPr/>
          <p:nvPr/>
        </p:nvSpPr>
        <p:spPr>
          <a:xfrm>
            <a:off x="3828960" y="4937040"/>
            <a:ext cx="195480" cy="390600"/>
          </a:xfrm>
          <a:custGeom>
            <a:avLst/>
            <a:gdLst/>
            <a:ahLst/>
            <a:rect l="l" t="t" r="r" b="b"/>
            <a:pathLst>
              <a:path w="541" h="1081">
                <a:moveTo>
                  <a:pt x="10922" y="13780"/>
                </a:moveTo>
                <a:cubicBezTo>
                  <a:pt x="10922" y="13748"/>
                  <a:pt x="10922" y="13737"/>
                  <a:pt x="10922" y="13716"/>
                </a:cubicBezTo>
                <a:cubicBezTo>
                  <a:pt x="10852" y="13733"/>
                  <a:pt x="10830" y="13777"/>
                  <a:pt x="10795" y="13843"/>
                </a:cubicBezTo>
                <a:cubicBezTo>
                  <a:pt x="10731" y="13962"/>
                  <a:pt x="10707" y="14096"/>
                  <a:pt x="10668" y="14224"/>
                </a:cubicBezTo>
                <a:cubicBezTo>
                  <a:pt x="10620" y="14381"/>
                  <a:pt x="10650" y="14482"/>
                  <a:pt x="10700" y="14637"/>
                </a:cubicBezTo>
                <a:cubicBezTo>
                  <a:pt x="10726" y="14718"/>
                  <a:pt x="10774" y="14832"/>
                  <a:pt x="10890" y="14796"/>
                </a:cubicBezTo>
                <a:cubicBezTo>
                  <a:pt x="10985" y="14767"/>
                  <a:pt x="11072" y="14626"/>
                  <a:pt x="11112" y="14542"/>
                </a:cubicBezTo>
                <a:cubicBezTo>
                  <a:pt x="11166" y="14429"/>
                  <a:pt x="11205" y="14254"/>
                  <a:pt x="11176" y="14129"/>
                </a:cubicBezTo>
                <a:cubicBezTo>
                  <a:pt x="11159" y="14054"/>
                  <a:pt x="11097" y="13957"/>
                  <a:pt x="11017" y="13938"/>
                </a:cubicBezTo>
                <a:cubicBezTo>
                  <a:pt x="10945" y="13921"/>
                  <a:pt x="10890" y="13946"/>
                  <a:pt x="10827" y="13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Eve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invested $400 in equipment to make t-shirts for her family reunion.  Each t-shirt costs $4 to print and sells for $15.  How many t-shirts must she sell before her small business breaks e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4"/>
          <p:cNvSpPr/>
          <p:nvPr/>
        </p:nvSpPr>
        <p:spPr>
          <a:xfrm>
            <a:off x="7737480" y="2994120"/>
            <a:ext cx="230040" cy="423720"/>
          </a:xfrm>
          <a:custGeom>
            <a:avLst/>
            <a:gdLst/>
            <a:ahLst/>
            <a:rect l="l" t="t" r="r" b="b"/>
            <a:pathLst>
              <a:path w="636" h="1176">
                <a:moveTo>
                  <a:pt x="21495" y="8509"/>
                </a:moveTo>
                <a:cubicBezTo>
                  <a:pt x="21509" y="8567"/>
                  <a:pt x="21559" y="8610"/>
                  <a:pt x="21590" y="8668"/>
                </a:cubicBezTo>
                <a:cubicBezTo>
                  <a:pt x="21637" y="8755"/>
                  <a:pt x="21697" y="8811"/>
                  <a:pt x="21749" y="8890"/>
                </a:cubicBezTo>
                <a:cubicBezTo>
                  <a:pt x="21793" y="8957"/>
                  <a:pt x="21856" y="9021"/>
                  <a:pt x="21939" y="9049"/>
                </a:cubicBezTo>
                <a:cubicBezTo>
                  <a:pt x="22003" y="9071"/>
                  <a:pt x="22006" y="9093"/>
                  <a:pt x="22066" y="9049"/>
                </a:cubicBezTo>
              </a:path>
              <a:path w="636" h="1176">
                <a:moveTo>
                  <a:pt x="22130" y="8318"/>
                </a:moveTo>
                <a:cubicBezTo>
                  <a:pt x="22086" y="8333"/>
                  <a:pt x="22083" y="8417"/>
                  <a:pt x="22066" y="8477"/>
                </a:cubicBezTo>
                <a:cubicBezTo>
                  <a:pt x="22007" y="8681"/>
                  <a:pt x="21941" y="8878"/>
                  <a:pt x="21876" y="9080"/>
                </a:cubicBezTo>
                <a:cubicBezTo>
                  <a:pt x="21816" y="9290"/>
                  <a:pt x="21796" y="9352"/>
                  <a:pt x="21780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5"/>
          <p:cNvSpPr/>
          <p:nvPr/>
        </p:nvSpPr>
        <p:spPr>
          <a:xfrm>
            <a:off x="6607080" y="3040200"/>
            <a:ext cx="171720" cy="309600"/>
          </a:xfrm>
          <a:custGeom>
            <a:avLst/>
            <a:gdLst/>
            <a:ahLst/>
            <a:rect l="l" t="t" r="r" b="b"/>
            <a:pathLst>
              <a:path w="477" h="858">
                <a:moveTo>
                  <a:pt x="18352" y="8477"/>
                </a:moveTo>
                <a:cubicBezTo>
                  <a:pt x="18352" y="8488"/>
                  <a:pt x="18352" y="8498"/>
                  <a:pt x="18352" y="8509"/>
                </a:cubicBezTo>
              </a:path>
              <a:path w="477" h="858">
                <a:moveTo>
                  <a:pt x="18352" y="8477"/>
                </a:moveTo>
                <a:cubicBezTo>
                  <a:pt x="18362" y="8498"/>
                  <a:pt x="18373" y="8520"/>
                  <a:pt x="18383" y="8541"/>
                </a:cubicBezTo>
              </a:path>
              <a:path w="477" h="858">
                <a:moveTo>
                  <a:pt x="18383" y="8541"/>
                </a:moveTo>
                <a:cubicBezTo>
                  <a:pt x="18418" y="8587"/>
                  <a:pt x="18433" y="8623"/>
                  <a:pt x="18478" y="8668"/>
                </a:cubicBezTo>
                <a:cubicBezTo>
                  <a:pt x="18531" y="8721"/>
                  <a:pt x="18562" y="8767"/>
                  <a:pt x="18606" y="8826"/>
                </a:cubicBezTo>
                <a:cubicBezTo>
                  <a:pt x="18646" y="8880"/>
                  <a:pt x="18670" y="8933"/>
                  <a:pt x="18701" y="8985"/>
                </a:cubicBezTo>
                <a:cubicBezTo>
                  <a:pt x="18736" y="9044"/>
                  <a:pt x="18773" y="9185"/>
                  <a:pt x="18828" y="9144"/>
                </a:cubicBezTo>
                <a:cubicBezTo>
                  <a:pt x="18828" y="9123"/>
                  <a:pt x="18828" y="9101"/>
                  <a:pt x="18828" y="9080"/>
                </a:cubicBezTo>
              </a:path>
              <a:path w="477" h="858">
                <a:moveTo>
                  <a:pt x="18828" y="8446"/>
                </a:moveTo>
                <a:cubicBezTo>
                  <a:pt x="18789" y="8497"/>
                  <a:pt x="18758" y="8570"/>
                  <a:pt x="18732" y="8636"/>
                </a:cubicBezTo>
                <a:cubicBezTo>
                  <a:pt x="18676" y="8780"/>
                  <a:pt x="18604" y="8911"/>
                  <a:pt x="18542" y="9049"/>
                </a:cubicBezTo>
                <a:cubicBezTo>
                  <a:pt x="18500" y="9143"/>
                  <a:pt x="18458" y="9209"/>
                  <a:pt x="18415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6"/>
          <p:cNvSpPr/>
          <p:nvPr/>
        </p:nvSpPr>
        <p:spPr>
          <a:xfrm>
            <a:off x="1531800" y="3508200"/>
            <a:ext cx="228600" cy="777960"/>
          </a:xfrm>
          <a:custGeom>
            <a:avLst/>
            <a:gdLst/>
            <a:ahLst/>
            <a:rect l="l" t="t" r="r" b="b"/>
            <a:pathLst>
              <a:path w="637" h="2160">
                <a:moveTo>
                  <a:pt x="4858" y="10573"/>
                </a:moveTo>
                <a:cubicBezTo>
                  <a:pt x="4858" y="10485"/>
                  <a:pt x="4874" y="10541"/>
                  <a:pt x="4858" y="10478"/>
                </a:cubicBezTo>
                <a:cubicBezTo>
                  <a:pt x="4841" y="10412"/>
                  <a:pt x="4850" y="10405"/>
                  <a:pt x="4794" y="10350"/>
                </a:cubicBezTo>
                <a:cubicBezTo>
                  <a:pt x="4742" y="10299"/>
                  <a:pt x="4694" y="10316"/>
                  <a:pt x="4636" y="10287"/>
                </a:cubicBezTo>
                <a:cubicBezTo>
                  <a:pt x="4576" y="10257"/>
                  <a:pt x="4554" y="10255"/>
                  <a:pt x="4477" y="10255"/>
                </a:cubicBezTo>
                <a:cubicBezTo>
                  <a:pt x="4430" y="10255"/>
                  <a:pt x="4384" y="10264"/>
                  <a:pt x="4350" y="10287"/>
                </a:cubicBezTo>
                <a:cubicBezTo>
                  <a:pt x="4320" y="10307"/>
                  <a:pt x="4298" y="10378"/>
                  <a:pt x="4318" y="10414"/>
                </a:cubicBezTo>
                <a:cubicBezTo>
                  <a:pt x="4347" y="10466"/>
                  <a:pt x="4380" y="10518"/>
                  <a:pt x="4413" y="10573"/>
                </a:cubicBezTo>
                <a:cubicBezTo>
                  <a:pt x="4461" y="10653"/>
                  <a:pt x="4520" y="10699"/>
                  <a:pt x="4572" y="10763"/>
                </a:cubicBezTo>
                <a:cubicBezTo>
                  <a:pt x="4620" y="10823"/>
                  <a:pt x="4663" y="10918"/>
                  <a:pt x="4699" y="10986"/>
                </a:cubicBezTo>
                <a:cubicBezTo>
                  <a:pt x="4736" y="11055"/>
                  <a:pt x="4775" y="11134"/>
                  <a:pt x="4794" y="11208"/>
                </a:cubicBezTo>
                <a:cubicBezTo>
                  <a:pt x="4806" y="11258"/>
                  <a:pt x="4815" y="11403"/>
                  <a:pt x="4762" y="11430"/>
                </a:cubicBezTo>
                <a:cubicBezTo>
                  <a:pt x="4735" y="11444"/>
                  <a:pt x="4664" y="11488"/>
                  <a:pt x="4636" y="11494"/>
                </a:cubicBezTo>
                <a:cubicBezTo>
                  <a:pt x="4583" y="11506"/>
                  <a:pt x="4515" y="11488"/>
                  <a:pt x="4477" y="11462"/>
                </a:cubicBezTo>
                <a:cubicBezTo>
                  <a:pt x="4419" y="11423"/>
                  <a:pt x="4374" y="11357"/>
                  <a:pt x="4350" y="11303"/>
                </a:cubicBezTo>
                <a:cubicBezTo>
                  <a:pt x="4323" y="11241"/>
                  <a:pt x="4313" y="11165"/>
                  <a:pt x="4286" y="11112"/>
                </a:cubicBezTo>
                <a:cubicBezTo>
                  <a:pt x="4253" y="11047"/>
                  <a:pt x="4254" y="11074"/>
                  <a:pt x="4254" y="10986"/>
                </a:cubicBezTo>
              </a:path>
              <a:path w="637" h="2160">
                <a:moveTo>
                  <a:pt x="4382" y="9747"/>
                </a:moveTo>
                <a:cubicBezTo>
                  <a:pt x="4382" y="9932"/>
                  <a:pt x="4370" y="10107"/>
                  <a:pt x="4350" y="10287"/>
                </a:cubicBezTo>
                <a:cubicBezTo>
                  <a:pt x="4333" y="10441"/>
                  <a:pt x="4369" y="10586"/>
                  <a:pt x="4382" y="10732"/>
                </a:cubicBezTo>
                <a:cubicBezTo>
                  <a:pt x="4395" y="10878"/>
                  <a:pt x="4409" y="11030"/>
                  <a:pt x="4413" y="11176"/>
                </a:cubicBezTo>
                <a:cubicBezTo>
                  <a:pt x="4418" y="11353"/>
                  <a:pt x="4406" y="11517"/>
                  <a:pt x="4445" y="11684"/>
                </a:cubicBezTo>
                <a:cubicBezTo>
                  <a:pt x="4445" y="11716"/>
                  <a:pt x="4445" y="11727"/>
                  <a:pt x="4445" y="11748"/>
                </a:cubicBezTo>
              </a:path>
              <a:path w="637" h="2160">
                <a:moveTo>
                  <a:pt x="4731" y="9938"/>
                </a:moveTo>
                <a:cubicBezTo>
                  <a:pt x="4731" y="9885"/>
                  <a:pt x="4731" y="9980"/>
                  <a:pt x="4731" y="10033"/>
                </a:cubicBezTo>
                <a:cubicBezTo>
                  <a:pt x="4731" y="10311"/>
                  <a:pt x="4722" y="10584"/>
                  <a:pt x="4699" y="10858"/>
                </a:cubicBezTo>
                <a:cubicBezTo>
                  <a:pt x="4670" y="11202"/>
                  <a:pt x="4699" y="11560"/>
                  <a:pt x="4699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7"/>
          <p:cNvSpPr/>
          <p:nvPr/>
        </p:nvSpPr>
        <p:spPr>
          <a:xfrm>
            <a:off x="2136600" y="3703680"/>
            <a:ext cx="652680" cy="434880"/>
          </a:xfrm>
          <a:custGeom>
            <a:avLst/>
            <a:gdLst/>
            <a:ahLst/>
            <a:rect l="l" t="t" r="r" b="b"/>
            <a:pathLst>
              <a:path w="1811" h="1208">
                <a:moveTo>
                  <a:pt x="5937" y="10414"/>
                </a:moveTo>
                <a:cubicBezTo>
                  <a:pt x="5937" y="10576"/>
                  <a:pt x="5867" y="11460"/>
                  <a:pt x="5969" y="11494"/>
                </a:cubicBezTo>
              </a:path>
              <a:path w="1811" h="1208">
                <a:moveTo>
                  <a:pt x="6286" y="10350"/>
                </a:moveTo>
                <a:cubicBezTo>
                  <a:pt x="6331" y="10410"/>
                  <a:pt x="6318" y="10462"/>
                  <a:pt x="6318" y="10541"/>
                </a:cubicBezTo>
                <a:cubicBezTo>
                  <a:pt x="6318" y="10859"/>
                  <a:pt x="6318" y="11176"/>
                  <a:pt x="6318" y="11494"/>
                </a:cubicBezTo>
                <a:cubicBezTo>
                  <a:pt x="6338" y="11415"/>
                  <a:pt x="6350" y="11368"/>
                  <a:pt x="6350" y="11271"/>
                </a:cubicBezTo>
                <a:cubicBezTo>
                  <a:pt x="6350" y="11129"/>
                  <a:pt x="6400" y="10999"/>
                  <a:pt x="6414" y="10858"/>
                </a:cubicBezTo>
                <a:cubicBezTo>
                  <a:pt x="6425" y="10752"/>
                  <a:pt x="6444" y="10639"/>
                  <a:pt x="6477" y="10541"/>
                </a:cubicBezTo>
                <a:cubicBezTo>
                  <a:pt x="6500" y="10473"/>
                  <a:pt x="6543" y="10358"/>
                  <a:pt x="6604" y="10319"/>
                </a:cubicBezTo>
                <a:cubicBezTo>
                  <a:pt x="6659" y="10285"/>
                  <a:pt x="6679" y="10283"/>
                  <a:pt x="6731" y="10319"/>
                </a:cubicBezTo>
                <a:cubicBezTo>
                  <a:pt x="6785" y="10356"/>
                  <a:pt x="6847" y="10446"/>
                  <a:pt x="6858" y="10509"/>
                </a:cubicBezTo>
                <a:cubicBezTo>
                  <a:pt x="6880" y="10636"/>
                  <a:pt x="6890" y="10758"/>
                  <a:pt x="6890" y="10890"/>
                </a:cubicBezTo>
                <a:cubicBezTo>
                  <a:pt x="6890" y="10962"/>
                  <a:pt x="6841" y="11367"/>
                  <a:pt x="6922" y="11398"/>
                </a:cubicBezTo>
                <a:cubicBezTo>
                  <a:pt x="6964" y="11414"/>
                  <a:pt x="7062" y="11447"/>
                  <a:pt x="7112" y="11430"/>
                </a:cubicBezTo>
                <a:cubicBezTo>
                  <a:pt x="7133" y="11419"/>
                  <a:pt x="7155" y="11409"/>
                  <a:pt x="7176" y="11398"/>
                </a:cubicBezTo>
              </a:path>
              <a:path w="1811" h="1208">
                <a:moveTo>
                  <a:pt x="7715" y="10382"/>
                </a:moveTo>
                <a:cubicBezTo>
                  <a:pt x="7698" y="10331"/>
                  <a:pt x="7701" y="10369"/>
                  <a:pt x="7684" y="10319"/>
                </a:cubicBezTo>
                <a:cubicBezTo>
                  <a:pt x="7663" y="10326"/>
                  <a:pt x="7605" y="10347"/>
                  <a:pt x="7588" y="10382"/>
                </a:cubicBezTo>
                <a:cubicBezTo>
                  <a:pt x="7568" y="10423"/>
                  <a:pt x="7556" y="10458"/>
                  <a:pt x="7556" y="10509"/>
                </a:cubicBezTo>
                <a:cubicBezTo>
                  <a:pt x="7602" y="10509"/>
                  <a:pt x="7650" y="10501"/>
                  <a:pt x="7684" y="10478"/>
                </a:cubicBezTo>
                <a:cubicBezTo>
                  <a:pt x="7728" y="10448"/>
                  <a:pt x="7735" y="10388"/>
                  <a:pt x="7684" y="10382"/>
                </a:cubicBezTo>
                <a:cubicBezTo>
                  <a:pt x="7632" y="10375"/>
                  <a:pt x="7628" y="10384"/>
                  <a:pt x="7588" y="10414"/>
                </a:cubicBezTo>
                <a:cubicBezTo>
                  <a:pt x="7604" y="10462"/>
                  <a:pt x="7627" y="10446"/>
                  <a:pt x="7684" y="10446"/>
                </a:cubicBezTo>
              </a:path>
              <a:path w="1811" h="1208">
                <a:moveTo>
                  <a:pt x="7747" y="11017"/>
                </a:moveTo>
                <a:cubicBezTo>
                  <a:pt x="7747" y="10986"/>
                  <a:pt x="7747" y="10975"/>
                  <a:pt x="7747" y="10954"/>
                </a:cubicBezTo>
                <a:cubicBezTo>
                  <a:pt x="7703" y="10954"/>
                  <a:pt x="7645" y="10937"/>
                  <a:pt x="7620" y="10986"/>
                </a:cubicBezTo>
                <a:cubicBezTo>
                  <a:pt x="7607" y="11012"/>
                  <a:pt x="7620" y="11082"/>
                  <a:pt x="7620" y="11112"/>
                </a:cubicBezTo>
                <a:cubicBezTo>
                  <a:pt x="7669" y="11112"/>
                  <a:pt x="7709" y="11132"/>
                  <a:pt x="7715" y="11081"/>
                </a:cubicBezTo>
                <a:cubicBezTo>
                  <a:pt x="7719" y="11051"/>
                  <a:pt x="7715" y="11017"/>
                  <a:pt x="7715" y="10986"/>
                </a:cubicBezTo>
                <a:cubicBezTo>
                  <a:pt x="7657" y="10986"/>
                  <a:pt x="7627" y="10983"/>
                  <a:pt x="7620" y="11049"/>
                </a:cubicBezTo>
                <a:cubicBezTo>
                  <a:pt x="7620" y="11081"/>
                  <a:pt x="7620" y="11092"/>
                  <a:pt x="7652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8"/>
          <p:cNvSpPr/>
          <p:nvPr/>
        </p:nvSpPr>
        <p:spPr>
          <a:xfrm>
            <a:off x="3086280" y="3532320"/>
            <a:ext cx="1611000" cy="753840"/>
          </a:xfrm>
          <a:custGeom>
            <a:avLst/>
            <a:gdLst/>
            <a:ahLst/>
            <a:rect l="l" t="t" r="r" b="b"/>
            <a:pathLst>
              <a:path w="4478" h="2096">
                <a:moveTo>
                  <a:pt x="8700" y="10224"/>
                </a:moveTo>
                <a:cubicBezTo>
                  <a:pt x="8700" y="10169"/>
                  <a:pt x="8698" y="10173"/>
                  <a:pt x="8731" y="10128"/>
                </a:cubicBezTo>
              </a:path>
              <a:path w="4478" h="2096">
                <a:moveTo>
                  <a:pt x="8731" y="10096"/>
                </a:moveTo>
                <a:cubicBezTo>
                  <a:pt x="8724" y="10147"/>
                  <a:pt x="8720" y="10179"/>
                  <a:pt x="8700" y="10224"/>
                </a:cubicBezTo>
                <a:cubicBezTo>
                  <a:pt x="8659" y="10317"/>
                  <a:pt x="8641" y="10407"/>
                  <a:pt x="8636" y="10509"/>
                </a:cubicBezTo>
                <a:cubicBezTo>
                  <a:pt x="8631" y="10608"/>
                  <a:pt x="8604" y="10693"/>
                  <a:pt x="8604" y="10795"/>
                </a:cubicBezTo>
                <a:cubicBezTo>
                  <a:pt x="8604" y="10881"/>
                  <a:pt x="8598" y="10973"/>
                  <a:pt x="8636" y="11049"/>
                </a:cubicBezTo>
                <a:cubicBezTo>
                  <a:pt x="8661" y="11098"/>
                  <a:pt x="8739" y="11163"/>
                  <a:pt x="8795" y="11144"/>
                </a:cubicBezTo>
                <a:cubicBezTo>
                  <a:pt x="8869" y="11119"/>
                  <a:pt x="8969" y="11016"/>
                  <a:pt x="9017" y="10954"/>
                </a:cubicBezTo>
                <a:cubicBezTo>
                  <a:pt x="9106" y="10839"/>
                  <a:pt x="9142" y="10734"/>
                  <a:pt x="9176" y="10604"/>
                </a:cubicBezTo>
                <a:cubicBezTo>
                  <a:pt x="9201" y="10508"/>
                  <a:pt x="9208" y="10373"/>
                  <a:pt x="9239" y="10287"/>
                </a:cubicBezTo>
                <a:cubicBezTo>
                  <a:pt x="9255" y="10243"/>
                  <a:pt x="9271" y="10089"/>
                  <a:pt x="9271" y="10224"/>
                </a:cubicBezTo>
                <a:cubicBezTo>
                  <a:pt x="9271" y="10430"/>
                  <a:pt x="9257" y="10628"/>
                  <a:pt x="9239" y="10827"/>
                </a:cubicBezTo>
                <a:cubicBezTo>
                  <a:pt x="9216" y="11080"/>
                  <a:pt x="9233" y="11337"/>
                  <a:pt x="9208" y="11589"/>
                </a:cubicBezTo>
                <a:cubicBezTo>
                  <a:pt x="9200" y="11675"/>
                  <a:pt x="9184" y="11807"/>
                  <a:pt x="9112" y="11874"/>
                </a:cubicBezTo>
                <a:cubicBezTo>
                  <a:pt x="9064" y="11919"/>
                  <a:pt x="8919" y="11923"/>
                  <a:pt x="8858" y="11906"/>
                </a:cubicBezTo>
                <a:cubicBezTo>
                  <a:pt x="8772" y="11882"/>
                  <a:pt x="8711" y="11856"/>
                  <a:pt x="8636" y="11811"/>
                </a:cubicBezTo>
                <a:cubicBezTo>
                  <a:pt x="8594" y="11786"/>
                  <a:pt x="8599" y="11785"/>
                  <a:pt x="8572" y="11748"/>
                </a:cubicBezTo>
              </a:path>
              <a:path w="4478" h="2096">
                <a:moveTo>
                  <a:pt x="9747" y="10382"/>
                </a:moveTo>
                <a:cubicBezTo>
                  <a:pt x="9908" y="10382"/>
                  <a:pt x="10147" y="10328"/>
                  <a:pt x="10287" y="10350"/>
                </a:cubicBezTo>
                <a:cubicBezTo>
                  <a:pt x="10316" y="10379"/>
                  <a:pt x="10322" y="10389"/>
                  <a:pt x="10350" y="10382"/>
                </a:cubicBezTo>
              </a:path>
              <a:path w="4478" h="2096">
                <a:moveTo>
                  <a:pt x="9874" y="10795"/>
                </a:moveTo>
                <a:cubicBezTo>
                  <a:pt x="9883" y="10823"/>
                  <a:pt x="9924" y="10853"/>
                  <a:pt x="9970" y="10827"/>
                </a:cubicBezTo>
                <a:cubicBezTo>
                  <a:pt x="10041" y="10787"/>
                  <a:pt x="10104" y="10795"/>
                  <a:pt x="10192" y="10795"/>
                </a:cubicBezTo>
                <a:cubicBezTo>
                  <a:pt x="10277" y="10795"/>
                  <a:pt x="10361" y="10795"/>
                  <a:pt x="10446" y="10795"/>
                </a:cubicBezTo>
              </a:path>
              <a:path w="4478" h="2096">
                <a:moveTo>
                  <a:pt x="10922" y="9842"/>
                </a:moveTo>
                <a:cubicBezTo>
                  <a:pt x="10922" y="9943"/>
                  <a:pt x="10894" y="10027"/>
                  <a:pt x="10890" y="10128"/>
                </a:cubicBezTo>
                <a:cubicBezTo>
                  <a:pt x="10877" y="10487"/>
                  <a:pt x="10890" y="10849"/>
                  <a:pt x="10890" y="11208"/>
                </a:cubicBezTo>
              </a:path>
              <a:path w="4478" h="2096">
                <a:moveTo>
                  <a:pt x="11748" y="9811"/>
                </a:moveTo>
                <a:cubicBezTo>
                  <a:pt x="11779" y="9811"/>
                  <a:pt x="11790" y="9811"/>
                  <a:pt x="11811" y="9811"/>
                </a:cubicBezTo>
                <a:cubicBezTo>
                  <a:pt x="11791" y="9871"/>
                  <a:pt x="11794" y="9890"/>
                  <a:pt x="11716" y="9906"/>
                </a:cubicBezTo>
                <a:cubicBezTo>
                  <a:pt x="11625" y="9924"/>
                  <a:pt x="11519" y="9914"/>
                  <a:pt x="11430" y="9938"/>
                </a:cubicBezTo>
                <a:cubicBezTo>
                  <a:pt x="11349" y="9959"/>
                  <a:pt x="11296" y="9970"/>
                  <a:pt x="11208" y="9970"/>
                </a:cubicBezTo>
                <a:cubicBezTo>
                  <a:pt x="11197" y="9970"/>
                  <a:pt x="11187" y="9970"/>
                  <a:pt x="11176" y="9970"/>
                </a:cubicBezTo>
                <a:cubicBezTo>
                  <a:pt x="11170" y="10020"/>
                  <a:pt x="11152" y="10058"/>
                  <a:pt x="11144" y="10096"/>
                </a:cubicBezTo>
                <a:cubicBezTo>
                  <a:pt x="11129" y="10173"/>
                  <a:pt x="11094" y="10238"/>
                  <a:pt x="11081" y="10319"/>
                </a:cubicBezTo>
                <a:cubicBezTo>
                  <a:pt x="11075" y="10356"/>
                  <a:pt x="11045" y="10451"/>
                  <a:pt x="11049" y="10478"/>
                </a:cubicBezTo>
                <a:cubicBezTo>
                  <a:pt x="11060" y="10488"/>
                  <a:pt x="11070" y="10499"/>
                  <a:pt x="11081" y="10509"/>
                </a:cubicBezTo>
                <a:cubicBezTo>
                  <a:pt x="11097" y="10485"/>
                  <a:pt x="11107" y="10414"/>
                  <a:pt x="11144" y="10382"/>
                </a:cubicBezTo>
                <a:cubicBezTo>
                  <a:pt x="11210" y="10325"/>
                  <a:pt x="11263" y="10278"/>
                  <a:pt x="11335" y="10224"/>
                </a:cubicBezTo>
                <a:cubicBezTo>
                  <a:pt x="11376" y="10193"/>
                  <a:pt x="11469" y="10155"/>
                  <a:pt x="11525" y="10160"/>
                </a:cubicBezTo>
                <a:cubicBezTo>
                  <a:pt x="11605" y="10168"/>
                  <a:pt x="11718" y="10252"/>
                  <a:pt x="11748" y="10319"/>
                </a:cubicBezTo>
                <a:cubicBezTo>
                  <a:pt x="11788" y="10407"/>
                  <a:pt x="11859" y="10543"/>
                  <a:pt x="11874" y="10636"/>
                </a:cubicBezTo>
                <a:cubicBezTo>
                  <a:pt x="11891" y="10738"/>
                  <a:pt x="11884" y="10862"/>
                  <a:pt x="11843" y="10954"/>
                </a:cubicBezTo>
                <a:cubicBezTo>
                  <a:pt x="11806" y="11037"/>
                  <a:pt x="11720" y="11073"/>
                  <a:pt x="11652" y="11112"/>
                </a:cubicBezTo>
                <a:cubicBezTo>
                  <a:pt x="11565" y="11162"/>
                  <a:pt x="11481" y="11141"/>
                  <a:pt x="11398" y="11112"/>
                </a:cubicBezTo>
                <a:cubicBezTo>
                  <a:pt x="11331" y="11089"/>
                  <a:pt x="11299" y="11045"/>
                  <a:pt x="11271" y="11017"/>
                </a:cubicBezTo>
                <a:cubicBezTo>
                  <a:pt x="11228" y="10974"/>
                  <a:pt x="11257" y="10973"/>
                  <a:pt x="11271" y="10922"/>
                </a:cubicBezTo>
              </a:path>
              <a:path w="4478" h="2096">
                <a:moveTo>
                  <a:pt x="12192" y="9906"/>
                </a:moveTo>
                <a:cubicBezTo>
                  <a:pt x="12265" y="9979"/>
                  <a:pt x="12295" y="10049"/>
                  <a:pt x="12351" y="10128"/>
                </a:cubicBezTo>
                <a:cubicBezTo>
                  <a:pt x="12447" y="10263"/>
                  <a:pt x="12539" y="10403"/>
                  <a:pt x="12636" y="10541"/>
                </a:cubicBezTo>
                <a:cubicBezTo>
                  <a:pt x="12728" y="10672"/>
                  <a:pt x="12839" y="10782"/>
                  <a:pt x="12922" y="10922"/>
                </a:cubicBezTo>
                <a:cubicBezTo>
                  <a:pt x="12966" y="10997"/>
                  <a:pt x="12964" y="11017"/>
                  <a:pt x="13049" y="11017"/>
                </a:cubicBezTo>
                <a:cubicBezTo>
                  <a:pt x="13049" y="10954"/>
                  <a:pt x="13049" y="10932"/>
                  <a:pt x="13049" y="10890"/>
                </a:cubicBezTo>
              </a:path>
              <a:path w="4478" h="2096">
                <a:moveTo>
                  <a:pt x="12986" y="9842"/>
                </a:moveTo>
                <a:cubicBezTo>
                  <a:pt x="12960" y="9883"/>
                  <a:pt x="12901" y="9993"/>
                  <a:pt x="12859" y="10065"/>
                </a:cubicBezTo>
                <a:cubicBezTo>
                  <a:pt x="12743" y="10265"/>
                  <a:pt x="12645" y="10519"/>
                  <a:pt x="12510" y="10700"/>
                </a:cubicBezTo>
                <a:cubicBezTo>
                  <a:pt x="12375" y="10881"/>
                  <a:pt x="12229" y="11052"/>
                  <a:pt x="12097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9"/>
          <p:cNvSpPr/>
          <p:nvPr/>
        </p:nvSpPr>
        <p:spPr>
          <a:xfrm>
            <a:off x="5978520" y="3224160"/>
            <a:ext cx="2732040" cy="1015920"/>
          </a:xfrm>
          <a:custGeom>
            <a:avLst/>
            <a:gdLst/>
            <a:ahLst/>
            <a:rect l="l" t="t" r="r" b="b"/>
            <a:pathLst>
              <a:path w="7590" h="2826">
                <a:moveTo>
                  <a:pt x="17272" y="9239"/>
                </a:moveTo>
                <a:cubicBezTo>
                  <a:pt x="17261" y="9239"/>
                  <a:pt x="17251" y="9239"/>
                  <a:pt x="17240" y="9239"/>
                </a:cubicBezTo>
              </a:path>
              <a:path w="7590" h="2826">
                <a:moveTo>
                  <a:pt x="17272" y="9239"/>
                </a:moveTo>
                <a:cubicBezTo>
                  <a:pt x="17251" y="9239"/>
                  <a:pt x="17229" y="9239"/>
                  <a:pt x="17208" y="9239"/>
                </a:cubicBezTo>
              </a:path>
              <a:path w="7590" h="2826">
                <a:moveTo>
                  <a:pt x="17208" y="9239"/>
                </a:moveTo>
                <a:cubicBezTo>
                  <a:pt x="17184" y="9270"/>
                  <a:pt x="17189" y="9296"/>
                  <a:pt x="17145" y="9334"/>
                </a:cubicBezTo>
                <a:cubicBezTo>
                  <a:pt x="17081" y="9389"/>
                  <a:pt x="17046" y="9397"/>
                  <a:pt x="16986" y="9493"/>
                </a:cubicBezTo>
                <a:cubicBezTo>
                  <a:pt x="16935" y="9575"/>
                  <a:pt x="16866" y="9660"/>
                  <a:pt x="16828" y="9747"/>
                </a:cubicBezTo>
                <a:cubicBezTo>
                  <a:pt x="16779" y="9860"/>
                  <a:pt x="16739" y="9979"/>
                  <a:pt x="16700" y="10096"/>
                </a:cubicBezTo>
                <a:cubicBezTo>
                  <a:pt x="16655" y="10231"/>
                  <a:pt x="16619" y="10368"/>
                  <a:pt x="16605" y="10509"/>
                </a:cubicBezTo>
                <a:cubicBezTo>
                  <a:pt x="16587" y="10683"/>
                  <a:pt x="16614" y="10850"/>
                  <a:pt x="16637" y="11017"/>
                </a:cubicBezTo>
                <a:cubicBezTo>
                  <a:pt x="16656" y="11152"/>
                  <a:pt x="16715" y="11241"/>
                  <a:pt x="16764" y="11366"/>
                </a:cubicBezTo>
                <a:cubicBezTo>
                  <a:pt x="16791" y="11433"/>
                  <a:pt x="16822" y="11493"/>
                  <a:pt x="16859" y="11557"/>
                </a:cubicBezTo>
                <a:cubicBezTo>
                  <a:pt x="16887" y="11606"/>
                  <a:pt x="16926" y="11676"/>
                  <a:pt x="16954" y="11716"/>
                </a:cubicBezTo>
                <a:cubicBezTo>
                  <a:pt x="16977" y="11748"/>
                  <a:pt x="16977" y="11715"/>
                  <a:pt x="16986" y="11779"/>
                </a:cubicBezTo>
              </a:path>
              <a:path w="7590" h="2826">
                <a:moveTo>
                  <a:pt x="17240" y="10224"/>
                </a:moveTo>
                <a:cubicBezTo>
                  <a:pt x="17208" y="10160"/>
                  <a:pt x="17246" y="10153"/>
                  <a:pt x="17304" y="10096"/>
                </a:cubicBezTo>
                <a:cubicBezTo>
                  <a:pt x="17350" y="10051"/>
                  <a:pt x="17387" y="10040"/>
                  <a:pt x="17431" y="10001"/>
                </a:cubicBezTo>
                <a:cubicBezTo>
                  <a:pt x="17480" y="9958"/>
                  <a:pt x="17509" y="9958"/>
                  <a:pt x="17558" y="10001"/>
                </a:cubicBezTo>
                <a:cubicBezTo>
                  <a:pt x="17628" y="10063"/>
                  <a:pt x="17570" y="10119"/>
                  <a:pt x="17558" y="10192"/>
                </a:cubicBezTo>
                <a:cubicBezTo>
                  <a:pt x="17543" y="10282"/>
                  <a:pt x="17516" y="10367"/>
                  <a:pt x="17462" y="10446"/>
                </a:cubicBezTo>
                <a:cubicBezTo>
                  <a:pt x="17434" y="10486"/>
                  <a:pt x="17429" y="10502"/>
                  <a:pt x="17399" y="10541"/>
                </a:cubicBezTo>
                <a:cubicBezTo>
                  <a:pt x="17411" y="10495"/>
                  <a:pt x="17446" y="10462"/>
                  <a:pt x="17494" y="10446"/>
                </a:cubicBezTo>
                <a:cubicBezTo>
                  <a:pt x="17572" y="10420"/>
                  <a:pt x="17550" y="10422"/>
                  <a:pt x="17621" y="10446"/>
                </a:cubicBezTo>
                <a:cubicBezTo>
                  <a:pt x="17700" y="10473"/>
                  <a:pt x="17711" y="10516"/>
                  <a:pt x="17716" y="10604"/>
                </a:cubicBezTo>
                <a:cubicBezTo>
                  <a:pt x="17721" y="10705"/>
                  <a:pt x="17712" y="10828"/>
                  <a:pt x="17685" y="10922"/>
                </a:cubicBezTo>
                <a:cubicBezTo>
                  <a:pt x="17658" y="11016"/>
                  <a:pt x="17584" y="11171"/>
                  <a:pt x="17494" y="11208"/>
                </a:cubicBezTo>
                <a:cubicBezTo>
                  <a:pt x="17419" y="11239"/>
                  <a:pt x="17435" y="11231"/>
                  <a:pt x="17367" y="11208"/>
                </a:cubicBezTo>
                <a:cubicBezTo>
                  <a:pt x="17306" y="11187"/>
                  <a:pt x="17310" y="11163"/>
                  <a:pt x="17272" y="11112"/>
                </a:cubicBezTo>
              </a:path>
              <a:path w="7590" h="2826">
                <a:moveTo>
                  <a:pt x="17970" y="9970"/>
                </a:moveTo>
                <a:cubicBezTo>
                  <a:pt x="17953" y="10057"/>
                  <a:pt x="17935" y="10140"/>
                  <a:pt x="17907" y="10224"/>
                </a:cubicBezTo>
                <a:cubicBezTo>
                  <a:pt x="17871" y="10331"/>
                  <a:pt x="17829" y="10434"/>
                  <a:pt x="17812" y="10541"/>
                </a:cubicBezTo>
                <a:cubicBezTo>
                  <a:pt x="17787" y="10695"/>
                  <a:pt x="17817" y="10884"/>
                  <a:pt x="17844" y="11017"/>
                </a:cubicBezTo>
                <a:cubicBezTo>
                  <a:pt x="17856" y="11077"/>
                  <a:pt x="17869" y="11144"/>
                  <a:pt x="17939" y="11176"/>
                </a:cubicBezTo>
                <a:cubicBezTo>
                  <a:pt x="17988" y="11198"/>
                  <a:pt x="18032" y="11164"/>
                  <a:pt x="18066" y="11144"/>
                </a:cubicBezTo>
                <a:cubicBezTo>
                  <a:pt x="18131" y="11107"/>
                  <a:pt x="18205" y="11068"/>
                  <a:pt x="18224" y="10986"/>
                </a:cubicBezTo>
                <a:cubicBezTo>
                  <a:pt x="18232" y="10951"/>
                  <a:pt x="18294" y="10796"/>
                  <a:pt x="18288" y="10763"/>
                </a:cubicBezTo>
                <a:cubicBezTo>
                  <a:pt x="18281" y="10722"/>
                  <a:pt x="18234" y="10673"/>
                  <a:pt x="18193" y="10668"/>
                </a:cubicBezTo>
                <a:cubicBezTo>
                  <a:pt x="18148" y="10663"/>
                  <a:pt x="18097" y="10679"/>
                  <a:pt x="18066" y="10700"/>
                </a:cubicBezTo>
                <a:cubicBezTo>
                  <a:pt x="18014" y="10735"/>
                  <a:pt x="17990" y="10810"/>
                  <a:pt x="17970" y="10858"/>
                </a:cubicBezTo>
                <a:cubicBezTo>
                  <a:pt x="17949" y="10909"/>
                  <a:pt x="17889" y="11028"/>
                  <a:pt x="17907" y="11081"/>
                </a:cubicBezTo>
                <a:cubicBezTo>
                  <a:pt x="17918" y="11091"/>
                  <a:pt x="17928" y="11102"/>
                  <a:pt x="17939" y="11112"/>
                </a:cubicBezTo>
              </a:path>
              <a:path w="7590" h="2826">
                <a:moveTo>
                  <a:pt x="18510" y="11049"/>
                </a:moveTo>
                <a:cubicBezTo>
                  <a:pt x="18510" y="11060"/>
                  <a:pt x="18510" y="11070"/>
                  <a:pt x="18510" y="11081"/>
                </a:cubicBezTo>
              </a:path>
              <a:path w="7590" h="2826">
                <a:moveTo>
                  <a:pt x="18510" y="11049"/>
                </a:moveTo>
                <a:lnTo>
                  <a:pt x="18510" y="11049"/>
                </a:lnTo>
              </a:path>
              <a:path w="7590" h="2826">
                <a:moveTo>
                  <a:pt x="18510" y="11112"/>
                </a:moveTo>
                <a:cubicBezTo>
                  <a:pt x="18550" y="11099"/>
                  <a:pt x="18542" y="10975"/>
                  <a:pt x="18542" y="11017"/>
                </a:cubicBezTo>
                <a:cubicBezTo>
                  <a:pt x="18542" y="11059"/>
                  <a:pt x="18542" y="11102"/>
                  <a:pt x="18542" y="11144"/>
                </a:cubicBezTo>
              </a:path>
              <a:path w="7590" h="2826">
                <a:moveTo>
                  <a:pt x="18764" y="10160"/>
                </a:moveTo>
                <a:cubicBezTo>
                  <a:pt x="18764" y="10149"/>
                  <a:pt x="18764" y="10139"/>
                  <a:pt x="18764" y="10128"/>
                </a:cubicBezTo>
              </a:path>
              <a:path w="7590" h="2826">
                <a:moveTo>
                  <a:pt x="18764" y="10160"/>
                </a:moveTo>
                <a:cubicBezTo>
                  <a:pt x="18764" y="10128"/>
                  <a:pt x="18764" y="10097"/>
                  <a:pt x="18764" y="10065"/>
                </a:cubicBezTo>
              </a:path>
              <a:path w="7590" h="2826">
                <a:moveTo>
                  <a:pt x="18764" y="10065"/>
                </a:moveTo>
                <a:cubicBezTo>
                  <a:pt x="18764" y="10000"/>
                  <a:pt x="18787" y="9961"/>
                  <a:pt x="18828" y="9906"/>
                </a:cubicBezTo>
                <a:cubicBezTo>
                  <a:pt x="18860" y="9863"/>
                  <a:pt x="18904" y="9817"/>
                  <a:pt x="18955" y="9811"/>
                </a:cubicBezTo>
                <a:cubicBezTo>
                  <a:pt x="18990" y="9807"/>
                  <a:pt x="19072" y="9871"/>
                  <a:pt x="19082" y="9906"/>
                </a:cubicBezTo>
                <a:cubicBezTo>
                  <a:pt x="19113" y="10015"/>
                  <a:pt x="19034" y="10096"/>
                  <a:pt x="19018" y="10192"/>
                </a:cubicBezTo>
                <a:cubicBezTo>
                  <a:pt x="18999" y="10302"/>
                  <a:pt x="18995" y="10355"/>
                  <a:pt x="18923" y="10446"/>
                </a:cubicBezTo>
                <a:cubicBezTo>
                  <a:pt x="18887" y="10428"/>
                  <a:pt x="18925" y="10376"/>
                  <a:pt x="18955" y="10319"/>
                </a:cubicBezTo>
                <a:cubicBezTo>
                  <a:pt x="18978" y="10275"/>
                  <a:pt x="19056" y="10208"/>
                  <a:pt x="19114" y="10224"/>
                </a:cubicBezTo>
                <a:cubicBezTo>
                  <a:pt x="19237" y="10259"/>
                  <a:pt x="19259" y="10406"/>
                  <a:pt x="19272" y="10509"/>
                </a:cubicBezTo>
                <a:cubicBezTo>
                  <a:pt x="19285" y="10611"/>
                  <a:pt x="19246" y="10762"/>
                  <a:pt x="19209" y="10858"/>
                </a:cubicBezTo>
                <a:cubicBezTo>
                  <a:pt x="19170" y="10960"/>
                  <a:pt x="19127" y="11018"/>
                  <a:pt x="19050" y="11081"/>
                </a:cubicBezTo>
                <a:cubicBezTo>
                  <a:pt x="19033" y="11095"/>
                  <a:pt x="18951" y="11142"/>
                  <a:pt x="18923" y="11112"/>
                </a:cubicBezTo>
                <a:cubicBezTo>
                  <a:pt x="18897" y="11060"/>
                  <a:pt x="18886" y="11052"/>
                  <a:pt x="18891" y="11017"/>
                </a:cubicBezTo>
              </a:path>
              <a:path w="7590" h="2826">
                <a:moveTo>
                  <a:pt x="19463" y="9874"/>
                </a:moveTo>
                <a:cubicBezTo>
                  <a:pt x="19463" y="9978"/>
                  <a:pt x="19462" y="10059"/>
                  <a:pt x="19431" y="10160"/>
                </a:cubicBezTo>
                <a:cubicBezTo>
                  <a:pt x="19386" y="10306"/>
                  <a:pt x="19397" y="10456"/>
                  <a:pt x="19368" y="10604"/>
                </a:cubicBezTo>
                <a:cubicBezTo>
                  <a:pt x="19342" y="10737"/>
                  <a:pt x="19327" y="10853"/>
                  <a:pt x="19368" y="10986"/>
                </a:cubicBezTo>
                <a:cubicBezTo>
                  <a:pt x="19389" y="11053"/>
                  <a:pt x="19431" y="11123"/>
                  <a:pt x="19494" y="11144"/>
                </a:cubicBezTo>
                <a:cubicBezTo>
                  <a:pt x="19548" y="11162"/>
                  <a:pt x="19626" y="11091"/>
                  <a:pt x="19653" y="11049"/>
                </a:cubicBezTo>
                <a:cubicBezTo>
                  <a:pt x="19726" y="10936"/>
                  <a:pt x="19738" y="10844"/>
                  <a:pt x="19780" y="10732"/>
                </a:cubicBezTo>
                <a:cubicBezTo>
                  <a:pt x="19802" y="10674"/>
                  <a:pt x="19839" y="10613"/>
                  <a:pt x="19748" y="10573"/>
                </a:cubicBezTo>
                <a:cubicBezTo>
                  <a:pt x="19698" y="10551"/>
                  <a:pt x="19646" y="10598"/>
                  <a:pt x="19622" y="10636"/>
                </a:cubicBezTo>
                <a:cubicBezTo>
                  <a:pt x="19569" y="10719"/>
                  <a:pt x="19540" y="10826"/>
                  <a:pt x="19526" y="10922"/>
                </a:cubicBezTo>
                <a:cubicBezTo>
                  <a:pt x="19526" y="10988"/>
                  <a:pt x="19527" y="11012"/>
                  <a:pt x="19558" y="11049"/>
                </a:cubicBezTo>
              </a:path>
              <a:path w="7590" h="2826">
                <a:moveTo>
                  <a:pt x="20130" y="10858"/>
                </a:moveTo>
                <a:cubicBezTo>
                  <a:pt x="20148" y="10949"/>
                  <a:pt x="20161" y="11013"/>
                  <a:pt x="20161" y="11112"/>
                </a:cubicBezTo>
                <a:cubicBezTo>
                  <a:pt x="20161" y="11250"/>
                  <a:pt x="20161" y="11387"/>
                  <a:pt x="20161" y="11525"/>
                </a:cubicBezTo>
              </a:path>
              <a:path w="7590" h="2826">
                <a:moveTo>
                  <a:pt x="21050" y="9747"/>
                </a:moveTo>
                <a:cubicBezTo>
                  <a:pt x="20994" y="9758"/>
                  <a:pt x="20938" y="9801"/>
                  <a:pt x="20892" y="9811"/>
                </a:cubicBezTo>
                <a:cubicBezTo>
                  <a:pt x="20805" y="9830"/>
                  <a:pt x="20788" y="9877"/>
                  <a:pt x="20701" y="9906"/>
                </a:cubicBezTo>
                <a:cubicBezTo>
                  <a:pt x="20668" y="9917"/>
                  <a:pt x="20604" y="9921"/>
                  <a:pt x="20574" y="9938"/>
                </a:cubicBezTo>
                <a:cubicBezTo>
                  <a:pt x="20526" y="9965"/>
                  <a:pt x="20542" y="10019"/>
                  <a:pt x="20542" y="10065"/>
                </a:cubicBezTo>
                <a:cubicBezTo>
                  <a:pt x="20542" y="10123"/>
                  <a:pt x="20568" y="10140"/>
                  <a:pt x="20574" y="10192"/>
                </a:cubicBezTo>
                <a:cubicBezTo>
                  <a:pt x="20582" y="10264"/>
                  <a:pt x="20574" y="10341"/>
                  <a:pt x="20574" y="10414"/>
                </a:cubicBezTo>
                <a:cubicBezTo>
                  <a:pt x="20642" y="10397"/>
                  <a:pt x="20626" y="10367"/>
                  <a:pt x="20669" y="10319"/>
                </a:cubicBezTo>
                <a:cubicBezTo>
                  <a:pt x="20708" y="10275"/>
                  <a:pt x="20741" y="10287"/>
                  <a:pt x="20796" y="10287"/>
                </a:cubicBezTo>
                <a:cubicBezTo>
                  <a:pt x="20874" y="10287"/>
                  <a:pt x="20894" y="10387"/>
                  <a:pt x="20923" y="10446"/>
                </a:cubicBezTo>
                <a:cubicBezTo>
                  <a:pt x="20979" y="10557"/>
                  <a:pt x="20937" y="10622"/>
                  <a:pt x="20923" y="10732"/>
                </a:cubicBezTo>
                <a:cubicBezTo>
                  <a:pt x="20906" y="10865"/>
                  <a:pt x="20890" y="10916"/>
                  <a:pt x="20796" y="11017"/>
                </a:cubicBezTo>
                <a:cubicBezTo>
                  <a:pt x="20772" y="11043"/>
                  <a:pt x="20675" y="11128"/>
                  <a:pt x="20638" y="11112"/>
                </a:cubicBezTo>
                <a:cubicBezTo>
                  <a:pt x="20577" y="11085"/>
                  <a:pt x="20582" y="11038"/>
                  <a:pt x="20574" y="10986"/>
                </a:cubicBezTo>
              </a:path>
              <a:path w="7590" h="2826">
                <a:moveTo>
                  <a:pt x="21114" y="9938"/>
                </a:moveTo>
                <a:cubicBezTo>
                  <a:pt x="21114" y="10043"/>
                  <a:pt x="21087" y="10121"/>
                  <a:pt x="21082" y="10224"/>
                </a:cubicBezTo>
                <a:cubicBezTo>
                  <a:pt x="21078" y="10313"/>
                  <a:pt x="21050" y="10388"/>
                  <a:pt x="21050" y="10478"/>
                </a:cubicBezTo>
                <a:cubicBezTo>
                  <a:pt x="21050" y="10582"/>
                  <a:pt x="21040" y="10507"/>
                  <a:pt x="21018" y="10573"/>
                </a:cubicBezTo>
                <a:cubicBezTo>
                  <a:pt x="21048" y="10563"/>
                  <a:pt x="21078" y="10561"/>
                  <a:pt x="21114" y="10541"/>
                </a:cubicBezTo>
                <a:cubicBezTo>
                  <a:pt x="21157" y="10517"/>
                  <a:pt x="21212" y="10484"/>
                  <a:pt x="21272" y="10509"/>
                </a:cubicBezTo>
                <a:cubicBezTo>
                  <a:pt x="21323" y="10531"/>
                  <a:pt x="21374" y="10567"/>
                  <a:pt x="21431" y="10573"/>
                </a:cubicBezTo>
                <a:cubicBezTo>
                  <a:pt x="21484" y="10579"/>
                  <a:pt x="21482" y="10581"/>
                  <a:pt x="21495" y="10541"/>
                </a:cubicBezTo>
              </a:path>
              <a:path w="7590" h="2826">
                <a:moveTo>
                  <a:pt x="21431" y="9842"/>
                </a:moveTo>
                <a:cubicBezTo>
                  <a:pt x="21417" y="9990"/>
                  <a:pt x="21382" y="10135"/>
                  <a:pt x="21400" y="10287"/>
                </a:cubicBezTo>
                <a:cubicBezTo>
                  <a:pt x="21424" y="10486"/>
                  <a:pt x="21404" y="10693"/>
                  <a:pt x="21431" y="10890"/>
                </a:cubicBezTo>
                <a:cubicBezTo>
                  <a:pt x="21450" y="11031"/>
                  <a:pt x="21463" y="11159"/>
                  <a:pt x="21463" y="11303"/>
                </a:cubicBezTo>
                <a:cubicBezTo>
                  <a:pt x="21463" y="11324"/>
                  <a:pt x="21463" y="11345"/>
                  <a:pt x="21463" y="11366"/>
                </a:cubicBezTo>
              </a:path>
              <a:path w="7590" h="2826">
                <a:moveTo>
                  <a:pt x="21971" y="9811"/>
                </a:moveTo>
                <a:cubicBezTo>
                  <a:pt x="22003" y="9779"/>
                  <a:pt x="22013" y="9769"/>
                  <a:pt x="22034" y="9747"/>
                </a:cubicBezTo>
                <a:cubicBezTo>
                  <a:pt x="22020" y="9791"/>
                  <a:pt x="21965" y="9812"/>
                  <a:pt x="21908" y="9842"/>
                </a:cubicBezTo>
                <a:cubicBezTo>
                  <a:pt x="21833" y="9882"/>
                  <a:pt x="21768" y="9944"/>
                  <a:pt x="21685" y="9970"/>
                </a:cubicBezTo>
                <a:cubicBezTo>
                  <a:pt x="21614" y="9992"/>
                  <a:pt x="21580" y="10011"/>
                  <a:pt x="21526" y="10065"/>
                </a:cubicBezTo>
                <a:cubicBezTo>
                  <a:pt x="21481" y="10110"/>
                  <a:pt x="21468" y="10161"/>
                  <a:pt x="21463" y="10224"/>
                </a:cubicBezTo>
                <a:cubicBezTo>
                  <a:pt x="21462" y="10241"/>
                  <a:pt x="21485" y="10332"/>
                  <a:pt x="21495" y="10350"/>
                </a:cubicBezTo>
                <a:cubicBezTo>
                  <a:pt x="21520" y="10396"/>
                  <a:pt x="21552" y="10425"/>
                  <a:pt x="21558" y="10478"/>
                </a:cubicBezTo>
                <a:cubicBezTo>
                  <a:pt x="21558" y="10488"/>
                  <a:pt x="21558" y="10499"/>
                  <a:pt x="21558" y="10509"/>
                </a:cubicBezTo>
                <a:cubicBezTo>
                  <a:pt x="21635" y="10509"/>
                  <a:pt x="21620" y="10498"/>
                  <a:pt x="21654" y="10446"/>
                </a:cubicBezTo>
                <a:cubicBezTo>
                  <a:pt x="21693" y="10386"/>
                  <a:pt x="21740" y="10255"/>
                  <a:pt x="21812" y="10224"/>
                </a:cubicBezTo>
                <a:cubicBezTo>
                  <a:pt x="21850" y="10207"/>
                  <a:pt x="21917" y="10223"/>
                  <a:pt x="21939" y="10255"/>
                </a:cubicBezTo>
                <a:cubicBezTo>
                  <a:pt x="22001" y="10345"/>
                  <a:pt x="22076" y="10499"/>
                  <a:pt x="22098" y="10604"/>
                </a:cubicBezTo>
                <a:cubicBezTo>
                  <a:pt x="22118" y="10700"/>
                  <a:pt x="22104" y="10846"/>
                  <a:pt x="22066" y="10922"/>
                </a:cubicBezTo>
                <a:cubicBezTo>
                  <a:pt x="22037" y="10980"/>
                  <a:pt x="22006" y="11083"/>
                  <a:pt x="21939" y="11112"/>
                </a:cubicBezTo>
                <a:cubicBezTo>
                  <a:pt x="21895" y="11131"/>
                  <a:pt x="21910" y="11144"/>
                  <a:pt x="21844" y="11144"/>
                </a:cubicBezTo>
                <a:cubicBezTo>
                  <a:pt x="21812" y="11144"/>
                  <a:pt x="21801" y="11144"/>
                  <a:pt x="21812" y="11176"/>
                </a:cubicBezTo>
              </a:path>
              <a:path w="7590" h="2826">
                <a:moveTo>
                  <a:pt x="22288" y="11017"/>
                </a:moveTo>
                <a:cubicBezTo>
                  <a:pt x="22257" y="11017"/>
                  <a:pt x="22246" y="11017"/>
                  <a:pt x="22257" y="11049"/>
                </a:cubicBezTo>
              </a:path>
              <a:path w="7590" h="2826">
                <a:moveTo>
                  <a:pt x="22542" y="9842"/>
                </a:moveTo>
                <a:cubicBezTo>
                  <a:pt x="22484" y="9862"/>
                  <a:pt x="22511" y="9965"/>
                  <a:pt x="22511" y="10033"/>
                </a:cubicBezTo>
                <a:cubicBezTo>
                  <a:pt x="22511" y="10235"/>
                  <a:pt x="22550" y="10481"/>
                  <a:pt x="22479" y="10668"/>
                </a:cubicBezTo>
                <a:cubicBezTo>
                  <a:pt x="22527" y="10656"/>
                  <a:pt x="22567" y="10638"/>
                  <a:pt x="22606" y="10604"/>
                </a:cubicBezTo>
                <a:cubicBezTo>
                  <a:pt x="22656" y="10560"/>
                  <a:pt x="22698" y="10573"/>
                  <a:pt x="22765" y="10573"/>
                </a:cubicBezTo>
                <a:cubicBezTo>
                  <a:pt x="22850" y="10573"/>
                  <a:pt x="22897" y="10629"/>
                  <a:pt x="22987" y="10636"/>
                </a:cubicBezTo>
                <a:cubicBezTo>
                  <a:pt x="23060" y="10642"/>
                  <a:pt x="23015" y="10670"/>
                  <a:pt x="23082" y="10636"/>
                </a:cubicBezTo>
              </a:path>
              <a:path w="7590" h="2826">
                <a:moveTo>
                  <a:pt x="22987" y="9684"/>
                </a:moveTo>
                <a:cubicBezTo>
                  <a:pt x="22987" y="9815"/>
                  <a:pt x="22958" y="9934"/>
                  <a:pt x="22955" y="10065"/>
                </a:cubicBezTo>
                <a:cubicBezTo>
                  <a:pt x="22950" y="10255"/>
                  <a:pt x="22961" y="10480"/>
                  <a:pt x="22987" y="10668"/>
                </a:cubicBezTo>
                <a:cubicBezTo>
                  <a:pt x="23007" y="10816"/>
                  <a:pt x="23031" y="10965"/>
                  <a:pt x="23050" y="11112"/>
                </a:cubicBezTo>
                <a:cubicBezTo>
                  <a:pt x="23050" y="11165"/>
                  <a:pt x="23050" y="11176"/>
                  <a:pt x="23050" y="11208"/>
                </a:cubicBezTo>
              </a:path>
              <a:path w="7590" h="2826">
                <a:moveTo>
                  <a:pt x="23622" y="9716"/>
                </a:moveTo>
                <a:cubicBezTo>
                  <a:pt x="23684" y="9746"/>
                  <a:pt x="23570" y="9750"/>
                  <a:pt x="23527" y="9779"/>
                </a:cubicBezTo>
                <a:cubicBezTo>
                  <a:pt x="23479" y="9811"/>
                  <a:pt x="23432" y="9838"/>
                  <a:pt x="23368" y="9842"/>
                </a:cubicBezTo>
                <a:cubicBezTo>
                  <a:pt x="23313" y="9846"/>
                  <a:pt x="23245" y="9853"/>
                  <a:pt x="23241" y="9906"/>
                </a:cubicBezTo>
                <a:cubicBezTo>
                  <a:pt x="23230" y="10052"/>
                  <a:pt x="23241" y="10203"/>
                  <a:pt x="23241" y="10350"/>
                </a:cubicBezTo>
                <a:cubicBezTo>
                  <a:pt x="23305" y="10350"/>
                  <a:pt x="23304" y="10343"/>
                  <a:pt x="23336" y="10287"/>
                </a:cubicBezTo>
                <a:cubicBezTo>
                  <a:pt x="23385" y="10203"/>
                  <a:pt x="23409" y="10090"/>
                  <a:pt x="23495" y="10033"/>
                </a:cubicBezTo>
                <a:cubicBezTo>
                  <a:pt x="23540" y="10003"/>
                  <a:pt x="23610" y="9976"/>
                  <a:pt x="23654" y="10033"/>
                </a:cubicBezTo>
                <a:cubicBezTo>
                  <a:pt x="23725" y="10124"/>
                  <a:pt x="23793" y="10188"/>
                  <a:pt x="23812" y="10319"/>
                </a:cubicBezTo>
                <a:cubicBezTo>
                  <a:pt x="23830" y="10443"/>
                  <a:pt x="23816" y="10582"/>
                  <a:pt x="23781" y="10700"/>
                </a:cubicBezTo>
                <a:cubicBezTo>
                  <a:pt x="23744" y="10827"/>
                  <a:pt x="23711" y="10921"/>
                  <a:pt x="23622" y="11017"/>
                </a:cubicBezTo>
                <a:cubicBezTo>
                  <a:pt x="23591" y="11050"/>
                  <a:pt x="23475" y="11077"/>
                  <a:pt x="23432" y="11049"/>
                </a:cubicBezTo>
                <a:cubicBezTo>
                  <a:pt x="23372" y="10990"/>
                  <a:pt x="23354" y="10975"/>
                  <a:pt x="23336" y="10922"/>
                </a:cubicBezTo>
              </a:path>
              <a:path w="7590" h="2826">
                <a:moveTo>
                  <a:pt x="23781" y="8954"/>
                </a:moveTo>
                <a:cubicBezTo>
                  <a:pt x="23881" y="8974"/>
                  <a:pt x="23908" y="8977"/>
                  <a:pt x="23971" y="9080"/>
                </a:cubicBezTo>
                <a:cubicBezTo>
                  <a:pt x="24079" y="9258"/>
                  <a:pt x="24068" y="9426"/>
                  <a:pt x="24098" y="9620"/>
                </a:cubicBezTo>
                <a:cubicBezTo>
                  <a:pt x="24128" y="9812"/>
                  <a:pt x="24179" y="9998"/>
                  <a:pt x="24194" y="10192"/>
                </a:cubicBezTo>
                <a:cubicBezTo>
                  <a:pt x="24219" y="10512"/>
                  <a:pt x="24199" y="10837"/>
                  <a:pt x="24130" y="11144"/>
                </a:cubicBezTo>
                <a:cubicBezTo>
                  <a:pt x="24091" y="11315"/>
                  <a:pt x="24044" y="11481"/>
                  <a:pt x="24003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1565280" y="4286160"/>
            <a:ext cx="938160" cy="514440"/>
          </a:xfrm>
          <a:custGeom>
            <a:avLst/>
            <a:gdLst/>
            <a:ahLst/>
            <a:rect l="l" t="t" r="r" b="b"/>
            <a:pathLst>
              <a:path w="2604" h="1430">
                <a:moveTo>
                  <a:pt x="5016" y="12541"/>
                </a:moveTo>
                <a:cubicBezTo>
                  <a:pt x="5035" y="12469"/>
                  <a:pt x="5024" y="12486"/>
                  <a:pt x="5016" y="12414"/>
                </a:cubicBezTo>
                <a:cubicBezTo>
                  <a:pt x="5007" y="12334"/>
                  <a:pt x="4970" y="12282"/>
                  <a:pt x="4890" y="12256"/>
                </a:cubicBezTo>
                <a:cubicBezTo>
                  <a:pt x="4815" y="12231"/>
                  <a:pt x="4748" y="12198"/>
                  <a:pt x="4667" y="12192"/>
                </a:cubicBezTo>
                <a:cubicBezTo>
                  <a:pt x="4613" y="12188"/>
                  <a:pt x="4545" y="12223"/>
                  <a:pt x="4508" y="12256"/>
                </a:cubicBezTo>
                <a:cubicBezTo>
                  <a:pt x="4460" y="12299"/>
                  <a:pt x="4477" y="12352"/>
                  <a:pt x="4477" y="12414"/>
                </a:cubicBezTo>
                <a:cubicBezTo>
                  <a:pt x="4477" y="12488"/>
                  <a:pt x="4528" y="12572"/>
                  <a:pt x="4572" y="12636"/>
                </a:cubicBezTo>
                <a:cubicBezTo>
                  <a:pt x="4622" y="12707"/>
                  <a:pt x="4712" y="12737"/>
                  <a:pt x="4762" y="12795"/>
                </a:cubicBezTo>
                <a:cubicBezTo>
                  <a:pt x="4806" y="12846"/>
                  <a:pt x="4856" y="12929"/>
                  <a:pt x="4890" y="12986"/>
                </a:cubicBezTo>
                <a:cubicBezTo>
                  <a:pt x="4937" y="13066"/>
                  <a:pt x="4928" y="13108"/>
                  <a:pt x="4890" y="13176"/>
                </a:cubicBezTo>
                <a:cubicBezTo>
                  <a:pt x="4852" y="13242"/>
                  <a:pt x="4816" y="13266"/>
                  <a:pt x="4731" y="13272"/>
                </a:cubicBezTo>
                <a:cubicBezTo>
                  <a:pt x="4645" y="13278"/>
                  <a:pt x="4577" y="13277"/>
                  <a:pt x="4508" y="13240"/>
                </a:cubicBezTo>
                <a:cubicBezTo>
                  <a:pt x="4435" y="13201"/>
                  <a:pt x="4411" y="13181"/>
                  <a:pt x="4382" y="13113"/>
                </a:cubicBezTo>
                <a:cubicBezTo>
                  <a:pt x="4338" y="13010"/>
                  <a:pt x="4347" y="12961"/>
                  <a:pt x="4382" y="12859"/>
                </a:cubicBezTo>
                <a:cubicBezTo>
                  <a:pt x="4392" y="12827"/>
                  <a:pt x="4403" y="12796"/>
                  <a:pt x="4413" y="12764"/>
                </a:cubicBezTo>
              </a:path>
              <a:path w="2604" h="1430">
                <a:moveTo>
                  <a:pt x="4604" y="11906"/>
                </a:moveTo>
                <a:cubicBezTo>
                  <a:pt x="4604" y="11977"/>
                  <a:pt x="4633" y="12025"/>
                  <a:pt x="4636" y="12097"/>
                </a:cubicBezTo>
                <a:cubicBezTo>
                  <a:pt x="4652" y="12453"/>
                  <a:pt x="4652" y="12828"/>
                  <a:pt x="4604" y="13176"/>
                </a:cubicBezTo>
                <a:cubicBezTo>
                  <a:pt x="4597" y="13227"/>
                  <a:pt x="4604" y="13284"/>
                  <a:pt x="4604" y="13335"/>
                </a:cubicBezTo>
              </a:path>
              <a:path w="2604" h="1430">
                <a:moveTo>
                  <a:pt x="4858" y="11970"/>
                </a:moveTo>
                <a:cubicBezTo>
                  <a:pt x="4858" y="12248"/>
                  <a:pt x="4851" y="12523"/>
                  <a:pt x="4826" y="12795"/>
                </a:cubicBezTo>
                <a:cubicBezTo>
                  <a:pt x="4812" y="12951"/>
                  <a:pt x="4826" y="13115"/>
                  <a:pt x="4826" y="13272"/>
                </a:cubicBezTo>
              </a:path>
              <a:path w="2604" h="1430">
                <a:moveTo>
                  <a:pt x="5874" y="12573"/>
                </a:moveTo>
                <a:cubicBezTo>
                  <a:pt x="5831" y="12531"/>
                  <a:pt x="5789" y="12489"/>
                  <a:pt x="5747" y="12446"/>
                </a:cubicBezTo>
                <a:cubicBezTo>
                  <a:pt x="5690" y="12460"/>
                  <a:pt x="5625" y="12521"/>
                  <a:pt x="5588" y="12573"/>
                </a:cubicBezTo>
                <a:cubicBezTo>
                  <a:pt x="5531" y="12653"/>
                  <a:pt x="5474" y="12763"/>
                  <a:pt x="5461" y="12859"/>
                </a:cubicBezTo>
                <a:cubicBezTo>
                  <a:pt x="5451" y="12937"/>
                  <a:pt x="5455" y="13059"/>
                  <a:pt x="5524" y="13113"/>
                </a:cubicBezTo>
                <a:cubicBezTo>
                  <a:pt x="5576" y="13154"/>
                  <a:pt x="5660" y="13150"/>
                  <a:pt x="5715" y="13113"/>
                </a:cubicBezTo>
                <a:cubicBezTo>
                  <a:pt x="5791" y="13062"/>
                  <a:pt x="5791" y="12964"/>
                  <a:pt x="5810" y="12890"/>
                </a:cubicBezTo>
                <a:cubicBezTo>
                  <a:pt x="5829" y="12816"/>
                  <a:pt x="5873" y="12685"/>
                  <a:pt x="5842" y="12605"/>
                </a:cubicBezTo>
                <a:cubicBezTo>
                  <a:pt x="5837" y="12592"/>
                  <a:pt x="5746" y="12449"/>
                  <a:pt x="5747" y="12446"/>
                </a:cubicBezTo>
                <a:cubicBezTo>
                  <a:pt x="5757" y="12446"/>
                  <a:pt x="5768" y="12446"/>
                  <a:pt x="5778" y="12446"/>
                </a:cubicBezTo>
                <a:cubicBezTo>
                  <a:pt x="5830" y="12456"/>
                  <a:pt x="5897" y="12484"/>
                  <a:pt x="5937" y="12510"/>
                </a:cubicBezTo>
                <a:cubicBezTo>
                  <a:pt x="5972" y="12533"/>
                  <a:pt x="6077" y="12624"/>
                  <a:pt x="6064" y="12668"/>
                </a:cubicBezTo>
                <a:cubicBezTo>
                  <a:pt x="6050" y="12718"/>
                  <a:pt x="6021" y="12819"/>
                  <a:pt x="6001" y="12859"/>
                </a:cubicBezTo>
                <a:cubicBezTo>
                  <a:pt x="5986" y="12889"/>
                  <a:pt x="5929" y="12978"/>
                  <a:pt x="5969" y="13018"/>
                </a:cubicBezTo>
                <a:cubicBezTo>
                  <a:pt x="5993" y="13042"/>
                  <a:pt x="6015" y="13049"/>
                  <a:pt x="6064" y="13049"/>
                </a:cubicBezTo>
                <a:cubicBezTo>
                  <a:pt x="6156" y="13049"/>
                  <a:pt x="6177" y="12997"/>
                  <a:pt x="6223" y="12922"/>
                </a:cubicBezTo>
                <a:cubicBezTo>
                  <a:pt x="6276" y="12834"/>
                  <a:pt x="6245" y="12724"/>
                  <a:pt x="6286" y="12636"/>
                </a:cubicBezTo>
                <a:cubicBezTo>
                  <a:pt x="6323" y="12600"/>
                  <a:pt x="6333" y="12584"/>
                  <a:pt x="6318" y="12541"/>
                </a:cubicBezTo>
                <a:cubicBezTo>
                  <a:pt x="6279" y="12605"/>
                  <a:pt x="6258" y="12683"/>
                  <a:pt x="6255" y="12764"/>
                </a:cubicBezTo>
                <a:cubicBezTo>
                  <a:pt x="6251" y="12865"/>
                  <a:pt x="6261" y="12935"/>
                  <a:pt x="6286" y="13018"/>
                </a:cubicBezTo>
                <a:cubicBezTo>
                  <a:pt x="6301" y="13070"/>
                  <a:pt x="6382" y="13108"/>
                  <a:pt x="6445" y="13081"/>
                </a:cubicBezTo>
                <a:cubicBezTo>
                  <a:pt x="6546" y="13038"/>
                  <a:pt x="6598" y="12957"/>
                  <a:pt x="6636" y="12859"/>
                </a:cubicBezTo>
                <a:cubicBezTo>
                  <a:pt x="6647" y="12827"/>
                  <a:pt x="6657" y="12796"/>
                  <a:pt x="6668" y="12764"/>
                </a:cubicBezTo>
              </a:path>
              <a:path w="2604" h="1430">
                <a:moveTo>
                  <a:pt x="6763" y="12097"/>
                </a:moveTo>
                <a:cubicBezTo>
                  <a:pt x="6763" y="12010"/>
                  <a:pt x="6763" y="12234"/>
                  <a:pt x="6763" y="12256"/>
                </a:cubicBezTo>
                <a:cubicBezTo>
                  <a:pt x="6763" y="12395"/>
                  <a:pt x="6731" y="12525"/>
                  <a:pt x="6731" y="12668"/>
                </a:cubicBezTo>
                <a:cubicBezTo>
                  <a:pt x="6731" y="12777"/>
                  <a:pt x="6771" y="12852"/>
                  <a:pt x="6794" y="12954"/>
                </a:cubicBezTo>
                <a:cubicBezTo>
                  <a:pt x="6794" y="12986"/>
                  <a:pt x="6794" y="12997"/>
                  <a:pt x="6826" y="12986"/>
                </a:cubicBezTo>
              </a:path>
              <a:path w="2604" h="1430">
                <a:moveTo>
                  <a:pt x="6477" y="12414"/>
                </a:moveTo>
                <a:cubicBezTo>
                  <a:pt x="6466" y="12414"/>
                  <a:pt x="6456" y="12414"/>
                  <a:pt x="6445" y="12414"/>
                </a:cubicBezTo>
                <a:cubicBezTo>
                  <a:pt x="6522" y="12368"/>
                  <a:pt x="6603" y="12382"/>
                  <a:pt x="6699" y="12382"/>
                </a:cubicBezTo>
                <a:cubicBezTo>
                  <a:pt x="6784" y="12382"/>
                  <a:pt x="6868" y="12382"/>
                  <a:pt x="6953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2674800" y="4400640"/>
            <a:ext cx="57240" cy="239760"/>
          </a:xfrm>
          <a:custGeom>
            <a:avLst/>
            <a:gdLst/>
            <a:ahLst/>
            <a:rect l="l" t="t" r="r" b="b"/>
            <a:pathLst>
              <a:path w="159" h="667">
                <a:moveTo>
                  <a:pt x="7556" y="12319"/>
                </a:moveTo>
                <a:cubicBezTo>
                  <a:pt x="7572" y="12254"/>
                  <a:pt x="7586" y="12283"/>
                  <a:pt x="7556" y="12224"/>
                </a:cubicBezTo>
                <a:cubicBezTo>
                  <a:pt x="7518" y="12262"/>
                  <a:pt x="7466" y="12281"/>
                  <a:pt x="7461" y="12319"/>
                </a:cubicBezTo>
                <a:cubicBezTo>
                  <a:pt x="7461" y="12330"/>
                  <a:pt x="7461" y="12340"/>
                  <a:pt x="7461" y="12351"/>
                </a:cubicBezTo>
                <a:cubicBezTo>
                  <a:pt x="7462" y="12353"/>
                  <a:pt x="7531" y="12383"/>
                  <a:pt x="7556" y="12351"/>
                </a:cubicBezTo>
                <a:cubicBezTo>
                  <a:pt x="7593" y="12303"/>
                  <a:pt x="7518" y="12310"/>
                  <a:pt x="7588" y="12287"/>
                </a:cubicBezTo>
                <a:cubicBezTo>
                  <a:pt x="7563" y="12271"/>
                  <a:pt x="7539" y="12261"/>
                  <a:pt x="7493" y="12287"/>
                </a:cubicBezTo>
                <a:cubicBezTo>
                  <a:pt x="7464" y="12316"/>
                  <a:pt x="7453" y="12322"/>
                  <a:pt x="7461" y="12351"/>
                </a:cubicBezTo>
              </a:path>
              <a:path w="159" h="667">
                <a:moveTo>
                  <a:pt x="7493" y="12827"/>
                </a:moveTo>
                <a:cubicBezTo>
                  <a:pt x="7597" y="12801"/>
                  <a:pt x="7525" y="12787"/>
                  <a:pt x="7493" y="12859"/>
                </a:cubicBezTo>
                <a:cubicBezTo>
                  <a:pt x="7493" y="12890"/>
                  <a:pt x="7493" y="12901"/>
                  <a:pt x="7461" y="12890"/>
                </a:cubicBezTo>
                <a:cubicBezTo>
                  <a:pt x="7482" y="12883"/>
                  <a:pt x="7539" y="12862"/>
                  <a:pt x="7556" y="12827"/>
                </a:cubicBezTo>
                <a:cubicBezTo>
                  <a:pt x="7556" y="12795"/>
                  <a:pt x="7556" y="12785"/>
                  <a:pt x="7556" y="12764"/>
                </a:cubicBezTo>
                <a:cubicBezTo>
                  <a:pt x="7546" y="12766"/>
                  <a:pt x="7433" y="12792"/>
                  <a:pt x="7430" y="12795"/>
                </a:cubicBezTo>
                <a:cubicBezTo>
                  <a:pt x="7430" y="12806"/>
                  <a:pt x="7430" y="12816"/>
                  <a:pt x="7430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3075120" y="4275000"/>
            <a:ext cx="2182680" cy="777960"/>
          </a:xfrm>
          <a:custGeom>
            <a:avLst/>
            <a:gdLst/>
            <a:ahLst/>
            <a:rect l="l" t="t" r="r" b="b"/>
            <a:pathLst>
              <a:path w="6065" h="2161">
                <a:moveTo>
                  <a:pt x="8700" y="12256"/>
                </a:moveTo>
                <a:cubicBezTo>
                  <a:pt x="8673" y="12326"/>
                  <a:pt x="8667" y="12398"/>
                  <a:pt x="8636" y="12478"/>
                </a:cubicBezTo>
                <a:cubicBezTo>
                  <a:pt x="8590" y="12597"/>
                  <a:pt x="8572" y="12667"/>
                  <a:pt x="8572" y="12795"/>
                </a:cubicBezTo>
                <a:cubicBezTo>
                  <a:pt x="8572" y="12870"/>
                  <a:pt x="8607" y="12927"/>
                  <a:pt x="8636" y="12986"/>
                </a:cubicBezTo>
                <a:cubicBezTo>
                  <a:pt x="8732" y="12972"/>
                  <a:pt x="8781" y="12958"/>
                  <a:pt x="8858" y="12890"/>
                </a:cubicBezTo>
                <a:cubicBezTo>
                  <a:pt x="8936" y="12821"/>
                  <a:pt x="9032" y="12669"/>
                  <a:pt x="9080" y="12573"/>
                </a:cubicBezTo>
                <a:cubicBezTo>
                  <a:pt x="9117" y="12498"/>
                  <a:pt x="9137" y="12388"/>
                  <a:pt x="9176" y="12319"/>
                </a:cubicBezTo>
                <a:cubicBezTo>
                  <a:pt x="9187" y="12308"/>
                  <a:pt x="9197" y="12298"/>
                  <a:pt x="9208" y="12287"/>
                </a:cubicBezTo>
                <a:cubicBezTo>
                  <a:pt x="9208" y="12461"/>
                  <a:pt x="9189" y="12625"/>
                  <a:pt x="9176" y="12795"/>
                </a:cubicBezTo>
                <a:cubicBezTo>
                  <a:pt x="9160" y="13006"/>
                  <a:pt x="9173" y="13221"/>
                  <a:pt x="9144" y="13430"/>
                </a:cubicBezTo>
                <a:cubicBezTo>
                  <a:pt x="9122" y="13584"/>
                  <a:pt x="9120" y="13758"/>
                  <a:pt x="9080" y="13906"/>
                </a:cubicBezTo>
                <a:cubicBezTo>
                  <a:pt x="9056" y="13994"/>
                  <a:pt x="9020" y="14057"/>
                  <a:pt x="8922" y="14034"/>
                </a:cubicBezTo>
                <a:cubicBezTo>
                  <a:pt x="8849" y="14017"/>
                  <a:pt x="8761" y="13915"/>
                  <a:pt x="8700" y="13875"/>
                </a:cubicBezTo>
                <a:cubicBezTo>
                  <a:pt x="8639" y="13834"/>
                  <a:pt x="8564" y="13776"/>
                  <a:pt x="8541" y="13716"/>
                </a:cubicBezTo>
                <a:cubicBezTo>
                  <a:pt x="8541" y="13652"/>
                  <a:pt x="8541" y="13631"/>
                  <a:pt x="8541" y="13589"/>
                </a:cubicBezTo>
              </a:path>
              <a:path w="6065" h="2161">
                <a:moveTo>
                  <a:pt x="9557" y="12541"/>
                </a:moveTo>
                <a:cubicBezTo>
                  <a:pt x="9619" y="12479"/>
                  <a:pt x="9627" y="12478"/>
                  <a:pt x="9716" y="12478"/>
                </a:cubicBezTo>
                <a:cubicBezTo>
                  <a:pt x="9833" y="12478"/>
                  <a:pt x="9925" y="12485"/>
                  <a:pt x="10033" y="12510"/>
                </a:cubicBezTo>
                <a:cubicBezTo>
                  <a:pt x="10044" y="12510"/>
                  <a:pt x="10054" y="12510"/>
                  <a:pt x="10065" y="12510"/>
                </a:cubicBezTo>
              </a:path>
              <a:path w="6065" h="2161">
                <a:moveTo>
                  <a:pt x="9620" y="13018"/>
                </a:moveTo>
                <a:cubicBezTo>
                  <a:pt x="9691" y="13018"/>
                  <a:pt x="9740" y="12990"/>
                  <a:pt x="9811" y="12986"/>
                </a:cubicBezTo>
                <a:cubicBezTo>
                  <a:pt x="9902" y="12981"/>
                  <a:pt x="9980" y="12963"/>
                  <a:pt x="10065" y="12954"/>
                </a:cubicBezTo>
                <a:cubicBezTo>
                  <a:pt x="10107" y="12954"/>
                  <a:pt x="10128" y="12954"/>
                  <a:pt x="10160" y="12954"/>
                </a:cubicBezTo>
              </a:path>
              <a:path w="6065" h="2161">
                <a:moveTo>
                  <a:pt x="10573" y="11970"/>
                </a:moveTo>
                <a:cubicBezTo>
                  <a:pt x="10561" y="12067"/>
                  <a:pt x="10498" y="12131"/>
                  <a:pt x="10478" y="12224"/>
                </a:cubicBezTo>
                <a:cubicBezTo>
                  <a:pt x="10457" y="12318"/>
                  <a:pt x="10421" y="12415"/>
                  <a:pt x="10414" y="12510"/>
                </a:cubicBezTo>
                <a:cubicBezTo>
                  <a:pt x="10411" y="12552"/>
                  <a:pt x="10414" y="12594"/>
                  <a:pt x="10414" y="12636"/>
                </a:cubicBezTo>
                <a:cubicBezTo>
                  <a:pt x="10491" y="12636"/>
                  <a:pt x="10478" y="12601"/>
                  <a:pt x="10541" y="12573"/>
                </a:cubicBezTo>
                <a:cubicBezTo>
                  <a:pt x="10579" y="12556"/>
                  <a:pt x="10583" y="12527"/>
                  <a:pt x="10636" y="12510"/>
                </a:cubicBezTo>
                <a:cubicBezTo>
                  <a:pt x="10695" y="12491"/>
                  <a:pt x="10721" y="12532"/>
                  <a:pt x="10763" y="12541"/>
                </a:cubicBezTo>
                <a:cubicBezTo>
                  <a:pt x="10819" y="12553"/>
                  <a:pt x="10900" y="12569"/>
                  <a:pt x="10954" y="12573"/>
                </a:cubicBezTo>
                <a:cubicBezTo>
                  <a:pt x="11027" y="12578"/>
                  <a:pt x="11030" y="12579"/>
                  <a:pt x="11081" y="12541"/>
                </a:cubicBezTo>
              </a:path>
              <a:path w="6065" h="2161">
                <a:moveTo>
                  <a:pt x="10954" y="11874"/>
                </a:moveTo>
                <a:cubicBezTo>
                  <a:pt x="10899" y="11985"/>
                  <a:pt x="10862" y="12067"/>
                  <a:pt x="10858" y="12192"/>
                </a:cubicBezTo>
                <a:cubicBezTo>
                  <a:pt x="10847" y="12541"/>
                  <a:pt x="10858" y="13525"/>
                  <a:pt x="10858" y="13176"/>
                </a:cubicBezTo>
              </a:path>
              <a:path w="6065" h="2161">
                <a:moveTo>
                  <a:pt x="11176" y="12160"/>
                </a:moveTo>
                <a:cubicBezTo>
                  <a:pt x="11200" y="12255"/>
                  <a:pt x="11266" y="12361"/>
                  <a:pt x="11335" y="12446"/>
                </a:cubicBezTo>
                <a:cubicBezTo>
                  <a:pt x="11430" y="12564"/>
                  <a:pt x="11533" y="12671"/>
                  <a:pt x="11620" y="12795"/>
                </a:cubicBezTo>
                <a:cubicBezTo>
                  <a:pt x="11682" y="12883"/>
                  <a:pt x="11797" y="12989"/>
                  <a:pt x="11843" y="13081"/>
                </a:cubicBezTo>
                <a:cubicBezTo>
                  <a:pt x="11870" y="13135"/>
                  <a:pt x="11862" y="13124"/>
                  <a:pt x="11874" y="13049"/>
                </a:cubicBezTo>
              </a:path>
              <a:path w="6065" h="2161">
                <a:moveTo>
                  <a:pt x="11779" y="12160"/>
                </a:moveTo>
                <a:cubicBezTo>
                  <a:pt x="11711" y="12247"/>
                  <a:pt x="11644" y="12349"/>
                  <a:pt x="11589" y="12446"/>
                </a:cubicBezTo>
                <a:cubicBezTo>
                  <a:pt x="11475" y="12647"/>
                  <a:pt x="11348" y="12833"/>
                  <a:pt x="11208" y="13018"/>
                </a:cubicBezTo>
                <a:cubicBezTo>
                  <a:pt x="11116" y="13140"/>
                  <a:pt x="11025" y="13255"/>
                  <a:pt x="10922" y="13367"/>
                </a:cubicBezTo>
              </a:path>
              <a:path w="6065" h="2161">
                <a:moveTo>
                  <a:pt x="12414" y="12160"/>
                </a:moveTo>
                <a:cubicBezTo>
                  <a:pt x="12414" y="12395"/>
                  <a:pt x="12429" y="12629"/>
                  <a:pt x="12382" y="12859"/>
                </a:cubicBezTo>
                <a:cubicBezTo>
                  <a:pt x="12360" y="12970"/>
                  <a:pt x="12292" y="13160"/>
                  <a:pt x="12319" y="13272"/>
                </a:cubicBezTo>
                <a:cubicBezTo>
                  <a:pt x="12336" y="13342"/>
                  <a:pt x="12393" y="13287"/>
                  <a:pt x="12414" y="13272"/>
                </a:cubicBezTo>
              </a:path>
              <a:path w="6065" h="2161">
                <a:moveTo>
                  <a:pt x="12128" y="12573"/>
                </a:moveTo>
                <a:cubicBezTo>
                  <a:pt x="12043" y="12573"/>
                  <a:pt x="12239" y="12569"/>
                  <a:pt x="12256" y="12573"/>
                </a:cubicBezTo>
                <a:cubicBezTo>
                  <a:pt x="12377" y="12600"/>
                  <a:pt x="12479" y="12605"/>
                  <a:pt x="12605" y="12605"/>
                </a:cubicBezTo>
                <a:cubicBezTo>
                  <a:pt x="12626" y="12605"/>
                  <a:pt x="12647" y="12605"/>
                  <a:pt x="12668" y="12605"/>
                </a:cubicBezTo>
              </a:path>
              <a:path w="6065" h="2161">
                <a:moveTo>
                  <a:pt x="12922" y="11874"/>
                </a:moveTo>
                <a:cubicBezTo>
                  <a:pt x="12922" y="11977"/>
                  <a:pt x="12907" y="12091"/>
                  <a:pt x="12890" y="12192"/>
                </a:cubicBezTo>
                <a:cubicBezTo>
                  <a:pt x="12867" y="12329"/>
                  <a:pt x="12833" y="12474"/>
                  <a:pt x="12795" y="12605"/>
                </a:cubicBezTo>
                <a:cubicBezTo>
                  <a:pt x="12773" y="12682"/>
                  <a:pt x="12769" y="12735"/>
                  <a:pt x="12732" y="12795"/>
                </a:cubicBezTo>
                <a:cubicBezTo>
                  <a:pt x="12744" y="12749"/>
                  <a:pt x="12815" y="12694"/>
                  <a:pt x="12859" y="12700"/>
                </a:cubicBezTo>
                <a:cubicBezTo>
                  <a:pt x="12943" y="12711"/>
                  <a:pt x="13035" y="12756"/>
                  <a:pt x="13113" y="12795"/>
                </a:cubicBezTo>
                <a:cubicBezTo>
                  <a:pt x="13178" y="12827"/>
                  <a:pt x="13321" y="12902"/>
                  <a:pt x="13398" y="12859"/>
                </a:cubicBezTo>
                <a:cubicBezTo>
                  <a:pt x="13419" y="12838"/>
                  <a:pt x="13441" y="12816"/>
                  <a:pt x="13462" y="12795"/>
                </a:cubicBezTo>
              </a:path>
              <a:path w="6065" h="2161">
                <a:moveTo>
                  <a:pt x="13367" y="11938"/>
                </a:moveTo>
                <a:cubicBezTo>
                  <a:pt x="13326" y="12060"/>
                  <a:pt x="13305" y="12190"/>
                  <a:pt x="13272" y="12319"/>
                </a:cubicBezTo>
                <a:cubicBezTo>
                  <a:pt x="13224" y="12508"/>
                  <a:pt x="13237" y="12700"/>
                  <a:pt x="13208" y="12890"/>
                </a:cubicBezTo>
                <a:cubicBezTo>
                  <a:pt x="13187" y="13029"/>
                  <a:pt x="13154" y="13164"/>
                  <a:pt x="13144" y="13303"/>
                </a:cubicBezTo>
                <a:cubicBezTo>
                  <a:pt x="13139" y="13373"/>
                  <a:pt x="13183" y="13322"/>
                  <a:pt x="13208" y="13303"/>
                </a:cubicBezTo>
              </a:path>
              <a:path w="6065" h="2161">
                <a:moveTo>
                  <a:pt x="13684" y="12097"/>
                </a:moveTo>
                <a:cubicBezTo>
                  <a:pt x="13589" y="12120"/>
                  <a:pt x="13560" y="12198"/>
                  <a:pt x="13526" y="12287"/>
                </a:cubicBezTo>
                <a:cubicBezTo>
                  <a:pt x="13468" y="12437"/>
                  <a:pt x="13439" y="12603"/>
                  <a:pt x="13462" y="12764"/>
                </a:cubicBezTo>
                <a:cubicBezTo>
                  <a:pt x="13482" y="12906"/>
                  <a:pt x="13539" y="13059"/>
                  <a:pt x="13621" y="13176"/>
                </a:cubicBezTo>
                <a:cubicBezTo>
                  <a:pt x="13689" y="13273"/>
                  <a:pt x="13800" y="13252"/>
                  <a:pt x="13875" y="13176"/>
                </a:cubicBezTo>
                <a:cubicBezTo>
                  <a:pt x="13968" y="13083"/>
                  <a:pt x="14021" y="12856"/>
                  <a:pt x="14034" y="12732"/>
                </a:cubicBezTo>
                <a:cubicBezTo>
                  <a:pt x="14049" y="12593"/>
                  <a:pt x="14010" y="12390"/>
                  <a:pt x="13906" y="12287"/>
                </a:cubicBezTo>
                <a:cubicBezTo>
                  <a:pt x="13894" y="12275"/>
                  <a:pt x="13720" y="12131"/>
                  <a:pt x="13684" y="12160"/>
                </a:cubicBezTo>
                <a:cubicBezTo>
                  <a:pt x="13677" y="12166"/>
                  <a:pt x="13684" y="12245"/>
                  <a:pt x="13684" y="12256"/>
                </a:cubicBezTo>
              </a:path>
              <a:path w="6065" h="2161">
                <a:moveTo>
                  <a:pt x="14319" y="12414"/>
                </a:moveTo>
                <a:cubicBezTo>
                  <a:pt x="14351" y="12341"/>
                  <a:pt x="14372" y="12316"/>
                  <a:pt x="14319" y="12256"/>
                </a:cubicBezTo>
                <a:cubicBezTo>
                  <a:pt x="14309" y="12245"/>
                  <a:pt x="14298" y="12235"/>
                  <a:pt x="14288" y="12224"/>
                </a:cubicBezTo>
                <a:cubicBezTo>
                  <a:pt x="14192" y="12238"/>
                  <a:pt x="14140" y="12283"/>
                  <a:pt x="14097" y="12382"/>
                </a:cubicBezTo>
                <a:cubicBezTo>
                  <a:pt x="14028" y="12540"/>
                  <a:pt x="14028" y="12664"/>
                  <a:pt x="14065" y="12827"/>
                </a:cubicBezTo>
                <a:cubicBezTo>
                  <a:pt x="14106" y="13009"/>
                  <a:pt x="14136" y="13155"/>
                  <a:pt x="14256" y="13303"/>
                </a:cubicBezTo>
                <a:cubicBezTo>
                  <a:pt x="14319" y="13367"/>
                  <a:pt x="14340" y="13388"/>
                  <a:pt x="14383" y="13430"/>
                </a:cubicBezTo>
                <a:cubicBezTo>
                  <a:pt x="14487" y="13399"/>
                  <a:pt x="14582" y="13319"/>
                  <a:pt x="14605" y="13176"/>
                </a:cubicBezTo>
                <a:cubicBezTo>
                  <a:pt x="14633" y="13005"/>
                  <a:pt x="14624" y="12770"/>
                  <a:pt x="14573" y="12605"/>
                </a:cubicBezTo>
                <a:cubicBezTo>
                  <a:pt x="14528" y="12459"/>
                  <a:pt x="14449" y="12304"/>
                  <a:pt x="14319" y="12224"/>
                </a:cubicBezTo>
                <a:cubicBezTo>
                  <a:pt x="14240" y="12175"/>
                  <a:pt x="14246" y="12202"/>
                  <a:pt x="14192" y="12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6275520" y="4514760"/>
            <a:ext cx="639720" cy="652680"/>
          </a:xfrm>
          <a:custGeom>
            <a:avLst/>
            <a:gdLst/>
            <a:ahLst/>
            <a:rect l="l" t="t" r="r" b="b"/>
            <a:pathLst>
              <a:path w="1779" h="1811">
                <a:moveTo>
                  <a:pt x="17653" y="13049"/>
                </a:moveTo>
                <a:cubicBezTo>
                  <a:pt x="17690" y="12988"/>
                  <a:pt x="17710" y="12930"/>
                  <a:pt x="17748" y="12859"/>
                </a:cubicBezTo>
                <a:cubicBezTo>
                  <a:pt x="17799" y="12764"/>
                  <a:pt x="17835" y="12653"/>
                  <a:pt x="17907" y="12573"/>
                </a:cubicBezTo>
                <a:cubicBezTo>
                  <a:pt x="17937" y="12540"/>
                  <a:pt x="17988" y="12527"/>
                  <a:pt x="18034" y="12541"/>
                </a:cubicBezTo>
                <a:cubicBezTo>
                  <a:pt x="18043" y="12544"/>
                  <a:pt x="18091" y="12607"/>
                  <a:pt x="18098" y="12636"/>
                </a:cubicBezTo>
                <a:cubicBezTo>
                  <a:pt x="18125" y="12752"/>
                  <a:pt x="18082" y="12876"/>
                  <a:pt x="18066" y="12986"/>
                </a:cubicBezTo>
                <a:cubicBezTo>
                  <a:pt x="18052" y="13086"/>
                  <a:pt x="18039" y="13162"/>
                  <a:pt x="17970" y="13240"/>
                </a:cubicBezTo>
                <a:cubicBezTo>
                  <a:pt x="17946" y="13267"/>
                  <a:pt x="17945" y="13265"/>
                  <a:pt x="17907" y="13303"/>
                </a:cubicBezTo>
                <a:cubicBezTo>
                  <a:pt x="17915" y="13240"/>
                  <a:pt x="17898" y="13228"/>
                  <a:pt x="17939" y="13176"/>
                </a:cubicBezTo>
                <a:cubicBezTo>
                  <a:pt x="17968" y="13139"/>
                  <a:pt x="18017" y="13077"/>
                  <a:pt x="18066" y="13081"/>
                </a:cubicBezTo>
                <a:cubicBezTo>
                  <a:pt x="18126" y="13086"/>
                  <a:pt x="18162" y="13166"/>
                  <a:pt x="18193" y="13208"/>
                </a:cubicBezTo>
                <a:cubicBezTo>
                  <a:pt x="18254" y="13291"/>
                  <a:pt x="18224" y="13422"/>
                  <a:pt x="18224" y="13526"/>
                </a:cubicBezTo>
                <a:cubicBezTo>
                  <a:pt x="18224" y="13653"/>
                  <a:pt x="18220" y="13784"/>
                  <a:pt x="18193" y="13906"/>
                </a:cubicBezTo>
                <a:cubicBezTo>
                  <a:pt x="18172" y="13999"/>
                  <a:pt x="18102" y="14160"/>
                  <a:pt x="18034" y="14224"/>
                </a:cubicBezTo>
                <a:cubicBezTo>
                  <a:pt x="17962" y="14291"/>
                  <a:pt x="17917" y="14345"/>
                  <a:pt x="17812" y="14351"/>
                </a:cubicBezTo>
                <a:cubicBezTo>
                  <a:pt x="17726" y="14356"/>
                  <a:pt x="17633" y="14365"/>
                  <a:pt x="17558" y="14319"/>
                </a:cubicBezTo>
                <a:cubicBezTo>
                  <a:pt x="17510" y="14290"/>
                  <a:pt x="17443" y="14213"/>
                  <a:pt x="17431" y="14160"/>
                </a:cubicBezTo>
                <a:cubicBezTo>
                  <a:pt x="17407" y="14058"/>
                  <a:pt x="17439" y="13939"/>
                  <a:pt x="17462" y="13843"/>
                </a:cubicBezTo>
              </a:path>
              <a:path w="1779" h="1811">
                <a:moveTo>
                  <a:pt x="18447" y="12668"/>
                </a:moveTo>
                <a:cubicBezTo>
                  <a:pt x="18446" y="12673"/>
                  <a:pt x="18419" y="12795"/>
                  <a:pt x="18415" y="12859"/>
                </a:cubicBezTo>
                <a:cubicBezTo>
                  <a:pt x="18411" y="12933"/>
                  <a:pt x="18415" y="12944"/>
                  <a:pt x="18415" y="13018"/>
                </a:cubicBezTo>
                <a:cubicBezTo>
                  <a:pt x="18378" y="12956"/>
                  <a:pt x="18383" y="12939"/>
                  <a:pt x="18383" y="12859"/>
                </a:cubicBezTo>
                <a:cubicBezTo>
                  <a:pt x="18383" y="12774"/>
                  <a:pt x="18383" y="12690"/>
                  <a:pt x="18383" y="12605"/>
                </a:cubicBezTo>
                <a:cubicBezTo>
                  <a:pt x="18551" y="12605"/>
                  <a:pt x="18735" y="12628"/>
                  <a:pt x="18891" y="12573"/>
                </a:cubicBezTo>
                <a:cubicBezTo>
                  <a:pt x="18947" y="12553"/>
                  <a:pt x="19017" y="12527"/>
                  <a:pt x="19082" y="12541"/>
                </a:cubicBezTo>
                <a:cubicBezTo>
                  <a:pt x="19140" y="12553"/>
                  <a:pt x="19155" y="12571"/>
                  <a:pt x="19177" y="12605"/>
                </a:cubicBezTo>
                <a:cubicBezTo>
                  <a:pt x="19231" y="12688"/>
                  <a:pt x="19196" y="12770"/>
                  <a:pt x="19177" y="12859"/>
                </a:cubicBezTo>
                <a:cubicBezTo>
                  <a:pt x="19140" y="13034"/>
                  <a:pt x="19065" y="13196"/>
                  <a:pt x="19018" y="13367"/>
                </a:cubicBezTo>
                <a:cubicBezTo>
                  <a:pt x="18968" y="13550"/>
                  <a:pt x="18910" y="13724"/>
                  <a:pt x="18860" y="13906"/>
                </a:cubicBezTo>
                <a:cubicBezTo>
                  <a:pt x="18849" y="13949"/>
                  <a:pt x="18839" y="13991"/>
                  <a:pt x="18828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7132680" y="4435560"/>
            <a:ext cx="1371600" cy="604800"/>
          </a:xfrm>
          <a:custGeom>
            <a:avLst/>
            <a:gdLst/>
            <a:ahLst/>
            <a:rect l="l" t="t" r="r" b="b"/>
            <a:pathLst>
              <a:path w="3811" h="1684">
                <a:moveTo>
                  <a:pt x="20288" y="12319"/>
                </a:moveTo>
                <a:cubicBezTo>
                  <a:pt x="20249" y="12383"/>
                  <a:pt x="20235" y="12495"/>
                  <a:pt x="20225" y="12573"/>
                </a:cubicBezTo>
                <a:cubicBezTo>
                  <a:pt x="20207" y="12720"/>
                  <a:pt x="20185" y="12872"/>
                  <a:pt x="20161" y="13018"/>
                </a:cubicBezTo>
                <a:cubicBezTo>
                  <a:pt x="20136" y="13170"/>
                  <a:pt x="20089" y="13377"/>
                  <a:pt x="20098" y="13526"/>
                </a:cubicBezTo>
                <a:cubicBezTo>
                  <a:pt x="20105" y="13642"/>
                  <a:pt x="20143" y="13765"/>
                  <a:pt x="20161" y="13875"/>
                </a:cubicBezTo>
                <a:cubicBezTo>
                  <a:pt x="20172" y="13942"/>
                  <a:pt x="20176" y="13993"/>
                  <a:pt x="20256" y="14002"/>
                </a:cubicBezTo>
                <a:cubicBezTo>
                  <a:pt x="20315" y="14009"/>
                  <a:pt x="20345" y="13999"/>
                  <a:pt x="20352" y="13938"/>
                </a:cubicBezTo>
                <a:cubicBezTo>
                  <a:pt x="20359" y="13877"/>
                  <a:pt x="20352" y="13808"/>
                  <a:pt x="20352" y="13748"/>
                </a:cubicBezTo>
              </a:path>
              <a:path w="3811" h="1684">
                <a:moveTo>
                  <a:pt x="19844" y="13208"/>
                </a:moveTo>
                <a:cubicBezTo>
                  <a:pt x="19759" y="13208"/>
                  <a:pt x="19892" y="13208"/>
                  <a:pt x="19907" y="13208"/>
                </a:cubicBezTo>
                <a:cubicBezTo>
                  <a:pt x="20012" y="13208"/>
                  <a:pt x="20105" y="13194"/>
                  <a:pt x="20193" y="13176"/>
                </a:cubicBezTo>
                <a:cubicBezTo>
                  <a:pt x="20256" y="13176"/>
                  <a:pt x="20278" y="13176"/>
                  <a:pt x="20320" y="13176"/>
                </a:cubicBezTo>
              </a:path>
              <a:path w="3811" h="1684">
                <a:moveTo>
                  <a:pt x="20479" y="13335"/>
                </a:moveTo>
                <a:cubicBezTo>
                  <a:pt x="20545" y="13335"/>
                  <a:pt x="20572" y="13312"/>
                  <a:pt x="20638" y="13303"/>
                </a:cubicBezTo>
              </a:path>
              <a:path w="3811" h="1684">
                <a:moveTo>
                  <a:pt x="21368" y="12764"/>
                </a:moveTo>
                <a:cubicBezTo>
                  <a:pt x="21377" y="12702"/>
                  <a:pt x="21387" y="12689"/>
                  <a:pt x="21400" y="12636"/>
                </a:cubicBezTo>
                <a:cubicBezTo>
                  <a:pt x="21346" y="12636"/>
                  <a:pt x="21279" y="12655"/>
                  <a:pt x="21241" y="12700"/>
                </a:cubicBezTo>
                <a:cubicBezTo>
                  <a:pt x="21177" y="12775"/>
                  <a:pt x="21101" y="12830"/>
                  <a:pt x="21050" y="12922"/>
                </a:cubicBezTo>
                <a:cubicBezTo>
                  <a:pt x="21014" y="12986"/>
                  <a:pt x="20987" y="13011"/>
                  <a:pt x="20987" y="13081"/>
                </a:cubicBezTo>
                <a:cubicBezTo>
                  <a:pt x="20987" y="13113"/>
                  <a:pt x="20987" y="13123"/>
                  <a:pt x="20987" y="13144"/>
                </a:cubicBezTo>
                <a:cubicBezTo>
                  <a:pt x="21055" y="13144"/>
                  <a:pt x="21077" y="13170"/>
                  <a:pt x="21146" y="13176"/>
                </a:cubicBezTo>
                <a:cubicBezTo>
                  <a:pt x="21220" y="13182"/>
                  <a:pt x="21254" y="13223"/>
                  <a:pt x="21304" y="13272"/>
                </a:cubicBezTo>
                <a:cubicBezTo>
                  <a:pt x="21353" y="13320"/>
                  <a:pt x="21391" y="13352"/>
                  <a:pt x="21368" y="13430"/>
                </a:cubicBezTo>
                <a:cubicBezTo>
                  <a:pt x="21347" y="13502"/>
                  <a:pt x="21286" y="13592"/>
                  <a:pt x="21241" y="13652"/>
                </a:cubicBezTo>
                <a:cubicBezTo>
                  <a:pt x="21207" y="13697"/>
                  <a:pt x="21104" y="13762"/>
                  <a:pt x="21050" y="13780"/>
                </a:cubicBezTo>
                <a:cubicBezTo>
                  <a:pt x="21026" y="13788"/>
                  <a:pt x="20980" y="13780"/>
                  <a:pt x="20955" y="13780"/>
                </a:cubicBezTo>
              </a:path>
              <a:path w="3811" h="1684">
                <a:moveTo>
                  <a:pt x="21463" y="12382"/>
                </a:moveTo>
                <a:cubicBezTo>
                  <a:pt x="21508" y="12457"/>
                  <a:pt x="21523" y="12541"/>
                  <a:pt x="21526" y="12636"/>
                </a:cubicBezTo>
                <a:cubicBezTo>
                  <a:pt x="21533" y="12863"/>
                  <a:pt x="21513" y="13081"/>
                  <a:pt x="21495" y="13303"/>
                </a:cubicBezTo>
                <a:cubicBezTo>
                  <a:pt x="21483" y="13445"/>
                  <a:pt x="21535" y="13628"/>
                  <a:pt x="21463" y="13748"/>
                </a:cubicBezTo>
                <a:cubicBezTo>
                  <a:pt x="21463" y="13652"/>
                  <a:pt x="21481" y="13557"/>
                  <a:pt x="21495" y="13462"/>
                </a:cubicBezTo>
                <a:cubicBezTo>
                  <a:pt x="21519" y="13300"/>
                  <a:pt x="21572" y="13141"/>
                  <a:pt x="21622" y="12986"/>
                </a:cubicBezTo>
                <a:cubicBezTo>
                  <a:pt x="21659" y="12872"/>
                  <a:pt x="21655" y="12881"/>
                  <a:pt x="21749" y="12827"/>
                </a:cubicBezTo>
                <a:cubicBezTo>
                  <a:pt x="21825" y="12827"/>
                  <a:pt x="21858" y="12874"/>
                  <a:pt x="21876" y="12954"/>
                </a:cubicBezTo>
                <a:cubicBezTo>
                  <a:pt x="21903" y="13073"/>
                  <a:pt x="21855" y="13191"/>
                  <a:pt x="21844" y="13303"/>
                </a:cubicBezTo>
                <a:cubicBezTo>
                  <a:pt x="21833" y="13416"/>
                  <a:pt x="21844" y="13538"/>
                  <a:pt x="21844" y="13652"/>
                </a:cubicBezTo>
              </a:path>
              <a:path w="3811" h="1684">
                <a:moveTo>
                  <a:pt x="22130" y="12859"/>
                </a:moveTo>
                <a:cubicBezTo>
                  <a:pt x="22130" y="12929"/>
                  <a:pt x="22174" y="12979"/>
                  <a:pt x="22162" y="13049"/>
                </a:cubicBezTo>
                <a:cubicBezTo>
                  <a:pt x="22135" y="13205"/>
                  <a:pt x="22112" y="13366"/>
                  <a:pt x="22098" y="13526"/>
                </a:cubicBezTo>
                <a:cubicBezTo>
                  <a:pt x="22098" y="13610"/>
                  <a:pt x="22098" y="13631"/>
                  <a:pt x="22098" y="13684"/>
                </a:cubicBezTo>
              </a:path>
              <a:path w="3811" h="1684">
                <a:moveTo>
                  <a:pt x="22384" y="12890"/>
                </a:moveTo>
                <a:cubicBezTo>
                  <a:pt x="22444" y="12910"/>
                  <a:pt x="22416" y="13011"/>
                  <a:pt x="22416" y="13081"/>
                </a:cubicBezTo>
                <a:cubicBezTo>
                  <a:pt x="22416" y="13221"/>
                  <a:pt x="22384" y="13350"/>
                  <a:pt x="22384" y="13494"/>
                </a:cubicBezTo>
                <a:cubicBezTo>
                  <a:pt x="22384" y="13547"/>
                  <a:pt x="22384" y="13557"/>
                  <a:pt x="22384" y="13589"/>
                </a:cubicBezTo>
                <a:cubicBezTo>
                  <a:pt x="22384" y="13676"/>
                  <a:pt x="22384" y="13480"/>
                  <a:pt x="22384" y="13462"/>
                </a:cubicBezTo>
                <a:cubicBezTo>
                  <a:pt x="22384" y="13288"/>
                  <a:pt x="22397" y="13153"/>
                  <a:pt x="22447" y="12986"/>
                </a:cubicBezTo>
                <a:cubicBezTo>
                  <a:pt x="22470" y="12910"/>
                  <a:pt x="22497" y="12789"/>
                  <a:pt x="22542" y="12732"/>
                </a:cubicBezTo>
                <a:cubicBezTo>
                  <a:pt x="22579" y="12685"/>
                  <a:pt x="22616" y="12700"/>
                  <a:pt x="22670" y="12700"/>
                </a:cubicBezTo>
              </a:path>
              <a:path w="3811" h="1684">
                <a:moveTo>
                  <a:pt x="22987" y="12351"/>
                </a:moveTo>
                <a:cubicBezTo>
                  <a:pt x="22974" y="12456"/>
                  <a:pt x="22971" y="12560"/>
                  <a:pt x="22955" y="12668"/>
                </a:cubicBezTo>
                <a:cubicBezTo>
                  <a:pt x="22926" y="12869"/>
                  <a:pt x="22897" y="13067"/>
                  <a:pt x="22892" y="13272"/>
                </a:cubicBezTo>
                <a:cubicBezTo>
                  <a:pt x="22889" y="13396"/>
                  <a:pt x="22851" y="13646"/>
                  <a:pt x="22924" y="13748"/>
                </a:cubicBezTo>
                <a:cubicBezTo>
                  <a:pt x="22934" y="13759"/>
                  <a:pt x="22945" y="13769"/>
                  <a:pt x="22955" y="13780"/>
                </a:cubicBezTo>
                <a:cubicBezTo>
                  <a:pt x="22955" y="13701"/>
                  <a:pt x="22980" y="13638"/>
                  <a:pt x="22987" y="13557"/>
                </a:cubicBezTo>
              </a:path>
              <a:path w="3811" h="1684">
                <a:moveTo>
                  <a:pt x="22828" y="12986"/>
                </a:moveTo>
                <a:cubicBezTo>
                  <a:pt x="22828" y="12997"/>
                  <a:pt x="22828" y="13007"/>
                  <a:pt x="22828" y="13018"/>
                </a:cubicBezTo>
                <a:cubicBezTo>
                  <a:pt x="22893" y="13018"/>
                  <a:pt x="22903" y="13016"/>
                  <a:pt x="22955" y="12986"/>
                </a:cubicBezTo>
                <a:cubicBezTo>
                  <a:pt x="23037" y="12939"/>
                  <a:pt x="23125" y="12901"/>
                  <a:pt x="23209" y="12859"/>
                </a:cubicBezTo>
              </a:path>
              <a:path w="3811" h="1684">
                <a:moveTo>
                  <a:pt x="23558" y="12510"/>
                </a:moveTo>
                <a:cubicBezTo>
                  <a:pt x="23509" y="12510"/>
                  <a:pt x="23463" y="12495"/>
                  <a:pt x="23432" y="12541"/>
                </a:cubicBezTo>
                <a:cubicBezTo>
                  <a:pt x="23380" y="12616"/>
                  <a:pt x="23327" y="12692"/>
                  <a:pt x="23273" y="12764"/>
                </a:cubicBezTo>
                <a:cubicBezTo>
                  <a:pt x="23233" y="12818"/>
                  <a:pt x="23226" y="12836"/>
                  <a:pt x="23273" y="12890"/>
                </a:cubicBezTo>
                <a:cubicBezTo>
                  <a:pt x="23315" y="12938"/>
                  <a:pt x="23349" y="12964"/>
                  <a:pt x="23400" y="12986"/>
                </a:cubicBezTo>
                <a:cubicBezTo>
                  <a:pt x="23469" y="13016"/>
                  <a:pt x="23506" y="13062"/>
                  <a:pt x="23558" y="13113"/>
                </a:cubicBezTo>
                <a:cubicBezTo>
                  <a:pt x="23621" y="13175"/>
                  <a:pt x="23622" y="13182"/>
                  <a:pt x="23622" y="13272"/>
                </a:cubicBezTo>
                <a:cubicBezTo>
                  <a:pt x="23622" y="13347"/>
                  <a:pt x="23636" y="13404"/>
                  <a:pt x="23590" y="13462"/>
                </a:cubicBezTo>
                <a:cubicBezTo>
                  <a:pt x="23540" y="13525"/>
                  <a:pt x="23509" y="13551"/>
                  <a:pt x="23432" y="13557"/>
                </a:cubicBezTo>
                <a:cubicBezTo>
                  <a:pt x="23374" y="13562"/>
                  <a:pt x="23361" y="13550"/>
                  <a:pt x="23304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2583000" y="3224160"/>
            <a:ext cx="1931760" cy="44640"/>
          </a:xfrm>
          <a:custGeom>
            <a:avLst/>
            <a:gdLst/>
            <a:ahLst/>
            <a:rect l="l" t="t" r="r" b="b"/>
            <a:pathLst>
              <a:path w="5366" h="127">
                <a:moveTo>
                  <a:pt x="7176" y="8985"/>
                </a:moveTo>
                <a:cubicBezTo>
                  <a:pt x="7350" y="8985"/>
                  <a:pt x="7520" y="8969"/>
                  <a:pt x="7684" y="8954"/>
                </a:cubicBezTo>
                <a:cubicBezTo>
                  <a:pt x="8379" y="8890"/>
                  <a:pt x="9155" y="8924"/>
                  <a:pt x="9842" y="8985"/>
                </a:cubicBezTo>
                <a:cubicBezTo>
                  <a:pt x="10252" y="9021"/>
                  <a:pt x="10675" y="8980"/>
                  <a:pt x="11081" y="9017"/>
                </a:cubicBezTo>
                <a:cubicBezTo>
                  <a:pt x="11218" y="9030"/>
                  <a:pt x="11360" y="9036"/>
                  <a:pt x="11494" y="9049"/>
                </a:cubicBezTo>
                <a:cubicBezTo>
                  <a:pt x="11630" y="9062"/>
                  <a:pt x="11771" y="9076"/>
                  <a:pt x="11906" y="9080"/>
                </a:cubicBezTo>
                <a:cubicBezTo>
                  <a:pt x="12117" y="9086"/>
                  <a:pt x="12330" y="9080"/>
                  <a:pt x="12541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2606760" y="3303720"/>
            <a:ext cx="1919160" cy="56880"/>
          </a:xfrm>
          <a:custGeom>
            <a:avLst/>
            <a:gdLst/>
            <a:ahLst/>
            <a:rect l="l" t="t" r="r" b="b"/>
            <a:pathLst>
              <a:path w="5335" h="159">
                <a:moveTo>
                  <a:pt x="12573" y="9303"/>
                </a:moveTo>
                <a:cubicBezTo>
                  <a:pt x="12534" y="9312"/>
                  <a:pt x="12480" y="9336"/>
                  <a:pt x="12446" y="9334"/>
                </a:cubicBezTo>
                <a:cubicBezTo>
                  <a:pt x="12377" y="9330"/>
                  <a:pt x="12325" y="9310"/>
                  <a:pt x="12256" y="9303"/>
                </a:cubicBezTo>
                <a:cubicBezTo>
                  <a:pt x="12131" y="9291"/>
                  <a:pt x="11991" y="9280"/>
                  <a:pt x="11874" y="9271"/>
                </a:cubicBezTo>
                <a:cubicBezTo>
                  <a:pt x="11507" y="9243"/>
                  <a:pt x="11123" y="9274"/>
                  <a:pt x="10763" y="9303"/>
                </a:cubicBezTo>
                <a:cubicBezTo>
                  <a:pt x="10368" y="9335"/>
                  <a:pt x="9941" y="9306"/>
                  <a:pt x="9557" y="9271"/>
                </a:cubicBezTo>
                <a:cubicBezTo>
                  <a:pt x="9439" y="9260"/>
                  <a:pt x="9322" y="9251"/>
                  <a:pt x="9208" y="9239"/>
                </a:cubicBezTo>
                <a:cubicBezTo>
                  <a:pt x="8990" y="9216"/>
                  <a:pt x="8756" y="9224"/>
                  <a:pt x="8541" y="9208"/>
                </a:cubicBezTo>
                <a:cubicBezTo>
                  <a:pt x="8122" y="9177"/>
                  <a:pt x="7670" y="9243"/>
                  <a:pt x="7271" y="9176"/>
                </a:cubicBezTo>
                <a:cubicBezTo>
                  <a:pt x="7260" y="9176"/>
                  <a:pt x="7250" y="9176"/>
                  <a:pt x="7239" y="9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/Valu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taurant charges $1.30 for 1 biscuit and 2 eggs.  It charges $2.15 for 2 biscuits and 3 eggs.  What is the cost of each biscuit and eg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4"/>
          <p:cNvSpPr/>
          <p:nvPr/>
        </p:nvSpPr>
        <p:spPr>
          <a:xfrm>
            <a:off x="6686640" y="2571840"/>
            <a:ext cx="799920" cy="1439640"/>
          </a:xfrm>
          <a:custGeom>
            <a:avLst/>
            <a:gdLst/>
            <a:ahLst/>
            <a:rect l="l" t="t" r="r" b="b"/>
            <a:pathLst>
              <a:path w="2223" h="4001">
                <a:moveTo>
                  <a:pt x="19431" y="10954"/>
                </a:moveTo>
                <a:cubicBezTo>
                  <a:pt x="19523" y="10954"/>
                  <a:pt x="19470" y="10932"/>
                  <a:pt x="19431" y="10954"/>
                </a:cubicBezTo>
                <a:cubicBezTo>
                  <a:pt x="19364" y="10991"/>
                  <a:pt x="19311" y="10992"/>
                  <a:pt x="19240" y="11017"/>
                </a:cubicBezTo>
                <a:cubicBezTo>
                  <a:pt x="19163" y="11044"/>
                  <a:pt x="19053" y="11071"/>
                  <a:pt x="18986" y="11112"/>
                </a:cubicBezTo>
                <a:cubicBezTo>
                  <a:pt x="18931" y="11146"/>
                  <a:pt x="18895" y="11144"/>
                  <a:pt x="18828" y="11144"/>
                </a:cubicBezTo>
                <a:cubicBezTo>
                  <a:pt x="18786" y="11144"/>
                  <a:pt x="18743" y="11144"/>
                  <a:pt x="18701" y="11144"/>
                </a:cubicBezTo>
                <a:cubicBezTo>
                  <a:pt x="18754" y="11144"/>
                  <a:pt x="18784" y="11131"/>
                  <a:pt x="18828" y="11112"/>
                </a:cubicBezTo>
                <a:cubicBezTo>
                  <a:pt x="18919" y="11074"/>
                  <a:pt x="18990" y="11040"/>
                  <a:pt x="19082" y="11017"/>
                </a:cubicBezTo>
                <a:cubicBezTo>
                  <a:pt x="19193" y="10988"/>
                  <a:pt x="19252" y="10954"/>
                  <a:pt x="19368" y="10954"/>
                </a:cubicBezTo>
                <a:cubicBezTo>
                  <a:pt x="19431" y="10954"/>
                  <a:pt x="19495" y="10954"/>
                  <a:pt x="19558" y="10954"/>
                </a:cubicBezTo>
                <a:cubicBezTo>
                  <a:pt x="19628" y="10954"/>
                  <a:pt x="19628" y="10954"/>
                  <a:pt x="19558" y="10954"/>
                </a:cubicBezTo>
                <a:cubicBezTo>
                  <a:pt x="19453" y="10954"/>
                  <a:pt x="19372" y="10974"/>
                  <a:pt x="19272" y="10986"/>
                </a:cubicBezTo>
                <a:cubicBezTo>
                  <a:pt x="19154" y="11000"/>
                  <a:pt x="19037" y="11007"/>
                  <a:pt x="18923" y="11049"/>
                </a:cubicBezTo>
                <a:cubicBezTo>
                  <a:pt x="18842" y="11079"/>
                  <a:pt x="18743" y="11129"/>
                  <a:pt x="18669" y="11144"/>
                </a:cubicBezTo>
                <a:cubicBezTo>
                  <a:pt x="18628" y="11152"/>
                  <a:pt x="18564" y="11144"/>
                  <a:pt x="18606" y="11144"/>
                </a:cubicBezTo>
                <a:cubicBezTo>
                  <a:pt x="18692" y="11144"/>
                  <a:pt x="18750" y="11125"/>
                  <a:pt x="18828" y="11112"/>
                </a:cubicBezTo>
                <a:cubicBezTo>
                  <a:pt x="18919" y="11097"/>
                  <a:pt x="19026" y="11074"/>
                  <a:pt x="19114" y="11049"/>
                </a:cubicBezTo>
                <a:cubicBezTo>
                  <a:pt x="19219" y="11019"/>
                  <a:pt x="19286" y="10986"/>
                  <a:pt x="19399" y="10986"/>
                </a:cubicBezTo>
                <a:cubicBezTo>
                  <a:pt x="19452" y="10986"/>
                  <a:pt x="19505" y="10986"/>
                  <a:pt x="19558" y="10986"/>
                </a:cubicBezTo>
                <a:cubicBezTo>
                  <a:pt x="19694" y="11065"/>
                  <a:pt x="19565" y="10989"/>
                  <a:pt x="19526" y="10986"/>
                </a:cubicBezTo>
                <a:cubicBezTo>
                  <a:pt x="19373" y="10975"/>
                  <a:pt x="19230" y="10997"/>
                  <a:pt x="19082" y="11017"/>
                </a:cubicBezTo>
                <a:cubicBezTo>
                  <a:pt x="18994" y="11029"/>
                  <a:pt x="18902" y="11066"/>
                  <a:pt x="18828" y="11081"/>
                </a:cubicBezTo>
                <a:cubicBezTo>
                  <a:pt x="18784" y="11090"/>
                  <a:pt x="18676" y="11078"/>
                  <a:pt x="18764" y="11049"/>
                </a:cubicBezTo>
              </a:path>
              <a:path w="2223" h="4001">
                <a:moveTo>
                  <a:pt x="20256" y="7144"/>
                </a:moveTo>
                <a:cubicBezTo>
                  <a:pt x="20324" y="7278"/>
                  <a:pt x="20333" y="7378"/>
                  <a:pt x="20352" y="7525"/>
                </a:cubicBezTo>
                <a:cubicBezTo>
                  <a:pt x="20387" y="7792"/>
                  <a:pt x="20421" y="8052"/>
                  <a:pt x="20447" y="8318"/>
                </a:cubicBezTo>
                <a:cubicBezTo>
                  <a:pt x="20479" y="8648"/>
                  <a:pt x="20516" y="8974"/>
                  <a:pt x="20542" y="9303"/>
                </a:cubicBezTo>
                <a:cubicBezTo>
                  <a:pt x="20588" y="9883"/>
                  <a:pt x="20660" y="10485"/>
                  <a:pt x="20796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5"/>
          <p:cNvSpPr/>
          <p:nvPr/>
        </p:nvSpPr>
        <p:spPr>
          <a:xfrm>
            <a:off x="835200" y="2936880"/>
            <a:ext cx="331560" cy="434880"/>
          </a:xfrm>
          <a:custGeom>
            <a:avLst/>
            <a:gdLst/>
            <a:ahLst/>
            <a:rect l="l" t="t" r="r" b="b"/>
            <a:pathLst>
              <a:path w="921" h="1207">
                <a:moveTo>
                  <a:pt x="2381" y="8160"/>
                </a:moveTo>
                <a:cubicBezTo>
                  <a:pt x="2394" y="8226"/>
                  <a:pt x="2416" y="8288"/>
                  <a:pt x="2445" y="8350"/>
                </a:cubicBezTo>
                <a:cubicBezTo>
                  <a:pt x="2495" y="8459"/>
                  <a:pt x="2511" y="8557"/>
                  <a:pt x="2572" y="8668"/>
                </a:cubicBezTo>
                <a:cubicBezTo>
                  <a:pt x="2627" y="8768"/>
                  <a:pt x="2686" y="8880"/>
                  <a:pt x="2730" y="8985"/>
                </a:cubicBezTo>
                <a:cubicBezTo>
                  <a:pt x="2769" y="9079"/>
                  <a:pt x="2799" y="9185"/>
                  <a:pt x="2858" y="9271"/>
                </a:cubicBezTo>
                <a:cubicBezTo>
                  <a:pt x="2888" y="9314"/>
                  <a:pt x="2893" y="9418"/>
                  <a:pt x="2921" y="9334"/>
                </a:cubicBezTo>
              </a:path>
              <a:path w="921" h="1207">
                <a:moveTo>
                  <a:pt x="2826" y="8223"/>
                </a:moveTo>
                <a:cubicBezTo>
                  <a:pt x="2808" y="8295"/>
                  <a:pt x="2758" y="8369"/>
                  <a:pt x="2730" y="8446"/>
                </a:cubicBezTo>
                <a:cubicBezTo>
                  <a:pt x="2657" y="8642"/>
                  <a:pt x="2609" y="8835"/>
                  <a:pt x="2508" y="9017"/>
                </a:cubicBezTo>
                <a:cubicBezTo>
                  <a:pt x="2460" y="9103"/>
                  <a:pt x="2372" y="9212"/>
                  <a:pt x="2350" y="9303"/>
                </a:cubicBezTo>
                <a:cubicBezTo>
                  <a:pt x="2350" y="9356"/>
                  <a:pt x="2360" y="9377"/>
                  <a:pt x="2318" y="9366"/>
                </a:cubicBezTo>
              </a:path>
              <a:path w="921" h="1207">
                <a:moveTo>
                  <a:pt x="3207" y="8604"/>
                </a:moveTo>
                <a:cubicBezTo>
                  <a:pt x="3175" y="8604"/>
                  <a:pt x="3164" y="8604"/>
                  <a:pt x="3175" y="8636"/>
                </a:cubicBezTo>
              </a:path>
              <a:path w="921" h="1207">
                <a:moveTo>
                  <a:pt x="3207" y="9080"/>
                </a:moveTo>
                <a:cubicBezTo>
                  <a:pt x="3207" y="9133"/>
                  <a:pt x="3196" y="9154"/>
                  <a:pt x="3238" y="9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6"/>
          <p:cNvSpPr/>
          <p:nvPr/>
        </p:nvSpPr>
        <p:spPr>
          <a:xfrm>
            <a:off x="1371600" y="2778120"/>
            <a:ext cx="1314360" cy="604800"/>
          </a:xfrm>
          <a:custGeom>
            <a:avLst/>
            <a:gdLst/>
            <a:ahLst/>
            <a:rect l="l" t="t" r="r" b="b"/>
            <a:pathLst>
              <a:path w="3652" h="1684">
                <a:moveTo>
                  <a:pt x="3905" y="7715"/>
                </a:moveTo>
                <a:cubicBezTo>
                  <a:pt x="3896" y="7803"/>
                  <a:pt x="3878" y="7848"/>
                  <a:pt x="3874" y="7938"/>
                </a:cubicBezTo>
                <a:cubicBezTo>
                  <a:pt x="3868" y="8067"/>
                  <a:pt x="3846" y="8189"/>
                  <a:pt x="3842" y="8318"/>
                </a:cubicBezTo>
                <a:cubicBezTo>
                  <a:pt x="3837" y="8483"/>
                  <a:pt x="3826" y="8634"/>
                  <a:pt x="3810" y="8795"/>
                </a:cubicBezTo>
                <a:cubicBezTo>
                  <a:pt x="3791" y="8984"/>
                  <a:pt x="3810" y="9493"/>
                  <a:pt x="3810" y="9303"/>
                </a:cubicBezTo>
                <a:cubicBezTo>
                  <a:pt x="3810" y="9160"/>
                  <a:pt x="3800" y="9027"/>
                  <a:pt x="3842" y="8890"/>
                </a:cubicBezTo>
                <a:cubicBezTo>
                  <a:pt x="3876" y="8780"/>
                  <a:pt x="3896" y="8680"/>
                  <a:pt x="3937" y="8572"/>
                </a:cubicBezTo>
                <a:cubicBezTo>
                  <a:pt x="3958" y="8516"/>
                  <a:pt x="4048" y="8350"/>
                  <a:pt x="4128" y="8350"/>
                </a:cubicBezTo>
                <a:cubicBezTo>
                  <a:pt x="4198" y="8350"/>
                  <a:pt x="4273" y="8404"/>
                  <a:pt x="4286" y="8477"/>
                </a:cubicBezTo>
                <a:cubicBezTo>
                  <a:pt x="4305" y="8583"/>
                  <a:pt x="4339" y="8715"/>
                  <a:pt x="4318" y="8826"/>
                </a:cubicBezTo>
                <a:cubicBezTo>
                  <a:pt x="4295" y="8947"/>
                  <a:pt x="4272" y="9061"/>
                  <a:pt x="4223" y="9176"/>
                </a:cubicBezTo>
                <a:cubicBezTo>
                  <a:pt x="4185" y="9265"/>
                  <a:pt x="4150" y="9332"/>
                  <a:pt x="4064" y="9366"/>
                </a:cubicBezTo>
                <a:cubicBezTo>
                  <a:pt x="4002" y="9391"/>
                  <a:pt x="3896" y="9365"/>
                  <a:pt x="3842" y="9334"/>
                </a:cubicBezTo>
                <a:cubicBezTo>
                  <a:pt x="3793" y="9306"/>
                  <a:pt x="3803" y="9224"/>
                  <a:pt x="3810" y="9176"/>
                </a:cubicBezTo>
                <a:cubicBezTo>
                  <a:pt x="3821" y="9144"/>
                  <a:pt x="3831" y="9112"/>
                  <a:pt x="3842" y="9080"/>
                </a:cubicBezTo>
              </a:path>
              <a:path w="3652" h="1684">
                <a:moveTo>
                  <a:pt x="4540" y="8318"/>
                </a:moveTo>
                <a:cubicBezTo>
                  <a:pt x="4540" y="8420"/>
                  <a:pt x="4519" y="8506"/>
                  <a:pt x="4508" y="8604"/>
                </a:cubicBezTo>
                <a:cubicBezTo>
                  <a:pt x="4483" y="8824"/>
                  <a:pt x="4480" y="9136"/>
                  <a:pt x="4540" y="9334"/>
                </a:cubicBezTo>
                <a:cubicBezTo>
                  <a:pt x="4540" y="9345"/>
                  <a:pt x="4540" y="9355"/>
                  <a:pt x="4540" y="9366"/>
                </a:cubicBezTo>
              </a:path>
              <a:path w="3652" h="1684">
                <a:moveTo>
                  <a:pt x="5239" y="8350"/>
                </a:moveTo>
                <a:cubicBezTo>
                  <a:pt x="5239" y="8283"/>
                  <a:pt x="5245" y="8283"/>
                  <a:pt x="5207" y="8255"/>
                </a:cubicBezTo>
                <a:cubicBezTo>
                  <a:pt x="5123" y="8192"/>
                  <a:pt x="5094" y="8241"/>
                  <a:pt x="5016" y="8287"/>
                </a:cubicBezTo>
                <a:cubicBezTo>
                  <a:pt x="4939" y="8333"/>
                  <a:pt x="4857" y="8386"/>
                  <a:pt x="4826" y="8477"/>
                </a:cubicBezTo>
                <a:cubicBezTo>
                  <a:pt x="4809" y="8528"/>
                  <a:pt x="4838" y="8658"/>
                  <a:pt x="4858" y="8700"/>
                </a:cubicBezTo>
                <a:cubicBezTo>
                  <a:pt x="4894" y="8777"/>
                  <a:pt x="5001" y="8831"/>
                  <a:pt x="5048" y="8890"/>
                </a:cubicBezTo>
                <a:cubicBezTo>
                  <a:pt x="5103" y="8959"/>
                  <a:pt x="5161" y="9088"/>
                  <a:pt x="5144" y="9176"/>
                </a:cubicBezTo>
                <a:cubicBezTo>
                  <a:pt x="5133" y="9231"/>
                  <a:pt x="5097" y="9302"/>
                  <a:pt x="5048" y="9334"/>
                </a:cubicBezTo>
                <a:cubicBezTo>
                  <a:pt x="4983" y="9376"/>
                  <a:pt x="4932" y="9366"/>
                  <a:pt x="4858" y="9366"/>
                </a:cubicBezTo>
                <a:cubicBezTo>
                  <a:pt x="4785" y="9366"/>
                  <a:pt x="4770" y="9350"/>
                  <a:pt x="4762" y="9271"/>
                </a:cubicBezTo>
                <a:cubicBezTo>
                  <a:pt x="4762" y="9260"/>
                  <a:pt x="4762" y="9250"/>
                  <a:pt x="4762" y="9239"/>
                </a:cubicBezTo>
              </a:path>
              <a:path w="3652" h="1684">
                <a:moveTo>
                  <a:pt x="5747" y="8541"/>
                </a:moveTo>
                <a:cubicBezTo>
                  <a:pt x="5747" y="8474"/>
                  <a:pt x="5742" y="8450"/>
                  <a:pt x="5715" y="8414"/>
                </a:cubicBezTo>
                <a:cubicBezTo>
                  <a:pt x="5650" y="8327"/>
                  <a:pt x="5611" y="8411"/>
                  <a:pt x="5556" y="8446"/>
                </a:cubicBezTo>
                <a:cubicBezTo>
                  <a:pt x="5477" y="8496"/>
                  <a:pt x="5386" y="8630"/>
                  <a:pt x="5366" y="8731"/>
                </a:cubicBezTo>
                <a:cubicBezTo>
                  <a:pt x="5340" y="8867"/>
                  <a:pt x="5357" y="9017"/>
                  <a:pt x="5366" y="9144"/>
                </a:cubicBezTo>
                <a:cubicBezTo>
                  <a:pt x="5373" y="9242"/>
                  <a:pt x="5376" y="9323"/>
                  <a:pt x="5461" y="9366"/>
                </a:cubicBezTo>
                <a:cubicBezTo>
                  <a:pt x="5534" y="9403"/>
                  <a:pt x="5578" y="9416"/>
                  <a:pt x="5652" y="9366"/>
                </a:cubicBezTo>
                <a:cubicBezTo>
                  <a:pt x="5693" y="9323"/>
                  <a:pt x="5715" y="9302"/>
                  <a:pt x="5747" y="9271"/>
                </a:cubicBezTo>
              </a:path>
              <a:path w="3652" h="1684">
                <a:moveTo>
                  <a:pt x="5906" y="8414"/>
                </a:moveTo>
                <a:cubicBezTo>
                  <a:pt x="5906" y="8711"/>
                  <a:pt x="5864" y="9061"/>
                  <a:pt x="5937" y="9334"/>
                </a:cubicBezTo>
                <a:cubicBezTo>
                  <a:pt x="5937" y="9345"/>
                  <a:pt x="5937" y="9355"/>
                  <a:pt x="5937" y="9366"/>
                </a:cubicBezTo>
                <a:cubicBezTo>
                  <a:pt x="5984" y="9354"/>
                  <a:pt x="6034" y="9318"/>
                  <a:pt x="6064" y="9271"/>
                </a:cubicBezTo>
                <a:cubicBezTo>
                  <a:pt x="6129" y="9172"/>
                  <a:pt x="6131" y="9034"/>
                  <a:pt x="6160" y="8922"/>
                </a:cubicBezTo>
                <a:cubicBezTo>
                  <a:pt x="6196" y="8782"/>
                  <a:pt x="6247" y="8646"/>
                  <a:pt x="6286" y="8509"/>
                </a:cubicBezTo>
                <a:cubicBezTo>
                  <a:pt x="6305" y="8441"/>
                  <a:pt x="6306" y="8451"/>
                  <a:pt x="6286" y="8509"/>
                </a:cubicBezTo>
                <a:cubicBezTo>
                  <a:pt x="6252" y="8606"/>
                  <a:pt x="6234" y="8723"/>
                  <a:pt x="6223" y="8826"/>
                </a:cubicBezTo>
                <a:cubicBezTo>
                  <a:pt x="6212" y="8929"/>
                  <a:pt x="6224" y="9050"/>
                  <a:pt x="6255" y="9144"/>
                </a:cubicBezTo>
                <a:cubicBezTo>
                  <a:pt x="6266" y="9177"/>
                  <a:pt x="6328" y="9295"/>
                  <a:pt x="6382" y="9271"/>
                </a:cubicBezTo>
                <a:cubicBezTo>
                  <a:pt x="6427" y="9251"/>
                  <a:pt x="6456" y="9181"/>
                  <a:pt x="6477" y="9144"/>
                </a:cubicBezTo>
              </a:path>
              <a:path w="3652" h="1684">
                <a:moveTo>
                  <a:pt x="6668" y="8446"/>
                </a:moveTo>
                <a:cubicBezTo>
                  <a:pt x="6615" y="8481"/>
                  <a:pt x="6636" y="8586"/>
                  <a:pt x="6636" y="8668"/>
                </a:cubicBezTo>
                <a:cubicBezTo>
                  <a:pt x="6636" y="8882"/>
                  <a:pt x="6620" y="9100"/>
                  <a:pt x="6668" y="9303"/>
                </a:cubicBezTo>
                <a:cubicBezTo>
                  <a:pt x="6685" y="9377"/>
                  <a:pt x="6706" y="9377"/>
                  <a:pt x="6763" y="9334"/>
                </a:cubicBezTo>
              </a:path>
              <a:path w="3652" h="1684">
                <a:moveTo>
                  <a:pt x="7207" y="8001"/>
                </a:moveTo>
                <a:cubicBezTo>
                  <a:pt x="7170" y="8026"/>
                  <a:pt x="7152" y="8184"/>
                  <a:pt x="7144" y="8255"/>
                </a:cubicBezTo>
                <a:cubicBezTo>
                  <a:pt x="7126" y="8413"/>
                  <a:pt x="7093" y="8573"/>
                  <a:pt x="7080" y="8731"/>
                </a:cubicBezTo>
                <a:cubicBezTo>
                  <a:pt x="7069" y="8859"/>
                  <a:pt x="7075" y="9023"/>
                  <a:pt x="7112" y="9144"/>
                </a:cubicBezTo>
                <a:cubicBezTo>
                  <a:pt x="7138" y="9231"/>
                  <a:pt x="7224" y="9264"/>
                  <a:pt x="7302" y="9271"/>
                </a:cubicBezTo>
                <a:cubicBezTo>
                  <a:pt x="7373" y="9277"/>
                  <a:pt x="7417" y="9221"/>
                  <a:pt x="7461" y="9176"/>
                </a:cubicBezTo>
              </a:path>
              <a:path w="3652" h="1684">
                <a:moveTo>
                  <a:pt x="6858" y="8572"/>
                </a:moveTo>
                <a:cubicBezTo>
                  <a:pt x="6923" y="8588"/>
                  <a:pt x="6939" y="8604"/>
                  <a:pt x="7017" y="8604"/>
                </a:cubicBezTo>
                <a:cubicBezTo>
                  <a:pt x="7155" y="8604"/>
                  <a:pt x="7292" y="8604"/>
                  <a:pt x="7430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7"/>
          <p:cNvSpPr/>
          <p:nvPr/>
        </p:nvSpPr>
        <p:spPr>
          <a:xfrm>
            <a:off x="3692520" y="2583000"/>
            <a:ext cx="5176800" cy="1245960"/>
          </a:xfrm>
          <a:custGeom>
            <a:avLst/>
            <a:gdLst/>
            <a:ahLst/>
            <a:rect l="l" t="t" r="r" b="b"/>
            <a:pathLst>
              <a:path w="14384" h="3461">
                <a:moveTo>
                  <a:pt x="12764" y="7969"/>
                </a:moveTo>
                <a:cubicBezTo>
                  <a:pt x="12777" y="8024"/>
                  <a:pt x="12816" y="8067"/>
                  <a:pt x="12827" y="8128"/>
                </a:cubicBezTo>
                <a:cubicBezTo>
                  <a:pt x="12846" y="8233"/>
                  <a:pt x="12876" y="8338"/>
                  <a:pt x="12890" y="8446"/>
                </a:cubicBezTo>
                <a:cubicBezTo>
                  <a:pt x="12903" y="8547"/>
                  <a:pt x="12926" y="8668"/>
                  <a:pt x="12954" y="8763"/>
                </a:cubicBezTo>
                <a:cubicBezTo>
                  <a:pt x="12978" y="8845"/>
                  <a:pt x="13015" y="8976"/>
                  <a:pt x="13049" y="9049"/>
                </a:cubicBezTo>
                <a:cubicBezTo>
                  <a:pt x="13081" y="9118"/>
                  <a:pt x="13124" y="9201"/>
                  <a:pt x="13144" y="9271"/>
                </a:cubicBezTo>
                <a:cubicBezTo>
                  <a:pt x="13155" y="9308"/>
                  <a:pt x="13167" y="9328"/>
                  <a:pt x="13176" y="9366"/>
                </a:cubicBezTo>
              </a:path>
              <a:path w="14384" h="3461">
                <a:moveTo>
                  <a:pt x="13303" y="7969"/>
                </a:moveTo>
                <a:cubicBezTo>
                  <a:pt x="13268" y="8040"/>
                  <a:pt x="13224" y="8119"/>
                  <a:pt x="13176" y="8192"/>
                </a:cubicBezTo>
                <a:cubicBezTo>
                  <a:pt x="13077" y="8344"/>
                  <a:pt x="13011" y="8510"/>
                  <a:pt x="12922" y="8668"/>
                </a:cubicBezTo>
                <a:cubicBezTo>
                  <a:pt x="12807" y="8873"/>
                  <a:pt x="12723" y="9084"/>
                  <a:pt x="12636" y="9303"/>
                </a:cubicBezTo>
                <a:cubicBezTo>
                  <a:pt x="12576" y="9454"/>
                  <a:pt x="12515" y="9600"/>
                  <a:pt x="12446" y="9747"/>
                </a:cubicBezTo>
              </a:path>
              <a:path w="14384" h="3461">
                <a:moveTo>
                  <a:pt x="14129" y="7938"/>
                </a:moveTo>
                <a:cubicBezTo>
                  <a:pt x="14073" y="8010"/>
                  <a:pt x="14069" y="8097"/>
                  <a:pt x="14065" y="8192"/>
                </a:cubicBezTo>
                <a:cubicBezTo>
                  <a:pt x="14054" y="8481"/>
                  <a:pt x="14062" y="8764"/>
                  <a:pt x="14034" y="9049"/>
                </a:cubicBezTo>
                <a:cubicBezTo>
                  <a:pt x="14022" y="9172"/>
                  <a:pt x="14013" y="9198"/>
                  <a:pt x="13970" y="9303"/>
                </a:cubicBezTo>
                <a:cubicBezTo>
                  <a:pt x="13970" y="9313"/>
                  <a:pt x="13970" y="9324"/>
                  <a:pt x="13970" y="9334"/>
                </a:cubicBezTo>
              </a:path>
              <a:path w="14384" h="3461">
                <a:moveTo>
                  <a:pt x="13716" y="8954"/>
                </a:moveTo>
                <a:cubicBezTo>
                  <a:pt x="13729" y="8916"/>
                  <a:pt x="13765" y="8916"/>
                  <a:pt x="13811" y="8890"/>
                </a:cubicBezTo>
                <a:cubicBezTo>
                  <a:pt x="13890" y="8845"/>
                  <a:pt x="13993" y="8819"/>
                  <a:pt x="14065" y="8763"/>
                </a:cubicBezTo>
                <a:cubicBezTo>
                  <a:pt x="14143" y="8703"/>
                  <a:pt x="14211" y="8664"/>
                  <a:pt x="14288" y="8604"/>
                </a:cubicBezTo>
              </a:path>
              <a:path w="14384" h="3461">
                <a:moveTo>
                  <a:pt x="14605" y="7969"/>
                </a:moveTo>
                <a:cubicBezTo>
                  <a:pt x="14605" y="7959"/>
                  <a:pt x="14605" y="7948"/>
                  <a:pt x="14605" y="7938"/>
                </a:cubicBezTo>
              </a:path>
              <a:path w="14384" h="3461">
                <a:moveTo>
                  <a:pt x="14700" y="7810"/>
                </a:moveTo>
                <a:cubicBezTo>
                  <a:pt x="14743" y="7736"/>
                  <a:pt x="14789" y="7675"/>
                  <a:pt x="14891" y="7715"/>
                </a:cubicBezTo>
                <a:cubicBezTo>
                  <a:pt x="14999" y="7757"/>
                  <a:pt x="15014" y="7832"/>
                  <a:pt x="15018" y="7938"/>
                </a:cubicBezTo>
                <a:cubicBezTo>
                  <a:pt x="15025" y="8109"/>
                  <a:pt x="14995" y="8249"/>
                  <a:pt x="14954" y="8414"/>
                </a:cubicBezTo>
                <a:cubicBezTo>
                  <a:pt x="14910" y="8589"/>
                  <a:pt x="14839" y="8758"/>
                  <a:pt x="14764" y="8922"/>
                </a:cubicBezTo>
                <a:cubicBezTo>
                  <a:pt x="14722" y="9014"/>
                  <a:pt x="14661" y="9164"/>
                  <a:pt x="14605" y="9239"/>
                </a:cubicBezTo>
                <a:cubicBezTo>
                  <a:pt x="14576" y="9268"/>
                  <a:pt x="14565" y="9274"/>
                  <a:pt x="14573" y="9303"/>
                </a:cubicBezTo>
                <a:cubicBezTo>
                  <a:pt x="14594" y="9277"/>
                  <a:pt x="14592" y="9237"/>
                  <a:pt x="14637" y="9208"/>
                </a:cubicBezTo>
                <a:cubicBezTo>
                  <a:pt x="14668" y="9188"/>
                  <a:pt x="14720" y="9168"/>
                  <a:pt x="14764" y="9176"/>
                </a:cubicBezTo>
                <a:cubicBezTo>
                  <a:pt x="14855" y="9193"/>
                  <a:pt x="14888" y="9238"/>
                  <a:pt x="14954" y="9303"/>
                </a:cubicBezTo>
                <a:cubicBezTo>
                  <a:pt x="14977" y="9326"/>
                  <a:pt x="15052" y="9400"/>
                  <a:pt x="15081" y="9398"/>
                </a:cubicBezTo>
                <a:cubicBezTo>
                  <a:pt x="15146" y="9394"/>
                  <a:pt x="15117" y="9362"/>
                  <a:pt x="15145" y="9334"/>
                </a:cubicBezTo>
              </a:path>
              <a:path w="14384" h="3461">
                <a:moveTo>
                  <a:pt x="15208" y="8572"/>
                </a:moveTo>
                <a:cubicBezTo>
                  <a:pt x="15217" y="8648"/>
                  <a:pt x="15225" y="8719"/>
                  <a:pt x="15240" y="8795"/>
                </a:cubicBezTo>
                <a:cubicBezTo>
                  <a:pt x="15269" y="8944"/>
                  <a:pt x="15320" y="9095"/>
                  <a:pt x="15367" y="9239"/>
                </a:cubicBezTo>
                <a:cubicBezTo>
                  <a:pt x="15396" y="9327"/>
                  <a:pt x="15416" y="9367"/>
                  <a:pt x="15494" y="9398"/>
                </a:cubicBezTo>
                <a:cubicBezTo>
                  <a:pt x="15505" y="9398"/>
                  <a:pt x="15515" y="9398"/>
                  <a:pt x="15526" y="9398"/>
                </a:cubicBezTo>
                <a:cubicBezTo>
                  <a:pt x="15608" y="9316"/>
                  <a:pt x="15596" y="9286"/>
                  <a:pt x="15621" y="9176"/>
                </a:cubicBezTo>
                <a:cubicBezTo>
                  <a:pt x="15658" y="9018"/>
                  <a:pt x="15657" y="8859"/>
                  <a:pt x="15684" y="8700"/>
                </a:cubicBezTo>
                <a:cubicBezTo>
                  <a:pt x="15698" y="8615"/>
                  <a:pt x="15709" y="8582"/>
                  <a:pt x="15716" y="8509"/>
                </a:cubicBezTo>
                <a:cubicBezTo>
                  <a:pt x="15716" y="8610"/>
                  <a:pt x="15739" y="8699"/>
                  <a:pt x="15748" y="8795"/>
                </a:cubicBezTo>
                <a:cubicBezTo>
                  <a:pt x="15764" y="8966"/>
                  <a:pt x="15795" y="9134"/>
                  <a:pt x="15812" y="9303"/>
                </a:cubicBezTo>
                <a:cubicBezTo>
                  <a:pt x="15831" y="9496"/>
                  <a:pt x="15865" y="9711"/>
                  <a:pt x="15843" y="9906"/>
                </a:cubicBezTo>
                <a:cubicBezTo>
                  <a:pt x="15821" y="10102"/>
                  <a:pt x="15792" y="10239"/>
                  <a:pt x="15716" y="10414"/>
                </a:cubicBezTo>
                <a:cubicBezTo>
                  <a:pt x="15661" y="10540"/>
                  <a:pt x="15573" y="10609"/>
                  <a:pt x="15430" y="10636"/>
                </a:cubicBezTo>
                <a:cubicBezTo>
                  <a:pt x="15309" y="10659"/>
                  <a:pt x="15171" y="10541"/>
                  <a:pt x="15113" y="10446"/>
                </a:cubicBezTo>
                <a:cubicBezTo>
                  <a:pt x="15081" y="10350"/>
                  <a:pt x="15071" y="10319"/>
                  <a:pt x="15050" y="10255"/>
                </a:cubicBezTo>
              </a:path>
              <a:path w="14384" h="3461">
                <a:moveTo>
                  <a:pt x="16097" y="8763"/>
                </a:moveTo>
                <a:cubicBezTo>
                  <a:pt x="16162" y="8747"/>
                  <a:pt x="16178" y="8731"/>
                  <a:pt x="16256" y="8731"/>
                </a:cubicBezTo>
                <a:cubicBezTo>
                  <a:pt x="16383" y="8731"/>
                  <a:pt x="16510" y="8731"/>
                  <a:pt x="16637" y="8731"/>
                </a:cubicBezTo>
              </a:path>
              <a:path w="14384" h="3461">
                <a:moveTo>
                  <a:pt x="16097" y="9208"/>
                </a:moveTo>
                <a:cubicBezTo>
                  <a:pt x="16183" y="9208"/>
                  <a:pt x="16222" y="9157"/>
                  <a:pt x="16288" y="9144"/>
                </a:cubicBezTo>
                <a:cubicBezTo>
                  <a:pt x="16381" y="9144"/>
                  <a:pt x="16412" y="9145"/>
                  <a:pt x="16446" y="9080"/>
                </a:cubicBezTo>
              </a:path>
              <a:path w="14384" h="3461">
                <a:moveTo>
                  <a:pt x="16891" y="7938"/>
                </a:moveTo>
                <a:cubicBezTo>
                  <a:pt x="16940" y="8018"/>
                  <a:pt x="16951" y="8122"/>
                  <a:pt x="16954" y="8223"/>
                </a:cubicBezTo>
                <a:cubicBezTo>
                  <a:pt x="16960" y="8407"/>
                  <a:pt x="17013" y="8578"/>
                  <a:pt x="17018" y="8763"/>
                </a:cubicBezTo>
                <a:cubicBezTo>
                  <a:pt x="17022" y="8916"/>
                  <a:pt x="17050" y="9054"/>
                  <a:pt x="17050" y="9208"/>
                </a:cubicBezTo>
                <a:cubicBezTo>
                  <a:pt x="17050" y="9261"/>
                  <a:pt x="17050" y="9313"/>
                  <a:pt x="17050" y="9366"/>
                </a:cubicBezTo>
              </a:path>
              <a:path w="14384" h="3461">
                <a:moveTo>
                  <a:pt x="17336" y="9080"/>
                </a:moveTo>
                <a:cubicBezTo>
                  <a:pt x="17229" y="9080"/>
                  <a:pt x="17411" y="9080"/>
                  <a:pt x="17304" y="9080"/>
                </a:cubicBezTo>
              </a:path>
              <a:path w="14384" h="3461">
                <a:moveTo>
                  <a:pt x="17462" y="8223"/>
                </a:moveTo>
                <a:cubicBezTo>
                  <a:pt x="17496" y="8134"/>
                  <a:pt x="17513" y="8057"/>
                  <a:pt x="17558" y="7969"/>
                </a:cubicBezTo>
                <a:cubicBezTo>
                  <a:pt x="17592" y="7901"/>
                  <a:pt x="17628" y="7888"/>
                  <a:pt x="17685" y="7842"/>
                </a:cubicBezTo>
                <a:cubicBezTo>
                  <a:pt x="17760" y="7919"/>
                  <a:pt x="17776" y="7952"/>
                  <a:pt x="17780" y="8064"/>
                </a:cubicBezTo>
                <a:cubicBezTo>
                  <a:pt x="17785" y="8208"/>
                  <a:pt x="17739" y="8344"/>
                  <a:pt x="17685" y="8477"/>
                </a:cubicBezTo>
                <a:cubicBezTo>
                  <a:pt x="17658" y="8543"/>
                  <a:pt x="17629" y="8615"/>
                  <a:pt x="17590" y="8668"/>
                </a:cubicBezTo>
                <a:cubicBezTo>
                  <a:pt x="17603" y="8626"/>
                  <a:pt x="17648" y="8601"/>
                  <a:pt x="17685" y="8572"/>
                </a:cubicBezTo>
                <a:cubicBezTo>
                  <a:pt x="17750" y="8522"/>
                  <a:pt x="17783" y="8548"/>
                  <a:pt x="17844" y="8604"/>
                </a:cubicBezTo>
                <a:cubicBezTo>
                  <a:pt x="17905" y="8659"/>
                  <a:pt x="17945" y="8814"/>
                  <a:pt x="17939" y="8890"/>
                </a:cubicBezTo>
                <a:cubicBezTo>
                  <a:pt x="17931" y="8992"/>
                  <a:pt x="17888" y="9115"/>
                  <a:pt x="17844" y="9208"/>
                </a:cubicBezTo>
                <a:cubicBezTo>
                  <a:pt x="17804" y="9293"/>
                  <a:pt x="17786" y="9356"/>
                  <a:pt x="17685" y="9366"/>
                </a:cubicBezTo>
                <a:cubicBezTo>
                  <a:pt x="17587" y="9376"/>
                  <a:pt x="17577" y="9378"/>
                  <a:pt x="17526" y="9303"/>
                </a:cubicBezTo>
              </a:path>
              <a:path w="14384" h="3461">
                <a:moveTo>
                  <a:pt x="18193" y="7906"/>
                </a:moveTo>
                <a:cubicBezTo>
                  <a:pt x="18142" y="8018"/>
                  <a:pt x="18100" y="8136"/>
                  <a:pt x="18066" y="8255"/>
                </a:cubicBezTo>
                <a:cubicBezTo>
                  <a:pt x="18009" y="8455"/>
                  <a:pt x="18050" y="8628"/>
                  <a:pt x="18066" y="8826"/>
                </a:cubicBezTo>
                <a:cubicBezTo>
                  <a:pt x="18079" y="8990"/>
                  <a:pt x="18081" y="9030"/>
                  <a:pt x="18193" y="9144"/>
                </a:cubicBezTo>
                <a:cubicBezTo>
                  <a:pt x="18244" y="9195"/>
                  <a:pt x="18325" y="9188"/>
                  <a:pt x="18383" y="9144"/>
                </a:cubicBezTo>
                <a:cubicBezTo>
                  <a:pt x="18472" y="9076"/>
                  <a:pt x="18528" y="8969"/>
                  <a:pt x="18542" y="8858"/>
                </a:cubicBezTo>
                <a:cubicBezTo>
                  <a:pt x="18564" y="8687"/>
                  <a:pt x="18567" y="8451"/>
                  <a:pt x="18510" y="8287"/>
                </a:cubicBezTo>
                <a:cubicBezTo>
                  <a:pt x="18445" y="8101"/>
                  <a:pt x="18380" y="8112"/>
                  <a:pt x="18224" y="8064"/>
                </a:cubicBezTo>
                <a:cubicBezTo>
                  <a:pt x="18161" y="8033"/>
                  <a:pt x="18140" y="8023"/>
                  <a:pt x="18098" y="8064"/>
                </a:cubicBezTo>
              </a:path>
              <a:path w="14384" h="3461">
                <a:moveTo>
                  <a:pt x="12128" y="7398"/>
                </a:moveTo>
                <a:cubicBezTo>
                  <a:pt x="12089" y="7422"/>
                  <a:pt x="12046" y="7464"/>
                  <a:pt x="12002" y="7493"/>
                </a:cubicBezTo>
                <a:cubicBezTo>
                  <a:pt x="11905" y="7557"/>
                  <a:pt x="11832" y="7632"/>
                  <a:pt x="11748" y="7715"/>
                </a:cubicBezTo>
                <a:cubicBezTo>
                  <a:pt x="11638" y="7824"/>
                  <a:pt x="11539" y="7927"/>
                  <a:pt x="11462" y="8064"/>
                </a:cubicBezTo>
                <a:cubicBezTo>
                  <a:pt x="11371" y="8226"/>
                  <a:pt x="11316" y="8360"/>
                  <a:pt x="11271" y="8541"/>
                </a:cubicBezTo>
                <a:cubicBezTo>
                  <a:pt x="11230" y="8705"/>
                  <a:pt x="11213" y="8881"/>
                  <a:pt x="11208" y="9049"/>
                </a:cubicBezTo>
                <a:cubicBezTo>
                  <a:pt x="11205" y="9167"/>
                  <a:pt x="11230" y="9385"/>
                  <a:pt x="11271" y="9493"/>
                </a:cubicBezTo>
                <a:cubicBezTo>
                  <a:pt x="11300" y="9568"/>
                  <a:pt x="11403" y="9727"/>
                  <a:pt x="11462" y="9779"/>
                </a:cubicBezTo>
                <a:cubicBezTo>
                  <a:pt x="11543" y="9849"/>
                  <a:pt x="11620" y="9870"/>
                  <a:pt x="11716" y="9906"/>
                </a:cubicBezTo>
              </a:path>
              <a:path w="14384" h="3461">
                <a:moveTo>
                  <a:pt x="18542" y="7176"/>
                </a:moveTo>
                <a:cubicBezTo>
                  <a:pt x="18577" y="7222"/>
                  <a:pt x="18580" y="7243"/>
                  <a:pt x="18606" y="7302"/>
                </a:cubicBezTo>
              </a:path>
              <a:path w="14384" h="3461">
                <a:moveTo>
                  <a:pt x="18637" y="7334"/>
                </a:moveTo>
                <a:cubicBezTo>
                  <a:pt x="18691" y="7442"/>
                  <a:pt x="18754" y="7539"/>
                  <a:pt x="18796" y="7652"/>
                </a:cubicBezTo>
                <a:cubicBezTo>
                  <a:pt x="18849" y="7795"/>
                  <a:pt x="18911" y="7915"/>
                  <a:pt x="18955" y="8064"/>
                </a:cubicBezTo>
                <a:cubicBezTo>
                  <a:pt x="18997" y="8207"/>
                  <a:pt x="19062" y="8361"/>
                  <a:pt x="19082" y="8509"/>
                </a:cubicBezTo>
                <a:cubicBezTo>
                  <a:pt x="19099" y="8635"/>
                  <a:pt x="19086" y="8771"/>
                  <a:pt x="19050" y="8890"/>
                </a:cubicBezTo>
                <a:cubicBezTo>
                  <a:pt x="19015" y="9006"/>
                  <a:pt x="19010" y="9098"/>
                  <a:pt x="18955" y="9208"/>
                </a:cubicBezTo>
                <a:cubicBezTo>
                  <a:pt x="18924" y="9271"/>
                  <a:pt x="18887" y="9336"/>
                  <a:pt x="18860" y="9366"/>
                </a:cubicBezTo>
                <a:cubicBezTo>
                  <a:pt x="18816" y="9415"/>
                  <a:pt x="18811" y="9487"/>
                  <a:pt x="18764" y="9525"/>
                </a:cubicBezTo>
                <a:cubicBezTo>
                  <a:pt x="18746" y="9540"/>
                  <a:pt x="18691" y="9546"/>
                  <a:pt x="18669" y="9557"/>
                </a:cubicBezTo>
              </a:path>
              <a:path w="14384" h="3461">
                <a:moveTo>
                  <a:pt x="10350" y="8414"/>
                </a:moveTo>
                <a:lnTo>
                  <a:pt x="10350" y="8414"/>
                </a:lnTo>
              </a:path>
              <a:path w="14384" h="3461">
                <a:moveTo>
                  <a:pt x="10350" y="8414"/>
                </a:moveTo>
                <a:lnTo>
                  <a:pt x="10350" y="8414"/>
                </a:lnTo>
              </a:path>
              <a:path w="14384" h="3461">
                <a:moveTo>
                  <a:pt x="10414" y="8350"/>
                </a:moveTo>
                <a:cubicBezTo>
                  <a:pt x="10429" y="8289"/>
                  <a:pt x="10474" y="8245"/>
                  <a:pt x="10541" y="8223"/>
                </a:cubicBezTo>
                <a:cubicBezTo>
                  <a:pt x="10605" y="8201"/>
                  <a:pt x="10635" y="8172"/>
                  <a:pt x="10700" y="8223"/>
                </a:cubicBezTo>
                <a:cubicBezTo>
                  <a:pt x="10733" y="8249"/>
                  <a:pt x="10753" y="8342"/>
                  <a:pt x="10763" y="8382"/>
                </a:cubicBezTo>
                <a:cubicBezTo>
                  <a:pt x="10777" y="8441"/>
                  <a:pt x="10724" y="8580"/>
                  <a:pt x="10700" y="8636"/>
                </a:cubicBezTo>
                <a:cubicBezTo>
                  <a:pt x="10657" y="8737"/>
                  <a:pt x="10592" y="8825"/>
                  <a:pt x="10541" y="8922"/>
                </a:cubicBezTo>
                <a:cubicBezTo>
                  <a:pt x="10489" y="9019"/>
                  <a:pt x="10428" y="9075"/>
                  <a:pt x="10382" y="9176"/>
                </a:cubicBezTo>
                <a:cubicBezTo>
                  <a:pt x="10352" y="9241"/>
                  <a:pt x="10323" y="9277"/>
                  <a:pt x="10287" y="9303"/>
                </a:cubicBezTo>
                <a:cubicBezTo>
                  <a:pt x="10258" y="9331"/>
                  <a:pt x="10248" y="9346"/>
                  <a:pt x="10255" y="9303"/>
                </a:cubicBezTo>
                <a:cubicBezTo>
                  <a:pt x="10271" y="9239"/>
                  <a:pt x="10328" y="9241"/>
                  <a:pt x="10350" y="9208"/>
                </a:cubicBezTo>
                <a:cubicBezTo>
                  <a:pt x="10354" y="9201"/>
                  <a:pt x="10412" y="9134"/>
                  <a:pt x="10446" y="9176"/>
                </a:cubicBezTo>
                <a:cubicBezTo>
                  <a:pt x="10479" y="9217"/>
                  <a:pt x="10503" y="9316"/>
                  <a:pt x="10541" y="9366"/>
                </a:cubicBezTo>
                <a:cubicBezTo>
                  <a:pt x="10604" y="9450"/>
                  <a:pt x="10584" y="9338"/>
                  <a:pt x="10604" y="9462"/>
                </a:cubicBezTo>
                <a:cubicBezTo>
                  <a:pt x="10662" y="9375"/>
                  <a:pt x="10679" y="9417"/>
                  <a:pt x="10763" y="9366"/>
                </a:cubicBezTo>
                <a:cubicBezTo>
                  <a:pt x="10840" y="9319"/>
                  <a:pt x="10882" y="9258"/>
                  <a:pt x="10954" y="9208"/>
                </a:cubicBezTo>
              </a:path>
              <a:path w="14384" h="3461">
                <a:moveTo>
                  <a:pt x="19240" y="8382"/>
                </a:moveTo>
                <a:cubicBezTo>
                  <a:pt x="19230" y="8382"/>
                  <a:pt x="19219" y="8382"/>
                  <a:pt x="19209" y="8382"/>
                </a:cubicBezTo>
                <a:cubicBezTo>
                  <a:pt x="19278" y="8382"/>
                  <a:pt x="19314" y="8362"/>
                  <a:pt x="19368" y="8350"/>
                </a:cubicBezTo>
                <a:cubicBezTo>
                  <a:pt x="19437" y="8335"/>
                  <a:pt x="19497" y="8336"/>
                  <a:pt x="19558" y="8318"/>
                </a:cubicBezTo>
                <a:cubicBezTo>
                  <a:pt x="19629" y="8297"/>
                  <a:pt x="19665" y="8332"/>
                  <a:pt x="19717" y="8350"/>
                </a:cubicBezTo>
                <a:cubicBezTo>
                  <a:pt x="19748" y="8350"/>
                  <a:pt x="19759" y="8350"/>
                  <a:pt x="19748" y="8318"/>
                </a:cubicBezTo>
              </a:path>
              <a:path w="14384" h="3461">
                <a:moveTo>
                  <a:pt x="19558" y="8128"/>
                </a:moveTo>
                <a:cubicBezTo>
                  <a:pt x="19604" y="8174"/>
                  <a:pt x="19641" y="8185"/>
                  <a:pt x="19685" y="8223"/>
                </a:cubicBezTo>
                <a:cubicBezTo>
                  <a:pt x="19728" y="8261"/>
                  <a:pt x="19767" y="8273"/>
                  <a:pt x="19812" y="8318"/>
                </a:cubicBezTo>
                <a:cubicBezTo>
                  <a:pt x="19865" y="8370"/>
                  <a:pt x="19900" y="8384"/>
                  <a:pt x="19844" y="8446"/>
                </a:cubicBezTo>
                <a:cubicBezTo>
                  <a:pt x="19794" y="8502"/>
                  <a:pt x="19743" y="8529"/>
                  <a:pt x="19685" y="8572"/>
                </a:cubicBezTo>
                <a:cubicBezTo>
                  <a:pt x="19651" y="8598"/>
                  <a:pt x="19620" y="8637"/>
                  <a:pt x="19590" y="8668"/>
                </a:cubicBezTo>
              </a:path>
              <a:path w="14384" h="3461">
                <a:moveTo>
                  <a:pt x="20002" y="8001"/>
                </a:moveTo>
                <a:cubicBezTo>
                  <a:pt x="20017" y="7928"/>
                  <a:pt x="20046" y="7894"/>
                  <a:pt x="20098" y="7842"/>
                </a:cubicBezTo>
                <a:cubicBezTo>
                  <a:pt x="20137" y="7803"/>
                  <a:pt x="20186" y="7806"/>
                  <a:pt x="20225" y="7779"/>
                </a:cubicBezTo>
                <a:cubicBezTo>
                  <a:pt x="20277" y="7744"/>
                  <a:pt x="20298" y="7744"/>
                  <a:pt x="20352" y="7779"/>
                </a:cubicBezTo>
                <a:cubicBezTo>
                  <a:pt x="20393" y="7806"/>
                  <a:pt x="20426" y="7951"/>
                  <a:pt x="20415" y="8001"/>
                </a:cubicBezTo>
                <a:cubicBezTo>
                  <a:pt x="20390" y="8117"/>
                  <a:pt x="20354" y="8231"/>
                  <a:pt x="20320" y="8350"/>
                </a:cubicBezTo>
                <a:cubicBezTo>
                  <a:pt x="20281" y="8489"/>
                  <a:pt x="20239" y="8626"/>
                  <a:pt x="20193" y="8763"/>
                </a:cubicBezTo>
                <a:cubicBezTo>
                  <a:pt x="20161" y="8858"/>
                  <a:pt x="20124" y="8965"/>
                  <a:pt x="20098" y="9049"/>
                </a:cubicBezTo>
                <a:cubicBezTo>
                  <a:pt x="20091" y="9072"/>
                  <a:pt x="20088" y="9131"/>
                  <a:pt x="20130" y="9080"/>
                </a:cubicBezTo>
                <a:cubicBezTo>
                  <a:pt x="20173" y="9028"/>
                  <a:pt x="20156" y="9057"/>
                  <a:pt x="20225" y="9080"/>
                </a:cubicBezTo>
                <a:cubicBezTo>
                  <a:pt x="20285" y="9100"/>
                  <a:pt x="20321" y="9100"/>
                  <a:pt x="20352" y="9176"/>
                </a:cubicBezTo>
                <a:cubicBezTo>
                  <a:pt x="20366" y="9212"/>
                  <a:pt x="20393" y="9233"/>
                  <a:pt x="20447" y="9239"/>
                </a:cubicBezTo>
                <a:cubicBezTo>
                  <a:pt x="20502" y="9245"/>
                  <a:pt x="20479" y="9187"/>
                  <a:pt x="20479" y="9144"/>
                </a:cubicBezTo>
              </a:path>
              <a:path w="14384" h="3461">
                <a:moveTo>
                  <a:pt x="20479" y="8414"/>
                </a:moveTo>
                <a:cubicBezTo>
                  <a:pt x="20549" y="8432"/>
                  <a:pt x="20571" y="8475"/>
                  <a:pt x="20606" y="8541"/>
                </a:cubicBezTo>
                <a:cubicBezTo>
                  <a:pt x="20654" y="8630"/>
                  <a:pt x="20702" y="8746"/>
                  <a:pt x="20764" y="8826"/>
                </a:cubicBezTo>
                <a:cubicBezTo>
                  <a:pt x="20822" y="8901"/>
                  <a:pt x="20847" y="9020"/>
                  <a:pt x="20892" y="9080"/>
                </a:cubicBezTo>
                <a:cubicBezTo>
                  <a:pt x="20913" y="9109"/>
                  <a:pt x="20947" y="9195"/>
                  <a:pt x="20987" y="9208"/>
                </a:cubicBezTo>
              </a:path>
              <a:path w="14384" h="3461">
                <a:moveTo>
                  <a:pt x="20860" y="8318"/>
                </a:moveTo>
                <a:cubicBezTo>
                  <a:pt x="20841" y="8433"/>
                  <a:pt x="20808" y="8551"/>
                  <a:pt x="20796" y="8668"/>
                </a:cubicBezTo>
                <a:cubicBezTo>
                  <a:pt x="20782" y="8809"/>
                  <a:pt x="20751" y="8917"/>
                  <a:pt x="20701" y="9049"/>
                </a:cubicBezTo>
                <a:cubicBezTo>
                  <a:pt x="20660" y="9158"/>
                  <a:pt x="20627" y="9262"/>
                  <a:pt x="20574" y="9366"/>
                </a:cubicBezTo>
              </a:path>
              <a:path w="14384" h="3461">
                <a:moveTo>
                  <a:pt x="21241" y="8287"/>
                </a:moveTo>
                <a:lnTo>
                  <a:pt x="21241" y="8287"/>
                </a:lnTo>
              </a:path>
              <a:path w="14384" h="3461">
                <a:moveTo>
                  <a:pt x="21241" y="8287"/>
                </a:moveTo>
                <a:cubicBezTo>
                  <a:pt x="21241" y="8297"/>
                  <a:pt x="21241" y="8308"/>
                  <a:pt x="21241" y="8318"/>
                </a:cubicBezTo>
              </a:path>
              <a:path w="14384" h="3461">
                <a:moveTo>
                  <a:pt x="21241" y="8318"/>
                </a:moveTo>
                <a:cubicBezTo>
                  <a:pt x="21241" y="8427"/>
                  <a:pt x="21242" y="8511"/>
                  <a:pt x="21272" y="8604"/>
                </a:cubicBezTo>
                <a:cubicBezTo>
                  <a:pt x="21294" y="8671"/>
                  <a:pt x="21272" y="8786"/>
                  <a:pt x="21272" y="8858"/>
                </a:cubicBezTo>
              </a:path>
              <a:path w="14384" h="3461">
                <a:moveTo>
                  <a:pt x="21082" y="8731"/>
                </a:moveTo>
                <a:cubicBezTo>
                  <a:pt x="21162" y="8731"/>
                  <a:pt x="21206" y="8721"/>
                  <a:pt x="21272" y="8700"/>
                </a:cubicBezTo>
                <a:cubicBezTo>
                  <a:pt x="21297" y="8692"/>
                  <a:pt x="21342" y="8700"/>
                  <a:pt x="21368" y="8700"/>
                </a:cubicBezTo>
              </a:path>
              <a:path w="14384" h="3461">
                <a:moveTo>
                  <a:pt x="21495" y="7842"/>
                </a:moveTo>
                <a:cubicBezTo>
                  <a:pt x="21540" y="7919"/>
                  <a:pt x="21526" y="8002"/>
                  <a:pt x="21526" y="8096"/>
                </a:cubicBezTo>
                <a:cubicBezTo>
                  <a:pt x="21526" y="8216"/>
                  <a:pt x="21531" y="8304"/>
                  <a:pt x="21558" y="8414"/>
                </a:cubicBezTo>
                <a:cubicBezTo>
                  <a:pt x="21573" y="8476"/>
                  <a:pt x="21576" y="8514"/>
                  <a:pt x="21590" y="8541"/>
                </a:cubicBezTo>
                <a:cubicBezTo>
                  <a:pt x="21606" y="8573"/>
                  <a:pt x="21576" y="8541"/>
                  <a:pt x="21654" y="8541"/>
                </a:cubicBezTo>
                <a:cubicBezTo>
                  <a:pt x="21717" y="8541"/>
                  <a:pt x="21729" y="8555"/>
                  <a:pt x="21780" y="8572"/>
                </a:cubicBezTo>
                <a:cubicBezTo>
                  <a:pt x="21820" y="8585"/>
                  <a:pt x="21870" y="8600"/>
                  <a:pt x="21908" y="8604"/>
                </a:cubicBezTo>
                <a:cubicBezTo>
                  <a:pt x="21961" y="8610"/>
                  <a:pt x="21958" y="8612"/>
                  <a:pt x="21971" y="8572"/>
                </a:cubicBezTo>
              </a:path>
              <a:path w="14384" h="3461">
                <a:moveTo>
                  <a:pt x="21844" y="7779"/>
                </a:moveTo>
                <a:cubicBezTo>
                  <a:pt x="21844" y="7932"/>
                  <a:pt x="21861" y="8073"/>
                  <a:pt x="21876" y="8223"/>
                </a:cubicBezTo>
                <a:cubicBezTo>
                  <a:pt x="21889" y="8352"/>
                  <a:pt x="21925" y="8476"/>
                  <a:pt x="21939" y="8604"/>
                </a:cubicBezTo>
                <a:cubicBezTo>
                  <a:pt x="21952" y="8720"/>
                  <a:pt x="21965" y="8840"/>
                  <a:pt x="21971" y="8954"/>
                </a:cubicBezTo>
                <a:cubicBezTo>
                  <a:pt x="21975" y="9026"/>
                  <a:pt x="21982" y="9052"/>
                  <a:pt x="21939" y="9080"/>
                </a:cubicBezTo>
              </a:path>
              <a:path w="14384" h="3461">
                <a:moveTo>
                  <a:pt x="22034" y="8192"/>
                </a:moveTo>
                <a:lnTo>
                  <a:pt x="22034" y="8192"/>
                </a:lnTo>
              </a:path>
              <a:path w="14384" h="3461">
                <a:moveTo>
                  <a:pt x="22034" y="8192"/>
                </a:moveTo>
                <a:lnTo>
                  <a:pt x="22034" y="8192"/>
                </a:lnTo>
              </a:path>
              <a:path w="14384" h="3461">
                <a:moveTo>
                  <a:pt x="22034" y="8287"/>
                </a:moveTo>
                <a:cubicBezTo>
                  <a:pt x="22065" y="8328"/>
                  <a:pt x="22073" y="8376"/>
                  <a:pt x="22098" y="8414"/>
                </a:cubicBezTo>
                <a:cubicBezTo>
                  <a:pt x="22125" y="8455"/>
                  <a:pt x="22138" y="8505"/>
                  <a:pt x="22162" y="8541"/>
                </a:cubicBezTo>
                <a:cubicBezTo>
                  <a:pt x="22190" y="8583"/>
                  <a:pt x="22219" y="8617"/>
                  <a:pt x="22225" y="8668"/>
                </a:cubicBezTo>
                <a:cubicBezTo>
                  <a:pt x="22234" y="8746"/>
                  <a:pt x="22235" y="8792"/>
                  <a:pt x="22257" y="8858"/>
                </a:cubicBezTo>
                <a:cubicBezTo>
                  <a:pt x="22271" y="8899"/>
                  <a:pt x="22276" y="8948"/>
                  <a:pt x="22288" y="8985"/>
                </a:cubicBezTo>
                <a:cubicBezTo>
                  <a:pt x="22288" y="8996"/>
                  <a:pt x="22288" y="9006"/>
                  <a:pt x="22288" y="9017"/>
                </a:cubicBezTo>
                <a:cubicBezTo>
                  <a:pt x="22336" y="9033"/>
                  <a:pt x="22315" y="9049"/>
                  <a:pt x="22384" y="9049"/>
                </a:cubicBezTo>
                <a:cubicBezTo>
                  <a:pt x="22392" y="9018"/>
                  <a:pt x="22401" y="8950"/>
                  <a:pt x="22416" y="8922"/>
                </a:cubicBezTo>
                <a:cubicBezTo>
                  <a:pt x="22452" y="8885"/>
                  <a:pt x="22462" y="8868"/>
                  <a:pt x="22447" y="8826"/>
                </a:cubicBezTo>
              </a:path>
              <a:path w="14384" h="3461">
                <a:moveTo>
                  <a:pt x="22416" y="8255"/>
                </a:moveTo>
                <a:cubicBezTo>
                  <a:pt x="22416" y="8418"/>
                  <a:pt x="22433" y="8573"/>
                  <a:pt x="22447" y="8731"/>
                </a:cubicBezTo>
                <a:cubicBezTo>
                  <a:pt x="22460" y="8877"/>
                  <a:pt x="22457" y="9031"/>
                  <a:pt x="22479" y="9176"/>
                </a:cubicBezTo>
                <a:cubicBezTo>
                  <a:pt x="22505" y="9343"/>
                  <a:pt x="22508" y="9482"/>
                  <a:pt x="22479" y="9652"/>
                </a:cubicBezTo>
                <a:cubicBezTo>
                  <a:pt x="22455" y="9793"/>
                  <a:pt x="22400" y="9933"/>
                  <a:pt x="22352" y="10065"/>
                </a:cubicBezTo>
                <a:cubicBezTo>
                  <a:pt x="22303" y="10200"/>
                  <a:pt x="22288" y="10224"/>
                  <a:pt x="22162" y="10287"/>
                </a:cubicBezTo>
                <a:cubicBezTo>
                  <a:pt x="22074" y="10331"/>
                  <a:pt x="22018" y="10329"/>
                  <a:pt x="21939" y="10287"/>
                </a:cubicBezTo>
                <a:cubicBezTo>
                  <a:pt x="21855" y="10242"/>
                  <a:pt x="21834" y="10235"/>
                  <a:pt x="21780" y="10160"/>
                </a:cubicBezTo>
              </a:path>
              <a:path w="14384" h="3461">
                <a:moveTo>
                  <a:pt x="22670" y="8477"/>
                </a:moveTo>
                <a:lnTo>
                  <a:pt x="22670" y="8477"/>
                </a:lnTo>
              </a:path>
              <a:path w="14384" h="3461">
                <a:moveTo>
                  <a:pt x="22670" y="8477"/>
                </a:moveTo>
                <a:cubicBezTo>
                  <a:pt x="22691" y="8477"/>
                  <a:pt x="22712" y="8477"/>
                  <a:pt x="22733" y="8477"/>
                </a:cubicBezTo>
              </a:path>
              <a:path w="14384" h="3461">
                <a:moveTo>
                  <a:pt x="22733" y="8477"/>
                </a:moveTo>
                <a:cubicBezTo>
                  <a:pt x="22786" y="8477"/>
                  <a:pt x="22839" y="8477"/>
                  <a:pt x="22892" y="8477"/>
                </a:cubicBezTo>
              </a:path>
              <a:path w="14384" h="3461">
                <a:moveTo>
                  <a:pt x="22670" y="8826"/>
                </a:moveTo>
                <a:cubicBezTo>
                  <a:pt x="22712" y="8826"/>
                  <a:pt x="22754" y="8826"/>
                  <a:pt x="22796" y="8826"/>
                </a:cubicBezTo>
                <a:cubicBezTo>
                  <a:pt x="22796" y="8795"/>
                  <a:pt x="22796" y="8784"/>
                  <a:pt x="22828" y="8795"/>
                </a:cubicBezTo>
              </a:path>
              <a:path w="14384" h="3461">
                <a:moveTo>
                  <a:pt x="22924" y="7938"/>
                </a:moveTo>
                <a:lnTo>
                  <a:pt x="22924" y="7938"/>
                </a:lnTo>
              </a:path>
              <a:path w="14384" h="3461">
                <a:moveTo>
                  <a:pt x="22924" y="7938"/>
                </a:moveTo>
                <a:lnTo>
                  <a:pt x="22924" y="7938"/>
                </a:lnTo>
              </a:path>
              <a:path w="14384" h="3461">
                <a:moveTo>
                  <a:pt x="22924" y="7874"/>
                </a:moveTo>
                <a:cubicBezTo>
                  <a:pt x="22934" y="7842"/>
                  <a:pt x="22945" y="7811"/>
                  <a:pt x="22955" y="7779"/>
                </a:cubicBezTo>
              </a:path>
              <a:path w="14384" h="3461">
                <a:moveTo>
                  <a:pt x="22955" y="7779"/>
                </a:moveTo>
                <a:cubicBezTo>
                  <a:pt x="22983" y="7758"/>
                  <a:pt x="23044" y="7704"/>
                  <a:pt x="23082" y="7715"/>
                </a:cubicBezTo>
                <a:cubicBezTo>
                  <a:pt x="23178" y="7743"/>
                  <a:pt x="23227" y="7846"/>
                  <a:pt x="23241" y="7938"/>
                </a:cubicBezTo>
                <a:cubicBezTo>
                  <a:pt x="23267" y="8108"/>
                  <a:pt x="23245" y="8313"/>
                  <a:pt x="23209" y="8477"/>
                </a:cubicBezTo>
                <a:cubicBezTo>
                  <a:pt x="23177" y="8624"/>
                  <a:pt x="23137" y="8782"/>
                  <a:pt x="23082" y="8922"/>
                </a:cubicBezTo>
                <a:cubicBezTo>
                  <a:pt x="23071" y="8951"/>
                  <a:pt x="22978" y="9108"/>
                  <a:pt x="23019" y="9049"/>
                </a:cubicBezTo>
                <a:cubicBezTo>
                  <a:pt x="23057" y="8995"/>
                  <a:pt x="23085" y="8985"/>
                  <a:pt x="23146" y="8985"/>
                </a:cubicBezTo>
                <a:cubicBezTo>
                  <a:pt x="23213" y="8985"/>
                  <a:pt x="23218" y="9056"/>
                  <a:pt x="23273" y="9080"/>
                </a:cubicBezTo>
                <a:cubicBezTo>
                  <a:pt x="23351" y="9114"/>
                  <a:pt x="23309" y="9189"/>
                  <a:pt x="23336" y="9080"/>
                </a:cubicBezTo>
              </a:path>
              <a:path w="14384" h="3461">
                <a:moveTo>
                  <a:pt x="23495" y="8922"/>
                </a:moveTo>
                <a:cubicBezTo>
                  <a:pt x="23495" y="8911"/>
                  <a:pt x="23495" y="8901"/>
                  <a:pt x="23495" y="8890"/>
                </a:cubicBezTo>
              </a:path>
              <a:path w="14384" h="3461">
                <a:moveTo>
                  <a:pt x="23781" y="7874"/>
                </a:moveTo>
                <a:cubicBezTo>
                  <a:pt x="23723" y="7912"/>
                  <a:pt x="23733" y="8011"/>
                  <a:pt x="23717" y="8096"/>
                </a:cubicBezTo>
                <a:cubicBezTo>
                  <a:pt x="23683" y="8275"/>
                  <a:pt x="23654" y="8420"/>
                  <a:pt x="23654" y="8604"/>
                </a:cubicBezTo>
                <a:cubicBezTo>
                  <a:pt x="23654" y="8745"/>
                  <a:pt x="23638" y="8883"/>
                  <a:pt x="23686" y="9017"/>
                </a:cubicBezTo>
                <a:cubicBezTo>
                  <a:pt x="23717" y="9080"/>
                  <a:pt x="23728" y="9102"/>
                  <a:pt x="23749" y="9144"/>
                </a:cubicBezTo>
                <a:cubicBezTo>
                  <a:pt x="23845" y="9144"/>
                  <a:pt x="23857" y="9134"/>
                  <a:pt x="23908" y="9049"/>
                </a:cubicBezTo>
                <a:cubicBezTo>
                  <a:pt x="23962" y="8959"/>
                  <a:pt x="24020" y="8834"/>
                  <a:pt x="24035" y="8731"/>
                </a:cubicBezTo>
                <a:cubicBezTo>
                  <a:pt x="24048" y="8646"/>
                  <a:pt x="24081" y="8549"/>
                  <a:pt x="24035" y="8509"/>
                </a:cubicBezTo>
                <a:cubicBezTo>
                  <a:pt x="24024" y="8498"/>
                  <a:pt x="24014" y="8488"/>
                  <a:pt x="24003" y="8477"/>
                </a:cubicBezTo>
                <a:cubicBezTo>
                  <a:pt x="23933" y="8548"/>
                  <a:pt x="23910" y="8604"/>
                  <a:pt x="23876" y="8700"/>
                </a:cubicBezTo>
                <a:cubicBezTo>
                  <a:pt x="23835" y="8817"/>
                  <a:pt x="23844" y="8926"/>
                  <a:pt x="23844" y="9049"/>
                </a:cubicBezTo>
                <a:cubicBezTo>
                  <a:pt x="23844" y="9084"/>
                  <a:pt x="23831" y="9210"/>
                  <a:pt x="23908" y="9176"/>
                </a:cubicBezTo>
                <a:cubicBezTo>
                  <a:pt x="23919" y="9165"/>
                  <a:pt x="23929" y="9155"/>
                  <a:pt x="23940" y="9144"/>
                </a:cubicBezTo>
              </a:path>
              <a:path w="14384" h="3461">
                <a:moveTo>
                  <a:pt x="24320" y="7906"/>
                </a:moveTo>
                <a:cubicBezTo>
                  <a:pt x="24268" y="7924"/>
                  <a:pt x="24247" y="8030"/>
                  <a:pt x="24225" y="8096"/>
                </a:cubicBezTo>
                <a:cubicBezTo>
                  <a:pt x="24168" y="8262"/>
                  <a:pt x="24166" y="8461"/>
                  <a:pt x="24162" y="8636"/>
                </a:cubicBezTo>
                <a:cubicBezTo>
                  <a:pt x="24159" y="8740"/>
                  <a:pt x="24175" y="8935"/>
                  <a:pt x="24257" y="9017"/>
                </a:cubicBezTo>
                <a:cubicBezTo>
                  <a:pt x="24320" y="9080"/>
                  <a:pt x="24376" y="9078"/>
                  <a:pt x="24448" y="9049"/>
                </a:cubicBezTo>
                <a:cubicBezTo>
                  <a:pt x="24566" y="9002"/>
                  <a:pt x="24579" y="8896"/>
                  <a:pt x="24606" y="8795"/>
                </a:cubicBezTo>
                <a:cubicBezTo>
                  <a:pt x="24656" y="8611"/>
                  <a:pt x="24620" y="8473"/>
                  <a:pt x="24606" y="8287"/>
                </a:cubicBezTo>
                <a:cubicBezTo>
                  <a:pt x="24598" y="8189"/>
                  <a:pt x="24601" y="8039"/>
                  <a:pt x="24511" y="7969"/>
                </a:cubicBezTo>
                <a:cubicBezTo>
                  <a:pt x="24464" y="7932"/>
                  <a:pt x="24435" y="7938"/>
                  <a:pt x="24384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8"/>
          <p:cNvSpPr/>
          <p:nvPr/>
        </p:nvSpPr>
        <p:spPr>
          <a:xfrm>
            <a:off x="777960" y="3589200"/>
            <a:ext cx="422280" cy="754200"/>
          </a:xfrm>
          <a:custGeom>
            <a:avLst/>
            <a:gdLst/>
            <a:ahLst/>
            <a:rect l="l" t="t" r="r" b="b"/>
            <a:pathLst>
              <a:path w="1176" h="2096">
                <a:moveTo>
                  <a:pt x="2476" y="9970"/>
                </a:moveTo>
                <a:cubicBezTo>
                  <a:pt x="2476" y="10092"/>
                  <a:pt x="2456" y="10202"/>
                  <a:pt x="2445" y="10319"/>
                </a:cubicBezTo>
                <a:cubicBezTo>
                  <a:pt x="2429" y="10495"/>
                  <a:pt x="2424" y="10622"/>
                  <a:pt x="2445" y="10795"/>
                </a:cubicBezTo>
                <a:cubicBezTo>
                  <a:pt x="2454" y="10873"/>
                  <a:pt x="2472" y="10914"/>
                  <a:pt x="2508" y="10986"/>
                </a:cubicBezTo>
                <a:cubicBezTo>
                  <a:pt x="2603" y="10962"/>
                  <a:pt x="2602" y="10937"/>
                  <a:pt x="2667" y="10858"/>
                </a:cubicBezTo>
                <a:cubicBezTo>
                  <a:pt x="2766" y="10739"/>
                  <a:pt x="2781" y="10595"/>
                  <a:pt x="2826" y="10446"/>
                </a:cubicBezTo>
                <a:cubicBezTo>
                  <a:pt x="2854" y="10352"/>
                  <a:pt x="2858" y="10288"/>
                  <a:pt x="2858" y="10192"/>
                </a:cubicBezTo>
                <a:cubicBezTo>
                  <a:pt x="2858" y="10181"/>
                  <a:pt x="2858" y="10171"/>
                  <a:pt x="2858" y="10160"/>
                </a:cubicBezTo>
                <a:cubicBezTo>
                  <a:pt x="2858" y="10695"/>
                  <a:pt x="2956" y="11326"/>
                  <a:pt x="2826" y="11843"/>
                </a:cubicBezTo>
                <a:cubicBezTo>
                  <a:pt x="2799" y="11949"/>
                  <a:pt x="2754" y="12044"/>
                  <a:pt x="2635" y="12065"/>
                </a:cubicBezTo>
                <a:cubicBezTo>
                  <a:pt x="2544" y="12081"/>
                  <a:pt x="2391" y="12024"/>
                  <a:pt x="2318" y="11970"/>
                </a:cubicBezTo>
                <a:cubicBezTo>
                  <a:pt x="2229" y="11904"/>
                  <a:pt x="2175" y="11758"/>
                  <a:pt x="2159" y="11652"/>
                </a:cubicBezTo>
                <a:cubicBezTo>
                  <a:pt x="2159" y="11620"/>
                  <a:pt x="2159" y="11589"/>
                  <a:pt x="2159" y="11557"/>
                </a:cubicBezTo>
              </a:path>
              <a:path w="1176" h="2096">
                <a:moveTo>
                  <a:pt x="3302" y="10224"/>
                </a:moveTo>
                <a:cubicBezTo>
                  <a:pt x="3302" y="10260"/>
                  <a:pt x="3305" y="10273"/>
                  <a:pt x="3334" y="10287"/>
                </a:cubicBezTo>
              </a:path>
              <a:path w="1176" h="2096">
                <a:moveTo>
                  <a:pt x="3238" y="10890"/>
                </a:moveTo>
                <a:cubicBezTo>
                  <a:pt x="3238" y="10940"/>
                  <a:pt x="3259" y="10922"/>
                  <a:pt x="3302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9"/>
          <p:cNvSpPr/>
          <p:nvPr/>
        </p:nvSpPr>
        <p:spPr>
          <a:xfrm>
            <a:off x="1440000" y="3578400"/>
            <a:ext cx="1006200" cy="685800"/>
          </a:xfrm>
          <a:custGeom>
            <a:avLst/>
            <a:gdLst/>
            <a:ahLst/>
            <a:rect l="l" t="t" r="r" b="b"/>
            <a:pathLst>
              <a:path w="2795" h="1906">
                <a:moveTo>
                  <a:pt x="4000" y="10478"/>
                </a:moveTo>
                <a:cubicBezTo>
                  <a:pt x="4068" y="10478"/>
                  <a:pt x="4162" y="10464"/>
                  <a:pt x="4223" y="10446"/>
                </a:cubicBezTo>
                <a:cubicBezTo>
                  <a:pt x="4321" y="10418"/>
                  <a:pt x="4403" y="10414"/>
                  <a:pt x="4508" y="10414"/>
                </a:cubicBezTo>
                <a:cubicBezTo>
                  <a:pt x="4561" y="10414"/>
                  <a:pt x="4614" y="10414"/>
                  <a:pt x="4667" y="10414"/>
                </a:cubicBezTo>
                <a:cubicBezTo>
                  <a:pt x="4685" y="10341"/>
                  <a:pt x="4675" y="10359"/>
                  <a:pt x="4667" y="10287"/>
                </a:cubicBezTo>
                <a:cubicBezTo>
                  <a:pt x="4659" y="10212"/>
                  <a:pt x="4681" y="10164"/>
                  <a:pt x="4636" y="10096"/>
                </a:cubicBezTo>
                <a:cubicBezTo>
                  <a:pt x="4584" y="10018"/>
                  <a:pt x="4491" y="10033"/>
                  <a:pt x="4413" y="10033"/>
                </a:cubicBezTo>
                <a:cubicBezTo>
                  <a:pt x="4295" y="10033"/>
                  <a:pt x="4198" y="10134"/>
                  <a:pt x="4128" y="10224"/>
                </a:cubicBezTo>
                <a:cubicBezTo>
                  <a:pt x="4026" y="10354"/>
                  <a:pt x="3993" y="10515"/>
                  <a:pt x="4032" y="10668"/>
                </a:cubicBezTo>
                <a:cubicBezTo>
                  <a:pt x="4067" y="10805"/>
                  <a:pt x="4125" y="10917"/>
                  <a:pt x="4254" y="10986"/>
                </a:cubicBezTo>
                <a:cubicBezTo>
                  <a:pt x="4348" y="11016"/>
                  <a:pt x="4378" y="11027"/>
                  <a:pt x="4445" y="11017"/>
                </a:cubicBezTo>
              </a:path>
              <a:path w="2795" h="1906">
                <a:moveTo>
                  <a:pt x="5112" y="10382"/>
                </a:moveTo>
                <a:cubicBezTo>
                  <a:pt x="5085" y="10310"/>
                  <a:pt x="5087" y="10238"/>
                  <a:pt x="5016" y="10192"/>
                </a:cubicBezTo>
                <a:cubicBezTo>
                  <a:pt x="4945" y="10146"/>
                  <a:pt x="4855" y="10159"/>
                  <a:pt x="4794" y="10224"/>
                </a:cubicBezTo>
                <a:cubicBezTo>
                  <a:pt x="4709" y="10314"/>
                  <a:pt x="4653" y="10484"/>
                  <a:pt x="4636" y="10604"/>
                </a:cubicBezTo>
                <a:cubicBezTo>
                  <a:pt x="4627" y="10671"/>
                  <a:pt x="4647" y="10860"/>
                  <a:pt x="4731" y="10890"/>
                </a:cubicBezTo>
                <a:cubicBezTo>
                  <a:pt x="4834" y="10927"/>
                  <a:pt x="4917" y="10859"/>
                  <a:pt x="4985" y="10795"/>
                </a:cubicBezTo>
                <a:cubicBezTo>
                  <a:pt x="5085" y="10701"/>
                  <a:pt x="5150" y="10618"/>
                  <a:pt x="5175" y="10478"/>
                </a:cubicBezTo>
                <a:cubicBezTo>
                  <a:pt x="5187" y="10410"/>
                  <a:pt x="5174" y="10370"/>
                  <a:pt x="5144" y="10319"/>
                </a:cubicBezTo>
                <a:cubicBezTo>
                  <a:pt x="5106" y="10356"/>
                  <a:pt x="5084" y="10360"/>
                  <a:pt x="5080" y="10446"/>
                </a:cubicBezTo>
                <a:cubicBezTo>
                  <a:pt x="5073" y="10588"/>
                  <a:pt x="5113" y="10751"/>
                  <a:pt x="5144" y="10890"/>
                </a:cubicBezTo>
                <a:cubicBezTo>
                  <a:pt x="5181" y="11057"/>
                  <a:pt x="5201" y="11228"/>
                  <a:pt x="5207" y="11398"/>
                </a:cubicBezTo>
                <a:cubicBezTo>
                  <a:pt x="5211" y="11520"/>
                  <a:pt x="5224" y="11646"/>
                  <a:pt x="5144" y="11748"/>
                </a:cubicBezTo>
                <a:cubicBezTo>
                  <a:pt x="5073" y="11839"/>
                  <a:pt x="4958" y="11844"/>
                  <a:pt x="4858" y="11811"/>
                </a:cubicBezTo>
                <a:cubicBezTo>
                  <a:pt x="4777" y="11784"/>
                  <a:pt x="4618" y="11697"/>
                  <a:pt x="4572" y="11620"/>
                </a:cubicBezTo>
                <a:cubicBezTo>
                  <a:pt x="4518" y="11530"/>
                  <a:pt x="4508" y="11436"/>
                  <a:pt x="4508" y="11335"/>
                </a:cubicBezTo>
              </a:path>
              <a:path w="2795" h="1906">
                <a:moveTo>
                  <a:pt x="5906" y="10350"/>
                </a:moveTo>
                <a:cubicBezTo>
                  <a:pt x="5860" y="10259"/>
                  <a:pt x="5825" y="10185"/>
                  <a:pt x="5715" y="10160"/>
                </a:cubicBezTo>
                <a:cubicBezTo>
                  <a:pt x="5591" y="10132"/>
                  <a:pt x="5514" y="10174"/>
                  <a:pt x="5429" y="10255"/>
                </a:cubicBezTo>
                <a:cubicBezTo>
                  <a:pt x="5338" y="10341"/>
                  <a:pt x="5238" y="10502"/>
                  <a:pt x="5270" y="10636"/>
                </a:cubicBezTo>
                <a:cubicBezTo>
                  <a:pt x="5288" y="10714"/>
                  <a:pt x="5380" y="10777"/>
                  <a:pt x="5461" y="10763"/>
                </a:cubicBezTo>
                <a:cubicBezTo>
                  <a:pt x="5612" y="10737"/>
                  <a:pt x="5691" y="10705"/>
                  <a:pt x="5810" y="10604"/>
                </a:cubicBezTo>
                <a:cubicBezTo>
                  <a:pt x="5866" y="10556"/>
                  <a:pt x="5893" y="10502"/>
                  <a:pt x="5937" y="10446"/>
                </a:cubicBezTo>
                <a:cubicBezTo>
                  <a:pt x="5908" y="10505"/>
                  <a:pt x="5909" y="10507"/>
                  <a:pt x="5906" y="10573"/>
                </a:cubicBezTo>
                <a:cubicBezTo>
                  <a:pt x="5893" y="10883"/>
                  <a:pt x="5907" y="11190"/>
                  <a:pt x="5874" y="11494"/>
                </a:cubicBezTo>
                <a:cubicBezTo>
                  <a:pt x="5865" y="11580"/>
                  <a:pt x="5836" y="11732"/>
                  <a:pt x="5747" y="11779"/>
                </a:cubicBezTo>
                <a:cubicBezTo>
                  <a:pt x="5697" y="11806"/>
                  <a:pt x="5530" y="11771"/>
                  <a:pt x="5493" y="11748"/>
                </a:cubicBezTo>
                <a:cubicBezTo>
                  <a:pt x="5398" y="11689"/>
                  <a:pt x="5308" y="11571"/>
                  <a:pt x="5239" y="11494"/>
                </a:cubicBezTo>
                <a:cubicBezTo>
                  <a:pt x="5129" y="11370"/>
                  <a:pt x="5171" y="11279"/>
                  <a:pt x="5239" y="11144"/>
                </a:cubicBezTo>
              </a:path>
              <a:path w="2795" h="1906">
                <a:moveTo>
                  <a:pt x="6699" y="10128"/>
                </a:moveTo>
                <a:cubicBezTo>
                  <a:pt x="6751" y="10102"/>
                  <a:pt x="6759" y="10091"/>
                  <a:pt x="6794" y="10096"/>
                </a:cubicBezTo>
                <a:cubicBezTo>
                  <a:pt x="6780" y="9997"/>
                  <a:pt x="6749" y="9960"/>
                  <a:pt x="6636" y="9938"/>
                </a:cubicBezTo>
                <a:cubicBezTo>
                  <a:pt x="6525" y="9916"/>
                  <a:pt x="6419" y="9954"/>
                  <a:pt x="6318" y="9970"/>
                </a:cubicBezTo>
                <a:cubicBezTo>
                  <a:pt x="6235" y="9983"/>
                  <a:pt x="6234" y="10028"/>
                  <a:pt x="6255" y="10128"/>
                </a:cubicBezTo>
                <a:cubicBezTo>
                  <a:pt x="6283" y="10260"/>
                  <a:pt x="6377" y="10396"/>
                  <a:pt x="6445" y="10509"/>
                </a:cubicBezTo>
                <a:cubicBezTo>
                  <a:pt x="6513" y="10622"/>
                  <a:pt x="6610" y="10723"/>
                  <a:pt x="6636" y="10858"/>
                </a:cubicBezTo>
                <a:cubicBezTo>
                  <a:pt x="6659" y="10976"/>
                  <a:pt x="6611" y="10976"/>
                  <a:pt x="6540" y="11017"/>
                </a:cubicBezTo>
                <a:cubicBezTo>
                  <a:pt x="6459" y="11065"/>
                  <a:pt x="6350" y="11039"/>
                  <a:pt x="6255" y="11017"/>
                </a:cubicBezTo>
                <a:cubicBezTo>
                  <a:pt x="6191" y="11002"/>
                  <a:pt x="6037" y="10956"/>
                  <a:pt x="6001" y="10890"/>
                </a:cubicBezTo>
                <a:cubicBezTo>
                  <a:pt x="6001" y="10854"/>
                  <a:pt x="5998" y="10840"/>
                  <a:pt x="5969" y="10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0"/>
          <p:cNvSpPr/>
          <p:nvPr/>
        </p:nvSpPr>
        <p:spPr>
          <a:xfrm>
            <a:off x="4194000" y="3051000"/>
            <a:ext cx="4835880" cy="2024280"/>
          </a:xfrm>
          <a:custGeom>
            <a:avLst/>
            <a:gdLst/>
            <a:ahLst/>
            <a:rect l="l" t="t" r="r" b="b"/>
            <a:pathLst>
              <a:path w="13431" h="5621">
                <a:moveTo>
                  <a:pt x="11779" y="10192"/>
                </a:moveTo>
                <a:cubicBezTo>
                  <a:pt x="11737" y="10192"/>
                  <a:pt x="11694" y="10192"/>
                  <a:pt x="11652" y="10192"/>
                </a:cubicBezTo>
                <a:cubicBezTo>
                  <a:pt x="11699" y="10145"/>
                  <a:pt x="11701" y="10143"/>
                  <a:pt x="11748" y="10096"/>
                </a:cubicBezTo>
                <a:cubicBezTo>
                  <a:pt x="11793" y="10051"/>
                  <a:pt x="11876" y="10014"/>
                  <a:pt x="11938" y="10001"/>
                </a:cubicBezTo>
                <a:cubicBezTo>
                  <a:pt x="11997" y="9989"/>
                  <a:pt x="12054" y="9998"/>
                  <a:pt x="12097" y="10033"/>
                </a:cubicBezTo>
                <a:cubicBezTo>
                  <a:pt x="12178" y="10099"/>
                  <a:pt x="12160" y="10154"/>
                  <a:pt x="12160" y="10255"/>
                </a:cubicBezTo>
                <a:cubicBezTo>
                  <a:pt x="12160" y="10410"/>
                  <a:pt x="12103" y="10551"/>
                  <a:pt x="12065" y="10700"/>
                </a:cubicBezTo>
                <a:cubicBezTo>
                  <a:pt x="12023" y="10862"/>
                  <a:pt x="11958" y="11016"/>
                  <a:pt x="11906" y="11176"/>
                </a:cubicBezTo>
                <a:cubicBezTo>
                  <a:pt x="11878" y="11262"/>
                  <a:pt x="11853" y="11360"/>
                  <a:pt x="11811" y="11430"/>
                </a:cubicBezTo>
                <a:cubicBezTo>
                  <a:pt x="11800" y="11449"/>
                  <a:pt x="11803" y="11430"/>
                  <a:pt x="11874" y="11430"/>
                </a:cubicBezTo>
                <a:cubicBezTo>
                  <a:pt x="11990" y="11430"/>
                  <a:pt x="12093" y="11442"/>
                  <a:pt x="12192" y="11462"/>
                </a:cubicBezTo>
                <a:cubicBezTo>
                  <a:pt x="12250" y="11474"/>
                  <a:pt x="12326" y="11472"/>
                  <a:pt x="12382" y="11494"/>
                </a:cubicBezTo>
                <a:cubicBezTo>
                  <a:pt x="12423" y="11510"/>
                  <a:pt x="12456" y="11540"/>
                  <a:pt x="12478" y="11557"/>
                </a:cubicBezTo>
              </a:path>
              <a:path w="13431" h="5621">
                <a:moveTo>
                  <a:pt x="12541" y="10509"/>
                </a:moveTo>
                <a:cubicBezTo>
                  <a:pt x="12594" y="10574"/>
                  <a:pt x="12637" y="10652"/>
                  <a:pt x="12668" y="10732"/>
                </a:cubicBezTo>
                <a:cubicBezTo>
                  <a:pt x="12716" y="10855"/>
                  <a:pt x="12764" y="10937"/>
                  <a:pt x="12827" y="11049"/>
                </a:cubicBezTo>
                <a:cubicBezTo>
                  <a:pt x="12879" y="11141"/>
                  <a:pt x="12936" y="11186"/>
                  <a:pt x="12986" y="11271"/>
                </a:cubicBezTo>
                <a:cubicBezTo>
                  <a:pt x="13015" y="11319"/>
                  <a:pt x="13065" y="11382"/>
                  <a:pt x="13081" y="11430"/>
                </a:cubicBezTo>
                <a:cubicBezTo>
                  <a:pt x="13081" y="11441"/>
                  <a:pt x="13081" y="11451"/>
                  <a:pt x="13081" y="11462"/>
                </a:cubicBezTo>
              </a:path>
              <a:path w="13431" h="5621">
                <a:moveTo>
                  <a:pt x="12954" y="10573"/>
                </a:moveTo>
                <a:cubicBezTo>
                  <a:pt x="12877" y="10648"/>
                  <a:pt x="12861" y="10725"/>
                  <a:pt x="12827" y="10827"/>
                </a:cubicBezTo>
                <a:cubicBezTo>
                  <a:pt x="12780" y="10969"/>
                  <a:pt x="12734" y="11138"/>
                  <a:pt x="12668" y="11271"/>
                </a:cubicBezTo>
                <a:cubicBezTo>
                  <a:pt x="12616" y="11374"/>
                  <a:pt x="12585" y="11492"/>
                  <a:pt x="12541" y="11589"/>
                </a:cubicBezTo>
                <a:cubicBezTo>
                  <a:pt x="12531" y="11599"/>
                  <a:pt x="12520" y="11610"/>
                  <a:pt x="12510" y="11620"/>
                </a:cubicBezTo>
              </a:path>
              <a:path w="13431" h="5621">
                <a:moveTo>
                  <a:pt x="13526" y="10255"/>
                </a:moveTo>
                <a:cubicBezTo>
                  <a:pt x="13543" y="10324"/>
                  <a:pt x="13580" y="10403"/>
                  <a:pt x="13589" y="10478"/>
                </a:cubicBezTo>
                <a:cubicBezTo>
                  <a:pt x="13617" y="10703"/>
                  <a:pt x="13589" y="10949"/>
                  <a:pt x="13589" y="11176"/>
                </a:cubicBezTo>
              </a:path>
              <a:path w="13431" h="5621">
                <a:moveTo>
                  <a:pt x="13430" y="10827"/>
                </a:moveTo>
                <a:cubicBezTo>
                  <a:pt x="13486" y="10771"/>
                  <a:pt x="13525" y="10766"/>
                  <a:pt x="13589" y="10732"/>
                </a:cubicBezTo>
                <a:cubicBezTo>
                  <a:pt x="13650" y="10699"/>
                  <a:pt x="13762" y="10672"/>
                  <a:pt x="13811" y="10636"/>
                </a:cubicBezTo>
                <a:cubicBezTo>
                  <a:pt x="13870" y="10577"/>
                  <a:pt x="13886" y="10559"/>
                  <a:pt x="13938" y="10541"/>
                </a:cubicBezTo>
              </a:path>
              <a:path w="13431" h="5621">
                <a:moveTo>
                  <a:pt x="14192" y="10065"/>
                </a:moveTo>
                <a:cubicBezTo>
                  <a:pt x="14158" y="10048"/>
                  <a:pt x="14184" y="10014"/>
                  <a:pt x="14224" y="9970"/>
                </a:cubicBezTo>
                <a:cubicBezTo>
                  <a:pt x="14257" y="9933"/>
                  <a:pt x="14308" y="9889"/>
                  <a:pt x="14351" y="9874"/>
                </a:cubicBezTo>
                <a:cubicBezTo>
                  <a:pt x="14399" y="9858"/>
                  <a:pt x="14445" y="9877"/>
                  <a:pt x="14478" y="9906"/>
                </a:cubicBezTo>
                <a:cubicBezTo>
                  <a:pt x="14530" y="9952"/>
                  <a:pt x="14510" y="10030"/>
                  <a:pt x="14510" y="10096"/>
                </a:cubicBezTo>
                <a:cubicBezTo>
                  <a:pt x="14510" y="10222"/>
                  <a:pt x="14468" y="10304"/>
                  <a:pt x="14414" y="10414"/>
                </a:cubicBezTo>
                <a:cubicBezTo>
                  <a:pt x="14370" y="10504"/>
                  <a:pt x="14328" y="10533"/>
                  <a:pt x="14414" y="10446"/>
                </a:cubicBezTo>
                <a:cubicBezTo>
                  <a:pt x="14447" y="10413"/>
                  <a:pt x="14524" y="10394"/>
                  <a:pt x="14573" y="10414"/>
                </a:cubicBezTo>
                <a:cubicBezTo>
                  <a:pt x="14651" y="10447"/>
                  <a:pt x="14652" y="10574"/>
                  <a:pt x="14668" y="10636"/>
                </a:cubicBezTo>
                <a:cubicBezTo>
                  <a:pt x="14697" y="10746"/>
                  <a:pt x="14722" y="10869"/>
                  <a:pt x="14700" y="10986"/>
                </a:cubicBezTo>
                <a:cubicBezTo>
                  <a:pt x="14683" y="11075"/>
                  <a:pt x="14624" y="11196"/>
                  <a:pt x="14573" y="11271"/>
                </a:cubicBezTo>
                <a:cubicBezTo>
                  <a:pt x="14540" y="11320"/>
                  <a:pt x="14442" y="11379"/>
                  <a:pt x="14383" y="11366"/>
                </a:cubicBezTo>
                <a:cubicBezTo>
                  <a:pt x="14309" y="11349"/>
                  <a:pt x="14235" y="11304"/>
                  <a:pt x="14192" y="11240"/>
                </a:cubicBezTo>
                <a:cubicBezTo>
                  <a:pt x="14181" y="11219"/>
                  <a:pt x="14171" y="11197"/>
                  <a:pt x="14160" y="11176"/>
                </a:cubicBezTo>
              </a:path>
              <a:path w="13431" h="5621">
                <a:moveTo>
                  <a:pt x="15018" y="10287"/>
                </a:moveTo>
                <a:cubicBezTo>
                  <a:pt x="15043" y="10385"/>
                  <a:pt x="15050" y="10467"/>
                  <a:pt x="15050" y="10573"/>
                </a:cubicBezTo>
                <a:cubicBezTo>
                  <a:pt x="15050" y="10696"/>
                  <a:pt x="15026" y="10840"/>
                  <a:pt x="15081" y="10954"/>
                </a:cubicBezTo>
                <a:cubicBezTo>
                  <a:pt x="15112" y="11018"/>
                  <a:pt x="15167" y="11047"/>
                  <a:pt x="15208" y="11081"/>
                </a:cubicBezTo>
                <a:cubicBezTo>
                  <a:pt x="15219" y="11091"/>
                  <a:pt x="15229" y="11102"/>
                  <a:pt x="15240" y="11112"/>
                </a:cubicBezTo>
                <a:cubicBezTo>
                  <a:pt x="15304" y="11067"/>
                  <a:pt x="15300" y="11057"/>
                  <a:pt x="15335" y="10986"/>
                </a:cubicBezTo>
                <a:cubicBezTo>
                  <a:pt x="15399" y="10858"/>
                  <a:pt x="15375" y="10768"/>
                  <a:pt x="15399" y="10636"/>
                </a:cubicBezTo>
                <a:cubicBezTo>
                  <a:pt x="15406" y="10596"/>
                  <a:pt x="15430" y="10283"/>
                  <a:pt x="15430" y="10446"/>
                </a:cubicBezTo>
                <a:cubicBezTo>
                  <a:pt x="15430" y="10537"/>
                  <a:pt x="15444" y="10672"/>
                  <a:pt x="15462" y="10763"/>
                </a:cubicBezTo>
                <a:cubicBezTo>
                  <a:pt x="15493" y="10923"/>
                  <a:pt x="15544" y="11077"/>
                  <a:pt x="15558" y="11240"/>
                </a:cubicBezTo>
                <a:cubicBezTo>
                  <a:pt x="15580" y="11504"/>
                  <a:pt x="15579" y="11807"/>
                  <a:pt x="15526" y="12065"/>
                </a:cubicBezTo>
                <a:cubicBezTo>
                  <a:pt x="15500" y="12192"/>
                  <a:pt x="15466" y="12399"/>
                  <a:pt x="15399" y="12510"/>
                </a:cubicBezTo>
                <a:cubicBezTo>
                  <a:pt x="15355" y="12581"/>
                  <a:pt x="15231" y="12685"/>
                  <a:pt x="15145" y="12700"/>
                </a:cubicBezTo>
                <a:cubicBezTo>
                  <a:pt x="15070" y="12713"/>
                  <a:pt x="15032" y="12692"/>
                  <a:pt x="14986" y="12636"/>
                </a:cubicBezTo>
                <a:cubicBezTo>
                  <a:pt x="14917" y="12552"/>
                  <a:pt x="14929" y="12450"/>
                  <a:pt x="14922" y="12351"/>
                </a:cubicBezTo>
              </a:path>
              <a:path w="13431" h="5621">
                <a:moveTo>
                  <a:pt x="16097" y="10382"/>
                </a:moveTo>
                <a:cubicBezTo>
                  <a:pt x="16201" y="10382"/>
                  <a:pt x="16286" y="10398"/>
                  <a:pt x="16383" y="10414"/>
                </a:cubicBezTo>
                <a:cubicBezTo>
                  <a:pt x="16431" y="10422"/>
                  <a:pt x="16492" y="10414"/>
                  <a:pt x="16542" y="10414"/>
                </a:cubicBezTo>
              </a:path>
              <a:path w="13431" h="5621">
                <a:moveTo>
                  <a:pt x="16161" y="10827"/>
                </a:moveTo>
                <a:cubicBezTo>
                  <a:pt x="16211" y="10814"/>
                  <a:pt x="16258" y="10774"/>
                  <a:pt x="16320" y="10795"/>
                </a:cubicBezTo>
                <a:cubicBezTo>
                  <a:pt x="16341" y="10806"/>
                  <a:pt x="16362" y="10816"/>
                  <a:pt x="16383" y="10827"/>
                </a:cubicBezTo>
              </a:path>
              <a:path w="13431" h="5621">
                <a:moveTo>
                  <a:pt x="16923" y="10192"/>
                </a:moveTo>
                <a:cubicBezTo>
                  <a:pt x="16923" y="10094"/>
                  <a:pt x="16958" y="10048"/>
                  <a:pt x="17018" y="9970"/>
                </a:cubicBezTo>
                <a:cubicBezTo>
                  <a:pt x="17053" y="9925"/>
                  <a:pt x="17153" y="9860"/>
                  <a:pt x="17208" y="9842"/>
                </a:cubicBezTo>
                <a:cubicBezTo>
                  <a:pt x="17279" y="9818"/>
                  <a:pt x="17322" y="9891"/>
                  <a:pt x="17336" y="9938"/>
                </a:cubicBezTo>
                <a:cubicBezTo>
                  <a:pt x="17375" y="10065"/>
                  <a:pt x="17339" y="10216"/>
                  <a:pt x="17304" y="10350"/>
                </a:cubicBezTo>
                <a:cubicBezTo>
                  <a:pt x="17265" y="10500"/>
                  <a:pt x="17193" y="10646"/>
                  <a:pt x="17145" y="10795"/>
                </a:cubicBezTo>
                <a:cubicBezTo>
                  <a:pt x="17110" y="10904"/>
                  <a:pt x="17026" y="10983"/>
                  <a:pt x="16986" y="11081"/>
                </a:cubicBezTo>
                <a:cubicBezTo>
                  <a:pt x="16986" y="11117"/>
                  <a:pt x="16983" y="11130"/>
                  <a:pt x="16954" y="11144"/>
                </a:cubicBezTo>
                <a:cubicBezTo>
                  <a:pt x="16997" y="11130"/>
                  <a:pt x="16993" y="11099"/>
                  <a:pt x="17050" y="11081"/>
                </a:cubicBezTo>
                <a:cubicBezTo>
                  <a:pt x="17094" y="11067"/>
                  <a:pt x="17163" y="11052"/>
                  <a:pt x="17208" y="11049"/>
                </a:cubicBezTo>
                <a:cubicBezTo>
                  <a:pt x="17267" y="11045"/>
                  <a:pt x="17323" y="11052"/>
                  <a:pt x="17367" y="11081"/>
                </a:cubicBezTo>
                <a:cubicBezTo>
                  <a:pt x="17418" y="11114"/>
                  <a:pt x="17447" y="11115"/>
                  <a:pt x="17462" y="11176"/>
                </a:cubicBezTo>
              </a:path>
              <a:path w="13431" h="5621">
                <a:moveTo>
                  <a:pt x="17653" y="10763"/>
                </a:moveTo>
                <a:cubicBezTo>
                  <a:pt x="17699" y="10775"/>
                  <a:pt x="17732" y="10810"/>
                  <a:pt x="17748" y="10858"/>
                </a:cubicBezTo>
                <a:cubicBezTo>
                  <a:pt x="17748" y="10901"/>
                  <a:pt x="17748" y="10922"/>
                  <a:pt x="17748" y="10954"/>
                </a:cubicBezTo>
              </a:path>
              <a:path w="13431" h="5621">
                <a:moveTo>
                  <a:pt x="18066" y="9874"/>
                </a:moveTo>
                <a:cubicBezTo>
                  <a:pt x="18066" y="9986"/>
                  <a:pt x="18038" y="10081"/>
                  <a:pt x="18034" y="10192"/>
                </a:cubicBezTo>
                <a:cubicBezTo>
                  <a:pt x="18026" y="10417"/>
                  <a:pt x="18021" y="10636"/>
                  <a:pt x="18002" y="10858"/>
                </a:cubicBezTo>
                <a:cubicBezTo>
                  <a:pt x="17991" y="10982"/>
                  <a:pt x="17990" y="11087"/>
                  <a:pt x="17970" y="11208"/>
                </a:cubicBezTo>
              </a:path>
              <a:path w="13431" h="5621">
                <a:moveTo>
                  <a:pt x="18764" y="9874"/>
                </a:moveTo>
                <a:cubicBezTo>
                  <a:pt x="18811" y="9839"/>
                  <a:pt x="18841" y="9806"/>
                  <a:pt x="18860" y="9842"/>
                </a:cubicBezTo>
                <a:cubicBezTo>
                  <a:pt x="18775" y="9854"/>
                  <a:pt x="18719" y="9896"/>
                  <a:pt x="18637" y="9938"/>
                </a:cubicBezTo>
                <a:cubicBezTo>
                  <a:pt x="18580" y="9967"/>
                  <a:pt x="18510" y="9995"/>
                  <a:pt x="18447" y="10001"/>
                </a:cubicBezTo>
                <a:cubicBezTo>
                  <a:pt x="18405" y="10005"/>
                  <a:pt x="18383" y="10043"/>
                  <a:pt x="18383" y="10001"/>
                </a:cubicBezTo>
                <a:cubicBezTo>
                  <a:pt x="18383" y="9918"/>
                  <a:pt x="18383" y="10051"/>
                  <a:pt x="18383" y="10065"/>
                </a:cubicBezTo>
                <a:cubicBezTo>
                  <a:pt x="18383" y="10126"/>
                  <a:pt x="18371" y="10230"/>
                  <a:pt x="18352" y="10287"/>
                </a:cubicBezTo>
                <a:cubicBezTo>
                  <a:pt x="18330" y="10353"/>
                  <a:pt x="18295" y="10416"/>
                  <a:pt x="18288" y="10478"/>
                </a:cubicBezTo>
                <a:cubicBezTo>
                  <a:pt x="18288" y="10509"/>
                  <a:pt x="18288" y="10520"/>
                  <a:pt x="18288" y="10541"/>
                </a:cubicBezTo>
                <a:cubicBezTo>
                  <a:pt x="18352" y="10541"/>
                  <a:pt x="18393" y="10518"/>
                  <a:pt x="18447" y="10478"/>
                </a:cubicBezTo>
                <a:cubicBezTo>
                  <a:pt x="18505" y="10434"/>
                  <a:pt x="18525" y="10390"/>
                  <a:pt x="18606" y="10382"/>
                </a:cubicBezTo>
                <a:cubicBezTo>
                  <a:pt x="18685" y="10374"/>
                  <a:pt x="18733" y="10399"/>
                  <a:pt x="18796" y="10446"/>
                </a:cubicBezTo>
                <a:cubicBezTo>
                  <a:pt x="18847" y="10484"/>
                  <a:pt x="18909" y="10607"/>
                  <a:pt x="18923" y="10668"/>
                </a:cubicBezTo>
                <a:cubicBezTo>
                  <a:pt x="18944" y="10765"/>
                  <a:pt x="18901" y="10839"/>
                  <a:pt x="18860" y="10922"/>
                </a:cubicBezTo>
                <a:cubicBezTo>
                  <a:pt x="18811" y="11022"/>
                  <a:pt x="18733" y="11090"/>
                  <a:pt x="18637" y="11144"/>
                </a:cubicBezTo>
                <a:cubicBezTo>
                  <a:pt x="18551" y="11192"/>
                  <a:pt x="18472" y="11207"/>
                  <a:pt x="18383" y="11240"/>
                </a:cubicBezTo>
              </a:path>
              <a:path w="13431" h="5621">
                <a:moveTo>
                  <a:pt x="19209" y="10192"/>
                </a:moveTo>
                <a:cubicBezTo>
                  <a:pt x="19198" y="10192"/>
                  <a:pt x="19188" y="10192"/>
                  <a:pt x="19177" y="10192"/>
                </a:cubicBezTo>
              </a:path>
              <a:path w="13431" h="5621">
                <a:moveTo>
                  <a:pt x="19209" y="10192"/>
                </a:moveTo>
                <a:lnTo>
                  <a:pt x="19209" y="10192"/>
                </a:lnTo>
              </a:path>
              <a:path w="13431" h="5621">
                <a:moveTo>
                  <a:pt x="19304" y="10287"/>
                </a:moveTo>
                <a:cubicBezTo>
                  <a:pt x="19372" y="10287"/>
                  <a:pt x="19393" y="10261"/>
                  <a:pt x="19463" y="10255"/>
                </a:cubicBezTo>
                <a:cubicBezTo>
                  <a:pt x="19546" y="10248"/>
                  <a:pt x="19633" y="10255"/>
                  <a:pt x="19717" y="10255"/>
                </a:cubicBezTo>
              </a:path>
              <a:path w="13431" h="5621">
                <a:moveTo>
                  <a:pt x="19558" y="10065"/>
                </a:moveTo>
                <a:cubicBezTo>
                  <a:pt x="19547" y="10075"/>
                  <a:pt x="19537" y="10086"/>
                  <a:pt x="19526" y="10096"/>
                </a:cubicBezTo>
                <a:cubicBezTo>
                  <a:pt x="19584" y="10096"/>
                  <a:pt x="19601" y="10122"/>
                  <a:pt x="19653" y="10128"/>
                </a:cubicBezTo>
                <a:cubicBezTo>
                  <a:pt x="19708" y="10134"/>
                  <a:pt x="19731" y="10148"/>
                  <a:pt x="19780" y="10160"/>
                </a:cubicBezTo>
                <a:cubicBezTo>
                  <a:pt x="19792" y="10210"/>
                  <a:pt x="19812" y="10230"/>
                  <a:pt x="19812" y="10287"/>
                </a:cubicBezTo>
                <a:cubicBezTo>
                  <a:pt x="19812" y="10369"/>
                  <a:pt x="19799" y="10410"/>
                  <a:pt x="19748" y="10478"/>
                </a:cubicBezTo>
                <a:cubicBezTo>
                  <a:pt x="19707" y="10533"/>
                  <a:pt x="19671" y="10586"/>
                  <a:pt x="19622" y="10636"/>
                </a:cubicBezTo>
              </a:path>
              <a:path w="13431" h="5621">
                <a:moveTo>
                  <a:pt x="20098" y="9811"/>
                </a:moveTo>
                <a:cubicBezTo>
                  <a:pt x="20098" y="9762"/>
                  <a:pt x="20111" y="9691"/>
                  <a:pt x="20130" y="9652"/>
                </a:cubicBezTo>
                <a:cubicBezTo>
                  <a:pt x="20154" y="9602"/>
                  <a:pt x="20183" y="9567"/>
                  <a:pt x="20225" y="9525"/>
                </a:cubicBezTo>
                <a:cubicBezTo>
                  <a:pt x="20254" y="9496"/>
                  <a:pt x="20260" y="9430"/>
                  <a:pt x="20320" y="9462"/>
                </a:cubicBezTo>
                <a:cubicBezTo>
                  <a:pt x="20367" y="9487"/>
                  <a:pt x="20381" y="9574"/>
                  <a:pt x="20384" y="9620"/>
                </a:cubicBezTo>
                <a:cubicBezTo>
                  <a:pt x="20391" y="9730"/>
                  <a:pt x="20335" y="9832"/>
                  <a:pt x="20320" y="9938"/>
                </a:cubicBezTo>
                <a:cubicBezTo>
                  <a:pt x="20304" y="10047"/>
                  <a:pt x="20242" y="10150"/>
                  <a:pt x="20225" y="10255"/>
                </a:cubicBezTo>
                <a:cubicBezTo>
                  <a:pt x="20210" y="10344"/>
                  <a:pt x="20198" y="10460"/>
                  <a:pt x="20161" y="10541"/>
                </a:cubicBezTo>
                <a:cubicBezTo>
                  <a:pt x="20145" y="10577"/>
                  <a:pt x="20114" y="10642"/>
                  <a:pt x="20130" y="10604"/>
                </a:cubicBezTo>
                <a:cubicBezTo>
                  <a:pt x="20149" y="10559"/>
                  <a:pt x="20166" y="10573"/>
                  <a:pt x="20225" y="10573"/>
                </a:cubicBezTo>
                <a:cubicBezTo>
                  <a:pt x="20276" y="10573"/>
                  <a:pt x="20261" y="10623"/>
                  <a:pt x="20288" y="10636"/>
                </a:cubicBezTo>
                <a:cubicBezTo>
                  <a:pt x="20337" y="10661"/>
                  <a:pt x="20321" y="10683"/>
                  <a:pt x="20384" y="10636"/>
                </a:cubicBezTo>
              </a:path>
              <a:path w="13431" h="5621">
                <a:moveTo>
                  <a:pt x="20479" y="10065"/>
                </a:moveTo>
                <a:cubicBezTo>
                  <a:pt x="20489" y="10065"/>
                  <a:pt x="20500" y="10065"/>
                  <a:pt x="20510" y="10065"/>
                </a:cubicBezTo>
                <a:cubicBezTo>
                  <a:pt x="20522" y="10114"/>
                  <a:pt x="20573" y="10180"/>
                  <a:pt x="20606" y="10224"/>
                </a:cubicBezTo>
                <a:cubicBezTo>
                  <a:pt x="20648" y="10279"/>
                  <a:pt x="20683" y="10331"/>
                  <a:pt x="20733" y="10382"/>
                </a:cubicBezTo>
                <a:cubicBezTo>
                  <a:pt x="20775" y="10424"/>
                  <a:pt x="20801" y="10469"/>
                  <a:pt x="20828" y="10509"/>
                </a:cubicBezTo>
                <a:cubicBezTo>
                  <a:pt x="20857" y="10538"/>
                  <a:pt x="20863" y="10549"/>
                  <a:pt x="20892" y="10541"/>
                </a:cubicBezTo>
              </a:path>
              <a:path w="13431" h="5621">
                <a:moveTo>
                  <a:pt x="20860" y="9938"/>
                </a:moveTo>
                <a:cubicBezTo>
                  <a:pt x="20842" y="10026"/>
                  <a:pt x="20795" y="10138"/>
                  <a:pt x="20764" y="10224"/>
                </a:cubicBezTo>
                <a:cubicBezTo>
                  <a:pt x="20707" y="10384"/>
                  <a:pt x="20637" y="10542"/>
                  <a:pt x="20574" y="10700"/>
                </a:cubicBezTo>
              </a:path>
              <a:path w="13431" h="5621">
                <a:moveTo>
                  <a:pt x="21272" y="9938"/>
                </a:moveTo>
                <a:cubicBezTo>
                  <a:pt x="21272" y="10093"/>
                  <a:pt x="21283" y="10232"/>
                  <a:pt x="21304" y="10382"/>
                </a:cubicBezTo>
                <a:cubicBezTo>
                  <a:pt x="21315" y="10466"/>
                  <a:pt x="21319" y="10490"/>
                  <a:pt x="21336" y="10541"/>
                </a:cubicBezTo>
              </a:path>
              <a:path w="13431" h="5621">
                <a:moveTo>
                  <a:pt x="21177" y="10224"/>
                </a:moveTo>
                <a:cubicBezTo>
                  <a:pt x="21237" y="10224"/>
                  <a:pt x="21257" y="10202"/>
                  <a:pt x="21304" y="10192"/>
                </a:cubicBezTo>
                <a:cubicBezTo>
                  <a:pt x="21389" y="10174"/>
                  <a:pt x="21418" y="10142"/>
                  <a:pt x="21495" y="10096"/>
                </a:cubicBezTo>
                <a:cubicBezTo>
                  <a:pt x="21516" y="10086"/>
                  <a:pt x="21537" y="10075"/>
                  <a:pt x="21558" y="10065"/>
                </a:cubicBezTo>
              </a:path>
              <a:path w="13431" h="5621">
                <a:moveTo>
                  <a:pt x="21654" y="9716"/>
                </a:moveTo>
                <a:cubicBezTo>
                  <a:pt x="21664" y="9674"/>
                  <a:pt x="21702" y="9609"/>
                  <a:pt x="21749" y="9588"/>
                </a:cubicBezTo>
                <a:cubicBezTo>
                  <a:pt x="21796" y="9567"/>
                  <a:pt x="21830" y="9558"/>
                  <a:pt x="21876" y="9588"/>
                </a:cubicBezTo>
                <a:cubicBezTo>
                  <a:pt x="21963" y="9646"/>
                  <a:pt x="21942" y="9733"/>
                  <a:pt x="21908" y="9811"/>
                </a:cubicBezTo>
                <a:cubicBezTo>
                  <a:pt x="21867" y="9904"/>
                  <a:pt x="21838" y="10011"/>
                  <a:pt x="21780" y="10096"/>
                </a:cubicBezTo>
                <a:cubicBezTo>
                  <a:pt x="21732" y="10166"/>
                  <a:pt x="21701" y="10168"/>
                  <a:pt x="21749" y="10096"/>
                </a:cubicBezTo>
                <a:cubicBezTo>
                  <a:pt x="21782" y="10046"/>
                  <a:pt x="21840" y="10038"/>
                  <a:pt x="21876" y="10065"/>
                </a:cubicBezTo>
                <a:cubicBezTo>
                  <a:pt x="21944" y="10117"/>
                  <a:pt x="21967" y="10172"/>
                  <a:pt x="21971" y="10255"/>
                </a:cubicBezTo>
                <a:cubicBezTo>
                  <a:pt x="21976" y="10358"/>
                  <a:pt x="21966" y="10478"/>
                  <a:pt x="21939" y="10573"/>
                </a:cubicBezTo>
                <a:cubicBezTo>
                  <a:pt x="21911" y="10673"/>
                  <a:pt x="21849" y="10714"/>
                  <a:pt x="21780" y="10763"/>
                </a:cubicBezTo>
                <a:cubicBezTo>
                  <a:pt x="21729" y="10799"/>
                  <a:pt x="21705" y="10776"/>
                  <a:pt x="21685" y="10732"/>
                </a:cubicBezTo>
                <a:cubicBezTo>
                  <a:pt x="21675" y="10711"/>
                  <a:pt x="21664" y="10689"/>
                  <a:pt x="21654" y="10668"/>
                </a:cubicBezTo>
              </a:path>
              <a:path w="13431" h="5621">
                <a:moveTo>
                  <a:pt x="22066" y="9938"/>
                </a:moveTo>
                <a:cubicBezTo>
                  <a:pt x="22084" y="10011"/>
                  <a:pt x="22098" y="10072"/>
                  <a:pt x="22098" y="10160"/>
                </a:cubicBezTo>
                <a:cubicBezTo>
                  <a:pt x="22098" y="10277"/>
                  <a:pt x="22091" y="10432"/>
                  <a:pt x="22130" y="10541"/>
                </a:cubicBezTo>
                <a:cubicBezTo>
                  <a:pt x="22162" y="10573"/>
                  <a:pt x="22172" y="10583"/>
                  <a:pt x="22193" y="10604"/>
                </a:cubicBezTo>
                <a:cubicBezTo>
                  <a:pt x="22263" y="10587"/>
                  <a:pt x="22283" y="10575"/>
                  <a:pt x="22320" y="10509"/>
                </a:cubicBezTo>
                <a:cubicBezTo>
                  <a:pt x="22379" y="10404"/>
                  <a:pt x="22359" y="10274"/>
                  <a:pt x="22384" y="10160"/>
                </a:cubicBezTo>
                <a:cubicBezTo>
                  <a:pt x="22408" y="10049"/>
                  <a:pt x="22416" y="9957"/>
                  <a:pt x="22416" y="9842"/>
                </a:cubicBezTo>
                <a:cubicBezTo>
                  <a:pt x="22357" y="9862"/>
                  <a:pt x="22413" y="9960"/>
                  <a:pt x="22416" y="10033"/>
                </a:cubicBezTo>
                <a:cubicBezTo>
                  <a:pt x="22421" y="10161"/>
                  <a:pt x="22426" y="10319"/>
                  <a:pt x="22447" y="10446"/>
                </a:cubicBezTo>
                <a:cubicBezTo>
                  <a:pt x="22472" y="10596"/>
                  <a:pt x="22479" y="10735"/>
                  <a:pt x="22479" y="10890"/>
                </a:cubicBezTo>
                <a:cubicBezTo>
                  <a:pt x="22479" y="11035"/>
                  <a:pt x="22440" y="11168"/>
                  <a:pt x="22384" y="11303"/>
                </a:cubicBezTo>
                <a:cubicBezTo>
                  <a:pt x="22349" y="11388"/>
                  <a:pt x="22276" y="11425"/>
                  <a:pt x="22193" y="11430"/>
                </a:cubicBezTo>
                <a:cubicBezTo>
                  <a:pt x="22103" y="11435"/>
                  <a:pt x="22108" y="11407"/>
                  <a:pt x="22066" y="11335"/>
                </a:cubicBezTo>
              </a:path>
              <a:path w="13431" h="5621">
                <a:moveTo>
                  <a:pt x="22670" y="9970"/>
                </a:moveTo>
                <a:cubicBezTo>
                  <a:pt x="22680" y="9970"/>
                  <a:pt x="22691" y="9970"/>
                  <a:pt x="22701" y="9970"/>
                </a:cubicBezTo>
                <a:cubicBezTo>
                  <a:pt x="22711" y="9941"/>
                  <a:pt x="22755" y="9920"/>
                  <a:pt x="22796" y="9906"/>
                </a:cubicBezTo>
                <a:cubicBezTo>
                  <a:pt x="22829" y="9895"/>
                  <a:pt x="22888" y="9906"/>
                  <a:pt x="22924" y="9906"/>
                </a:cubicBezTo>
              </a:path>
              <a:path w="13431" h="5621">
                <a:moveTo>
                  <a:pt x="22733" y="10255"/>
                </a:moveTo>
                <a:cubicBezTo>
                  <a:pt x="22733" y="10266"/>
                  <a:pt x="22733" y="10276"/>
                  <a:pt x="22733" y="10287"/>
                </a:cubicBezTo>
                <a:cubicBezTo>
                  <a:pt x="22774" y="10277"/>
                  <a:pt x="22852" y="10271"/>
                  <a:pt x="22892" y="10255"/>
                </a:cubicBezTo>
                <a:cubicBezTo>
                  <a:pt x="22903" y="10245"/>
                  <a:pt x="22913" y="10234"/>
                  <a:pt x="22924" y="10224"/>
                </a:cubicBezTo>
              </a:path>
              <a:path w="13431" h="5621">
                <a:moveTo>
                  <a:pt x="23114" y="9747"/>
                </a:moveTo>
                <a:cubicBezTo>
                  <a:pt x="23076" y="9698"/>
                  <a:pt x="23080" y="9671"/>
                  <a:pt x="23114" y="9620"/>
                </a:cubicBezTo>
                <a:cubicBezTo>
                  <a:pt x="23135" y="9589"/>
                  <a:pt x="23207" y="9508"/>
                  <a:pt x="23241" y="9493"/>
                </a:cubicBezTo>
                <a:cubicBezTo>
                  <a:pt x="23272" y="9479"/>
                  <a:pt x="23356" y="9488"/>
                  <a:pt x="23368" y="9525"/>
                </a:cubicBezTo>
                <a:cubicBezTo>
                  <a:pt x="23397" y="9618"/>
                  <a:pt x="23391" y="9714"/>
                  <a:pt x="23368" y="9811"/>
                </a:cubicBezTo>
                <a:cubicBezTo>
                  <a:pt x="23333" y="9962"/>
                  <a:pt x="23240" y="10107"/>
                  <a:pt x="23209" y="10255"/>
                </a:cubicBezTo>
                <a:cubicBezTo>
                  <a:pt x="23197" y="10311"/>
                  <a:pt x="23190" y="10332"/>
                  <a:pt x="23178" y="10382"/>
                </a:cubicBezTo>
                <a:cubicBezTo>
                  <a:pt x="23208" y="10372"/>
                  <a:pt x="23236" y="10370"/>
                  <a:pt x="23273" y="10350"/>
                </a:cubicBezTo>
                <a:cubicBezTo>
                  <a:pt x="23304" y="10333"/>
                  <a:pt x="23354" y="10294"/>
                  <a:pt x="23400" y="10319"/>
                </a:cubicBezTo>
                <a:cubicBezTo>
                  <a:pt x="23453" y="10347"/>
                  <a:pt x="23463" y="10350"/>
                  <a:pt x="23527" y="10350"/>
                </a:cubicBezTo>
              </a:path>
              <a:path w="13431" h="5621">
                <a:moveTo>
                  <a:pt x="23590" y="10160"/>
                </a:moveTo>
                <a:lnTo>
                  <a:pt x="23590" y="10160"/>
                </a:lnTo>
              </a:path>
              <a:path w="13431" h="5621">
                <a:moveTo>
                  <a:pt x="23590" y="10160"/>
                </a:moveTo>
                <a:cubicBezTo>
                  <a:pt x="23601" y="10171"/>
                  <a:pt x="23611" y="10181"/>
                  <a:pt x="23622" y="10192"/>
                </a:cubicBezTo>
              </a:path>
              <a:path w="13431" h="5621">
                <a:moveTo>
                  <a:pt x="23622" y="10192"/>
                </a:moveTo>
                <a:lnTo>
                  <a:pt x="23622" y="10192"/>
                </a:lnTo>
              </a:path>
              <a:path w="13431" h="5621">
                <a:moveTo>
                  <a:pt x="23844" y="9462"/>
                </a:moveTo>
                <a:cubicBezTo>
                  <a:pt x="23844" y="9530"/>
                  <a:pt x="23816" y="9550"/>
                  <a:pt x="23812" y="9620"/>
                </a:cubicBezTo>
                <a:cubicBezTo>
                  <a:pt x="23802" y="9795"/>
                  <a:pt x="23828" y="9960"/>
                  <a:pt x="23844" y="10128"/>
                </a:cubicBezTo>
                <a:cubicBezTo>
                  <a:pt x="23854" y="10232"/>
                  <a:pt x="23844" y="10342"/>
                  <a:pt x="23844" y="10446"/>
                </a:cubicBezTo>
              </a:path>
              <a:path w="13431" h="5621">
                <a:moveTo>
                  <a:pt x="24448" y="9366"/>
                </a:moveTo>
                <a:cubicBezTo>
                  <a:pt x="24537" y="9366"/>
                  <a:pt x="24353" y="9397"/>
                  <a:pt x="24352" y="9398"/>
                </a:cubicBezTo>
                <a:cubicBezTo>
                  <a:pt x="24299" y="9447"/>
                  <a:pt x="24307" y="9484"/>
                  <a:pt x="24225" y="9493"/>
                </a:cubicBezTo>
                <a:cubicBezTo>
                  <a:pt x="24185" y="9497"/>
                  <a:pt x="24117" y="9547"/>
                  <a:pt x="24098" y="9588"/>
                </a:cubicBezTo>
                <a:cubicBezTo>
                  <a:pt x="24070" y="9649"/>
                  <a:pt x="24121" y="9726"/>
                  <a:pt x="24130" y="9779"/>
                </a:cubicBezTo>
                <a:cubicBezTo>
                  <a:pt x="24140" y="9838"/>
                  <a:pt x="24130" y="9910"/>
                  <a:pt x="24130" y="9970"/>
                </a:cubicBezTo>
                <a:cubicBezTo>
                  <a:pt x="24168" y="9920"/>
                  <a:pt x="24193" y="9872"/>
                  <a:pt x="24225" y="9811"/>
                </a:cubicBezTo>
                <a:cubicBezTo>
                  <a:pt x="24247" y="9769"/>
                  <a:pt x="24302" y="9706"/>
                  <a:pt x="24352" y="9684"/>
                </a:cubicBezTo>
                <a:cubicBezTo>
                  <a:pt x="24408" y="9659"/>
                  <a:pt x="24494" y="9737"/>
                  <a:pt x="24511" y="9779"/>
                </a:cubicBezTo>
                <a:cubicBezTo>
                  <a:pt x="24543" y="9856"/>
                  <a:pt x="24598" y="10007"/>
                  <a:pt x="24574" y="10096"/>
                </a:cubicBezTo>
                <a:cubicBezTo>
                  <a:pt x="24557" y="10157"/>
                  <a:pt x="24501" y="10281"/>
                  <a:pt x="24448" y="10319"/>
                </a:cubicBezTo>
                <a:cubicBezTo>
                  <a:pt x="24398" y="10354"/>
                  <a:pt x="24373" y="10350"/>
                  <a:pt x="24320" y="10350"/>
                </a:cubicBezTo>
              </a:path>
              <a:path w="13431" h="5621">
                <a:moveTo>
                  <a:pt x="24702" y="8477"/>
                </a:moveTo>
                <a:lnTo>
                  <a:pt x="24702" y="8477"/>
                </a:lnTo>
              </a:path>
              <a:path w="13431" h="5621">
                <a:moveTo>
                  <a:pt x="24924" y="8604"/>
                </a:moveTo>
                <a:cubicBezTo>
                  <a:pt x="24945" y="8691"/>
                  <a:pt x="24964" y="8748"/>
                  <a:pt x="24987" y="8858"/>
                </a:cubicBezTo>
                <a:cubicBezTo>
                  <a:pt x="25001" y="8926"/>
                  <a:pt x="25015" y="8996"/>
                  <a:pt x="25019" y="9080"/>
                </a:cubicBezTo>
                <a:cubicBezTo>
                  <a:pt x="25036" y="9429"/>
                  <a:pt x="25015" y="9791"/>
                  <a:pt x="24987" y="10128"/>
                </a:cubicBezTo>
                <a:cubicBezTo>
                  <a:pt x="24976" y="10261"/>
                  <a:pt x="25011" y="10398"/>
                  <a:pt x="25019" y="10509"/>
                </a:cubicBezTo>
                <a:cubicBezTo>
                  <a:pt x="25024" y="10573"/>
                  <a:pt x="25046" y="10652"/>
                  <a:pt x="25051" y="10700"/>
                </a:cubicBezTo>
                <a:cubicBezTo>
                  <a:pt x="25059" y="10772"/>
                  <a:pt x="25076" y="10865"/>
                  <a:pt x="25082" y="10922"/>
                </a:cubicBezTo>
                <a:cubicBezTo>
                  <a:pt x="25091" y="11002"/>
                  <a:pt x="25054" y="11085"/>
                  <a:pt x="25051" y="11144"/>
                </a:cubicBezTo>
                <a:cubicBezTo>
                  <a:pt x="25040" y="11379"/>
                  <a:pt x="25038" y="11614"/>
                  <a:pt x="25019" y="11843"/>
                </a:cubicBezTo>
                <a:cubicBezTo>
                  <a:pt x="25011" y="11936"/>
                  <a:pt x="25004" y="12009"/>
                  <a:pt x="24987" y="12097"/>
                </a:cubicBezTo>
                <a:cubicBezTo>
                  <a:pt x="24971" y="12177"/>
                  <a:pt x="24947" y="12236"/>
                  <a:pt x="24924" y="12319"/>
                </a:cubicBezTo>
                <a:cubicBezTo>
                  <a:pt x="24907" y="12380"/>
                  <a:pt x="24884" y="12426"/>
                  <a:pt x="24860" y="12478"/>
                </a:cubicBezTo>
                <a:cubicBezTo>
                  <a:pt x="24840" y="12523"/>
                  <a:pt x="24835" y="12566"/>
                  <a:pt x="24797" y="12605"/>
                </a:cubicBezTo>
                <a:cubicBezTo>
                  <a:pt x="24756" y="12647"/>
                  <a:pt x="24717" y="12675"/>
                  <a:pt x="24670" y="12700"/>
                </a:cubicBezTo>
                <a:cubicBezTo>
                  <a:pt x="24610" y="12732"/>
                  <a:pt x="24536" y="12736"/>
                  <a:pt x="24479" y="12764"/>
                </a:cubicBezTo>
                <a:cubicBezTo>
                  <a:pt x="24410" y="12799"/>
                  <a:pt x="24354" y="12836"/>
                  <a:pt x="24289" y="12859"/>
                </a:cubicBezTo>
                <a:cubicBezTo>
                  <a:pt x="24221" y="12883"/>
                  <a:pt x="24128" y="12892"/>
                  <a:pt x="24066" y="12922"/>
                </a:cubicBezTo>
                <a:cubicBezTo>
                  <a:pt x="23988" y="12960"/>
                  <a:pt x="23925" y="13012"/>
                  <a:pt x="23844" y="13049"/>
                </a:cubicBezTo>
                <a:cubicBezTo>
                  <a:pt x="23777" y="13079"/>
                  <a:pt x="23698" y="13107"/>
                  <a:pt x="23622" y="13144"/>
                </a:cubicBezTo>
                <a:cubicBezTo>
                  <a:pt x="23542" y="13183"/>
                  <a:pt x="23476" y="13230"/>
                  <a:pt x="23400" y="13272"/>
                </a:cubicBezTo>
                <a:cubicBezTo>
                  <a:pt x="23308" y="13322"/>
                  <a:pt x="23260" y="13369"/>
                  <a:pt x="23178" y="13430"/>
                </a:cubicBezTo>
                <a:cubicBezTo>
                  <a:pt x="23123" y="13472"/>
                  <a:pt x="23067" y="13505"/>
                  <a:pt x="23019" y="13557"/>
                </a:cubicBezTo>
                <a:cubicBezTo>
                  <a:pt x="22952" y="13629"/>
                  <a:pt x="22885" y="13731"/>
                  <a:pt x="22828" y="13811"/>
                </a:cubicBezTo>
                <a:cubicBezTo>
                  <a:pt x="22801" y="13849"/>
                  <a:pt x="22781" y="13862"/>
                  <a:pt x="22765" y="13906"/>
                </a:cubicBezTo>
                <a:cubicBezTo>
                  <a:pt x="22765" y="13938"/>
                  <a:pt x="22765" y="13949"/>
                  <a:pt x="22765" y="13970"/>
                </a:cubicBezTo>
              </a:path>
              <a:path w="13431" h="5621">
                <a:moveTo>
                  <a:pt x="22828" y="13367"/>
                </a:moveTo>
                <a:cubicBezTo>
                  <a:pt x="22828" y="13476"/>
                  <a:pt x="22813" y="13553"/>
                  <a:pt x="22796" y="13652"/>
                </a:cubicBezTo>
                <a:cubicBezTo>
                  <a:pt x="22781" y="13741"/>
                  <a:pt x="22784" y="13820"/>
                  <a:pt x="22765" y="13906"/>
                </a:cubicBezTo>
                <a:cubicBezTo>
                  <a:pt x="22751" y="13970"/>
                  <a:pt x="22747" y="14006"/>
                  <a:pt x="22733" y="14034"/>
                </a:cubicBezTo>
                <a:cubicBezTo>
                  <a:pt x="22722" y="14055"/>
                  <a:pt x="22738" y="14059"/>
                  <a:pt x="22796" y="14065"/>
                </a:cubicBezTo>
                <a:cubicBezTo>
                  <a:pt x="22860" y="14072"/>
                  <a:pt x="22878" y="14097"/>
                  <a:pt x="22955" y="14097"/>
                </a:cubicBezTo>
                <a:cubicBezTo>
                  <a:pt x="23019" y="14097"/>
                  <a:pt x="23082" y="14097"/>
                  <a:pt x="23146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1"/>
          <p:cNvSpPr/>
          <p:nvPr/>
        </p:nvSpPr>
        <p:spPr>
          <a:xfrm>
            <a:off x="7748640" y="4011480"/>
            <a:ext cx="1166760" cy="766800"/>
          </a:xfrm>
          <a:custGeom>
            <a:avLst/>
            <a:gdLst/>
            <a:ahLst/>
            <a:rect l="l" t="t" r="r" b="b"/>
            <a:pathLst>
              <a:path w="3240" h="2129">
                <a:moveTo>
                  <a:pt x="21558" y="11557"/>
                </a:moveTo>
                <a:cubicBezTo>
                  <a:pt x="21558" y="11691"/>
                  <a:pt x="21547" y="11812"/>
                  <a:pt x="21526" y="11938"/>
                </a:cubicBezTo>
                <a:cubicBezTo>
                  <a:pt x="21510" y="12032"/>
                  <a:pt x="21498" y="12278"/>
                  <a:pt x="21558" y="12351"/>
                </a:cubicBezTo>
                <a:cubicBezTo>
                  <a:pt x="21558" y="12382"/>
                  <a:pt x="21558" y="12393"/>
                  <a:pt x="21590" y="12382"/>
                </a:cubicBezTo>
                <a:cubicBezTo>
                  <a:pt x="21649" y="12325"/>
                  <a:pt x="21649" y="12297"/>
                  <a:pt x="21685" y="12224"/>
                </a:cubicBezTo>
                <a:cubicBezTo>
                  <a:pt x="21740" y="12113"/>
                  <a:pt x="21745" y="12023"/>
                  <a:pt x="21780" y="11906"/>
                </a:cubicBezTo>
                <a:cubicBezTo>
                  <a:pt x="21807" y="11814"/>
                  <a:pt x="21829" y="11711"/>
                  <a:pt x="21844" y="11620"/>
                </a:cubicBezTo>
                <a:cubicBezTo>
                  <a:pt x="21856" y="11547"/>
                  <a:pt x="21827" y="11556"/>
                  <a:pt x="21844" y="11620"/>
                </a:cubicBezTo>
                <a:cubicBezTo>
                  <a:pt x="21870" y="11718"/>
                  <a:pt x="21876" y="11800"/>
                  <a:pt x="21876" y="11906"/>
                </a:cubicBezTo>
                <a:cubicBezTo>
                  <a:pt x="21876" y="12022"/>
                  <a:pt x="21887" y="12172"/>
                  <a:pt x="21908" y="12287"/>
                </a:cubicBezTo>
                <a:cubicBezTo>
                  <a:pt x="21935" y="12438"/>
                  <a:pt x="21939" y="12576"/>
                  <a:pt x="21939" y="12732"/>
                </a:cubicBezTo>
                <a:cubicBezTo>
                  <a:pt x="21939" y="12856"/>
                  <a:pt x="21924" y="13001"/>
                  <a:pt x="21876" y="13113"/>
                </a:cubicBezTo>
                <a:cubicBezTo>
                  <a:pt x="21853" y="13166"/>
                  <a:pt x="21831" y="13221"/>
                  <a:pt x="21812" y="13272"/>
                </a:cubicBezTo>
                <a:cubicBezTo>
                  <a:pt x="21745" y="13262"/>
                  <a:pt x="21737" y="13261"/>
                  <a:pt x="21685" y="13208"/>
                </a:cubicBezTo>
                <a:cubicBezTo>
                  <a:pt x="21619" y="13140"/>
                  <a:pt x="21625" y="12980"/>
                  <a:pt x="21622" y="12890"/>
                </a:cubicBezTo>
                <a:cubicBezTo>
                  <a:pt x="21617" y="12723"/>
                  <a:pt x="21653" y="12564"/>
                  <a:pt x="21717" y="12414"/>
                </a:cubicBezTo>
                <a:cubicBezTo>
                  <a:pt x="21764" y="12303"/>
                  <a:pt x="21794" y="12216"/>
                  <a:pt x="21876" y="12128"/>
                </a:cubicBezTo>
                <a:cubicBezTo>
                  <a:pt x="21906" y="12095"/>
                  <a:pt x="21940" y="12065"/>
                  <a:pt x="21971" y="12033"/>
                </a:cubicBezTo>
              </a:path>
              <a:path w="3240" h="2129">
                <a:moveTo>
                  <a:pt x="22447" y="11620"/>
                </a:moveTo>
                <a:cubicBezTo>
                  <a:pt x="22437" y="11620"/>
                  <a:pt x="22426" y="11620"/>
                  <a:pt x="22416" y="11620"/>
                </a:cubicBezTo>
                <a:cubicBezTo>
                  <a:pt x="22500" y="11620"/>
                  <a:pt x="22561" y="11625"/>
                  <a:pt x="22638" y="11589"/>
                </a:cubicBezTo>
                <a:cubicBezTo>
                  <a:pt x="22709" y="11556"/>
                  <a:pt x="22781" y="11499"/>
                  <a:pt x="22860" y="11494"/>
                </a:cubicBezTo>
                <a:cubicBezTo>
                  <a:pt x="22913" y="11494"/>
                  <a:pt x="22923" y="11494"/>
                  <a:pt x="22955" y="11494"/>
                </a:cubicBezTo>
              </a:path>
              <a:path w="3240" h="2129">
                <a:moveTo>
                  <a:pt x="22479" y="11970"/>
                </a:moveTo>
                <a:cubicBezTo>
                  <a:pt x="22490" y="11981"/>
                  <a:pt x="22500" y="11991"/>
                  <a:pt x="22511" y="12002"/>
                </a:cubicBezTo>
                <a:cubicBezTo>
                  <a:pt x="22547" y="11989"/>
                  <a:pt x="22585" y="11949"/>
                  <a:pt x="22638" y="11938"/>
                </a:cubicBezTo>
                <a:cubicBezTo>
                  <a:pt x="22732" y="11919"/>
                  <a:pt x="22803" y="11888"/>
                  <a:pt x="22892" y="11843"/>
                </a:cubicBezTo>
                <a:cubicBezTo>
                  <a:pt x="22913" y="11832"/>
                  <a:pt x="22934" y="11822"/>
                  <a:pt x="22955" y="11811"/>
                </a:cubicBezTo>
              </a:path>
              <a:path w="3240" h="2129">
                <a:moveTo>
                  <a:pt x="23400" y="12002"/>
                </a:moveTo>
                <a:cubicBezTo>
                  <a:pt x="23400" y="12034"/>
                  <a:pt x="23400" y="12065"/>
                  <a:pt x="23400" y="12097"/>
                </a:cubicBezTo>
                <a:cubicBezTo>
                  <a:pt x="23448" y="12081"/>
                  <a:pt x="23432" y="12059"/>
                  <a:pt x="23432" y="12002"/>
                </a:cubicBezTo>
                <a:cubicBezTo>
                  <a:pt x="23397" y="12013"/>
                  <a:pt x="23373" y="12024"/>
                  <a:pt x="23368" y="12065"/>
                </a:cubicBezTo>
                <a:cubicBezTo>
                  <a:pt x="23361" y="12125"/>
                  <a:pt x="23351" y="12129"/>
                  <a:pt x="23400" y="12097"/>
                </a:cubicBezTo>
              </a:path>
              <a:path w="3240" h="2129">
                <a:moveTo>
                  <a:pt x="23717" y="11271"/>
                </a:moveTo>
                <a:cubicBezTo>
                  <a:pt x="23717" y="11374"/>
                  <a:pt x="23702" y="11461"/>
                  <a:pt x="23686" y="11557"/>
                </a:cubicBezTo>
                <a:cubicBezTo>
                  <a:pt x="23675" y="11625"/>
                  <a:pt x="23661" y="11689"/>
                  <a:pt x="23654" y="11748"/>
                </a:cubicBezTo>
                <a:cubicBezTo>
                  <a:pt x="23648" y="11803"/>
                  <a:pt x="23671" y="11731"/>
                  <a:pt x="23717" y="11716"/>
                </a:cubicBezTo>
                <a:cubicBezTo>
                  <a:pt x="23793" y="11690"/>
                  <a:pt x="23881" y="11728"/>
                  <a:pt x="23940" y="11748"/>
                </a:cubicBezTo>
                <a:cubicBezTo>
                  <a:pt x="23991" y="11765"/>
                  <a:pt x="24031" y="11743"/>
                  <a:pt x="24066" y="11716"/>
                </a:cubicBezTo>
              </a:path>
              <a:path w="3240" h="2129">
                <a:moveTo>
                  <a:pt x="24098" y="11176"/>
                </a:moveTo>
                <a:cubicBezTo>
                  <a:pt x="24098" y="11247"/>
                  <a:pt x="24074" y="11301"/>
                  <a:pt x="24066" y="11366"/>
                </a:cubicBezTo>
                <a:cubicBezTo>
                  <a:pt x="24047" y="11514"/>
                  <a:pt x="24064" y="11665"/>
                  <a:pt x="24035" y="11811"/>
                </a:cubicBezTo>
                <a:cubicBezTo>
                  <a:pt x="24011" y="11932"/>
                  <a:pt x="24003" y="12034"/>
                  <a:pt x="24003" y="12160"/>
                </a:cubicBezTo>
                <a:cubicBezTo>
                  <a:pt x="24003" y="12181"/>
                  <a:pt x="24003" y="12203"/>
                  <a:pt x="24003" y="12224"/>
                </a:cubicBezTo>
              </a:path>
              <a:path w="3240" h="2129">
                <a:moveTo>
                  <a:pt x="24638" y="11144"/>
                </a:moveTo>
                <a:cubicBezTo>
                  <a:pt x="24599" y="11173"/>
                  <a:pt x="24560" y="11204"/>
                  <a:pt x="24511" y="11208"/>
                </a:cubicBezTo>
                <a:cubicBezTo>
                  <a:pt x="24442" y="11213"/>
                  <a:pt x="24420" y="11240"/>
                  <a:pt x="24352" y="11240"/>
                </a:cubicBezTo>
                <a:cubicBezTo>
                  <a:pt x="24320" y="11240"/>
                  <a:pt x="24289" y="11240"/>
                  <a:pt x="24257" y="11240"/>
                </a:cubicBezTo>
              </a:path>
              <a:path w="3240" h="2129">
                <a:moveTo>
                  <a:pt x="24257" y="11271"/>
                </a:moveTo>
                <a:cubicBezTo>
                  <a:pt x="24328" y="11318"/>
                  <a:pt x="24271" y="11352"/>
                  <a:pt x="24257" y="11430"/>
                </a:cubicBezTo>
                <a:cubicBezTo>
                  <a:pt x="24246" y="11492"/>
                  <a:pt x="24231" y="11561"/>
                  <a:pt x="24225" y="11620"/>
                </a:cubicBezTo>
                <a:cubicBezTo>
                  <a:pt x="24225" y="11631"/>
                  <a:pt x="24225" y="11641"/>
                  <a:pt x="24225" y="11652"/>
                </a:cubicBezTo>
                <a:cubicBezTo>
                  <a:pt x="24313" y="11652"/>
                  <a:pt x="24257" y="11632"/>
                  <a:pt x="24320" y="11589"/>
                </a:cubicBezTo>
                <a:cubicBezTo>
                  <a:pt x="24372" y="11553"/>
                  <a:pt x="24428" y="11516"/>
                  <a:pt x="24479" y="11494"/>
                </a:cubicBezTo>
                <a:cubicBezTo>
                  <a:pt x="24519" y="11477"/>
                  <a:pt x="24587" y="11402"/>
                  <a:pt x="24638" y="11430"/>
                </a:cubicBezTo>
                <a:cubicBezTo>
                  <a:pt x="24708" y="11469"/>
                  <a:pt x="24761" y="11549"/>
                  <a:pt x="24765" y="11620"/>
                </a:cubicBezTo>
                <a:cubicBezTo>
                  <a:pt x="24771" y="11717"/>
                  <a:pt x="24711" y="11820"/>
                  <a:pt x="24670" y="11906"/>
                </a:cubicBezTo>
                <a:cubicBezTo>
                  <a:pt x="24624" y="12002"/>
                  <a:pt x="24560" y="12035"/>
                  <a:pt x="24479" y="12097"/>
                </a:cubicBezTo>
                <a:cubicBezTo>
                  <a:pt x="24408" y="12152"/>
                  <a:pt x="24378" y="12160"/>
                  <a:pt x="24289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2"/>
          <p:cNvSpPr/>
          <p:nvPr/>
        </p:nvSpPr>
        <p:spPr>
          <a:xfrm>
            <a:off x="2639880" y="4206960"/>
            <a:ext cx="2687760" cy="731880"/>
          </a:xfrm>
          <a:custGeom>
            <a:avLst/>
            <a:gdLst/>
            <a:ahLst/>
            <a:rect l="l" t="t" r="r" b="b"/>
            <a:pathLst>
              <a:path w="7463" h="2033">
                <a:moveTo>
                  <a:pt x="7398" y="11684"/>
                </a:moveTo>
                <a:cubicBezTo>
                  <a:pt x="7398" y="11880"/>
                  <a:pt x="7385" y="12064"/>
                  <a:pt x="7366" y="12256"/>
                </a:cubicBezTo>
                <a:cubicBezTo>
                  <a:pt x="7341" y="12509"/>
                  <a:pt x="7362" y="12768"/>
                  <a:pt x="7334" y="13018"/>
                </a:cubicBezTo>
                <a:cubicBezTo>
                  <a:pt x="7326" y="13090"/>
                  <a:pt x="7334" y="13167"/>
                  <a:pt x="7334" y="13240"/>
                </a:cubicBezTo>
                <a:cubicBezTo>
                  <a:pt x="7344" y="13213"/>
                  <a:pt x="7390" y="13086"/>
                  <a:pt x="7398" y="13018"/>
                </a:cubicBezTo>
                <a:cubicBezTo>
                  <a:pt x="7413" y="12890"/>
                  <a:pt x="7403" y="12762"/>
                  <a:pt x="7430" y="12636"/>
                </a:cubicBezTo>
                <a:cubicBezTo>
                  <a:pt x="7450" y="12543"/>
                  <a:pt x="7476" y="12399"/>
                  <a:pt x="7525" y="12319"/>
                </a:cubicBezTo>
                <a:cubicBezTo>
                  <a:pt x="7552" y="12274"/>
                  <a:pt x="7662" y="12206"/>
                  <a:pt x="7715" y="12224"/>
                </a:cubicBezTo>
                <a:cubicBezTo>
                  <a:pt x="7811" y="12256"/>
                  <a:pt x="7837" y="12331"/>
                  <a:pt x="7874" y="12414"/>
                </a:cubicBezTo>
                <a:cubicBezTo>
                  <a:pt x="7936" y="12550"/>
                  <a:pt x="7938" y="12645"/>
                  <a:pt x="7938" y="12795"/>
                </a:cubicBezTo>
                <a:cubicBezTo>
                  <a:pt x="7938" y="12896"/>
                  <a:pt x="7905" y="13028"/>
                  <a:pt x="7842" y="13113"/>
                </a:cubicBezTo>
                <a:cubicBezTo>
                  <a:pt x="7775" y="13203"/>
                  <a:pt x="7668" y="13230"/>
                  <a:pt x="7588" y="13272"/>
                </a:cubicBezTo>
                <a:cubicBezTo>
                  <a:pt x="7544" y="13295"/>
                  <a:pt x="7443" y="13314"/>
                  <a:pt x="7398" y="13272"/>
                </a:cubicBezTo>
                <a:cubicBezTo>
                  <a:pt x="7364" y="13241"/>
                  <a:pt x="7369" y="13160"/>
                  <a:pt x="7366" y="13113"/>
                </a:cubicBezTo>
                <a:cubicBezTo>
                  <a:pt x="7366" y="13092"/>
                  <a:pt x="7366" y="13070"/>
                  <a:pt x="7366" y="13049"/>
                </a:cubicBezTo>
              </a:path>
              <a:path w="7463" h="2033">
                <a:moveTo>
                  <a:pt x="8096" y="12256"/>
                </a:moveTo>
                <a:cubicBezTo>
                  <a:pt x="8160" y="12334"/>
                  <a:pt x="8160" y="12379"/>
                  <a:pt x="8160" y="12478"/>
                </a:cubicBezTo>
                <a:cubicBezTo>
                  <a:pt x="8160" y="12653"/>
                  <a:pt x="8146" y="12817"/>
                  <a:pt x="8128" y="12986"/>
                </a:cubicBezTo>
                <a:cubicBezTo>
                  <a:pt x="8121" y="13055"/>
                  <a:pt x="8102" y="13221"/>
                  <a:pt x="8160" y="13240"/>
                </a:cubicBezTo>
              </a:path>
              <a:path w="7463" h="2033">
                <a:moveTo>
                  <a:pt x="8700" y="12414"/>
                </a:moveTo>
                <a:cubicBezTo>
                  <a:pt x="8720" y="12359"/>
                  <a:pt x="8761" y="12254"/>
                  <a:pt x="8731" y="12192"/>
                </a:cubicBezTo>
                <a:cubicBezTo>
                  <a:pt x="8711" y="12152"/>
                  <a:pt x="8608" y="12145"/>
                  <a:pt x="8572" y="12160"/>
                </a:cubicBezTo>
                <a:cubicBezTo>
                  <a:pt x="8519" y="12182"/>
                  <a:pt x="8461" y="12278"/>
                  <a:pt x="8446" y="12319"/>
                </a:cubicBezTo>
                <a:cubicBezTo>
                  <a:pt x="8400" y="12450"/>
                  <a:pt x="8423" y="12510"/>
                  <a:pt x="8477" y="12636"/>
                </a:cubicBezTo>
                <a:cubicBezTo>
                  <a:pt x="8524" y="12746"/>
                  <a:pt x="8587" y="12846"/>
                  <a:pt x="8636" y="12954"/>
                </a:cubicBezTo>
                <a:cubicBezTo>
                  <a:pt x="8675" y="13039"/>
                  <a:pt x="8728" y="13142"/>
                  <a:pt x="8700" y="13240"/>
                </a:cubicBezTo>
                <a:cubicBezTo>
                  <a:pt x="8672" y="13338"/>
                  <a:pt x="8626" y="13335"/>
                  <a:pt x="8541" y="13335"/>
                </a:cubicBezTo>
                <a:cubicBezTo>
                  <a:pt x="8481" y="13335"/>
                  <a:pt x="8415" y="13292"/>
                  <a:pt x="8382" y="13240"/>
                </a:cubicBezTo>
                <a:cubicBezTo>
                  <a:pt x="8330" y="13159"/>
                  <a:pt x="8293" y="13090"/>
                  <a:pt x="8318" y="12986"/>
                </a:cubicBezTo>
                <a:cubicBezTo>
                  <a:pt x="8329" y="12965"/>
                  <a:pt x="8339" y="12943"/>
                  <a:pt x="8350" y="12922"/>
                </a:cubicBezTo>
              </a:path>
              <a:path w="7463" h="2033">
                <a:moveTo>
                  <a:pt x="9334" y="12351"/>
                </a:moveTo>
                <a:cubicBezTo>
                  <a:pt x="9334" y="12299"/>
                  <a:pt x="9327" y="12249"/>
                  <a:pt x="9271" y="12224"/>
                </a:cubicBezTo>
                <a:cubicBezTo>
                  <a:pt x="9215" y="12199"/>
                  <a:pt x="9149" y="12253"/>
                  <a:pt x="9112" y="12287"/>
                </a:cubicBezTo>
                <a:cubicBezTo>
                  <a:pt x="9018" y="12375"/>
                  <a:pt x="8935" y="12517"/>
                  <a:pt x="8890" y="12636"/>
                </a:cubicBezTo>
                <a:cubicBezTo>
                  <a:pt x="8839" y="12773"/>
                  <a:pt x="8847" y="12917"/>
                  <a:pt x="8890" y="13049"/>
                </a:cubicBezTo>
                <a:cubicBezTo>
                  <a:pt x="8930" y="13174"/>
                  <a:pt x="8980" y="13233"/>
                  <a:pt x="9112" y="13240"/>
                </a:cubicBezTo>
                <a:cubicBezTo>
                  <a:pt x="9176" y="13240"/>
                  <a:pt x="9197" y="13240"/>
                  <a:pt x="9239" y="13240"/>
                </a:cubicBezTo>
              </a:path>
              <a:path w="7463" h="2033">
                <a:moveTo>
                  <a:pt x="9493" y="12256"/>
                </a:moveTo>
                <a:cubicBezTo>
                  <a:pt x="9493" y="12398"/>
                  <a:pt x="9477" y="12530"/>
                  <a:pt x="9462" y="12668"/>
                </a:cubicBezTo>
                <a:cubicBezTo>
                  <a:pt x="9445" y="12829"/>
                  <a:pt x="9465" y="12989"/>
                  <a:pt x="9493" y="13144"/>
                </a:cubicBezTo>
                <a:cubicBezTo>
                  <a:pt x="9493" y="13180"/>
                  <a:pt x="9496" y="13194"/>
                  <a:pt x="9525" y="13208"/>
                </a:cubicBezTo>
                <a:cubicBezTo>
                  <a:pt x="9660" y="13208"/>
                  <a:pt x="9654" y="13183"/>
                  <a:pt x="9747" y="13081"/>
                </a:cubicBezTo>
                <a:cubicBezTo>
                  <a:pt x="9825" y="12995"/>
                  <a:pt x="9916" y="12851"/>
                  <a:pt x="9938" y="12732"/>
                </a:cubicBezTo>
                <a:cubicBezTo>
                  <a:pt x="9958" y="12626"/>
                  <a:pt x="9982" y="12483"/>
                  <a:pt x="9938" y="12382"/>
                </a:cubicBezTo>
                <a:cubicBezTo>
                  <a:pt x="9927" y="12372"/>
                  <a:pt x="9917" y="12361"/>
                  <a:pt x="9906" y="12351"/>
                </a:cubicBezTo>
                <a:cubicBezTo>
                  <a:pt x="9851" y="12422"/>
                  <a:pt x="9874" y="12513"/>
                  <a:pt x="9874" y="12605"/>
                </a:cubicBezTo>
                <a:cubicBezTo>
                  <a:pt x="9874" y="12791"/>
                  <a:pt x="9878" y="12968"/>
                  <a:pt x="9906" y="13144"/>
                </a:cubicBezTo>
                <a:cubicBezTo>
                  <a:pt x="9911" y="13174"/>
                  <a:pt x="9928" y="13305"/>
                  <a:pt x="10001" y="13272"/>
                </a:cubicBezTo>
                <a:cubicBezTo>
                  <a:pt x="10044" y="13229"/>
                  <a:pt x="10065" y="13208"/>
                  <a:pt x="10096" y="13176"/>
                </a:cubicBezTo>
              </a:path>
              <a:path w="7463" h="2033">
                <a:moveTo>
                  <a:pt x="10350" y="12287"/>
                </a:moveTo>
                <a:cubicBezTo>
                  <a:pt x="10319" y="12287"/>
                  <a:pt x="10308" y="12287"/>
                  <a:pt x="10287" y="12287"/>
                </a:cubicBezTo>
                <a:cubicBezTo>
                  <a:pt x="10287" y="12560"/>
                  <a:pt x="10258" y="12853"/>
                  <a:pt x="10319" y="13113"/>
                </a:cubicBezTo>
                <a:cubicBezTo>
                  <a:pt x="10332" y="13168"/>
                  <a:pt x="10297" y="13158"/>
                  <a:pt x="10350" y="13176"/>
                </a:cubicBezTo>
              </a:path>
              <a:path w="7463" h="2033">
                <a:moveTo>
                  <a:pt x="10954" y="11874"/>
                </a:moveTo>
                <a:cubicBezTo>
                  <a:pt x="10954" y="11969"/>
                  <a:pt x="10939" y="12068"/>
                  <a:pt x="10922" y="12160"/>
                </a:cubicBezTo>
                <a:cubicBezTo>
                  <a:pt x="10889" y="12337"/>
                  <a:pt x="10831" y="12485"/>
                  <a:pt x="10827" y="12668"/>
                </a:cubicBezTo>
                <a:cubicBezTo>
                  <a:pt x="10822" y="12864"/>
                  <a:pt x="10829" y="13054"/>
                  <a:pt x="10858" y="13240"/>
                </a:cubicBezTo>
                <a:cubicBezTo>
                  <a:pt x="10858" y="13297"/>
                  <a:pt x="10854" y="13314"/>
                  <a:pt x="10890" y="13335"/>
                </a:cubicBezTo>
              </a:path>
              <a:path w="7463" h="2033">
                <a:moveTo>
                  <a:pt x="10668" y="12541"/>
                </a:moveTo>
                <a:cubicBezTo>
                  <a:pt x="10700" y="12494"/>
                  <a:pt x="10789" y="12518"/>
                  <a:pt x="10858" y="12541"/>
                </a:cubicBezTo>
                <a:cubicBezTo>
                  <a:pt x="10939" y="12568"/>
                  <a:pt x="10994" y="12573"/>
                  <a:pt x="11081" y="12573"/>
                </a:cubicBezTo>
              </a:path>
              <a:path w="7463" h="2033">
                <a:moveTo>
                  <a:pt x="11620" y="12351"/>
                </a:moveTo>
                <a:cubicBezTo>
                  <a:pt x="11650" y="12311"/>
                  <a:pt x="11656" y="12235"/>
                  <a:pt x="11620" y="12192"/>
                </a:cubicBezTo>
                <a:cubicBezTo>
                  <a:pt x="11599" y="12167"/>
                  <a:pt x="11469" y="12149"/>
                  <a:pt x="11430" y="12160"/>
                </a:cubicBezTo>
                <a:cubicBezTo>
                  <a:pt x="11360" y="12180"/>
                  <a:pt x="11284" y="12254"/>
                  <a:pt x="11271" y="12319"/>
                </a:cubicBezTo>
                <a:cubicBezTo>
                  <a:pt x="11258" y="12385"/>
                  <a:pt x="11261" y="12462"/>
                  <a:pt x="11303" y="12510"/>
                </a:cubicBezTo>
                <a:cubicBezTo>
                  <a:pt x="11379" y="12598"/>
                  <a:pt x="11528" y="12675"/>
                  <a:pt x="11589" y="12764"/>
                </a:cubicBezTo>
                <a:cubicBezTo>
                  <a:pt x="11619" y="12807"/>
                  <a:pt x="11702" y="12961"/>
                  <a:pt x="11684" y="13018"/>
                </a:cubicBezTo>
                <a:cubicBezTo>
                  <a:pt x="11676" y="13044"/>
                  <a:pt x="11622" y="13135"/>
                  <a:pt x="11589" y="13144"/>
                </a:cubicBezTo>
                <a:cubicBezTo>
                  <a:pt x="11532" y="13160"/>
                  <a:pt x="11412" y="13136"/>
                  <a:pt x="11366" y="13113"/>
                </a:cubicBezTo>
                <a:cubicBezTo>
                  <a:pt x="11321" y="13091"/>
                  <a:pt x="11250" y="13036"/>
                  <a:pt x="11240" y="12986"/>
                </a:cubicBezTo>
                <a:cubicBezTo>
                  <a:pt x="11240" y="12965"/>
                  <a:pt x="11240" y="12943"/>
                  <a:pt x="11240" y="12922"/>
                </a:cubicBezTo>
              </a:path>
              <a:path w="7463" h="2033">
                <a:moveTo>
                  <a:pt x="12002" y="12541"/>
                </a:moveTo>
                <a:cubicBezTo>
                  <a:pt x="12002" y="12552"/>
                  <a:pt x="12002" y="12562"/>
                  <a:pt x="12002" y="12573"/>
                </a:cubicBezTo>
                <a:cubicBezTo>
                  <a:pt x="12099" y="12573"/>
                  <a:pt x="12166" y="12589"/>
                  <a:pt x="12256" y="12605"/>
                </a:cubicBezTo>
                <a:cubicBezTo>
                  <a:pt x="12336" y="12619"/>
                  <a:pt x="12375" y="12595"/>
                  <a:pt x="12446" y="12636"/>
                </a:cubicBezTo>
              </a:path>
              <a:path w="7463" h="2033">
                <a:moveTo>
                  <a:pt x="12065" y="12922"/>
                </a:moveTo>
                <a:cubicBezTo>
                  <a:pt x="12084" y="13000"/>
                  <a:pt x="12114" y="12986"/>
                  <a:pt x="12192" y="12986"/>
                </a:cubicBezTo>
                <a:cubicBezTo>
                  <a:pt x="12265" y="12986"/>
                  <a:pt x="12333" y="13018"/>
                  <a:pt x="12414" y="13018"/>
                </a:cubicBezTo>
              </a:path>
              <a:path w="7463" h="2033">
                <a:moveTo>
                  <a:pt x="13018" y="13272"/>
                </a:moveTo>
                <a:cubicBezTo>
                  <a:pt x="12970" y="13272"/>
                  <a:pt x="13025" y="13252"/>
                  <a:pt x="12986" y="13303"/>
                </a:cubicBezTo>
                <a:cubicBezTo>
                  <a:pt x="12965" y="13331"/>
                  <a:pt x="12918" y="13426"/>
                  <a:pt x="12954" y="13462"/>
                </a:cubicBezTo>
                <a:cubicBezTo>
                  <a:pt x="12965" y="13462"/>
                  <a:pt x="12975" y="13462"/>
                  <a:pt x="12986" y="13462"/>
                </a:cubicBezTo>
                <a:cubicBezTo>
                  <a:pt x="13022" y="13417"/>
                  <a:pt x="13064" y="13353"/>
                  <a:pt x="13081" y="13303"/>
                </a:cubicBezTo>
                <a:cubicBezTo>
                  <a:pt x="13096" y="13258"/>
                  <a:pt x="13072" y="13239"/>
                  <a:pt x="13049" y="13208"/>
                </a:cubicBezTo>
                <a:cubicBezTo>
                  <a:pt x="13045" y="13221"/>
                  <a:pt x="12982" y="13285"/>
                  <a:pt x="12986" y="13303"/>
                </a:cubicBezTo>
                <a:cubicBezTo>
                  <a:pt x="12994" y="13338"/>
                  <a:pt x="13036" y="13392"/>
                  <a:pt x="13081" y="13367"/>
                </a:cubicBezTo>
                <a:cubicBezTo>
                  <a:pt x="13092" y="13356"/>
                  <a:pt x="13102" y="13346"/>
                  <a:pt x="13113" y="13335"/>
                </a:cubicBezTo>
              </a:path>
              <a:path w="7463" h="2033">
                <a:moveTo>
                  <a:pt x="13684" y="12128"/>
                </a:moveTo>
                <a:cubicBezTo>
                  <a:pt x="13684" y="12214"/>
                  <a:pt x="13670" y="12300"/>
                  <a:pt x="13652" y="12382"/>
                </a:cubicBezTo>
                <a:cubicBezTo>
                  <a:pt x="13626" y="12498"/>
                  <a:pt x="13618" y="12619"/>
                  <a:pt x="13589" y="12732"/>
                </a:cubicBezTo>
                <a:cubicBezTo>
                  <a:pt x="13568" y="12814"/>
                  <a:pt x="13543" y="12882"/>
                  <a:pt x="13526" y="12954"/>
                </a:cubicBezTo>
                <a:cubicBezTo>
                  <a:pt x="13614" y="12954"/>
                  <a:pt x="13676" y="12947"/>
                  <a:pt x="13748" y="12986"/>
                </a:cubicBezTo>
                <a:cubicBezTo>
                  <a:pt x="13809" y="13019"/>
                  <a:pt x="13902" y="13045"/>
                  <a:pt x="13970" y="13049"/>
                </a:cubicBezTo>
                <a:cubicBezTo>
                  <a:pt x="14074" y="13056"/>
                  <a:pt x="14078" y="13042"/>
                  <a:pt x="14129" y="12954"/>
                </a:cubicBezTo>
              </a:path>
              <a:path w="7463" h="2033">
                <a:moveTo>
                  <a:pt x="14129" y="12160"/>
                </a:moveTo>
                <a:cubicBezTo>
                  <a:pt x="14080" y="12242"/>
                  <a:pt x="14117" y="12318"/>
                  <a:pt x="14097" y="12414"/>
                </a:cubicBezTo>
                <a:cubicBezTo>
                  <a:pt x="14063" y="12575"/>
                  <a:pt x="14029" y="12730"/>
                  <a:pt x="14002" y="12890"/>
                </a:cubicBezTo>
                <a:cubicBezTo>
                  <a:pt x="13975" y="13051"/>
                  <a:pt x="13918" y="13210"/>
                  <a:pt x="13875" y="13367"/>
                </a:cubicBezTo>
                <a:cubicBezTo>
                  <a:pt x="13845" y="13479"/>
                  <a:pt x="13843" y="13571"/>
                  <a:pt x="13843" y="13684"/>
                </a:cubicBezTo>
                <a:cubicBezTo>
                  <a:pt x="13843" y="13716"/>
                  <a:pt x="13843" y="13727"/>
                  <a:pt x="13843" y="13684"/>
                </a:cubicBezTo>
              </a:path>
              <a:path w="7463" h="2033">
                <a:moveTo>
                  <a:pt x="14351" y="12446"/>
                </a:moveTo>
                <a:cubicBezTo>
                  <a:pt x="14321" y="12466"/>
                  <a:pt x="14264" y="12603"/>
                  <a:pt x="14256" y="12668"/>
                </a:cubicBezTo>
                <a:cubicBezTo>
                  <a:pt x="14233" y="12848"/>
                  <a:pt x="14197" y="13025"/>
                  <a:pt x="14192" y="13208"/>
                </a:cubicBezTo>
                <a:cubicBezTo>
                  <a:pt x="14189" y="13336"/>
                  <a:pt x="14153" y="13548"/>
                  <a:pt x="14256" y="13652"/>
                </a:cubicBezTo>
                <a:cubicBezTo>
                  <a:pt x="14339" y="13735"/>
                  <a:pt x="14475" y="13679"/>
                  <a:pt x="14542" y="13621"/>
                </a:cubicBezTo>
                <a:cubicBezTo>
                  <a:pt x="14707" y="13477"/>
                  <a:pt x="14726" y="13344"/>
                  <a:pt x="14764" y="13144"/>
                </a:cubicBezTo>
                <a:cubicBezTo>
                  <a:pt x="14804" y="12932"/>
                  <a:pt x="14752" y="12815"/>
                  <a:pt x="14637" y="12636"/>
                </a:cubicBezTo>
                <a:cubicBezTo>
                  <a:pt x="14541" y="12486"/>
                  <a:pt x="14490" y="12470"/>
                  <a:pt x="14351" y="12382"/>
                </a:cubicBezTo>
                <a:cubicBezTo>
                  <a:pt x="14340" y="12372"/>
                  <a:pt x="14330" y="12361"/>
                  <a:pt x="14319" y="12351"/>
                </a:cubicBezTo>
              </a:path>
              <a:path w="7463" h="2033">
                <a:moveTo>
                  <a:pt x="13208" y="11970"/>
                </a:moveTo>
                <a:cubicBezTo>
                  <a:pt x="13196" y="11934"/>
                  <a:pt x="13165" y="11912"/>
                  <a:pt x="13113" y="11906"/>
                </a:cubicBezTo>
                <a:cubicBezTo>
                  <a:pt x="13068" y="11901"/>
                  <a:pt x="13017" y="11917"/>
                  <a:pt x="12986" y="11938"/>
                </a:cubicBezTo>
                <a:cubicBezTo>
                  <a:pt x="12940" y="11969"/>
                  <a:pt x="12935" y="11962"/>
                  <a:pt x="12922" y="12002"/>
                </a:cubicBezTo>
                <a:cubicBezTo>
                  <a:pt x="12935" y="12039"/>
                  <a:pt x="12977" y="12056"/>
                  <a:pt x="13018" y="12097"/>
                </a:cubicBezTo>
                <a:cubicBezTo>
                  <a:pt x="13044" y="12123"/>
                  <a:pt x="13132" y="12181"/>
                  <a:pt x="13113" y="12224"/>
                </a:cubicBezTo>
                <a:cubicBezTo>
                  <a:pt x="13099" y="12255"/>
                  <a:pt x="13014" y="12313"/>
                  <a:pt x="12986" y="12319"/>
                </a:cubicBezTo>
                <a:cubicBezTo>
                  <a:pt x="12923" y="12332"/>
                  <a:pt x="12815" y="12312"/>
                  <a:pt x="12764" y="12287"/>
                </a:cubicBezTo>
                <a:cubicBezTo>
                  <a:pt x="12712" y="12261"/>
                  <a:pt x="12672" y="12183"/>
                  <a:pt x="12700" y="12128"/>
                </a:cubicBezTo>
                <a:cubicBezTo>
                  <a:pt x="12711" y="12118"/>
                  <a:pt x="12721" y="12107"/>
                  <a:pt x="12732" y="12097"/>
                </a:cubicBezTo>
              </a:path>
              <a:path w="7463" h="2033">
                <a:moveTo>
                  <a:pt x="13049" y="11716"/>
                </a:moveTo>
                <a:cubicBezTo>
                  <a:pt x="13038" y="11804"/>
                  <a:pt x="12997" y="11885"/>
                  <a:pt x="12986" y="11970"/>
                </a:cubicBezTo>
                <a:cubicBezTo>
                  <a:pt x="12971" y="12087"/>
                  <a:pt x="12926" y="12204"/>
                  <a:pt x="12890" y="12319"/>
                </a:cubicBezTo>
                <a:cubicBezTo>
                  <a:pt x="12860" y="12380"/>
                  <a:pt x="12850" y="12399"/>
                  <a:pt x="12859" y="12446"/>
                </a:cubicBezTo>
              </a:path>
              <a:path w="7463" h="2033">
                <a:moveTo>
                  <a:pt x="13144" y="11811"/>
                </a:moveTo>
                <a:cubicBezTo>
                  <a:pt x="13144" y="11903"/>
                  <a:pt x="13126" y="11975"/>
                  <a:pt x="13113" y="12065"/>
                </a:cubicBezTo>
                <a:cubicBezTo>
                  <a:pt x="13095" y="12194"/>
                  <a:pt x="13059" y="12320"/>
                  <a:pt x="13018" y="12446"/>
                </a:cubicBezTo>
                <a:cubicBezTo>
                  <a:pt x="12990" y="12533"/>
                  <a:pt x="12959" y="12616"/>
                  <a:pt x="12922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3"/>
          <p:cNvSpPr/>
          <p:nvPr/>
        </p:nvSpPr>
        <p:spPr>
          <a:xfrm>
            <a:off x="2868480" y="4971960"/>
            <a:ext cx="1200240" cy="685800"/>
          </a:xfrm>
          <a:custGeom>
            <a:avLst/>
            <a:gdLst/>
            <a:ahLst/>
            <a:rect l="l" t="t" r="r" b="b"/>
            <a:pathLst>
              <a:path w="3335" h="1906">
                <a:moveTo>
                  <a:pt x="7969" y="14510"/>
                </a:moveTo>
                <a:cubicBezTo>
                  <a:pt x="7985" y="14558"/>
                  <a:pt x="8007" y="14542"/>
                  <a:pt x="8064" y="14542"/>
                </a:cubicBezTo>
                <a:cubicBezTo>
                  <a:pt x="8133" y="14542"/>
                  <a:pt x="8195" y="14532"/>
                  <a:pt x="8255" y="14510"/>
                </a:cubicBezTo>
                <a:cubicBezTo>
                  <a:pt x="8339" y="14480"/>
                  <a:pt x="8427" y="14474"/>
                  <a:pt x="8509" y="14446"/>
                </a:cubicBezTo>
                <a:cubicBezTo>
                  <a:pt x="8591" y="14418"/>
                  <a:pt x="8639" y="14413"/>
                  <a:pt x="8700" y="14351"/>
                </a:cubicBezTo>
                <a:cubicBezTo>
                  <a:pt x="8754" y="14296"/>
                  <a:pt x="8784" y="14204"/>
                  <a:pt x="8795" y="14129"/>
                </a:cubicBezTo>
                <a:cubicBezTo>
                  <a:pt x="8809" y="14036"/>
                  <a:pt x="8784" y="13952"/>
                  <a:pt x="8731" y="13875"/>
                </a:cubicBezTo>
                <a:cubicBezTo>
                  <a:pt x="8687" y="13811"/>
                  <a:pt x="8617" y="13790"/>
                  <a:pt x="8541" y="13811"/>
                </a:cubicBezTo>
                <a:cubicBezTo>
                  <a:pt x="8440" y="13839"/>
                  <a:pt x="8331" y="13977"/>
                  <a:pt x="8287" y="14065"/>
                </a:cubicBezTo>
                <a:cubicBezTo>
                  <a:pt x="8231" y="14177"/>
                  <a:pt x="8144" y="14318"/>
                  <a:pt x="8128" y="14446"/>
                </a:cubicBezTo>
                <a:cubicBezTo>
                  <a:pt x="8113" y="14562"/>
                  <a:pt x="8117" y="14699"/>
                  <a:pt x="8192" y="14796"/>
                </a:cubicBezTo>
                <a:cubicBezTo>
                  <a:pt x="8281" y="14910"/>
                  <a:pt x="8349" y="14922"/>
                  <a:pt x="8477" y="14954"/>
                </a:cubicBezTo>
                <a:cubicBezTo>
                  <a:pt x="8561" y="14982"/>
                  <a:pt x="8580" y="14993"/>
                  <a:pt x="8636" y="14986"/>
                </a:cubicBezTo>
              </a:path>
              <a:path w="3335" h="1906">
                <a:moveTo>
                  <a:pt x="9334" y="14097"/>
                </a:moveTo>
                <a:cubicBezTo>
                  <a:pt x="9314" y="14070"/>
                  <a:pt x="9323" y="14060"/>
                  <a:pt x="9303" y="14034"/>
                </a:cubicBezTo>
                <a:cubicBezTo>
                  <a:pt x="9239" y="14059"/>
                  <a:pt x="9169" y="14082"/>
                  <a:pt x="9112" y="14129"/>
                </a:cubicBezTo>
                <a:cubicBezTo>
                  <a:pt x="9039" y="14189"/>
                  <a:pt x="8915" y="14353"/>
                  <a:pt x="8890" y="14446"/>
                </a:cubicBezTo>
                <a:cubicBezTo>
                  <a:pt x="8869" y="14524"/>
                  <a:pt x="8872" y="14695"/>
                  <a:pt x="8922" y="14764"/>
                </a:cubicBezTo>
                <a:cubicBezTo>
                  <a:pt x="8980" y="14845"/>
                  <a:pt x="9095" y="14855"/>
                  <a:pt x="9176" y="14796"/>
                </a:cubicBezTo>
                <a:cubicBezTo>
                  <a:pt x="9245" y="14746"/>
                  <a:pt x="9349" y="14591"/>
                  <a:pt x="9366" y="14510"/>
                </a:cubicBezTo>
                <a:cubicBezTo>
                  <a:pt x="9376" y="14463"/>
                  <a:pt x="9411" y="14266"/>
                  <a:pt x="9398" y="14224"/>
                </a:cubicBezTo>
                <a:cubicBezTo>
                  <a:pt x="9387" y="14213"/>
                  <a:pt x="9377" y="14203"/>
                  <a:pt x="9366" y="14192"/>
                </a:cubicBezTo>
                <a:cubicBezTo>
                  <a:pt x="9366" y="14408"/>
                  <a:pt x="9355" y="14615"/>
                  <a:pt x="9334" y="14827"/>
                </a:cubicBezTo>
                <a:cubicBezTo>
                  <a:pt x="9319" y="14985"/>
                  <a:pt x="9317" y="15146"/>
                  <a:pt x="9303" y="15304"/>
                </a:cubicBezTo>
                <a:cubicBezTo>
                  <a:pt x="9294" y="15404"/>
                  <a:pt x="9274" y="15504"/>
                  <a:pt x="9208" y="15589"/>
                </a:cubicBezTo>
                <a:cubicBezTo>
                  <a:pt x="9139" y="15678"/>
                  <a:pt x="9063" y="15700"/>
                  <a:pt x="8954" y="15716"/>
                </a:cubicBezTo>
                <a:cubicBezTo>
                  <a:pt x="8836" y="15733"/>
                  <a:pt x="8747" y="15661"/>
                  <a:pt x="8668" y="15589"/>
                </a:cubicBezTo>
                <a:cubicBezTo>
                  <a:pt x="8609" y="15535"/>
                  <a:pt x="8582" y="15447"/>
                  <a:pt x="8604" y="15367"/>
                </a:cubicBezTo>
                <a:cubicBezTo>
                  <a:pt x="8639" y="15298"/>
                  <a:pt x="8654" y="15272"/>
                  <a:pt x="8700" y="15240"/>
                </a:cubicBezTo>
              </a:path>
              <a:path w="3335" h="1906">
                <a:moveTo>
                  <a:pt x="9938" y="14414"/>
                </a:moveTo>
                <a:cubicBezTo>
                  <a:pt x="10008" y="14334"/>
                  <a:pt x="10058" y="14275"/>
                  <a:pt x="10033" y="14160"/>
                </a:cubicBezTo>
                <a:cubicBezTo>
                  <a:pt x="10013" y="14067"/>
                  <a:pt x="10001" y="14039"/>
                  <a:pt x="9906" y="14034"/>
                </a:cubicBezTo>
                <a:cubicBezTo>
                  <a:pt x="9780" y="14027"/>
                  <a:pt x="9725" y="14110"/>
                  <a:pt x="9652" y="14192"/>
                </a:cubicBezTo>
                <a:cubicBezTo>
                  <a:pt x="9572" y="14281"/>
                  <a:pt x="9528" y="14384"/>
                  <a:pt x="9557" y="14510"/>
                </a:cubicBezTo>
                <a:cubicBezTo>
                  <a:pt x="9578" y="14602"/>
                  <a:pt x="9721" y="14687"/>
                  <a:pt x="9811" y="14637"/>
                </a:cubicBezTo>
                <a:cubicBezTo>
                  <a:pt x="9860" y="14609"/>
                  <a:pt x="9956" y="14473"/>
                  <a:pt x="9970" y="14414"/>
                </a:cubicBezTo>
                <a:cubicBezTo>
                  <a:pt x="9990" y="14328"/>
                  <a:pt x="9989" y="14326"/>
                  <a:pt x="9970" y="14288"/>
                </a:cubicBezTo>
                <a:cubicBezTo>
                  <a:pt x="9970" y="14443"/>
                  <a:pt x="9953" y="14580"/>
                  <a:pt x="9938" y="14732"/>
                </a:cubicBezTo>
                <a:cubicBezTo>
                  <a:pt x="9919" y="14921"/>
                  <a:pt x="9923" y="15115"/>
                  <a:pt x="9906" y="15304"/>
                </a:cubicBezTo>
                <a:cubicBezTo>
                  <a:pt x="9897" y="15406"/>
                  <a:pt x="9884" y="15504"/>
                  <a:pt x="9842" y="15589"/>
                </a:cubicBezTo>
                <a:cubicBezTo>
                  <a:pt x="9799" y="15677"/>
                  <a:pt x="9770" y="15680"/>
                  <a:pt x="9684" y="15653"/>
                </a:cubicBezTo>
                <a:cubicBezTo>
                  <a:pt x="9622" y="15634"/>
                  <a:pt x="9535" y="15618"/>
                  <a:pt x="9493" y="15558"/>
                </a:cubicBezTo>
                <a:cubicBezTo>
                  <a:pt x="9434" y="15474"/>
                  <a:pt x="9395" y="15393"/>
                  <a:pt x="9430" y="15304"/>
                </a:cubicBezTo>
                <a:cubicBezTo>
                  <a:pt x="9441" y="15283"/>
                  <a:pt x="9451" y="15261"/>
                  <a:pt x="9462" y="15240"/>
                </a:cubicBezTo>
              </a:path>
              <a:path w="3335" h="1906">
                <a:moveTo>
                  <a:pt x="10827" y="13906"/>
                </a:moveTo>
                <a:cubicBezTo>
                  <a:pt x="10811" y="13890"/>
                  <a:pt x="10733" y="13801"/>
                  <a:pt x="10700" y="13843"/>
                </a:cubicBezTo>
                <a:cubicBezTo>
                  <a:pt x="10662" y="13890"/>
                  <a:pt x="10668" y="13969"/>
                  <a:pt x="10668" y="14034"/>
                </a:cubicBezTo>
                <a:cubicBezTo>
                  <a:pt x="10668" y="14147"/>
                  <a:pt x="10671" y="14276"/>
                  <a:pt x="10700" y="14383"/>
                </a:cubicBezTo>
                <a:cubicBezTo>
                  <a:pt x="10726" y="14479"/>
                  <a:pt x="10773" y="14573"/>
                  <a:pt x="10795" y="14668"/>
                </a:cubicBezTo>
                <a:cubicBezTo>
                  <a:pt x="10810" y="14732"/>
                  <a:pt x="10757" y="14777"/>
                  <a:pt x="10732" y="14796"/>
                </a:cubicBezTo>
                <a:cubicBezTo>
                  <a:pt x="10680" y="14834"/>
                  <a:pt x="10632" y="14832"/>
                  <a:pt x="10573" y="14796"/>
                </a:cubicBezTo>
                <a:cubicBezTo>
                  <a:pt x="10505" y="14755"/>
                  <a:pt x="10442" y="14669"/>
                  <a:pt x="10414" y="14605"/>
                </a:cubicBezTo>
                <a:cubicBezTo>
                  <a:pt x="10390" y="14549"/>
                  <a:pt x="10386" y="14488"/>
                  <a:pt x="10446" y="14446"/>
                </a:cubicBezTo>
                <a:cubicBezTo>
                  <a:pt x="10467" y="14435"/>
                  <a:pt x="10488" y="14425"/>
                  <a:pt x="10509" y="14414"/>
                </a:cubicBezTo>
              </a:path>
              <a:path w="3335" h="1906">
                <a:moveTo>
                  <a:pt x="11271" y="14002"/>
                </a:moveTo>
                <a:cubicBezTo>
                  <a:pt x="11281" y="14040"/>
                  <a:pt x="11293" y="14059"/>
                  <a:pt x="11303" y="14097"/>
                </a:cubicBezTo>
              </a:path>
              <a:path w="3335" h="1906">
                <a:moveTo>
                  <a:pt x="11081" y="14732"/>
                </a:moveTo>
                <a:cubicBezTo>
                  <a:pt x="11081" y="14764"/>
                  <a:pt x="11081" y="14774"/>
                  <a:pt x="11112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4"/>
          <p:cNvSpPr/>
          <p:nvPr/>
        </p:nvSpPr>
        <p:spPr>
          <a:xfrm>
            <a:off x="4275000" y="4903920"/>
            <a:ext cx="800280" cy="720720"/>
          </a:xfrm>
          <a:custGeom>
            <a:avLst/>
            <a:gdLst/>
            <a:ahLst/>
            <a:rect l="l" t="t" r="r" b="b"/>
            <a:pathLst>
              <a:path w="2224" h="2001">
                <a:moveTo>
                  <a:pt x="12256" y="13843"/>
                </a:moveTo>
                <a:cubicBezTo>
                  <a:pt x="12207" y="13806"/>
                  <a:pt x="12190" y="13811"/>
                  <a:pt x="12128" y="13811"/>
                </a:cubicBezTo>
                <a:cubicBezTo>
                  <a:pt x="12076" y="13811"/>
                  <a:pt x="12069" y="13889"/>
                  <a:pt x="12065" y="13938"/>
                </a:cubicBezTo>
                <a:cubicBezTo>
                  <a:pt x="12059" y="14014"/>
                  <a:pt x="12028" y="14055"/>
                  <a:pt x="12065" y="14129"/>
                </a:cubicBezTo>
                <a:cubicBezTo>
                  <a:pt x="12094" y="14186"/>
                  <a:pt x="12145" y="14242"/>
                  <a:pt x="12192" y="14288"/>
                </a:cubicBezTo>
                <a:cubicBezTo>
                  <a:pt x="12221" y="14316"/>
                  <a:pt x="12232" y="14322"/>
                  <a:pt x="12224" y="14351"/>
                </a:cubicBezTo>
                <a:cubicBezTo>
                  <a:pt x="12150" y="14351"/>
                  <a:pt x="12092" y="14331"/>
                  <a:pt x="12033" y="14319"/>
                </a:cubicBezTo>
                <a:cubicBezTo>
                  <a:pt x="11974" y="14307"/>
                  <a:pt x="11905" y="14294"/>
                  <a:pt x="11874" y="14224"/>
                </a:cubicBezTo>
                <a:cubicBezTo>
                  <a:pt x="11855" y="14181"/>
                  <a:pt x="11892" y="14100"/>
                  <a:pt x="11906" y="14065"/>
                </a:cubicBezTo>
                <a:cubicBezTo>
                  <a:pt x="11917" y="14044"/>
                  <a:pt x="11927" y="14023"/>
                  <a:pt x="11938" y="14002"/>
                </a:cubicBezTo>
              </a:path>
              <a:path w="2224" h="2001">
                <a:moveTo>
                  <a:pt x="12097" y="13621"/>
                </a:moveTo>
                <a:cubicBezTo>
                  <a:pt x="12136" y="13634"/>
                  <a:pt x="12144" y="13691"/>
                  <a:pt x="12128" y="13748"/>
                </a:cubicBezTo>
                <a:cubicBezTo>
                  <a:pt x="12095" y="13864"/>
                  <a:pt x="12101" y="13978"/>
                  <a:pt x="12065" y="14097"/>
                </a:cubicBezTo>
                <a:cubicBezTo>
                  <a:pt x="12029" y="14218"/>
                  <a:pt x="12023" y="14367"/>
                  <a:pt x="11970" y="14478"/>
                </a:cubicBezTo>
                <a:cubicBezTo>
                  <a:pt x="11941" y="14507"/>
                  <a:pt x="11930" y="14513"/>
                  <a:pt x="11938" y="14542"/>
                </a:cubicBezTo>
              </a:path>
              <a:path w="2224" h="2001">
                <a:moveTo>
                  <a:pt x="12224" y="13748"/>
                </a:moveTo>
                <a:cubicBezTo>
                  <a:pt x="12224" y="13871"/>
                  <a:pt x="12205" y="13979"/>
                  <a:pt x="12192" y="14097"/>
                </a:cubicBezTo>
                <a:cubicBezTo>
                  <a:pt x="12176" y="14242"/>
                  <a:pt x="12122" y="14368"/>
                  <a:pt x="12097" y="14510"/>
                </a:cubicBezTo>
                <a:cubicBezTo>
                  <a:pt x="12097" y="14573"/>
                  <a:pt x="12097" y="14595"/>
                  <a:pt x="12097" y="14637"/>
                </a:cubicBezTo>
              </a:path>
              <a:path w="2224" h="2001">
                <a:moveTo>
                  <a:pt x="12414" y="15018"/>
                </a:moveTo>
                <a:cubicBezTo>
                  <a:pt x="12463" y="15034"/>
                  <a:pt x="12443" y="15070"/>
                  <a:pt x="12414" y="15113"/>
                </a:cubicBezTo>
                <a:cubicBezTo>
                  <a:pt x="12382" y="15161"/>
                  <a:pt x="12382" y="15179"/>
                  <a:pt x="12382" y="15240"/>
                </a:cubicBezTo>
                <a:cubicBezTo>
                  <a:pt x="12436" y="15226"/>
                  <a:pt x="12468" y="15169"/>
                  <a:pt x="12478" y="15145"/>
                </a:cubicBezTo>
                <a:cubicBezTo>
                  <a:pt x="12491" y="15114"/>
                  <a:pt x="12501" y="15084"/>
                  <a:pt x="12510" y="15050"/>
                </a:cubicBezTo>
                <a:cubicBezTo>
                  <a:pt x="12495" y="15093"/>
                  <a:pt x="12477" y="15091"/>
                  <a:pt x="12446" y="15145"/>
                </a:cubicBezTo>
                <a:cubicBezTo>
                  <a:pt x="12435" y="15166"/>
                  <a:pt x="12425" y="15187"/>
                  <a:pt x="12414" y="15208"/>
                </a:cubicBezTo>
              </a:path>
              <a:path w="2224" h="2001">
                <a:moveTo>
                  <a:pt x="13081" y="14129"/>
                </a:moveTo>
                <a:cubicBezTo>
                  <a:pt x="13081" y="14189"/>
                  <a:pt x="13059" y="14210"/>
                  <a:pt x="13049" y="14256"/>
                </a:cubicBezTo>
                <a:cubicBezTo>
                  <a:pt x="13030" y="14345"/>
                  <a:pt x="13016" y="14423"/>
                  <a:pt x="12986" y="14510"/>
                </a:cubicBezTo>
                <a:cubicBezTo>
                  <a:pt x="12956" y="14595"/>
                  <a:pt x="12913" y="14688"/>
                  <a:pt x="12890" y="14764"/>
                </a:cubicBezTo>
                <a:cubicBezTo>
                  <a:pt x="12890" y="14775"/>
                  <a:pt x="12890" y="14785"/>
                  <a:pt x="12890" y="14796"/>
                </a:cubicBezTo>
                <a:cubicBezTo>
                  <a:pt x="12952" y="14781"/>
                  <a:pt x="12939" y="14738"/>
                  <a:pt x="12986" y="14732"/>
                </a:cubicBezTo>
                <a:cubicBezTo>
                  <a:pt x="13037" y="14726"/>
                  <a:pt x="13073" y="14747"/>
                  <a:pt x="13113" y="14764"/>
                </a:cubicBezTo>
                <a:cubicBezTo>
                  <a:pt x="13174" y="14790"/>
                  <a:pt x="13237" y="14821"/>
                  <a:pt x="13303" y="14827"/>
                </a:cubicBezTo>
                <a:cubicBezTo>
                  <a:pt x="13339" y="14827"/>
                  <a:pt x="13353" y="14824"/>
                  <a:pt x="13367" y="14796"/>
                </a:cubicBezTo>
              </a:path>
              <a:path w="2224" h="2001">
                <a:moveTo>
                  <a:pt x="13430" y="14224"/>
                </a:moveTo>
                <a:cubicBezTo>
                  <a:pt x="13388" y="14336"/>
                  <a:pt x="13391" y="14424"/>
                  <a:pt x="13367" y="14542"/>
                </a:cubicBezTo>
                <a:cubicBezTo>
                  <a:pt x="13336" y="14690"/>
                  <a:pt x="13332" y="14839"/>
                  <a:pt x="13303" y="14986"/>
                </a:cubicBezTo>
                <a:cubicBezTo>
                  <a:pt x="13276" y="15126"/>
                  <a:pt x="13238" y="15270"/>
                  <a:pt x="13176" y="15399"/>
                </a:cubicBezTo>
                <a:cubicBezTo>
                  <a:pt x="13165" y="15420"/>
                  <a:pt x="13155" y="15441"/>
                  <a:pt x="13144" y="15462"/>
                </a:cubicBezTo>
              </a:path>
              <a:path w="2224" h="2001">
                <a:moveTo>
                  <a:pt x="14034" y="14383"/>
                </a:moveTo>
                <a:cubicBezTo>
                  <a:pt x="13993" y="14373"/>
                  <a:pt x="13947" y="14366"/>
                  <a:pt x="13906" y="14351"/>
                </a:cubicBezTo>
                <a:cubicBezTo>
                  <a:pt x="13838" y="14326"/>
                  <a:pt x="13818" y="14319"/>
                  <a:pt x="13748" y="14319"/>
                </a:cubicBezTo>
                <a:cubicBezTo>
                  <a:pt x="13716" y="14319"/>
                  <a:pt x="13684" y="14319"/>
                  <a:pt x="13652" y="14319"/>
                </a:cubicBezTo>
                <a:cubicBezTo>
                  <a:pt x="13652" y="14374"/>
                  <a:pt x="13644" y="14383"/>
                  <a:pt x="13621" y="14414"/>
                </a:cubicBezTo>
                <a:cubicBezTo>
                  <a:pt x="13588" y="14458"/>
                  <a:pt x="13572" y="14546"/>
                  <a:pt x="13557" y="14605"/>
                </a:cubicBezTo>
                <a:cubicBezTo>
                  <a:pt x="13543" y="14660"/>
                  <a:pt x="13526" y="14705"/>
                  <a:pt x="13526" y="14764"/>
                </a:cubicBezTo>
                <a:cubicBezTo>
                  <a:pt x="13526" y="14796"/>
                  <a:pt x="13526" y="14806"/>
                  <a:pt x="13526" y="14827"/>
                </a:cubicBezTo>
                <a:cubicBezTo>
                  <a:pt x="13596" y="14810"/>
                  <a:pt x="13638" y="14752"/>
                  <a:pt x="13716" y="14732"/>
                </a:cubicBezTo>
                <a:cubicBezTo>
                  <a:pt x="13792" y="14713"/>
                  <a:pt x="13798" y="14690"/>
                  <a:pt x="13875" y="14732"/>
                </a:cubicBezTo>
                <a:cubicBezTo>
                  <a:pt x="13942" y="14768"/>
                  <a:pt x="14037" y="14850"/>
                  <a:pt x="14065" y="14922"/>
                </a:cubicBezTo>
                <a:cubicBezTo>
                  <a:pt x="14097" y="15006"/>
                  <a:pt x="14116" y="15182"/>
                  <a:pt x="14097" y="15272"/>
                </a:cubicBezTo>
                <a:cubicBezTo>
                  <a:pt x="14080" y="15353"/>
                  <a:pt x="14002" y="15476"/>
                  <a:pt x="13938" y="15526"/>
                </a:cubicBezTo>
                <a:cubicBezTo>
                  <a:pt x="13868" y="15580"/>
                  <a:pt x="13769" y="15614"/>
                  <a:pt x="13684" y="15621"/>
                </a:cubicBezTo>
                <a:cubicBezTo>
                  <a:pt x="13613" y="15626"/>
                  <a:pt x="13571" y="15571"/>
                  <a:pt x="13526" y="15526"/>
                </a:cubicBezTo>
                <a:cubicBezTo>
                  <a:pt x="13490" y="15490"/>
                  <a:pt x="13479" y="15473"/>
                  <a:pt x="13494" y="15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5"/>
          <p:cNvSpPr/>
          <p:nvPr/>
        </p:nvSpPr>
        <p:spPr>
          <a:xfrm>
            <a:off x="7029360" y="4879800"/>
            <a:ext cx="1863720" cy="606600"/>
          </a:xfrm>
          <a:custGeom>
            <a:avLst/>
            <a:gdLst/>
            <a:ahLst/>
            <a:rect l="l" t="t" r="r" b="b"/>
            <a:pathLst>
              <a:path w="5177" h="1684">
                <a:moveTo>
                  <a:pt x="19526" y="13938"/>
                </a:moveTo>
                <a:cubicBezTo>
                  <a:pt x="19582" y="13924"/>
                  <a:pt x="19610" y="13887"/>
                  <a:pt x="19653" y="13843"/>
                </a:cubicBezTo>
                <a:cubicBezTo>
                  <a:pt x="19689" y="13807"/>
                  <a:pt x="19735" y="13763"/>
                  <a:pt x="19780" y="13748"/>
                </a:cubicBezTo>
                <a:cubicBezTo>
                  <a:pt x="19842" y="13727"/>
                  <a:pt x="19858" y="13771"/>
                  <a:pt x="19876" y="13780"/>
                </a:cubicBezTo>
                <a:cubicBezTo>
                  <a:pt x="19924" y="13805"/>
                  <a:pt x="19933" y="13833"/>
                  <a:pt x="19939" y="13906"/>
                </a:cubicBezTo>
                <a:cubicBezTo>
                  <a:pt x="19944" y="13967"/>
                  <a:pt x="19901" y="14072"/>
                  <a:pt x="19876" y="14129"/>
                </a:cubicBezTo>
                <a:cubicBezTo>
                  <a:pt x="19822" y="14251"/>
                  <a:pt x="19752" y="14366"/>
                  <a:pt x="19685" y="14478"/>
                </a:cubicBezTo>
                <a:cubicBezTo>
                  <a:pt x="19656" y="14526"/>
                  <a:pt x="19601" y="14552"/>
                  <a:pt x="19590" y="14573"/>
                </a:cubicBezTo>
                <a:cubicBezTo>
                  <a:pt x="19564" y="14625"/>
                  <a:pt x="19628" y="14565"/>
                  <a:pt x="19653" y="14542"/>
                </a:cubicBezTo>
                <a:cubicBezTo>
                  <a:pt x="19698" y="14502"/>
                  <a:pt x="19721" y="14510"/>
                  <a:pt x="19780" y="14510"/>
                </a:cubicBezTo>
                <a:cubicBezTo>
                  <a:pt x="19827" y="14510"/>
                  <a:pt x="19872" y="14519"/>
                  <a:pt x="19907" y="14542"/>
                </a:cubicBezTo>
                <a:cubicBezTo>
                  <a:pt x="19968" y="14582"/>
                  <a:pt x="19912" y="14585"/>
                  <a:pt x="19971" y="14605"/>
                </a:cubicBezTo>
              </a:path>
              <a:path w="5177" h="1684">
                <a:moveTo>
                  <a:pt x="20130" y="14002"/>
                </a:moveTo>
                <a:cubicBezTo>
                  <a:pt x="20173" y="14061"/>
                  <a:pt x="20164" y="14130"/>
                  <a:pt x="20193" y="14192"/>
                </a:cubicBezTo>
                <a:cubicBezTo>
                  <a:pt x="20215" y="14240"/>
                  <a:pt x="20228" y="14308"/>
                  <a:pt x="20256" y="14351"/>
                </a:cubicBezTo>
                <a:cubicBezTo>
                  <a:pt x="20288" y="14400"/>
                  <a:pt x="20335" y="14458"/>
                  <a:pt x="20352" y="14510"/>
                </a:cubicBezTo>
                <a:cubicBezTo>
                  <a:pt x="20371" y="14566"/>
                  <a:pt x="20325" y="14554"/>
                  <a:pt x="20384" y="14573"/>
                </a:cubicBezTo>
              </a:path>
              <a:path w="5177" h="1684">
                <a:moveTo>
                  <a:pt x="20447" y="13906"/>
                </a:moveTo>
                <a:cubicBezTo>
                  <a:pt x="20374" y="13930"/>
                  <a:pt x="20405" y="14023"/>
                  <a:pt x="20384" y="14097"/>
                </a:cubicBezTo>
                <a:cubicBezTo>
                  <a:pt x="20343" y="14238"/>
                  <a:pt x="20272" y="14372"/>
                  <a:pt x="20225" y="14510"/>
                </a:cubicBezTo>
                <a:cubicBezTo>
                  <a:pt x="20193" y="14637"/>
                  <a:pt x="20182" y="14679"/>
                  <a:pt x="20161" y="14764"/>
                </a:cubicBezTo>
              </a:path>
              <a:path w="5177" h="1684">
                <a:moveTo>
                  <a:pt x="20892" y="14002"/>
                </a:moveTo>
                <a:cubicBezTo>
                  <a:pt x="20892" y="14126"/>
                  <a:pt x="20904" y="14234"/>
                  <a:pt x="20923" y="14351"/>
                </a:cubicBezTo>
                <a:cubicBezTo>
                  <a:pt x="20934" y="14421"/>
                  <a:pt x="20892" y="14472"/>
                  <a:pt x="20892" y="14542"/>
                </a:cubicBezTo>
                <a:cubicBezTo>
                  <a:pt x="20892" y="14552"/>
                  <a:pt x="20892" y="14563"/>
                  <a:pt x="20892" y="14573"/>
                </a:cubicBezTo>
              </a:path>
              <a:path w="5177" h="1684">
                <a:moveTo>
                  <a:pt x="20733" y="14288"/>
                </a:moveTo>
                <a:cubicBezTo>
                  <a:pt x="20788" y="14329"/>
                  <a:pt x="20820" y="14345"/>
                  <a:pt x="20892" y="14351"/>
                </a:cubicBezTo>
                <a:cubicBezTo>
                  <a:pt x="20955" y="14356"/>
                  <a:pt x="20950" y="14354"/>
                  <a:pt x="21018" y="14383"/>
                </a:cubicBezTo>
              </a:path>
              <a:path w="5177" h="1684">
                <a:moveTo>
                  <a:pt x="21304" y="13843"/>
                </a:moveTo>
                <a:cubicBezTo>
                  <a:pt x="21304" y="13948"/>
                  <a:pt x="21288" y="14031"/>
                  <a:pt x="21272" y="14129"/>
                </a:cubicBezTo>
                <a:cubicBezTo>
                  <a:pt x="21259" y="14207"/>
                  <a:pt x="21258" y="14274"/>
                  <a:pt x="21241" y="14351"/>
                </a:cubicBezTo>
                <a:cubicBezTo>
                  <a:pt x="21227" y="14414"/>
                  <a:pt x="21256" y="14416"/>
                  <a:pt x="21272" y="14383"/>
                </a:cubicBezTo>
                <a:cubicBezTo>
                  <a:pt x="21294" y="14338"/>
                  <a:pt x="21306" y="14351"/>
                  <a:pt x="21368" y="14351"/>
                </a:cubicBezTo>
                <a:cubicBezTo>
                  <a:pt x="21408" y="14351"/>
                  <a:pt x="21452" y="14361"/>
                  <a:pt x="21463" y="14383"/>
                </a:cubicBezTo>
                <a:cubicBezTo>
                  <a:pt x="21463" y="14393"/>
                  <a:pt x="21463" y="14404"/>
                  <a:pt x="21463" y="14414"/>
                </a:cubicBezTo>
              </a:path>
              <a:path w="5177" h="1684">
                <a:moveTo>
                  <a:pt x="21558" y="13716"/>
                </a:moveTo>
                <a:cubicBezTo>
                  <a:pt x="21558" y="13830"/>
                  <a:pt x="21539" y="13924"/>
                  <a:pt x="21526" y="14034"/>
                </a:cubicBezTo>
                <a:cubicBezTo>
                  <a:pt x="21509" y="14182"/>
                  <a:pt x="21478" y="14330"/>
                  <a:pt x="21463" y="14478"/>
                </a:cubicBezTo>
                <a:cubicBezTo>
                  <a:pt x="21449" y="14618"/>
                  <a:pt x="21431" y="14749"/>
                  <a:pt x="21431" y="14891"/>
                </a:cubicBezTo>
                <a:cubicBezTo>
                  <a:pt x="21431" y="14954"/>
                  <a:pt x="21431" y="15018"/>
                  <a:pt x="21431" y="15081"/>
                </a:cubicBezTo>
              </a:path>
              <a:path w="5177" h="1684">
                <a:moveTo>
                  <a:pt x="21908" y="13557"/>
                </a:moveTo>
                <a:cubicBezTo>
                  <a:pt x="21908" y="13639"/>
                  <a:pt x="21871" y="13701"/>
                  <a:pt x="21844" y="13780"/>
                </a:cubicBezTo>
                <a:cubicBezTo>
                  <a:pt x="21794" y="13922"/>
                  <a:pt x="21725" y="14043"/>
                  <a:pt x="21685" y="14192"/>
                </a:cubicBezTo>
                <a:cubicBezTo>
                  <a:pt x="21646" y="14336"/>
                  <a:pt x="21606" y="14492"/>
                  <a:pt x="21590" y="14637"/>
                </a:cubicBezTo>
                <a:cubicBezTo>
                  <a:pt x="21578" y="14740"/>
                  <a:pt x="21638" y="14837"/>
                  <a:pt x="21654" y="14922"/>
                </a:cubicBezTo>
                <a:cubicBezTo>
                  <a:pt x="21668" y="14994"/>
                  <a:pt x="21675" y="15025"/>
                  <a:pt x="21749" y="15050"/>
                </a:cubicBezTo>
                <a:cubicBezTo>
                  <a:pt x="21780" y="15050"/>
                  <a:pt x="21791" y="15050"/>
                  <a:pt x="21812" y="15050"/>
                </a:cubicBezTo>
              </a:path>
              <a:path w="5177" h="1684">
                <a:moveTo>
                  <a:pt x="21908" y="14764"/>
                </a:moveTo>
                <a:lnTo>
                  <a:pt x="21908" y="14764"/>
                </a:lnTo>
              </a:path>
              <a:path w="5177" h="1684">
                <a:moveTo>
                  <a:pt x="22003" y="14160"/>
                </a:moveTo>
                <a:cubicBezTo>
                  <a:pt x="22003" y="14219"/>
                  <a:pt x="22024" y="14242"/>
                  <a:pt x="22034" y="14288"/>
                </a:cubicBezTo>
                <a:cubicBezTo>
                  <a:pt x="22049" y="14359"/>
                  <a:pt x="22003" y="14434"/>
                  <a:pt x="22003" y="14510"/>
                </a:cubicBezTo>
                <a:cubicBezTo>
                  <a:pt x="22003" y="14542"/>
                  <a:pt x="22003" y="14573"/>
                  <a:pt x="22003" y="14605"/>
                </a:cubicBezTo>
                <a:cubicBezTo>
                  <a:pt x="22019" y="14541"/>
                  <a:pt x="22034" y="14542"/>
                  <a:pt x="22098" y="14542"/>
                </a:cubicBezTo>
                <a:cubicBezTo>
                  <a:pt x="22162" y="14542"/>
                  <a:pt x="22167" y="14560"/>
                  <a:pt x="22193" y="14573"/>
                </a:cubicBezTo>
                <a:cubicBezTo>
                  <a:pt x="22204" y="14573"/>
                  <a:pt x="22214" y="14573"/>
                  <a:pt x="22225" y="14573"/>
                </a:cubicBezTo>
              </a:path>
              <a:path w="5177" h="1684">
                <a:moveTo>
                  <a:pt x="22257" y="14065"/>
                </a:moveTo>
                <a:cubicBezTo>
                  <a:pt x="22257" y="14309"/>
                  <a:pt x="22257" y="14552"/>
                  <a:pt x="22257" y="14796"/>
                </a:cubicBezTo>
              </a:path>
              <a:path w="5177" h="1684">
                <a:moveTo>
                  <a:pt x="22574" y="14034"/>
                </a:moveTo>
                <a:cubicBezTo>
                  <a:pt x="22574" y="13995"/>
                  <a:pt x="22554" y="14026"/>
                  <a:pt x="22511" y="14065"/>
                </a:cubicBezTo>
                <a:cubicBezTo>
                  <a:pt x="22459" y="14111"/>
                  <a:pt x="22454" y="14129"/>
                  <a:pt x="22384" y="14129"/>
                </a:cubicBezTo>
                <a:cubicBezTo>
                  <a:pt x="22373" y="14129"/>
                  <a:pt x="22363" y="14129"/>
                  <a:pt x="22352" y="14129"/>
                </a:cubicBezTo>
                <a:cubicBezTo>
                  <a:pt x="22352" y="14202"/>
                  <a:pt x="22364" y="14229"/>
                  <a:pt x="22384" y="14288"/>
                </a:cubicBezTo>
                <a:cubicBezTo>
                  <a:pt x="22384" y="14319"/>
                  <a:pt x="22384" y="14330"/>
                  <a:pt x="22384" y="14351"/>
                </a:cubicBezTo>
                <a:cubicBezTo>
                  <a:pt x="22422" y="14313"/>
                  <a:pt x="22441" y="14261"/>
                  <a:pt x="22479" y="14256"/>
                </a:cubicBezTo>
                <a:cubicBezTo>
                  <a:pt x="22542" y="14248"/>
                  <a:pt x="22557" y="14312"/>
                  <a:pt x="22574" y="14351"/>
                </a:cubicBezTo>
                <a:cubicBezTo>
                  <a:pt x="22609" y="14431"/>
                  <a:pt x="22606" y="14487"/>
                  <a:pt x="22606" y="14573"/>
                </a:cubicBezTo>
                <a:cubicBezTo>
                  <a:pt x="22606" y="14625"/>
                  <a:pt x="22616" y="14761"/>
                  <a:pt x="22574" y="14796"/>
                </a:cubicBezTo>
                <a:cubicBezTo>
                  <a:pt x="22538" y="14826"/>
                  <a:pt x="22523" y="14821"/>
                  <a:pt x="22511" y="14796"/>
                </a:cubicBezTo>
              </a:path>
              <a:path w="5177" h="1684">
                <a:moveTo>
                  <a:pt x="22479" y="13748"/>
                </a:moveTo>
                <a:cubicBezTo>
                  <a:pt x="22558" y="13768"/>
                  <a:pt x="22556" y="13814"/>
                  <a:pt x="22606" y="13875"/>
                </a:cubicBezTo>
                <a:cubicBezTo>
                  <a:pt x="22684" y="13969"/>
                  <a:pt x="22746" y="14097"/>
                  <a:pt x="22765" y="14224"/>
                </a:cubicBezTo>
                <a:cubicBezTo>
                  <a:pt x="22786" y="14363"/>
                  <a:pt x="22796" y="14494"/>
                  <a:pt x="22796" y="14637"/>
                </a:cubicBezTo>
                <a:cubicBezTo>
                  <a:pt x="22796" y="14792"/>
                  <a:pt x="22755" y="14903"/>
                  <a:pt x="22733" y="15050"/>
                </a:cubicBezTo>
                <a:cubicBezTo>
                  <a:pt x="22733" y="15147"/>
                  <a:pt x="22732" y="15180"/>
                  <a:pt x="22701" y="15240"/>
                </a:cubicBezTo>
              </a:path>
              <a:path w="5177" h="1684">
                <a:moveTo>
                  <a:pt x="22987" y="14288"/>
                </a:moveTo>
                <a:cubicBezTo>
                  <a:pt x="23036" y="14251"/>
                  <a:pt x="23052" y="14256"/>
                  <a:pt x="23114" y="14256"/>
                </a:cubicBezTo>
                <a:cubicBezTo>
                  <a:pt x="23146" y="14256"/>
                  <a:pt x="23177" y="14256"/>
                  <a:pt x="23209" y="14256"/>
                </a:cubicBezTo>
              </a:path>
              <a:path w="5177" h="1684">
                <a:moveTo>
                  <a:pt x="23019" y="14542"/>
                </a:moveTo>
                <a:cubicBezTo>
                  <a:pt x="23065" y="14542"/>
                  <a:pt x="23112" y="14533"/>
                  <a:pt x="23146" y="14510"/>
                </a:cubicBezTo>
                <a:cubicBezTo>
                  <a:pt x="23195" y="14477"/>
                  <a:pt x="23248" y="14460"/>
                  <a:pt x="23304" y="14446"/>
                </a:cubicBezTo>
              </a:path>
              <a:path w="5177" h="1684">
                <a:moveTo>
                  <a:pt x="23400" y="14065"/>
                </a:moveTo>
                <a:cubicBezTo>
                  <a:pt x="23417" y="14043"/>
                  <a:pt x="23450" y="13947"/>
                  <a:pt x="23463" y="13938"/>
                </a:cubicBezTo>
                <a:cubicBezTo>
                  <a:pt x="23480" y="13927"/>
                  <a:pt x="23519" y="13884"/>
                  <a:pt x="23558" y="13906"/>
                </a:cubicBezTo>
                <a:cubicBezTo>
                  <a:pt x="23610" y="13935"/>
                  <a:pt x="23590" y="14016"/>
                  <a:pt x="23590" y="14065"/>
                </a:cubicBezTo>
                <a:cubicBezTo>
                  <a:pt x="23590" y="14206"/>
                  <a:pt x="23520" y="14311"/>
                  <a:pt x="23495" y="14446"/>
                </a:cubicBezTo>
                <a:cubicBezTo>
                  <a:pt x="23481" y="14524"/>
                  <a:pt x="23473" y="14632"/>
                  <a:pt x="23432" y="14700"/>
                </a:cubicBezTo>
                <a:cubicBezTo>
                  <a:pt x="23403" y="14729"/>
                  <a:pt x="23392" y="14735"/>
                  <a:pt x="23400" y="14764"/>
                </a:cubicBezTo>
                <a:cubicBezTo>
                  <a:pt x="23430" y="14756"/>
                  <a:pt x="23500" y="14747"/>
                  <a:pt x="23527" y="14732"/>
                </a:cubicBezTo>
                <a:cubicBezTo>
                  <a:pt x="23597" y="14692"/>
                  <a:pt x="23578" y="14713"/>
                  <a:pt x="23654" y="14732"/>
                </a:cubicBezTo>
              </a:path>
              <a:path w="5177" h="1684">
                <a:moveTo>
                  <a:pt x="23812" y="14414"/>
                </a:moveTo>
                <a:lnTo>
                  <a:pt x="23812" y="14414"/>
                </a:lnTo>
              </a:path>
              <a:path w="5177" h="1684">
                <a:moveTo>
                  <a:pt x="24098" y="13748"/>
                </a:moveTo>
                <a:cubicBezTo>
                  <a:pt x="24064" y="13770"/>
                  <a:pt x="24016" y="13902"/>
                  <a:pt x="24003" y="13970"/>
                </a:cubicBezTo>
                <a:cubicBezTo>
                  <a:pt x="23981" y="14087"/>
                  <a:pt x="23971" y="14197"/>
                  <a:pt x="23971" y="14319"/>
                </a:cubicBezTo>
                <a:cubicBezTo>
                  <a:pt x="23971" y="14394"/>
                  <a:pt x="23955" y="14497"/>
                  <a:pt x="24035" y="14542"/>
                </a:cubicBezTo>
                <a:cubicBezTo>
                  <a:pt x="24082" y="14568"/>
                  <a:pt x="24140" y="14512"/>
                  <a:pt x="24162" y="14478"/>
                </a:cubicBezTo>
                <a:cubicBezTo>
                  <a:pt x="24192" y="14432"/>
                  <a:pt x="24244" y="14311"/>
                  <a:pt x="24257" y="14256"/>
                </a:cubicBezTo>
                <a:cubicBezTo>
                  <a:pt x="24272" y="14193"/>
                  <a:pt x="24259" y="14142"/>
                  <a:pt x="24225" y="14097"/>
                </a:cubicBezTo>
                <a:cubicBezTo>
                  <a:pt x="24186" y="14137"/>
                  <a:pt x="24134" y="14168"/>
                  <a:pt x="24130" y="14224"/>
                </a:cubicBezTo>
                <a:cubicBezTo>
                  <a:pt x="24124" y="14304"/>
                  <a:pt x="24098" y="14363"/>
                  <a:pt x="24098" y="14446"/>
                </a:cubicBezTo>
                <a:cubicBezTo>
                  <a:pt x="24098" y="14478"/>
                  <a:pt x="24098" y="14510"/>
                  <a:pt x="24098" y="14542"/>
                </a:cubicBezTo>
              </a:path>
              <a:path w="5177" h="1684">
                <a:moveTo>
                  <a:pt x="24416" y="13843"/>
                </a:moveTo>
                <a:cubicBezTo>
                  <a:pt x="24416" y="13781"/>
                  <a:pt x="24357" y="13883"/>
                  <a:pt x="24352" y="13906"/>
                </a:cubicBezTo>
                <a:cubicBezTo>
                  <a:pt x="24330" y="14012"/>
                  <a:pt x="24320" y="14113"/>
                  <a:pt x="24320" y="14224"/>
                </a:cubicBezTo>
                <a:cubicBezTo>
                  <a:pt x="24320" y="14306"/>
                  <a:pt x="24307" y="14365"/>
                  <a:pt x="24384" y="14414"/>
                </a:cubicBezTo>
                <a:cubicBezTo>
                  <a:pt x="24443" y="14451"/>
                  <a:pt x="24494" y="14453"/>
                  <a:pt x="24543" y="14414"/>
                </a:cubicBezTo>
                <a:cubicBezTo>
                  <a:pt x="24639" y="14339"/>
                  <a:pt x="24625" y="14292"/>
                  <a:pt x="24670" y="14192"/>
                </a:cubicBezTo>
                <a:cubicBezTo>
                  <a:pt x="24719" y="14084"/>
                  <a:pt x="24689" y="14030"/>
                  <a:pt x="24670" y="13938"/>
                </a:cubicBezTo>
                <a:cubicBezTo>
                  <a:pt x="24654" y="13860"/>
                  <a:pt x="24607" y="13814"/>
                  <a:pt x="24511" y="13843"/>
                </a:cubicBezTo>
                <a:cubicBezTo>
                  <a:pt x="24490" y="13854"/>
                  <a:pt x="24469" y="13864"/>
                  <a:pt x="24448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6"/>
          <p:cNvSpPr/>
          <p:nvPr/>
        </p:nvSpPr>
        <p:spPr>
          <a:xfrm>
            <a:off x="7165800" y="5407200"/>
            <a:ext cx="320760" cy="388800"/>
          </a:xfrm>
          <a:custGeom>
            <a:avLst/>
            <a:gdLst/>
            <a:ahLst/>
            <a:rect l="l" t="t" r="r" b="b"/>
            <a:pathLst>
              <a:path w="890" h="1080">
                <a:moveTo>
                  <a:pt x="19907" y="15367"/>
                </a:moveTo>
                <a:lnTo>
                  <a:pt x="19907" y="15367"/>
                </a:lnTo>
              </a:path>
              <a:path w="890" h="1080">
                <a:moveTo>
                  <a:pt x="19907" y="15367"/>
                </a:moveTo>
                <a:cubicBezTo>
                  <a:pt x="19907" y="15356"/>
                  <a:pt x="19907" y="15346"/>
                  <a:pt x="19907" y="15335"/>
                </a:cubicBezTo>
              </a:path>
              <a:path w="890" h="1080">
                <a:moveTo>
                  <a:pt x="19907" y="15335"/>
                </a:moveTo>
                <a:cubicBezTo>
                  <a:pt x="19954" y="15274"/>
                  <a:pt x="19959" y="15217"/>
                  <a:pt x="20002" y="15145"/>
                </a:cubicBezTo>
                <a:cubicBezTo>
                  <a:pt x="20027" y="15103"/>
                  <a:pt x="20116" y="15071"/>
                  <a:pt x="20130" y="15050"/>
                </a:cubicBezTo>
                <a:cubicBezTo>
                  <a:pt x="20138" y="15038"/>
                  <a:pt x="20196" y="15024"/>
                  <a:pt x="20225" y="15081"/>
                </a:cubicBezTo>
                <a:cubicBezTo>
                  <a:pt x="20265" y="15161"/>
                  <a:pt x="20202" y="15264"/>
                  <a:pt x="20193" y="15335"/>
                </a:cubicBezTo>
                <a:cubicBezTo>
                  <a:pt x="20179" y="15445"/>
                  <a:pt x="20173" y="15550"/>
                  <a:pt x="20130" y="15653"/>
                </a:cubicBezTo>
                <a:cubicBezTo>
                  <a:pt x="20093" y="15740"/>
                  <a:pt x="20055" y="15817"/>
                  <a:pt x="20034" y="15907"/>
                </a:cubicBezTo>
                <a:cubicBezTo>
                  <a:pt x="20021" y="15963"/>
                  <a:pt x="20002" y="16006"/>
                  <a:pt x="20002" y="16066"/>
                </a:cubicBezTo>
                <a:cubicBezTo>
                  <a:pt x="20082" y="16066"/>
                  <a:pt x="20127" y="16075"/>
                  <a:pt x="20193" y="16097"/>
                </a:cubicBezTo>
                <a:cubicBezTo>
                  <a:pt x="20204" y="16097"/>
                  <a:pt x="20214" y="16097"/>
                  <a:pt x="20225" y="16097"/>
                </a:cubicBezTo>
              </a:path>
              <a:path w="890" h="1080">
                <a:moveTo>
                  <a:pt x="20479" y="15462"/>
                </a:moveTo>
                <a:cubicBezTo>
                  <a:pt x="20479" y="15473"/>
                  <a:pt x="20479" y="15483"/>
                  <a:pt x="20479" y="15494"/>
                </a:cubicBezTo>
                <a:cubicBezTo>
                  <a:pt x="20520" y="15505"/>
                  <a:pt x="20564" y="15544"/>
                  <a:pt x="20574" y="15589"/>
                </a:cubicBezTo>
                <a:cubicBezTo>
                  <a:pt x="20593" y="15676"/>
                  <a:pt x="20641" y="15693"/>
                  <a:pt x="20669" y="15780"/>
                </a:cubicBezTo>
                <a:cubicBezTo>
                  <a:pt x="20688" y="15839"/>
                  <a:pt x="20718" y="15909"/>
                  <a:pt x="20733" y="15970"/>
                </a:cubicBezTo>
                <a:cubicBezTo>
                  <a:pt x="20733" y="15981"/>
                  <a:pt x="20733" y="15991"/>
                  <a:pt x="20733" y="16002"/>
                </a:cubicBezTo>
              </a:path>
              <a:path w="890" h="1080">
                <a:moveTo>
                  <a:pt x="20796" y="15335"/>
                </a:moveTo>
                <a:cubicBezTo>
                  <a:pt x="20762" y="15346"/>
                  <a:pt x="20723" y="15414"/>
                  <a:pt x="20701" y="15462"/>
                </a:cubicBezTo>
                <a:cubicBezTo>
                  <a:pt x="20651" y="15574"/>
                  <a:pt x="20613" y="15695"/>
                  <a:pt x="20574" y="15812"/>
                </a:cubicBezTo>
                <a:cubicBezTo>
                  <a:pt x="20542" y="15907"/>
                  <a:pt x="20531" y="15939"/>
                  <a:pt x="20510" y="16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7"/>
          <p:cNvSpPr/>
          <p:nvPr/>
        </p:nvSpPr>
        <p:spPr>
          <a:xfrm>
            <a:off x="7578720" y="5521320"/>
            <a:ext cx="68400" cy="182520"/>
          </a:xfrm>
          <a:custGeom>
            <a:avLst/>
            <a:gdLst/>
            <a:ahLst/>
            <a:rect l="l" t="t" r="r" b="b"/>
            <a:pathLst>
              <a:path w="192" h="509">
                <a:moveTo>
                  <a:pt x="21146" y="15335"/>
                </a:moveTo>
                <a:cubicBezTo>
                  <a:pt x="21146" y="15346"/>
                  <a:pt x="21146" y="15356"/>
                  <a:pt x="21146" y="15367"/>
                </a:cubicBezTo>
              </a:path>
              <a:path w="192" h="509">
                <a:moveTo>
                  <a:pt x="21114" y="15462"/>
                </a:moveTo>
                <a:cubicBezTo>
                  <a:pt x="21114" y="15483"/>
                  <a:pt x="21114" y="15505"/>
                  <a:pt x="21114" y="15526"/>
                </a:cubicBezTo>
              </a:path>
              <a:path w="192" h="509">
                <a:moveTo>
                  <a:pt x="21114" y="15621"/>
                </a:moveTo>
                <a:cubicBezTo>
                  <a:pt x="21114" y="15695"/>
                  <a:pt x="21114" y="15769"/>
                  <a:pt x="21114" y="15843"/>
                </a:cubicBezTo>
              </a:path>
              <a:path w="192" h="509">
                <a:moveTo>
                  <a:pt x="21050" y="15684"/>
                </a:moveTo>
                <a:cubicBezTo>
                  <a:pt x="21114" y="15684"/>
                  <a:pt x="21177" y="15684"/>
                  <a:pt x="21241" y="15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8"/>
          <p:cNvSpPr/>
          <p:nvPr/>
        </p:nvSpPr>
        <p:spPr>
          <a:xfrm>
            <a:off x="7818480" y="5337000"/>
            <a:ext cx="1108080" cy="560520"/>
          </a:xfrm>
          <a:custGeom>
            <a:avLst/>
            <a:gdLst/>
            <a:ahLst/>
            <a:rect l="l" t="t" r="r" b="b"/>
            <a:pathLst>
              <a:path w="3081" h="1557">
                <a:moveTo>
                  <a:pt x="21780" y="15240"/>
                </a:moveTo>
                <a:lnTo>
                  <a:pt x="21780" y="15240"/>
                </a:lnTo>
              </a:path>
              <a:path w="3081" h="1557">
                <a:moveTo>
                  <a:pt x="21780" y="15240"/>
                </a:moveTo>
                <a:cubicBezTo>
                  <a:pt x="21780" y="15251"/>
                  <a:pt x="21780" y="15261"/>
                  <a:pt x="21780" y="15272"/>
                </a:cubicBezTo>
              </a:path>
              <a:path w="3081" h="1557">
                <a:moveTo>
                  <a:pt x="21780" y="15272"/>
                </a:moveTo>
                <a:cubicBezTo>
                  <a:pt x="21780" y="15519"/>
                  <a:pt x="21772" y="15759"/>
                  <a:pt x="21749" y="16002"/>
                </a:cubicBezTo>
                <a:cubicBezTo>
                  <a:pt x="21737" y="16126"/>
                  <a:pt x="21742" y="16234"/>
                  <a:pt x="21717" y="16351"/>
                </a:cubicBezTo>
                <a:cubicBezTo>
                  <a:pt x="21700" y="16428"/>
                  <a:pt x="21717" y="16309"/>
                  <a:pt x="21717" y="16288"/>
                </a:cubicBezTo>
                <a:cubicBezTo>
                  <a:pt x="21717" y="16267"/>
                  <a:pt x="21717" y="16245"/>
                  <a:pt x="21717" y="16224"/>
                </a:cubicBezTo>
              </a:path>
              <a:path w="3081" h="1557">
                <a:moveTo>
                  <a:pt x="22034" y="15938"/>
                </a:moveTo>
                <a:cubicBezTo>
                  <a:pt x="22034" y="15990"/>
                  <a:pt x="22050" y="15954"/>
                  <a:pt x="22066" y="16002"/>
                </a:cubicBezTo>
              </a:path>
              <a:path w="3081" h="1557">
                <a:moveTo>
                  <a:pt x="22384" y="15145"/>
                </a:moveTo>
                <a:cubicBezTo>
                  <a:pt x="22355" y="15116"/>
                  <a:pt x="22349" y="15105"/>
                  <a:pt x="22320" y="15113"/>
                </a:cubicBezTo>
                <a:cubicBezTo>
                  <a:pt x="22286" y="15156"/>
                  <a:pt x="22215" y="15222"/>
                  <a:pt x="22193" y="15272"/>
                </a:cubicBezTo>
                <a:cubicBezTo>
                  <a:pt x="22172" y="15319"/>
                  <a:pt x="22162" y="15376"/>
                  <a:pt x="22162" y="15430"/>
                </a:cubicBezTo>
                <a:cubicBezTo>
                  <a:pt x="22162" y="15468"/>
                  <a:pt x="22203" y="15556"/>
                  <a:pt x="22225" y="15589"/>
                </a:cubicBezTo>
                <a:cubicBezTo>
                  <a:pt x="22261" y="15643"/>
                  <a:pt x="22297" y="15693"/>
                  <a:pt x="22320" y="15748"/>
                </a:cubicBezTo>
                <a:cubicBezTo>
                  <a:pt x="22351" y="15821"/>
                  <a:pt x="22396" y="15860"/>
                  <a:pt x="22416" y="15938"/>
                </a:cubicBezTo>
                <a:cubicBezTo>
                  <a:pt x="22426" y="15977"/>
                  <a:pt x="22416" y="16026"/>
                  <a:pt x="22416" y="16066"/>
                </a:cubicBezTo>
                <a:cubicBezTo>
                  <a:pt x="22366" y="16066"/>
                  <a:pt x="22332" y="16059"/>
                  <a:pt x="22320" y="16002"/>
                </a:cubicBezTo>
                <a:cubicBezTo>
                  <a:pt x="22303" y="15922"/>
                  <a:pt x="22288" y="15869"/>
                  <a:pt x="22288" y="15780"/>
                </a:cubicBezTo>
                <a:cubicBezTo>
                  <a:pt x="22288" y="15684"/>
                  <a:pt x="22305" y="15614"/>
                  <a:pt x="22320" y="15526"/>
                </a:cubicBezTo>
                <a:cubicBezTo>
                  <a:pt x="22332" y="15457"/>
                  <a:pt x="22337" y="15419"/>
                  <a:pt x="22384" y="15367"/>
                </a:cubicBezTo>
                <a:cubicBezTo>
                  <a:pt x="22395" y="15356"/>
                  <a:pt x="22405" y="15346"/>
                  <a:pt x="22416" y="15335"/>
                </a:cubicBezTo>
              </a:path>
              <a:path w="3081" h="1557">
                <a:moveTo>
                  <a:pt x="22670" y="15081"/>
                </a:moveTo>
                <a:cubicBezTo>
                  <a:pt x="22597" y="15105"/>
                  <a:pt x="22630" y="15161"/>
                  <a:pt x="22606" y="15240"/>
                </a:cubicBezTo>
                <a:cubicBezTo>
                  <a:pt x="22575" y="15342"/>
                  <a:pt x="22574" y="15415"/>
                  <a:pt x="22574" y="15526"/>
                </a:cubicBezTo>
                <a:cubicBezTo>
                  <a:pt x="22574" y="15624"/>
                  <a:pt x="22563" y="15700"/>
                  <a:pt x="22606" y="15780"/>
                </a:cubicBezTo>
                <a:cubicBezTo>
                  <a:pt x="22639" y="15840"/>
                  <a:pt x="22633" y="15858"/>
                  <a:pt x="22670" y="15907"/>
                </a:cubicBezTo>
                <a:cubicBezTo>
                  <a:pt x="22747" y="15907"/>
                  <a:pt x="22731" y="15894"/>
                  <a:pt x="22765" y="15843"/>
                </a:cubicBezTo>
                <a:cubicBezTo>
                  <a:pt x="22809" y="15776"/>
                  <a:pt x="22796" y="15705"/>
                  <a:pt x="22796" y="15621"/>
                </a:cubicBezTo>
                <a:cubicBezTo>
                  <a:pt x="22796" y="15523"/>
                  <a:pt x="22806" y="15392"/>
                  <a:pt x="22765" y="15304"/>
                </a:cubicBezTo>
                <a:cubicBezTo>
                  <a:pt x="22739" y="15248"/>
                  <a:pt x="22690" y="15240"/>
                  <a:pt x="22638" y="15240"/>
                </a:cubicBezTo>
                <a:cubicBezTo>
                  <a:pt x="22627" y="15240"/>
                  <a:pt x="22617" y="15240"/>
                  <a:pt x="22606" y="15240"/>
                </a:cubicBezTo>
              </a:path>
              <a:path w="3081" h="1557">
                <a:moveTo>
                  <a:pt x="22987" y="15367"/>
                </a:moveTo>
                <a:cubicBezTo>
                  <a:pt x="23034" y="15367"/>
                  <a:pt x="23079" y="15358"/>
                  <a:pt x="23114" y="15335"/>
                </a:cubicBezTo>
                <a:cubicBezTo>
                  <a:pt x="23125" y="15325"/>
                  <a:pt x="23135" y="15314"/>
                  <a:pt x="23146" y="15304"/>
                </a:cubicBezTo>
              </a:path>
              <a:path w="3081" h="1557">
                <a:moveTo>
                  <a:pt x="23050" y="15780"/>
                </a:moveTo>
                <a:cubicBezTo>
                  <a:pt x="23105" y="15766"/>
                  <a:pt x="23151" y="15741"/>
                  <a:pt x="23209" y="15716"/>
                </a:cubicBezTo>
              </a:path>
              <a:path w="3081" h="1557">
                <a:moveTo>
                  <a:pt x="23400" y="15272"/>
                </a:moveTo>
                <a:cubicBezTo>
                  <a:pt x="23400" y="15207"/>
                  <a:pt x="23391" y="15165"/>
                  <a:pt x="23432" y="15113"/>
                </a:cubicBezTo>
                <a:cubicBezTo>
                  <a:pt x="23473" y="15061"/>
                  <a:pt x="23496" y="15050"/>
                  <a:pt x="23558" y="15050"/>
                </a:cubicBezTo>
                <a:cubicBezTo>
                  <a:pt x="23609" y="15050"/>
                  <a:pt x="23631" y="15154"/>
                  <a:pt x="23622" y="15208"/>
                </a:cubicBezTo>
                <a:cubicBezTo>
                  <a:pt x="23605" y="15306"/>
                  <a:pt x="23587" y="15433"/>
                  <a:pt x="23558" y="15526"/>
                </a:cubicBezTo>
                <a:cubicBezTo>
                  <a:pt x="23529" y="15620"/>
                  <a:pt x="23492" y="15723"/>
                  <a:pt x="23463" y="15812"/>
                </a:cubicBezTo>
                <a:cubicBezTo>
                  <a:pt x="23445" y="15868"/>
                  <a:pt x="23413" y="15888"/>
                  <a:pt x="23400" y="15938"/>
                </a:cubicBezTo>
                <a:cubicBezTo>
                  <a:pt x="23430" y="15931"/>
                  <a:pt x="23501" y="15922"/>
                  <a:pt x="23527" y="15907"/>
                </a:cubicBezTo>
                <a:cubicBezTo>
                  <a:pt x="23580" y="15877"/>
                  <a:pt x="23589" y="15875"/>
                  <a:pt x="23654" y="15875"/>
                </a:cubicBezTo>
              </a:path>
              <a:path w="3081" h="1557">
                <a:moveTo>
                  <a:pt x="23876" y="15589"/>
                </a:moveTo>
                <a:cubicBezTo>
                  <a:pt x="23876" y="15600"/>
                  <a:pt x="23876" y="15610"/>
                  <a:pt x="23876" y="15621"/>
                </a:cubicBezTo>
              </a:path>
              <a:path w="3081" h="1557">
                <a:moveTo>
                  <a:pt x="24098" y="14922"/>
                </a:moveTo>
                <a:cubicBezTo>
                  <a:pt x="24084" y="15048"/>
                  <a:pt x="24039" y="15143"/>
                  <a:pt x="24035" y="15272"/>
                </a:cubicBezTo>
                <a:cubicBezTo>
                  <a:pt x="24031" y="15381"/>
                  <a:pt x="23998" y="15599"/>
                  <a:pt x="24066" y="15684"/>
                </a:cubicBezTo>
                <a:cubicBezTo>
                  <a:pt x="24088" y="15712"/>
                  <a:pt x="24157" y="15737"/>
                  <a:pt x="24194" y="15716"/>
                </a:cubicBezTo>
                <a:cubicBezTo>
                  <a:pt x="24286" y="15664"/>
                  <a:pt x="24290" y="15643"/>
                  <a:pt x="24320" y="15558"/>
                </a:cubicBezTo>
                <a:cubicBezTo>
                  <a:pt x="24356" y="15457"/>
                  <a:pt x="24396" y="15380"/>
                  <a:pt x="24416" y="15272"/>
                </a:cubicBezTo>
                <a:cubicBezTo>
                  <a:pt x="24425" y="15226"/>
                  <a:pt x="24370" y="15157"/>
                  <a:pt x="24352" y="15145"/>
                </a:cubicBezTo>
                <a:cubicBezTo>
                  <a:pt x="24312" y="15224"/>
                  <a:pt x="24265" y="15290"/>
                  <a:pt x="24225" y="15367"/>
                </a:cubicBezTo>
                <a:cubicBezTo>
                  <a:pt x="24206" y="15403"/>
                  <a:pt x="24147" y="15552"/>
                  <a:pt x="24162" y="15589"/>
                </a:cubicBezTo>
                <a:cubicBezTo>
                  <a:pt x="24185" y="15646"/>
                  <a:pt x="24199" y="15653"/>
                  <a:pt x="24257" y="15653"/>
                </a:cubicBezTo>
              </a:path>
              <a:path w="3081" h="1557">
                <a:moveTo>
                  <a:pt x="24574" y="14827"/>
                </a:moveTo>
                <a:cubicBezTo>
                  <a:pt x="24500" y="14853"/>
                  <a:pt x="24528" y="14974"/>
                  <a:pt x="24511" y="15050"/>
                </a:cubicBezTo>
                <a:cubicBezTo>
                  <a:pt x="24488" y="15152"/>
                  <a:pt x="24445" y="15292"/>
                  <a:pt x="24479" y="15399"/>
                </a:cubicBezTo>
                <a:cubicBezTo>
                  <a:pt x="24510" y="15496"/>
                  <a:pt x="24511" y="15494"/>
                  <a:pt x="24606" y="15494"/>
                </a:cubicBezTo>
                <a:cubicBezTo>
                  <a:pt x="24680" y="15494"/>
                  <a:pt x="24695" y="15463"/>
                  <a:pt x="24733" y="15399"/>
                </a:cubicBezTo>
                <a:cubicBezTo>
                  <a:pt x="24794" y="15296"/>
                  <a:pt x="24797" y="15231"/>
                  <a:pt x="24797" y="15113"/>
                </a:cubicBezTo>
                <a:cubicBezTo>
                  <a:pt x="24797" y="15053"/>
                  <a:pt x="24801" y="14902"/>
                  <a:pt x="24765" y="14859"/>
                </a:cubicBezTo>
                <a:cubicBezTo>
                  <a:pt x="24731" y="14818"/>
                  <a:pt x="24682" y="14827"/>
                  <a:pt x="24638" y="1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9"/>
          <p:cNvSpPr/>
          <p:nvPr/>
        </p:nvSpPr>
        <p:spPr>
          <a:xfrm>
            <a:off x="7669080" y="5864400"/>
            <a:ext cx="549360" cy="307800"/>
          </a:xfrm>
          <a:custGeom>
            <a:avLst/>
            <a:gdLst/>
            <a:ahLst/>
            <a:rect l="l" t="t" r="r" b="b"/>
            <a:pathLst>
              <a:path w="1525" h="858">
                <a:moveTo>
                  <a:pt x="21304" y="16510"/>
                </a:moveTo>
                <a:cubicBezTo>
                  <a:pt x="21378" y="16510"/>
                  <a:pt x="21436" y="16490"/>
                  <a:pt x="21495" y="16478"/>
                </a:cubicBezTo>
                <a:cubicBezTo>
                  <a:pt x="21552" y="16478"/>
                  <a:pt x="21569" y="16482"/>
                  <a:pt x="21590" y="16446"/>
                </a:cubicBezTo>
              </a:path>
              <a:path w="1525" h="858">
                <a:moveTo>
                  <a:pt x="21971" y="16542"/>
                </a:moveTo>
                <a:cubicBezTo>
                  <a:pt x="21921" y="16608"/>
                  <a:pt x="21939" y="16677"/>
                  <a:pt x="21939" y="16764"/>
                </a:cubicBezTo>
                <a:cubicBezTo>
                  <a:pt x="21939" y="16842"/>
                  <a:pt x="21926" y="16891"/>
                  <a:pt x="21908" y="16954"/>
                </a:cubicBezTo>
                <a:cubicBezTo>
                  <a:pt x="21895" y="17000"/>
                  <a:pt x="21939" y="17059"/>
                  <a:pt x="21939" y="17113"/>
                </a:cubicBezTo>
                <a:cubicBezTo>
                  <a:pt x="21939" y="17124"/>
                  <a:pt x="21939" y="17134"/>
                  <a:pt x="21939" y="17145"/>
                </a:cubicBezTo>
              </a:path>
              <a:path w="1525" h="858">
                <a:moveTo>
                  <a:pt x="22193" y="16986"/>
                </a:moveTo>
                <a:cubicBezTo>
                  <a:pt x="22165" y="17015"/>
                  <a:pt x="22155" y="17021"/>
                  <a:pt x="22162" y="17050"/>
                </a:cubicBezTo>
              </a:path>
              <a:path w="1525" h="858">
                <a:moveTo>
                  <a:pt x="22447" y="16351"/>
                </a:moveTo>
                <a:cubicBezTo>
                  <a:pt x="22447" y="16383"/>
                  <a:pt x="22447" y="16414"/>
                  <a:pt x="22447" y="16446"/>
                </a:cubicBezTo>
                <a:cubicBezTo>
                  <a:pt x="22389" y="16446"/>
                  <a:pt x="22372" y="16472"/>
                  <a:pt x="22320" y="16478"/>
                </a:cubicBezTo>
                <a:cubicBezTo>
                  <a:pt x="22285" y="16482"/>
                  <a:pt x="22261" y="16507"/>
                  <a:pt x="22257" y="16542"/>
                </a:cubicBezTo>
                <a:cubicBezTo>
                  <a:pt x="22250" y="16597"/>
                  <a:pt x="22242" y="16555"/>
                  <a:pt x="22225" y="16605"/>
                </a:cubicBezTo>
                <a:cubicBezTo>
                  <a:pt x="22256" y="16613"/>
                  <a:pt x="22324" y="16622"/>
                  <a:pt x="22352" y="16637"/>
                </a:cubicBezTo>
                <a:cubicBezTo>
                  <a:pt x="22431" y="16681"/>
                  <a:pt x="22394" y="16684"/>
                  <a:pt x="22447" y="16764"/>
                </a:cubicBezTo>
                <a:cubicBezTo>
                  <a:pt x="22486" y="16823"/>
                  <a:pt x="22505" y="16847"/>
                  <a:pt x="22511" y="16923"/>
                </a:cubicBezTo>
                <a:cubicBezTo>
                  <a:pt x="22517" y="16989"/>
                  <a:pt x="22492" y="16993"/>
                  <a:pt x="22479" y="17018"/>
                </a:cubicBezTo>
                <a:cubicBezTo>
                  <a:pt x="22479" y="17050"/>
                  <a:pt x="22479" y="17061"/>
                  <a:pt x="22447" y="17050"/>
                </a:cubicBezTo>
                <a:cubicBezTo>
                  <a:pt x="22433" y="16993"/>
                  <a:pt x="22416" y="16959"/>
                  <a:pt x="22416" y="16891"/>
                </a:cubicBezTo>
                <a:cubicBezTo>
                  <a:pt x="22416" y="16796"/>
                  <a:pt x="22421" y="16717"/>
                  <a:pt x="22447" y="16637"/>
                </a:cubicBezTo>
                <a:cubicBezTo>
                  <a:pt x="22461" y="16594"/>
                  <a:pt x="22464" y="16608"/>
                  <a:pt x="22511" y="16574"/>
                </a:cubicBezTo>
              </a:path>
              <a:path w="1525" h="858">
                <a:moveTo>
                  <a:pt x="22733" y="16288"/>
                </a:moveTo>
                <a:cubicBezTo>
                  <a:pt x="22725" y="16327"/>
                  <a:pt x="22719" y="16412"/>
                  <a:pt x="22701" y="16446"/>
                </a:cubicBezTo>
                <a:cubicBezTo>
                  <a:pt x="22671" y="16501"/>
                  <a:pt x="22650" y="16564"/>
                  <a:pt x="22670" y="16637"/>
                </a:cubicBezTo>
                <a:cubicBezTo>
                  <a:pt x="22691" y="16713"/>
                  <a:pt x="22713" y="16793"/>
                  <a:pt x="22733" y="16859"/>
                </a:cubicBezTo>
                <a:cubicBezTo>
                  <a:pt x="22733" y="16891"/>
                  <a:pt x="22733" y="16902"/>
                  <a:pt x="22765" y="16891"/>
                </a:cubicBezTo>
                <a:cubicBezTo>
                  <a:pt x="22793" y="16853"/>
                  <a:pt x="22825" y="16812"/>
                  <a:pt x="22828" y="16764"/>
                </a:cubicBezTo>
                <a:cubicBezTo>
                  <a:pt x="22833" y="16664"/>
                  <a:pt x="22812" y="16590"/>
                  <a:pt x="22796" y="16510"/>
                </a:cubicBezTo>
                <a:cubicBezTo>
                  <a:pt x="22787" y="16465"/>
                  <a:pt x="22784" y="16377"/>
                  <a:pt x="22733" y="16351"/>
                </a:cubicBezTo>
                <a:cubicBezTo>
                  <a:pt x="22701" y="16351"/>
                  <a:pt x="22691" y="16351"/>
                  <a:pt x="22670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20"/>
          <p:cNvSpPr/>
          <p:nvPr/>
        </p:nvSpPr>
        <p:spPr>
          <a:xfrm>
            <a:off x="8321760" y="5761080"/>
            <a:ext cx="250920" cy="274680"/>
          </a:xfrm>
          <a:custGeom>
            <a:avLst/>
            <a:gdLst/>
            <a:ahLst/>
            <a:rect l="l" t="t" r="r" b="b"/>
            <a:pathLst>
              <a:path w="699" h="763">
                <a:moveTo>
                  <a:pt x="23146" y="16478"/>
                </a:moveTo>
                <a:cubicBezTo>
                  <a:pt x="23135" y="16478"/>
                  <a:pt x="23125" y="16478"/>
                  <a:pt x="23114" y="16478"/>
                </a:cubicBezTo>
                <a:cubicBezTo>
                  <a:pt x="23155" y="16447"/>
                  <a:pt x="23203" y="16440"/>
                  <a:pt x="23241" y="16415"/>
                </a:cubicBezTo>
                <a:cubicBezTo>
                  <a:pt x="23252" y="16404"/>
                  <a:pt x="23262" y="16394"/>
                  <a:pt x="23273" y="16383"/>
                </a:cubicBezTo>
              </a:path>
              <a:path w="699" h="763">
                <a:moveTo>
                  <a:pt x="23590" y="16002"/>
                </a:moveTo>
                <a:cubicBezTo>
                  <a:pt x="23578" y="16052"/>
                  <a:pt x="23558" y="16072"/>
                  <a:pt x="23558" y="16129"/>
                </a:cubicBezTo>
                <a:cubicBezTo>
                  <a:pt x="23558" y="16205"/>
                  <a:pt x="23545" y="16341"/>
                  <a:pt x="23527" y="16415"/>
                </a:cubicBezTo>
                <a:cubicBezTo>
                  <a:pt x="23503" y="16514"/>
                  <a:pt x="23495" y="16592"/>
                  <a:pt x="23495" y="16700"/>
                </a:cubicBezTo>
                <a:cubicBezTo>
                  <a:pt x="23495" y="16721"/>
                  <a:pt x="23495" y="16743"/>
                  <a:pt x="23495" y="16764"/>
                </a:cubicBezTo>
              </a:path>
              <a:path w="699" h="763">
                <a:moveTo>
                  <a:pt x="23812" y="16446"/>
                </a:moveTo>
                <a:cubicBezTo>
                  <a:pt x="23777" y="16495"/>
                  <a:pt x="23781" y="16513"/>
                  <a:pt x="23781" y="16574"/>
                </a:cubicBezTo>
                <a:cubicBezTo>
                  <a:pt x="23781" y="16584"/>
                  <a:pt x="23781" y="16595"/>
                  <a:pt x="23781" y="16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21"/>
          <p:cNvSpPr/>
          <p:nvPr/>
        </p:nvSpPr>
        <p:spPr>
          <a:xfrm>
            <a:off x="8640720" y="5703840"/>
            <a:ext cx="263520" cy="263520"/>
          </a:xfrm>
          <a:custGeom>
            <a:avLst/>
            <a:gdLst/>
            <a:ahLst/>
            <a:rect l="l" t="t" r="r" b="b"/>
            <a:pathLst>
              <a:path w="731" h="732">
                <a:moveTo>
                  <a:pt x="24257" y="15938"/>
                </a:moveTo>
                <a:cubicBezTo>
                  <a:pt x="24246" y="15938"/>
                  <a:pt x="24236" y="15938"/>
                  <a:pt x="24225" y="15938"/>
                </a:cubicBezTo>
              </a:path>
              <a:path w="731" h="732">
                <a:moveTo>
                  <a:pt x="24035" y="16129"/>
                </a:moveTo>
                <a:cubicBezTo>
                  <a:pt x="24035" y="16165"/>
                  <a:pt x="24032" y="16179"/>
                  <a:pt x="24003" y="16192"/>
                </a:cubicBezTo>
                <a:cubicBezTo>
                  <a:pt x="24084" y="16192"/>
                  <a:pt x="24127" y="16201"/>
                  <a:pt x="24194" y="16224"/>
                </a:cubicBezTo>
                <a:cubicBezTo>
                  <a:pt x="24269" y="16249"/>
                  <a:pt x="24257" y="16269"/>
                  <a:pt x="24257" y="16351"/>
                </a:cubicBezTo>
                <a:cubicBezTo>
                  <a:pt x="24257" y="16436"/>
                  <a:pt x="24253" y="16476"/>
                  <a:pt x="24194" y="16542"/>
                </a:cubicBezTo>
                <a:cubicBezTo>
                  <a:pt x="24143" y="16599"/>
                  <a:pt x="24123" y="16575"/>
                  <a:pt x="24098" y="16542"/>
                </a:cubicBezTo>
                <a:cubicBezTo>
                  <a:pt x="24060" y="16492"/>
                  <a:pt x="24063" y="16466"/>
                  <a:pt x="24098" y="16415"/>
                </a:cubicBezTo>
                <a:cubicBezTo>
                  <a:pt x="24122" y="16379"/>
                  <a:pt x="24184" y="16305"/>
                  <a:pt x="24194" y="16288"/>
                </a:cubicBezTo>
                <a:cubicBezTo>
                  <a:pt x="24194" y="16252"/>
                  <a:pt x="24197" y="16238"/>
                  <a:pt x="24225" y="16224"/>
                </a:cubicBezTo>
              </a:path>
              <a:path w="731" h="732">
                <a:moveTo>
                  <a:pt x="24574" y="15875"/>
                </a:moveTo>
                <a:lnTo>
                  <a:pt x="24574" y="15875"/>
                </a:lnTo>
              </a:path>
              <a:path w="731" h="732">
                <a:moveTo>
                  <a:pt x="24574" y="15875"/>
                </a:moveTo>
                <a:cubicBezTo>
                  <a:pt x="24564" y="15875"/>
                  <a:pt x="24553" y="15875"/>
                  <a:pt x="24543" y="15875"/>
                </a:cubicBezTo>
              </a:path>
              <a:path w="731" h="732">
                <a:moveTo>
                  <a:pt x="24543" y="15875"/>
                </a:moveTo>
                <a:cubicBezTo>
                  <a:pt x="24530" y="15914"/>
                  <a:pt x="24490" y="15918"/>
                  <a:pt x="24479" y="15970"/>
                </a:cubicBezTo>
                <a:cubicBezTo>
                  <a:pt x="24461" y="16052"/>
                  <a:pt x="24471" y="16120"/>
                  <a:pt x="24479" y="16192"/>
                </a:cubicBezTo>
                <a:cubicBezTo>
                  <a:pt x="24488" y="16272"/>
                  <a:pt x="24489" y="16287"/>
                  <a:pt x="24511" y="16351"/>
                </a:cubicBezTo>
                <a:cubicBezTo>
                  <a:pt x="24520" y="16379"/>
                  <a:pt x="24560" y="16408"/>
                  <a:pt x="24606" y="16383"/>
                </a:cubicBezTo>
                <a:cubicBezTo>
                  <a:pt x="24633" y="16368"/>
                  <a:pt x="24695" y="16249"/>
                  <a:pt x="24702" y="16224"/>
                </a:cubicBezTo>
                <a:cubicBezTo>
                  <a:pt x="24714" y="16180"/>
                  <a:pt x="24754" y="16085"/>
                  <a:pt x="24733" y="16034"/>
                </a:cubicBezTo>
                <a:cubicBezTo>
                  <a:pt x="24719" y="16001"/>
                  <a:pt x="24688" y="15934"/>
                  <a:pt x="24670" y="15907"/>
                </a:cubicBezTo>
                <a:cubicBezTo>
                  <a:pt x="24634" y="15853"/>
                  <a:pt x="24602" y="15843"/>
                  <a:pt x="24543" y="15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2"/>
          <p:cNvSpPr/>
          <p:nvPr/>
        </p:nvSpPr>
        <p:spPr>
          <a:xfrm>
            <a:off x="6765840" y="6080040"/>
            <a:ext cx="709560" cy="515880"/>
          </a:xfrm>
          <a:custGeom>
            <a:avLst/>
            <a:gdLst/>
            <a:ahLst/>
            <a:rect l="l" t="t" r="r" b="b"/>
            <a:pathLst>
              <a:path w="1969" h="1430">
                <a:moveTo>
                  <a:pt x="18891" y="17082"/>
                </a:moveTo>
                <a:cubicBezTo>
                  <a:pt x="18891" y="17050"/>
                  <a:pt x="18891" y="17040"/>
                  <a:pt x="18860" y="17050"/>
                </a:cubicBezTo>
                <a:cubicBezTo>
                  <a:pt x="18911" y="17089"/>
                  <a:pt x="18922" y="17088"/>
                  <a:pt x="18955" y="17145"/>
                </a:cubicBezTo>
                <a:cubicBezTo>
                  <a:pt x="19004" y="17231"/>
                  <a:pt x="19021" y="17313"/>
                  <a:pt x="19050" y="17399"/>
                </a:cubicBezTo>
                <a:cubicBezTo>
                  <a:pt x="19085" y="17503"/>
                  <a:pt x="19109" y="17604"/>
                  <a:pt x="19114" y="17716"/>
                </a:cubicBezTo>
                <a:cubicBezTo>
                  <a:pt x="19119" y="17826"/>
                  <a:pt x="19145" y="17921"/>
                  <a:pt x="19145" y="18034"/>
                </a:cubicBezTo>
                <a:cubicBezTo>
                  <a:pt x="19145" y="18089"/>
                  <a:pt x="19132" y="18083"/>
                  <a:pt x="19177" y="18098"/>
                </a:cubicBezTo>
              </a:path>
              <a:path w="1969" h="1430">
                <a:moveTo>
                  <a:pt x="19272" y="16891"/>
                </a:moveTo>
                <a:cubicBezTo>
                  <a:pt x="19256" y="16955"/>
                  <a:pt x="19233" y="17013"/>
                  <a:pt x="19209" y="17082"/>
                </a:cubicBezTo>
                <a:cubicBezTo>
                  <a:pt x="19172" y="17190"/>
                  <a:pt x="19122" y="17293"/>
                  <a:pt x="19082" y="17399"/>
                </a:cubicBezTo>
                <a:cubicBezTo>
                  <a:pt x="19032" y="17532"/>
                  <a:pt x="18993" y="17675"/>
                  <a:pt x="18955" y="17812"/>
                </a:cubicBezTo>
                <a:cubicBezTo>
                  <a:pt x="18918" y="17945"/>
                  <a:pt x="18900" y="18096"/>
                  <a:pt x="18860" y="18224"/>
                </a:cubicBezTo>
                <a:cubicBezTo>
                  <a:pt x="18832" y="18280"/>
                  <a:pt x="18827" y="18295"/>
                  <a:pt x="18796" y="18320"/>
                </a:cubicBezTo>
              </a:path>
              <a:path w="1969" h="1430">
                <a:moveTo>
                  <a:pt x="19368" y="17431"/>
                </a:moveTo>
                <a:cubicBezTo>
                  <a:pt x="19414" y="17396"/>
                  <a:pt x="19449" y="17381"/>
                  <a:pt x="19494" y="17336"/>
                </a:cubicBezTo>
              </a:path>
              <a:path w="1969" h="1430">
                <a:moveTo>
                  <a:pt x="19368" y="17875"/>
                </a:moveTo>
                <a:cubicBezTo>
                  <a:pt x="19368" y="17865"/>
                  <a:pt x="19368" y="17854"/>
                  <a:pt x="19368" y="17844"/>
                </a:cubicBezTo>
                <a:cubicBezTo>
                  <a:pt x="19431" y="17844"/>
                  <a:pt x="19495" y="17844"/>
                  <a:pt x="19558" y="17844"/>
                </a:cubicBezTo>
              </a:path>
              <a:path w="1969" h="1430">
                <a:moveTo>
                  <a:pt x="19812" y="18066"/>
                </a:moveTo>
                <a:lnTo>
                  <a:pt x="19812" y="18066"/>
                </a:lnTo>
              </a:path>
              <a:path w="1969" h="1430">
                <a:moveTo>
                  <a:pt x="20002" y="17113"/>
                </a:moveTo>
                <a:cubicBezTo>
                  <a:pt x="20002" y="17194"/>
                  <a:pt x="19982" y="17262"/>
                  <a:pt x="19971" y="17336"/>
                </a:cubicBezTo>
                <a:cubicBezTo>
                  <a:pt x="19958" y="17421"/>
                  <a:pt x="19946" y="17506"/>
                  <a:pt x="19939" y="17590"/>
                </a:cubicBezTo>
                <a:cubicBezTo>
                  <a:pt x="19935" y="17636"/>
                  <a:pt x="19907" y="17762"/>
                  <a:pt x="19907" y="17716"/>
                </a:cubicBezTo>
                <a:cubicBezTo>
                  <a:pt x="19907" y="17695"/>
                  <a:pt x="19970" y="17636"/>
                  <a:pt x="20002" y="17621"/>
                </a:cubicBezTo>
                <a:cubicBezTo>
                  <a:pt x="20045" y="17601"/>
                  <a:pt x="20144" y="17621"/>
                  <a:pt x="20193" y="17621"/>
                </a:cubicBezTo>
              </a:path>
              <a:path w="1969" h="1430">
                <a:moveTo>
                  <a:pt x="20288" y="16954"/>
                </a:moveTo>
                <a:cubicBezTo>
                  <a:pt x="20247" y="17009"/>
                  <a:pt x="20232" y="17108"/>
                  <a:pt x="20225" y="17177"/>
                </a:cubicBezTo>
                <a:cubicBezTo>
                  <a:pt x="20204" y="17382"/>
                  <a:pt x="20136" y="17968"/>
                  <a:pt x="20256" y="18129"/>
                </a:cubicBezTo>
              </a:path>
              <a:path w="1969" h="1430">
                <a:moveTo>
                  <a:pt x="20447" y="17050"/>
                </a:moveTo>
                <a:cubicBezTo>
                  <a:pt x="20415" y="17135"/>
                  <a:pt x="20394" y="17244"/>
                  <a:pt x="20384" y="17336"/>
                </a:cubicBezTo>
                <a:cubicBezTo>
                  <a:pt x="20370" y="17459"/>
                  <a:pt x="20371" y="17600"/>
                  <a:pt x="20415" y="17716"/>
                </a:cubicBezTo>
                <a:cubicBezTo>
                  <a:pt x="20438" y="17776"/>
                  <a:pt x="20479" y="17837"/>
                  <a:pt x="20542" y="17844"/>
                </a:cubicBezTo>
                <a:cubicBezTo>
                  <a:pt x="20614" y="17852"/>
                  <a:pt x="20648" y="17738"/>
                  <a:pt x="20669" y="17685"/>
                </a:cubicBezTo>
                <a:cubicBezTo>
                  <a:pt x="20710" y="17581"/>
                  <a:pt x="20748" y="17473"/>
                  <a:pt x="20764" y="17367"/>
                </a:cubicBezTo>
                <a:cubicBezTo>
                  <a:pt x="20774" y="17303"/>
                  <a:pt x="20774" y="17223"/>
                  <a:pt x="20733" y="17177"/>
                </a:cubicBezTo>
                <a:cubicBezTo>
                  <a:pt x="20689" y="17128"/>
                  <a:pt x="20637" y="17145"/>
                  <a:pt x="20574" y="17145"/>
                </a:cubicBezTo>
                <a:cubicBezTo>
                  <a:pt x="20521" y="17145"/>
                  <a:pt x="20468" y="17145"/>
                  <a:pt x="20415" y="17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23"/>
          <p:cNvSpPr/>
          <p:nvPr/>
        </p:nvSpPr>
        <p:spPr>
          <a:xfrm>
            <a:off x="7807320" y="6103800"/>
            <a:ext cx="822240" cy="571680"/>
          </a:xfrm>
          <a:custGeom>
            <a:avLst/>
            <a:gdLst/>
            <a:ahLst/>
            <a:rect l="l" t="t" r="r" b="b"/>
            <a:pathLst>
              <a:path w="2287" h="1589">
                <a:moveTo>
                  <a:pt x="21749" y="17494"/>
                </a:moveTo>
                <a:cubicBezTo>
                  <a:pt x="21749" y="17458"/>
                  <a:pt x="21752" y="17445"/>
                  <a:pt x="21780" y="17431"/>
                </a:cubicBezTo>
              </a:path>
              <a:path w="2287" h="1589">
                <a:moveTo>
                  <a:pt x="21844" y="17399"/>
                </a:moveTo>
                <a:cubicBezTo>
                  <a:pt x="21889" y="17365"/>
                  <a:pt x="21884" y="17367"/>
                  <a:pt x="21939" y="17367"/>
                </a:cubicBezTo>
                <a:cubicBezTo>
                  <a:pt x="21939" y="17437"/>
                  <a:pt x="21924" y="17458"/>
                  <a:pt x="21908" y="17526"/>
                </a:cubicBezTo>
                <a:cubicBezTo>
                  <a:pt x="21890" y="17602"/>
                  <a:pt x="21876" y="17675"/>
                  <a:pt x="21844" y="17748"/>
                </a:cubicBezTo>
                <a:cubicBezTo>
                  <a:pt x="21810" y="17823"/>
                  <a:pt x="21812" y="17904"/>
                  <a:pt x="21780" y="17970"/>
                </a:cubicBezTo>
                <a:cubicBezTo>
                  <a:pt x="21767" y="17996"/>
                  <a:pt x="21729" y="18119"/>
                  <a:pt x="21717" y="18129"/>
                </a:cubicBezTo>
                <a:cubicBezTo>
                  <a:pt x="21685" y="18129"/>
                  <a:pt x="21674" y="18129"/>
                  <a:pt x="21685" y="18161"/>
                </a:cubicBezTo>
                <a:cubicBezTo>
                  <a:pt x="21757" y="18161"/>
                  <a:pt x="21729" y="18135"/>
                  <a:pt x="21780" y="18129"/>
                </a:cubicBezTo>
                <a:cubicBezTo>
                  <a:pt x="21871" y="18118"/>
                  <a:pt x="21960" y="18153"/>
                  <a:pt x="22034" y="18098"/>
                </a:cubicBezTo>
              </a:path>
              <a:path w="2287" h="1589">
                <a:moveTo>
                  <a:pt x="22193" y="17621"/>
                </a:moveTo>
                <a:cubicBezTo>
                  <a:pt x="22193" y="17668"/>
                  <a:pt x="22202" y="17714"/>
                  <a:pt x="22225" y="17748"/>
                </a:cubicBezTo>
                <a:cubicBezTo>
                  <a:pt x="22263" y="17804"/>
                  <a:pt x="22282" y="17851"/>
                  <a:pt x="22320" y="17907"/>
                </a:cubicBezTo>
                <a:cubicBezTo>
                  <a:pt x="22356" y="17960"/>
                  <a:pt x="22401" y="17972"/>
                  <a:pt x="22416" y="18034"/>
                </a:cubicBezTo>
                <a:cubicBezTo>
                  <a:pt x="22447" y="18034"/>
                  <a:pt x="22458" y="18034"/>
                  <a:pt x="22479" y="18034"/>
                </a:cubicBezTo>
              </a:path>
              <a:path w="2287" h="1589">
                <a:moveTo>
                  <a:pt x="22511" y="17431"/>
                </a:moveTo>
                <a:cubicBezTo>
                  <a:pt x="22474" y="17480"/>
                  <a:pt x="22465" y="17529"/>
                  <a:pt x="22447" y="17590"/>
                </a:cubicBezTo>
                <a:cubicBezTo>
                  <a:pt x="22415" y="17700"/>
                  <a:pt x="22386" y="17799"/>
                  <a:pt x="22352" y="17907"/>
                </a:cubicBezTo>
                <a:cubicBezTo>
                  <a:pt x="22323" y="18001"/>
                  <a:pt x="22293" y="18097"/>
                  <a:pt x="22288" y="18193"/>
                </a:cubicBezTo>
                <a:cubicBezTo>
                  <a:pt x="22288" y="18246"/>
                  <a:pt x="22288" y="18256"/>
                  <a:pt x="22288" y="18288"/>
                </a:cubicBezTo>
              </a:path>
              <a:path w="2287" h="1589">
                <a:moveTo>
                  <a:pt x="22670" y="17685"/>
                </a:moveTo>
                <a:lnTo>
                  <a:pt x="22670" y="17685"/>
                </a:lnTo>
              </a:path>
              <a:path w="2287" h="1589">
                <a:moveTo>
                  <a:pt x="22670" y="17685"/>
                </a:moveTo>
                <a:cubicBezTo>
                  <a:pt x="22691" y="17674"/>
                  <a:pt x="22712" y="17664"/>
                  <a:pt x="22733" y="17653"/>
                </a:cubicBezTo>
              </a:path>
              <a:path w="2287" h="1589">
                <a:moveTo>
                  <a:pt x="22733" y="17653"/>
                </a:moveTo>
                <a:cubicBezTo>
                  <a:pt x="22783" y="17640"/>
                  <a:pt x="22817" y="17621"/>
                  <a:pt x="22860" y="17590"/>
                </a:cubicBezTo>
              </a:path>
              <a:path w="2287" h="1589">
                <a:moveTo>
                  <a:pt x="22733" y="17844"/>
                </a:moveTo>
                <a:cubicBezTo>
                  <a:pt x="22808" y="17844"/>
                  <a:pt x="22866" y="17856"/>
                  <a:pt x="22924" y="17812"/>
                </a:cubicBezTo>
              </a:path>
              <a:path w="2287" h="1589">
                <a:moveTo>
                  <a:pt x="23209" y="17780"/>
                </a:moveTo>
                <a:cubicBezTo>
                  <a:pt x="23166" y="17795"/>
                  <a:pt x="23178" y="17863"/>
                  <a:pt x="23178" y="17812"/>
                </a:cubicBezTo>
              </a:path>
              <a:path w="2287" h="1589">
                <a:moveTo>
                  <a:pt x="23400" y="17240"/>
                </a:moveTo>
                <a:cubicBezTo>
                  <a:pt x="23400" y="17208"/>
                  <a:pt x="23400" y="17177"/>
                  <a:pt x="23400" y="17145"/>
                </a:cubicBezTo>
              </a:path>
              <a:path w="2287" h="1589">
                <a:moveTo>
                  <a:pt x="23400" y="17113"/>
                </a:moveTo>
                <a:cubicBezTo>
                  <a:pt x="23400" y="17082"/>
                  <a:pt x="23400" y="17071"/>
                  <a:pt x="23368" y="17082"/>
                </a:cubicBezTo>
              </a:path>
              <a:path w="2287" h="1589">
                <a:moveTo>
                  <a:pt x="23273" y="17272"/>
                </a:moveTo>
                <a:cubicBezTo>
                  <a:pt x="23247" y="17324"/>
                  <a:pt x="23236" y="17332"/>
                  <a:pt x="23241" y="17367"/>
                </a:cubicBezTo>
                <a:cubicBezTo>
                  <a:pt x="23304" y="17367"/>
                  <a:pt x="23316" y="17353"/>
                  <a:pt x="23368" y="17336"/>
                </a:cubicBezTo>
                <a:cubicBezTo>
                  <a:pt x="23429" y="17316"/>
                  <a:pt x="23445" y="17358"/>
                  <a:pt x="23463" y="17367"/>
                </a:cubicBezTo>
                <a:cubicBezTo>
                  <a:pt x="23532" y="17401"/>
                  <a:pt x="23527" y="17406"/>
                  <a:pt x="23527" y="17494"/>
                </a:cubicBezTo>
                <a:cubicBezTo>
                  <a:pt x="23527" y="17563"/>
                  <a:pt x="23543" y="17612"/>
                  <a:pt x="23463" y="17621"/>
                </a:cubicBezTo>
                <a:cubicBezTo>
                  <a:pt x="23410" y="17627"/>
                  <a:pt x="23385" y="17610"/>
                  <a:pt x="23368" y="17558"/>
                </a:cubicBezTo>
                <a:cubicBezTo>
                  <a:pt x="23348" y="17500"/>
                  <a:pt x="23386" y="17473"/>
                  <a:pt x="23400" y="17431"/>
                </a:cubicBezTo>
                <a:cubicBezTo>
                  <a:pt x="23419" y="17375"/>
                  <a:pt x="23443" y="17333"/>
                  <a:pt x="23463" y="17272"/>
                </a:cubicBezTo>
                <a:cubicBezTo>
                  <a:pt x="23463" y="17236"/>
                  <a:pt x="23466" y="17222"/>
                  <a:pt x="23495" y="17208"/>
                </a:cubicBezTo>
              </a:path>
              <a:path w="2287" h="1589">
                <a:moveTo>
                  <a:pt x="23717" y="16954"/>
                </a:moveTo>
                <a:cubicBezTo>
                  <a:pt x="23703" y="17011"/>
                  <a:pt x="23670" y="17051"/>
                  <a:pt x="23654" y="17113"/>
                </a:cubicBezTo>
                <a:cubicBezTo>
                  <a:pt x="23630" y="17210"/>
                  <a:pt x="23630" y="17451"/>
                  <a:pt x="23686" y="17526"/>
                </a:cubicBezTo>
                <a:cubicBezTo>
                  <a:pt x="23750" y="17526"/>
                  <a:pt x="23749" y="17518"/>
                  <a:pt x="23781" y="17462"/>
                </a:cubicBezTo>
                <a:cubicBezTo>
                  <a:pt x="23828" y="17379"/>
                  <a:pt x="23840" y="17270"/>
                  <a:pt x="23844" y="17177"/>
                </a:cubicBezTo>
                <a:cubicBezTo>
                  <a:pt x="23847" y="17118"/>
                  <a:pt x="23871" y="16993"/>
                  <a:pt x="23812" y="16986"/>
                </a:cubicBezTo>
                <a:cubicBezTo>
                  <a:pt x="23760" y="16979"/>
                  <a:pt x="23757" y="16988"/>
                  <a:pt x="23717" y="17018"/>
                </a:cubicBezTo>
              </a:path>
              <a:path w="2287" h="1589">
                <a:moveTo>
                  <a:pt x="21939" y="18478"/>
                </a:moveTo>
                <a:cubicBezTo>
                  <a:pt x="21929" y="18478"/>
                  <a:pt x="21918" y="18478"/>
                  <a:pt x="21908" y="18478"/>
                </a:cubicBezTo>
                <a:cubicBezTo>
                  <a:pt x="21969" y="18463"/>
                  <a:pt x="21981" y="18417"/>
                  <a:pt x="22034" y="18383"/>
                </a:cubicBezTo>
                <a:cubicBezTo>
                  <a:pt x="22112" y="18334"/>
                  <a:pt x="22159" y="18283"/>
                  <a:pt x="22225" y="18224"/>
                </a:cubicBezTo>
                <a:cubicBezTo>
                  <a:pt x="22299" y="18158"/>
                  <a:pt x="22373" y="18095"/>
                  <a:pt x="22447" y="18034"/>
                </a:cubicBezTo>
                <a:cubicBezTo>
                  <a:pt x="22499" y="17991"/>
                  <a:pt x="22570" y="17893"/>
                  <a:pt x="22638" y="17875"/>
                </a:cubicBezTo>
                <a:cubicBezTo>
                  <a:pt x="22680" y="17864"/>
                  <a:pt x="22750" y="17875"/>
                  <a:pt x="22796" y="17875"/>
                </a:cubicBezTo>
              </a:path>
              <a:path w="2287" h="1589">
                <a:moveTo>
                  <a:pt x="22511" y="18352"/>
                </a:moveTo>
                <a:cubicBezTo>
                  <a:pt x="22441" y="18329"/>
                  <a:pt x="22494" y="18306"/>
                  <a:pt x="22511" y="18256"/>
                </a:cubicBezTo>
                <a:cubicBezTo>
                  <a:pt x="22523" y="18221"/>
                  <a:pt x="22533" y="18198"/>
                  <a:pt x="22574" y="18193"/>
                </a:cubicBezTo>
                <a:cubicBezTo>
                  <a:pt x="22655" y="18183"/>
                  <a:pt x="22622" y="18244"/>
                  <a:pt x="22638" y="18288"/>
                </a:cubicBezTo>
                <a:cubicBezTo>
                  <a:pt x="22667" y="18369"/>
                  <a:pt x="22670" y="18422"/>
                  <a:pt x="22670" y="18510"/>
                </a:cubicBezTo>
                <a:cubicBezTo>
                  <a:pt x="22670" y="18553"/>
                  <a:pt x="22595" y="18542"/>
                  <a:pt x="22638" y="18542"/>
                </a:cubicBezTo>
                <a:cubicBezTo>
                  <a:pt x="22683" y="18542"/>
                  <a:pt x="22763" y="18477"/>
                  <a:pt x="22796" y="18447"/>
                </a:cubicBezTo>
                <a:cubicBezTo>
                  <a:pt x="22807" y="18436"/>
                  <a:pt x="22817" y="18426"/>
                  <a:pt x="22828" y="18415"/>
                </a:cubicBezTo>
              </a:path>
              <a:path w="2287" h="1589">
                <a:moveTo>
                  <a:pt x="23336" y="17939"/>
                </a:moveTo>
                <a:cubicBezTo>
                  <a:pt x="23412" y="17920"/>
                  <a:pt x="23372" y="17874"/>
                  <a:pt x="23432" y="17844"/>
                </a:cubicBezTo>
                <a:cubicBezTo>
                  <a:pt x="23484" y="17818"/>
                  <a:pt x="23545" y="17788"/>
                  <a:pt x="23590" y="17748"/>
                </a:cubicBezTo>
                <a:cubicBezTo>
                  <a:pt x="23643" y="17701"/>
                  <a:pt x="23698" y="17672"/>
                  <a:pt x="23749" y="17621"/>
                </a:cubicBezTo>
                <a:cubicBezTo>
                  <a:pt x="23808" y="17563"/>
                  <a:pt x="23841" y="17571"/>
                  <a:pt x="23908" y="17526"/>
                </a:cubicBezTo>
                <a:cubicBezTo>
                  <a:pt x="23968" y="17486"/>
                  <a:pt x="23914" y="17482"/>
                  <a:pt x="23971" y="17462"/>
                </a:cubicBezTo>
              </a:path>
              <a:path w="2287" h="1589">
                <a:moveTo>
                  <a:pt x="23686" y="17875"/>
                </a:moveTo>
                <a:cubicBezTo>
                  <a:pt x="23729" y="17843"/>
                  <a:pt x="23739" y="17802"/>
                  <a:pt x="23781" y="17780"/>
                </a:cubicBezTo>
                <a:cubicBezTo>
                  <a:pt x="23812" y="17780"/>
                  <a:pt x="23823" y="17780"/>
                  <a:pt x="23844" y="17780"/>
                </a:cubicBezTo>
                <a:cubicBezTo>
                  <a:pt x="23844" y="17856"/>
                  <a:pt x="23831" y="17907"/>
                  <a:pt x="23812" y="17970"/>
                </a:cubicBezTo>
                <a:cubicBezTo>
                  <a:pt x="23801" y="18005"/>
                  <a:pt x="23812" y="18061"/>
                  <a:pt x="23812" y="18098"/>
                </a:cubicBezTo>
                <a:cubicBezTo>
                  <a:pt x="23835" y="18029"/>
                  <a:pt x="23852" y="18097"/>
                  <a:pt x="23908" y="18066"/>
                </a:cubicBezTo>
                <a:cubicBezTo>
                  <a:pt x="23919" y="18055"/>
                  <a:pt x="23929" y="18045"/>
                  <a:pt x="23940" y="18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24"/>
          <p:cNvSpPr/>
          <p:nvPr/>
        </p:nvSpPr>
        <p:spPr>
          <a:xfrm>
            <a:off x="7007400" y="3932280"/>
            <a:ext cx="1954080" cy="228600"/>
          </a:xfrm>
          <a:custGeom>
            <a:avLst/>
            <a:gdLst/>
            <a:ahLst/>
            <a:rect l="l" t="t" r="r" b="b"/>
            <a:pathLst>
              <a:path w="5430" h="636">
                <a:moveTo>
                  <a:pt x="24892" y="10954"/>
                </a:moveTo>
                <a:cubicBezTo>
                  <a:pt x="24814" y="10937"/>
                  <a:pt x="24887" y="10933"/>
                  <a:pt x="24797" y="10954"/>
                </a:cubicBezTo>
                <a:cubicBezTo>
                  <a:pt x="24735" y="10968"/>
                  <a:pt x="24725" y="10996"/>
                  <a:pt x="24670" y="11017"/>
                </a:cubicBezTo>
                <a:cubicBezTo>
                  <a:pt x="24607" y="11041"/>
                  <a:pt x="24484" y="11072"/>
                  <a:pt x="24416" y="11081"/>
                </a:cubicBezTo>
                <a:cubicBezTo>
                  <a:pt x="24088" y="11124"/>
                  <a:pt x="23723" y="11076"/>
                  <a:pt x="23400" y="11049"/>
                </a:cubicBezTo>
                <a:cubicBezTo>
                  <a:pt x="23220" y="11034"/>
                  <a:pt x="23039" y="11042"/>
                  <a:pt x="22860" y="11017"/>
                </a:cubicBezTo>
                <a:cubicBezTo>
                  <a:pt x="22656" y="10988"/>
                  <a:pt x="22464" y="10986"/>
                  <a:pt x="22257" y="10986"/>
                </a:cubicBezTo>
                <a:cubicBezTo>
                  <a:pt x="22020" y="10986"/>
                  <a:pt x="21793" y="11004"/>
                  <a:pt x="21558" y="11017"/>
                </a:cubicBezTo>
                <a:cubicBezTo>
                  <a:pt x="21315" y="11030"/>
                  <a:pt x="21070" y="11055"/>
                  <a:pt x="20828" y="11081"/>
                </a:cubicBezTo>
                <a:cubicBezTo>
                  <a:pt x="20559" y="11110"/>
                  <a:pt x="20291" y="11222"/>
                  <a:pt x="20034" y="11303"/>
                </a:cubicBezTo>
                <a:cubicBezTo>
                  <a:pt x="19831" y="11367"/>
                  <a:pt x="19653" y="11462"/>
                  <a:pt x="19463" y="11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anie and Karen are saving money to purchase a stove for their mom.  Stephanie has $140 and deposits $30 each day.  Karen has $100 and deposits an additional $30 per day.  After how many days will the sisters have the same amount of money sa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4"/>
          <p:cNvSpPr/>
          <p:nvPr/>
        </p:nvSpPr>
        <p:spPr>
          <a:xfrm>
            <a:off x="2092320" y="3406680"/>
            <a:ext cx="2011320" cy="639720"/>
          </a:xfrm>
          <a:custGeom>
            <a:avLst/>
            <a:gdLst/>
            <a:ahLst/>
            <a:rect l="l" t="t" r="r" b="b"/>
            <a:pathLst>
              <a:path w="5589" h="1779">
                <a:moveTo>
                  <a:pt x="6318" y="9938"/>
                </a:moveTo>
                <a:cubicBezTo>
                  <a:pt x="6366" y="9890"/>
                  <a:pt x="6382" y="9879"/>
                  <a:pt x="6382" y="9811"/>
                </a:cubicBezTo>
                <a:cubicBezTo>
                  <a:pt x="6382" y="9738"/>
                  <a:pt x="6393" y="9684"/>
                  <a:pt x="6350" y="9620"/>
                </a:cubicBezTo>
                <a:cubicBezTo>
                  <a:pt x="6319" y="9574"/>
                  <a:pt x="6244" y="9506"/>
                  <a:pt x="6191" y="9493"/>
                </a:cubicBezTo>
                <a:cubicBezTo>
                  <a:pt x="6110" y="9474"/>
                  <a:pt x="6000" y="9491"/>
                  <a:pt x="5937" y="9525"/>
                </a:cubicBezTo>
                <a:cubicBezTo>
                  <a:pt x="5859" y="9567"/>
                  <a:pt x="5820" y="9550"/>
                  <a:pt x="5810" y="9652"/>
                </a:cubicBezTo>
                <a:cubicBezTo>
                  <a:pt x="5803" y="9721"/>
                  <a:pt x="5841" y="9750"/>
                  <a:pt x="5874" y="9811"/>
                </a:cubicBezTo>
                <a:cubicBezTo>
                  <a:pt x="5921" y="9898"/>
                  <a:pt x="6027" y="9986"/>
                  <a:pt x="6096" y="10065"/>
                </a:cubicBezTo>
                <a:cubicBezTo>
                  <a:pt x="6197" y="10182"/>
                  <a:pt x="6229" y="10273"/>
                  <a:pt x="6286" y="10414"/>
                </a:cubicBezTo>
                <a:cubicBezTo>
                  <a:pt x="6313" y="10479"/>
                  <a:pt x="6346" y="10595"/>
                  <a:pt x="6318" y="10668"/>
                </a:cubicBezTo>
                <a:cubicBezTo>
                  <a:pt x="6292" y="10735"/>
                  <a:pt x="6220" y="10783"/>
                  <a:pt x="6160" y="10795"/>
                </a:cubicBezTo>
                <a:cubicBezTo>
                  <a:pt x="6053" y="10817"/>
                  <a:pt x="6000" y="10761"/>
                  <a:pt x="5906" y="10732"/>
                </a:cubicBezTo>
                <a:cubicBezTo>
                  <a:pt x="5886" y="10726"/>
                  <a:pt x="5803" y="10634"/>
                  <a:pt x="5810" y="10604"/>
                </a:cubicBezTo>
                <a:cubicBezTo>
                  <a:pt x="5815" y="10584"/>
                  <a:pt x="5865" y="10499"/>
                  <a:pt x="5874" y="10478"/>
                </a:cubicBezTo>
              </a:path>
              <a:path w="5589" h="1779">
                <a:moveTo>
                  <a:pt x="6763" y="9462"/>
                </a:moveTo>
                <a:cubicBezTo>
                  <a:pt x="6763" y="9812"/>
                  <a:pt x="6748" y="10166"/>
                  <a:pt x="6794" y="10509"/>
                </a:cubicBezTo>
                <a:cubicBezTo>
                  <a:pt x="6795" y="10519"/>
                  <a:pt x="6809" y="10716"/>
                  <a:pt x="6763" y="10700"/>
                </a:cubicBezTo>
                <a:cubicBezTo>
                  <a:pt x="6763" y="10689"/>
                  <a:pt x="6763" y="10679"/>
                  <a:pt x="6763" y="10668"/>
                </a:cubicBezTo>
              </a:path>
              <a:path w="5589" h="1779">
                <a:moveTo>
                  <a:pt x="6477" y="10160"/>
                </a:moveTo>
                <a:cubicBezTo>
                  <a:pt x="6646" y="10160"/>
                  <a:pt x="6816" y="10160"/>
                  <a:pt x="6985" y="10160"/>
                </a:cubicBezTo>
              </a:path>
              <a:path w="5589" h="1779">
                <a:moveTo>
                  <a:pt x="7176" y="10192"/>
                </a:moveTo>
                <a:cubicBezTo>
                  <a:pt x="7255" y="10192"/>
                  <a:pt x="7291" y="10179"/>
                  <a:pt x="7366" y="10160"/>
                </a:cubicBezTo>
                <a:cubicBezTo>
                  <a:pt x="7431" y="10144"/>
                  <a:pt x="7499" y="10145"/>
                  <a:pt x="7556" y="10128"/>
                </a:cubicBezTo>
                <a:cubicBezTo>
                  <a:pt x="7601" y="10114"/>
                  <a:pt x="7647" y="10108"/>
                  <a:pt x="7652" y="10065"/>
                </a:cubicBezTo>
                <a:cubicBezTo>
                  <a:pt x="7659" y="10009"/>
                  <a:pt x="7656" y="9978"/>
                  <a:pt x="7620" y="9938"/>
                </a:cubicBezTo>
                <a:cubicBezTo>
                  <a:pt x="7553" y="9863"/>
                  <a:pt x="7498" y="9935"/>
                  <a:pt x="7430" y="9970"/>
                </a:cubicBezTo>
                <a:cubicBezTo>
                  <a:pt x="7320" y="10028"/>
                  <a:pt x="7250" y="10141"/>
                  <a:pt x="7207" y="10255"/>
                </a:cubicBezTo>
                <a:cubicBezTo>
                  <a:pt x="7164" y="10367"/>
                  <a:pt x="7142" y="10488"/>
                  <a:pt x="7239" y="10573"/>
                </a:cubicBezTo>
                <a:cubicBezTo>
                  <a:pt x="7310" y="10635"/>
                  <a:pt x="7467" y="10684"/>
                  <a:pt x="7556" y="10700"/>
                </a:cubicBezTo>
                <a:cubicBezTo>
                  <a:pt x="7620" y="10712"/>
                  <a:pt x="7684" y="10676"/>
                  <a:pt x="7747" y="10668"/>
                </a:cubicBezTo>
              </a:path>
              <a:path w="5589" h="1779">
                <a:moveTo>
                  <a:pt x="7969" y="10096"/>
                </a:moveTo>
                <a:lnTo>
                  <a:pt x="7969" y="10096"/>
                </a:lnTo>
              </a:path>
              <a:path w="5589" h="1779">
                <a:moveTo>
                  <a:pt x="7969" y="10096"/>
                </a:moveTo>
                <a:lnTo>
                  <a:pt x="7969" y="10096"/>
                </a:lnTo>
              </a:path>
              <a:path w="5589" h="1779">
                <a:moveTo>
                  <a:pt x="7969" y="10128"/>
                </a:moveTo>
                <a:cubicBezTo>
                  <a:pt x="7969" y="10466"/>
                  <a:pt x="7949" y="10818"/>
                  <a:pt x="8001" y="11144"/>
                </a:cubicBezTo>
                <a:cubicBezTo>
                  <a:pt x="8008" y="11186"/>
                  <a:pt x="8001" y="11251"/>
                  <a:pt x="8001" y="11208"/>
                </a:cubicBezTo>
              </a:path>
              <a:path w="5589" h="1779">
                <a:moveTo>
                  <a:pt x="7906" y="10065"/>
                </a:moveTo>
                <a:cubicBezTo>
                  <a:pt x="7939" y="9988"/>
                  <a:pt x="7938" y="9944"/>
                  <a:pt x="8033" y="9938"/>
                </a:cubicBezTo>
                <a:cubicBezTo>
                  <a:pt x="8153" y="9930"/>
                  <a:pt x="8199" y="9951"/>
                  <a:pt x="8287" y="10033"/>
                </a:cubicBezTo>
                <a:cubicBezTo>
                  <a:pt x="8362" y="10103"/>
                  <a:pt x="8432" y="10209"/>
                  <a:pt x="8414" y="10319"/>
                </a:cubicBezTo>
                <a:cubicBezTo>
                  <a:pt x="8393" y="10443"/>
                  <a:pt x="8327" y="10515"/>
                  <a:pt x="8223" y="10573"/>
                </a:cubicBezTo>
                <a:cubicBezTo>
                  <a:pt x="8169" y="10603"/>
                  <a:pt x="8033" y="10700"/>
                  <a:pt x="7969" y="10668"/>
                </a:cubicBezTo>
                <a:cubicBezTo>
                  <a:pt x="7924" y="10646"/>
                  <a:pt x="7946" y="10572"/>
                  <a:pt x="7969" y="10541"/>
                </a:cubicBezTo>
              </a:path>
              <a:path w="5589" h="1779">
                <a:moveTo>
                  <a:pt x="8604" y="9620"/>
                </a:moveTo>
                <a:cubicBezTo>
                  <a:pt x="8604" y="9933"/>
                  <a:pt x="8637" y="10273"/>
                  <a:pt x="8572" y="10573"/>
                </a:cubicBezTo>
                <a:cubicBezTo>
                  <a:pt x="8572" y="10583"/>
                  <a:pt x="8572" y="10594"/>
                  <a:pt x="8572" y="10604"/>
                </a:cubicBezTo>
                <a:cubicBezTo>
                  <a:pt x="8572" y="10679"/>
                  <a:pt x="8566" y="10415"/>
                  <a:pt x="8572" y="10382"/>
                </a:cubicBezTo>
                <a:cubicBezTo>
                  <a:pt x="8598" y="10245"/>
                  <a:pt x="8639" y="10103"/>
                  <a:pt x="8731" y="10001"/>
                </a:cubicBezTo>
                <a:cubicBezTo>
                  <a:pt x="8762" y="9967"/>
                  <a:pt x="8900" y="9884"/>
                  <a:pt x="8954" y="9938"/>
                </a:cubicBezTo>
                <a:cubicBezTo>
                  <a:pt x="9033" y="10017"/>
                  <a:pt x="9017" y="10120"/>
                  <a:pt x="9017" y="10224"/>
                </a:cubicBezTo>
                <a:cubicBezTo>
                  <a:pt x="9017" y="10335"/>
                  <a:pt x="8985" y="10426"/>
                  <a:pt x="8985" y="10541"/>
                </a:cubicBezTo>
                <a:cubicBezTo>
                  <a:pt x="8985" y="10594"/>
                  <a:pt x="8985" y="10604"/>
                  <a:pt x="8985" y="10636"/>
                </a:cubicBezTo>
              </a:path>
              <a:path w="5589" h="1779">
                <a:moveTo>
                  <a:pt x="9557" y="10033"/>
                </a:moveTo>
                <a:cubicBezTo>
                  <a:pt x="9544" y="9981"/>
                  <a:pt x="9520" y="9945"/>
                  <a:pt x="9462" y="9938"/>
                </a:cubicBezTo>
                <a:cubicBezTo>
                  <a:pt x="9367" y="9927"/>
                  <a:pt x="9303" y="10058"/>
                  <a:pt x="9271" y="10128"/>
                </a:cubicBezTo>
                <a:cubicBezTo>
                  <a:pt x="9217" y="10244"/>
                  <a:pt x="9153" y="10445"/>
                  <a:pt x="9176" y="10573"/>
                </a:cubicBezTo>
                <a:cubicBezTo>
                  <a:pt x="9194" y="10673"/>
                  <a:pt x="9262" y="10685"/>
                  <a:pt x="9334" y="10636"/>
                </a:cubicBezTo>
                <a:cubicBezTo>
                  <a:pt x="9438" y="10566"/>
                  <a:pt x="9456" y="10461"/>
                  <a:pt x="9493" y="10350"/>
                </a:cubicBezTo>
                <a:cubicBezTo>
                  <a:pt x="9504" y="10318"/>
                  <a:pt x="9514" y="10287"/>
                  <a:pt x="9525" y="10255"/>
                </a:cubicBezTo>
              </a:path>
              <a:path w="5589" h="1779">
                <a:moveTo>
                  <a:pt x="9557" y="10160"/>
                </a:moveTo>
                <a:cubicBezTo>
                  <a:pt x="9597" y="10105"/>
                  <a:pt x="9598" y="10120"/>
                  <a:pt x="9557" y="10065"/>
                </a:cubicBezTo>
                <a:cubicBezTo>
                  <a:pt x="9557" y="10135"/>
                  <a:pt x="9513" y="10185"/>
                  <a:pt x="9525" y="10255"/>
                </a:cubicBezTo>
                <a:cubicBezTo>
                  <a:pt x="9542" y="10349"/>
                  <a:pt x="9566" y="10459"/>
                  <a:pt x="9588" y="10541"/>
                </a:cubicBezTo>
                <a:cubicBezTo>
                  <a:pt x="9588" y="10577"/>
                  <a:pt x="9591" y="10591"/>
                  <a:pt x="9620" y="10604"/>
                </a:cubicBezTo>
              </a:path>
              <a:path w="5589" h="1779">
                <a:moveTo>
                  <a:pt x="9906" y="9970"/>
                </a:moveTo>
                <a:cubicBezTo>
                  <a:pt x="9906" y="10095"/>
                  <a:pt x="9888" y="10200"/>
                  <a:pt x="9874" y="10319"/>
                </a:cubicBezTo>
                <a:cubicBezTo>
                  <a:pt x="9863" y="10415"/>
                  <a:pt x="9851" y="10513"/>
                  <a:pt x="9842" y="10604"/>
                </a:cubicBezTo>
                <a:cubicBezTo>
                  <a:pt x="9842" y="10615"/>
                  <a:pt x="9842" y="10625"/>
                  <a:pt x="9842" y="10636"/>
                </a:cubicBezTo>
                <a:cubicBezTo>
                  <a:pt x="9879" y="10624"/>
                  <a:pt x="9899" y="10533"/>
                  <a:pt x="9906" y="10478"/>
                </a:cubicBezTo>
                <a:cubicBezTo>
                  <a:pt x="9924" y="10340"/>
                  <a:pt x="9940" y="10224"/>
                  <a:pt x="10001" y="10096"/>
                </a:cubicBezTo>
                <a:cubicBezTo>
                  <a:pt x="10023" y="10049"/>
                  <a:pt x="10067" y="9923"/>
                  <a:pt x="10128" y="9906"/>
                </a:cubicBezTo>
                <a:cubicBezTo>
                  <a:pt x="10195" y="9887"/>
                  <a:pt x="10251" y="9915"/>
                  <a:pt x="10287" y="9970"/>
                </a:cubicBezTo>
                <a:cubicBezTo>
                  <a:pt x="10349" y="10065"/>
                  <a:pt x="10319" y="10210"/>
                  <a:pt x="10319" y="10319"/>
                </a:cubicBezTo>
                <a:cubicBezTo>
                  <a:pt x="10319" y="10391"/>
                  <a:pt x="10288" y="10574"/>
                  <a:pt x="10350" y="10636"/>
                </a:cubicBezTo>
                <a:cubicBezTo>
                  <a:pt x="10361" y="10636"/>
                  <a:pt x="10371" y="10636"/>
                  <a:pt x="10382" y="10636"/>
                </a:cubicBezTo>
              </a:path>
              <a:path w="5589" h="1779">
                <a:moveTo>
                  <a:pt x="10636" y="9970"/>
                </a:moveTo>
                <a:cubicBezTo>
                  <a:pt x="10653" y="10054"/>
                  <a:pt x="10684" y="10132"/>
                  <a:pt x="10668" y="10224"/>
                </a:cubicBezTo>
                <a:cubicBezTo>
                  <a:pt x="10643" y="10366"/>
                  <a:pt x="10636" y="10492"/>
                  <a:pt x="10636" y="10636"/>
                </a:cubicBezTo>
                <a:cubicBezTo>
                  <a:pt x="10636" y="10704"/>
                  <a:pt x="10654" y="10708"/>
                  <a:pt x="10668" y="10763"/>
                </a:cubicBezTo>
              </a:path>
              <a:path w="5589" h="1779">
                <a:moveTo>
                  <a:pt x="10986" y="10224"/>
                </a:moveTo>
                <a:cubicBezTo>
                  <a:pt x="11042" y="10213"/>
                  <a:pt x="11084" y="10192"/>
                  <a:pt x="11144" y="10192"/>
                </a:cubicBezTo>
                <a:cubicBezTo>
                  <a:pt x="11230" y="10192"/>
                  <a:pt x="11255" y="10167"/>
                  <a:pt x="11335" y="10160"/>
                </a:cubicBezTo>
                <a:cubicBezTo>
                  <a:pt x="11401" y="10154"/>
                  <a:pt x="11398" y="10122"/>
                  <a:pt x="11398" y="10065"/>
                </a:cubicBezTo>
                <a:cubicBezTo>
                  <a:pt x="11398" y="9946"/>
                  <a:pt x="11339" y="9973"/>
                  <a:pt x="11271" y="9938"/>
                </a:cubicBezTo>
                <a:cubicBezTo>
                  <a:pt x="11203" y="9903"/>
                  <a:pt x="11106" y="9929"/>
                  <a:pt x="11049" y="10001"/>
                </a:cubicBezTo>
                <a:cubicBezTo>
                  <a:pt x="10963" y="10110"/>
                  <a:pt x="10903" y="10274"/>
                  <a:pt x="10922" y="10414"/>
                </a:cubicBezTo>
                <a:cubicBezTo>
                  <a:pt x="10942" y="10562"/>
                  <a:pt x="10995" y="10622"/>
                  <a:pt x="11112" y="10668"/>
                </a:cubicBezTo>
                <a:cubicBezTo>
                  <a:pt x="11226" y="10713"/>
                  <a:pt x="11277" y="10651"/>
                  <a:pt x="11366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5"/>
          <p:cNvSpPr/>
          <p:nvPr/>
        </p:nvSpPr>
        <p:spPr>
          <a:xfrm>
            <a:off x="4264200" y="3611520"/>
            <a:ext cx="45720" cy="241200"/>
          </a:xfrm>
          <a:custGeom>
            <a:avLst/>
            <a:gdLst/>
            <a:ahLst/>
            <a:rect l="l" t="t" r="r" b="b"/>
            <a:pathLst>
              <a:path w="128" h="668">
                <a:moveTo>
                  <a:pt x="11938" y="10065"/>
                </a:moveTo>
                <a:cubicBezTo>
                  <a:pt x="11905" y="10043"/>
                  <a:pt x="11873" y="10060"/>
                  <a:pt x="11843" y="10128"/>
                </a:cubicBezTo>
                <a:cubicBezTo>
                  <a:pt x="11824" y="10171"/>
                  <a:pt x="11867" y="10122"/>
                  <a:pt x="11906" y="10096"/>
                </a:cubicBezTo>
                <a:cubicBezTo>
                  <a:pt x="11917" y="10096"/>
                  <a:pt x="11927" y="10096"/>
                  <a:pt x="11938" y="10096"/>
                </a:cubicBezTo>
                <a:cubicBezTo>
                  <a:pt x="11895" y="10110"/>
                  <a:pt x="11901" y="10146"/>
                  <a:pt x="11874" y="10160"/>
                </a:cubicBezTo>
                <a:cubicBezTo>
                  <a:pt x="11843" y="10160"/>
                  <a:pt x="11832" y="10160"/>
                  <a:pt x="11843" y="10192"/>
                </a:cubicBezTo>
              </a:path>
              <a:path w="128" h="668">
                <a:moveTo>
                  <a:pt x="11938" y="10604"/>
                </a:moveTo>
                <a:cubicBezTo>
                  <a:pt x="11938" y="10549"/>
                  <a:pt x="11928" y="10529"/>
                  <a:pt x="11906" y="10573"/>
                </a:cubicBezTo>
                <a:cubicBezTo>
                  <a:pt x="11885" y="10614"/>
                  <a:pt x="11874" y="10649"/>
                  <a:pt x="11874" y="10700"/>
                </a:cubicBezTo>
                <a:cubicBezTo>
                  <a:pt x="11923" y="10684"/>
                  <a:pt x="11911" y="10672"/>
                  <a:pt x="11938" y="10636"/>
                </a:cubicBezTo>
                <a:cubicBezTo>
                  <a:pt x="11967" y="10607"/>
                  <a:pt x="11977" y="10601"/>
                  <a:pt x="11970" y="10573"/>
                </a:cubicBezTo>
                <a:cubicBezTo>
                  <a:pt x="11945" y="10598"/>
                  <a:pt x="11878" y="10660"/>
                  <a:pt x="11874" y="10668"/>
                </a:cubicBezTo>
                <a:cubicBezTo>
                  <a:pt x="11874" y="10679"/>
                  <a:pt x="11874" y="10689"/>
                  <a:pt x="11874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6"/>
          <p:cNvSpPr/>
          <p:nvPr/>
        </p:nvSpPr>
        <p:spPr>
          <a:xfrm>
            <a:off x="4675320" y="3336840"/>
            <a:ext cx="1782720" cy="801720"/>
          </a:xfrm>
          <a:custGeom>
            <a:avLst/>
            <a:gdLst/>
            <a:ahLst/>
            <a:rect l="l" t="t" r="r" b="b"/>
            <a:pathLst>
              <a:path w="4954" h="2224">
                <a:moveTo>
                  <a:pt x="13144" y="9525"/>
                </a:moveTo>
                <a:lnTo>
                  <a:pt x="13144" y="9525"/>
                </a:lnTo>
              </a:path>
              <a:path w="4954" h="2224">
                <a:moveTo>
                  <a:pt x="13144" y="9525"/>
                </a:moveTo>
                <a:cubicBezTo>
                  <a:pt x="13134" y="9536"/>
                  <a:pt x="13123" y="9546"/>
                  <a:pt x="13113" y="9557"/>
                </a:cubicBezTo>
              </a:path>
              <a:path w="4954" h="2224">
                <a:moveTo>
                  <a:pt x="13113" y="9557"/>
                </a:moveTo>
                <a:cubicBezTo>
                  <a:pt x="13113" y="9643"/>
                  <a:pt x="13094" y="9700"/>
                  <a:pt x="13081" y="9779"/>
                </a:cubicBezTo>
                <a:cubicBezTo>
                  <a:pt x="13067" y="9864"/>
                  <a:pt x="13113" y="9971"/>
                  <a:pt x="13113" y="10065"/>
                </a:cubicBezTo>
                <a:cubicBezTo>
                  <a:pt x="13113" y="10169"/>
                  <a:pt x="13099" y="10265"/>
                  <a:pt x="13144" y="10350"/>
                </a:cubicBezTo>
                <a:cubicBezTo>
                  <a:pt x="13169" y="10397"/>
                  <a:pt x="13159" y="10432"/>
                  <a:pt x="13208" y="10446"/>
                </a:cubicBezTo>
                <a:cubicBezTo>
                  <a:pt x="13240" y="10446"/>
                  <a:pt x="13251" y="10446"/>
                  <a:pt x="13272" y="10446"/>
                </a:cubicBezTo>
                <a:cubicBezTo>
                  <a:pt x="13298" y="10380"/>
                  <a:pt x="13317" y="10320"/>
                  <a:pt x="13335" y="10255"/>
                </a:cubicBezTo>
                <a:cubicBezTo>
                  <a:pt x="13367" y="10138"/>
                  <a:pt x="13393" y="10028"/>
                  <a:pt x="13398" y="9906"/>
                </a:cubicBezTo>
                <a:cubicBezTo>
                  <a:pt x="13402" y="9813"/>
                  <a:pt x="13415" y="9739"/>
                  <a:pt x="13430" y="9652"/>
                </a:cubicBezTo>
                <a:cubicBezTo>
                  <a:pt x="13430" y="9641"/>
                  <a:pt x="13430" y="9631"/>
                  <a:pt x="13430" y="9620"/>
                </a:cubicBezTo>
                <a:cubicBezTo>
                  <a:pt x="13410" y="9681"/>
                  <a:pt x="13411" y="9635"/>
                  <a:pt x="13430" y="9747"/>
                </a:cubicBezTo>
                <a:cubicBezTo>
                  <a:pt x="13457" y="9907"/>
                  <a:pt x="13446" y="10094"/>
                  <a:pt x="13462" y="10255"/>
                </a:cubicBezTo>
                <a:cubicBezTo>
                  <a:pt x="13477" y="10413"/>
                  <a:pt x="13490" y="10574"/>
                  <a:pt x="13494" y="10732"/>
                </a:cubicBezTo>
                <a:cubicBezTo>
                  <a:pt x="13498" y="10880"/>
                  <a:pt x="13494" y="11034"/>
                  <a:pt x="13462" y="11176"/>
                </a:cubicBezTo>
                <a:cubicBezTo>
                  <a:pt x="13435" y="11298"/>
                  <a:pt x="13385" y="11403"/>
                  <a:pt x="13272" y="11462"/>
                </a:cubicBezTo>
                <a:cubicBezTo>
                  <a:pt x="13204" y="11497"/>
                  <a:pt x="13132" y="11502"/>
                  <a:pt x="13081" y="11430"/>
                </a:cubicBezTo>
                <a:cubicBezTo>
                  <a:pt x="12991" y="11303"/>
                  <a:pt x="12986" y="11166"/>
                  <a:pt x="12986" y="11017"/>
                </a:cubicBezTo>
              </a:path>
              <a:path w="4954" h="2224">
                <a:moveTo>
                  <a:pt x="13652" y="9970"/>
                </a:moveTo>
                <a:cubicBezTo>
                  <a:pt x="13758" y="9970"/>
                  <a:pt x="13838" y="9961"/>
                  <a:pt x="13938" y="9938"/>
                </a:cubicBezTo>
                <a:cubicBezTo>
                  <a:pt x="14004" y="9923"/>
                  <a:pt x="14031" y="9959"/>
                  <a:pt x="14065" y="9906"/>
                </a:cubicBezTo>
              </a:path>
              <a:path w="4954" h="2224">
                <a:moveTo>
                  <a:pt x="13811" y="10319"/>
                </a:moveTo>
                <a:cubicBezTo>
                  <a:pt x="13880" y="10319"/>
                  <a:pt x="13916" y="10299"/>
                  <a:pt x="13970" y="10287"/>
                </a:cubicBezTo>
                <a:cubicBezTo>
                  <a:pt x="14024" y="10275"/>
                  <a:pt x="14075" y="10266"/>
                  <a:pt x="14129" y="10255"/>
                </a:cubicBezTo>
              </a:path>
              <a:path w="4954" h="2224">
                <a:moveTo>
                  <a:pt x="14478" y="9557"/>
                </a:moveTo>
                <a:cubicBezTo>
                  <a:pt x="14535" y="9486"/>
                  <a:pt x="14549" y="9403"/>
                  <a:pt x="14637" y="9366"/>
                </a:cubicBezTo>
                <a:cubicBezTo>
                  <a:pt x="14681" y="9347"/>
                  <a:pt x="14768" y="9357"/>
                  <a:pt x="14796" y="9398"/>
                </a:cubicBezTo>
                <a:cubicBezTo>
                  <a:pt x="14840" y="9462"/>
                  <a:pt x="14844" y="9610"/>
                  <a:pt x="14827" y="9684"/>
                </a:cubicBezTo>
                <a:cubicBezTo>
                  <a:pt x="14801" y="9798"/>
                  <a:pt x="14722" y="9873"/>
                  <a:pt x="14668" y="9970"/>
                </a:cubicBezTo>
                <a:cubicBezTo>
                  <a:pt x="14630" y="10038"/>
                  <a:pt x="14657" y="10048"/>
                  <a:pt x="14605" y="10065"/>
                </a:cubicBezTo>
                <a:cubicBezTo>
                  <a:pt x="14617" y="10018"/>
                  <a:pt x="14661" y="9943"/>
                  <a:pt x="14700" y="9938"/>
                </a:cubicBezTo>
                <a:cubicBezTo>
                  <a:pt x="14765" y="9930"/>
                  <a:pt x="14783" y="9957"/>
                  <a:pt x="14827" y="10001"/>
                </a:cubicBezTo>
                <a:cubicBezTo>
                  <a:pt x="14876" y="10050"/>
                  <a:pt x="14918" y="10086"/>
                  <a:pt x="14922" y="10160"/>
                </a:cubicBezTo>
                <a:cubicBezTo>
                  <a:pt x="14928" y="10273"/>
                  <a:pt x="14871" y="10375"/>
                  <a:pt x="14827" y="10478"/>
                </a:cubicBezTo>
                <a:cubicBezTo>
                  <a:pt x="14786" y="10575"/>
                  <a:pt x="14710" y="10638"/>
                  <a:pt x="14637" y="10700"/>
                </a:cubicBezTo>
                <a:cubicBezTo>
                  <a:pt x="14582" y="10746"/>
                  <a:pt x="14536" y="10747"/>
                  <a:pt x="14478" y="10700"/>
                </a:cubicBezTo>
                <a:cubicBezTo>
                  <a:pt x="14449" y="10671"/>
                  <a:pt x="14438" y="10665"/>
                  <a:pt x="14446" y="10636"/>
                </a:cubicBezTo>
              </a:path>
              <a:path w="4954" h="2224">
                <a:moveTo>
                  <a:pt x="15113" y="9588"/>
                </a:moveTo>
                <a:cubicBezTo>
                  <a:pt x="15113" y="9578"/>
                  <a:pt x="15113" y="9567"/>
                  <a:pt x="15113" y="9557"/>
                </a:cubicBezTo>
              </a:path>
              <a:path w="4954" h="2224">
                <a:moveTo>
                  <a:pt x="15113" y="9588"/>
                </a:moveTo>
                <a:lnTo>
                  <a:pt x="15113" y="9588"/>
                </a:lnTo>
              </a:path>
              <a:path w="4954" h="2224">
                <a:moveTo>
                  <a:pt x="15113" y="9557"/>
                </a:moveTo>
                <a:cubicBezTo>
                  <a:pt x="15098" y="9687"/>
                  <a:pt x="15051" y="9810"/>
                  <a:pt x="15018" y="9938"/>
                </a:cubicBezTo>
                <a:cubicBezTo>
                  <a:pt x="14979" y="10089"/>
                  <a:pt x="14960" y="10289"/>
                  <a:pt x="14986" y="10446"/>
                </a:cubicBezTo>
                <a:cubicBezTo>
                  <a:pt x="14995" y="10497"/>
                  <a:pt x="15016" y="10677"/>
                  <a:pt x="15081" y="10700"/>
                </a:cubicBezTo>
                <a:cubicBezTo>
                  <a:pt x="15138" y="10721"/>
                  <a:pt x="15236" y="10678"/>
                  <a:pt x="15272" y="10636"/>
                </a:cubicBezTo>
                <a:cubicBezTo>
                  <a:pt x="15345" y="10552"/>
                  <a:pt x="15363" y="10423"/>
                  <a:pt x="15367" y="10319"/>
                </a:cubicBezTo>
                <a:cubicBezTo>
                  <a:pt x="15374" y="10129"/>
                  <a:pt x="15383" y="9931"/>
                  <a:pt x="15335" y="9747"/>
                </a:cubicBezTo>
                <a:cubicBezTo>
                  <a:pt x="15322" y="9698"/>
                  <a:pt x="15273" y="9575"/>
                  <a:pt x="15208" y="9557"/>
                </a:cubicBezTo>
                <a:cubicBezTo>
                  <a:pt x="15187" y="9557"/>
                  <a:pt x="15166" y="9557"/>
                  <a:pt x="15145" y="9557"/>
                </a:cubicBezTo>
              </a:path>
              <a:path w="4954" h="2224">
                <a:moveTo>
                  <a:pt x="15526" y="9842"/>
                </a:moveTo>
                <a:cubicBezTo>
                  <a:pt x="15580" y="9951"/>
                  <a:pt x="15652" y="10025"/>
                  <a:pt x="15716" y="10128"/>
                </a:cubicBezTo>
                <a:cubicBezTo>
                  <a:pt x="15787" y="10243"/>
                  <a:pt x="15852" y="10355"/>
                  <a:pt x="15907" y="10478"/>
                </a:cubicBezTo>
                <a:cubicBezTo>
                  <a:pt x="15927" y="10521"/>
                  <a:pt x="15959" y="10646"/>
                  <a:pt x="16002" y="10668"/>
                </a:cubicBezTo>
                <a:cubicBezTo>
                  <a:pt x="16013" y="10668"/>
                  <a:pt x="16023" y="10668"/>
                  <a:pt x="16034" y="10668"/>
                </a:cubicBezTo>
              </a:path>
              <a:path w="4954" h="2224">
                <a:moveTo>
                  <a:pt x="16002" y="9684"/>
                </a:moveTo>
                <a:cubicBezTo>
                  <a:pt x="15986" y="9827"/>
                  <a:pt x="15910" y="9925"/>
                  <a:pt x="15875" y="10065"/>
                </a:cubicBezTo>
                <a:cubicBezTo>
                  <a:pt x="15812" y="10317"/>
                  <a:pt x="15714" y="10554"/>
                  <a:pt x="15621" y="10795"/>
                </a:cubicBezTo>
                <a:cubicBezTo>
                  <a:pt x="15592" y="10881"/>
                  <a:pt x="15586" y="10904"/>
                  <a:pt x="15558" y="10954"/>
                </a:cubicBezTo>
              </a:path>
              <a:path w="4954" h="2224">
                <a:moveTo>
                  <a:pt x="16446" y="9842"/>
                </a:moveTo>
                <a:cubicBezTo>
                  <a:pt x="16433" y="9962"/>
                  <a:pt x="16415" y="10069"/>
                  <a:pt x="16415" y="10192"/>
                </a:cubicBezTo>
                <a:cubicBezTo>
                  <a:pt x="16415" y="10329"/>
                  <a:pt x="16415" y="10467"/>
                  <a:pt x="16415" y="10604"/>
                </a:cubicBezTo>
              </a:path>
              <a:path w="4954" h="2224">
                <a:moveTo>
                  <a:pt x="16256" y="10287"/>
                </a:moveTo>
                <a:cubicBezTo>
                  <a:pt x="16316" y="10287"/>
                  <a:pt x="16338" y="10295"/>
                  <a:pt x="16383" y="10255"/>
                </a:cubicBezTo>
                <a:cubicBezTo>
                  <a:pt x="16442" y="10203"/>
                  <a:pt x="16512" y="10175"/>
                  <a:pt x="16574" y="10128"/>
                </a:cubicBezTo>
                <a:cubicBezTo>
                  <a:pt x="16584" y="10117"/>
                  <a:pt x="16595" y="10107"/>
                  <a:pt x="16605" y="10096"/>
                </a:cubicBezTo>
              </a:path>
              <a:path w="4954" h="2224">
                <a:moveTo>
                  <a:pt x="16891" y="9334"/>
                </a:moveTo>
                <a:cubicBezTo>
                  <a:pt x="16891" y="9433"/>
                  <a:pt x="16862" y="9518"/>
                  <a:pt x="16859" y="9620"/>
                </a:cubicBezTo>
                <a:cubicBezTo>
                  <a:pt x="16849" y="9929"/>
                  <a:pt x="16856" y="10238"/>
                  <a:pt x="16891" y="10541"/>
                </a:cubicBezTo>
                <a:cubicBezTo>
                  <a:pt x="16898" y="10603"/>
                  <a:pt x="16891" y="10669"/>
                  <a:pt x="16891" y="10732"/>
                </a:cubicBezTo>
              </a:path>
              <a:path w="4954" h="2224">
                <a:moveTo>
                  <a:pt x="17082" y="9366"/>
                </a:moveTo>
                <a:cubicBezTo>
                  <a:pt x="17103" y="9493"/>
                  <a:pt x="17096" y="9528"/>
                  <a:pt x="17082" y="9652"/>
                </a:cubicBezTo>
                <a:cubicBezTo>
                  <a:pt x="17071" y="9751"/>
                  <a:pt x="17083" y="9909"/>
                  <a:pt x="17050" y="10001"/>
                </a:cubicBezTo>
                <a:cubicBezTo>
                  <a:pt x="17034" y="10045"/>
                  <a:pt x="16944" y="10076"/>
                  <a:pt x="16986" y="10096"/>
                </a:cubicBezTo>
                <a:cubicBezTo>
                  <a:pt x="17008" y="10106"/>
                  <a:pt x="17034" y="10065"/>
                  <a:pt x="17082" y="10065"/>
                </a:cubicBezTo>
                <a:cubicBezTo>
                  <a:pt x="17181" y="10065"/>
                  <a:pt x="17357" y="10100"/>
                  <a:pt x="17431" y="10033"/>
                </a:cubicBezTo>
                <a:cubicBezTo>
                  <a:pt x="17459" y="10004"/>
                  <a:pt x="17469" y="9998"/>
                  <a:pt x="17462" y="9970"/>
                </a:cubicBezTo>
              </a:path>
              <a:path w="4954" h="2224">
                <a:moveTo>
                  <a:pt x="17367" y="9271"/>
                </a:moveTo>
                <a:cubicBezTo>
                  <a:pt x="17352" y="9316"/>
                  <a:pt x="17336" y="9323"/>
                  <a:pt x="17336" y="9398"/>
                </a:cubicBezTo>
                <a:cubicBezTo>
                  <a:pt x="17336" y="9800"/>
                  <a:pt x="17317" y="10210"/>
                  <a:pt x="17367" y="10604"/>
                </a:cubicBezTo>
                <a:cubicBezTo>
                  <a:pt x="17376" y="10676"/>
                  <a:pt x="17334" y="10744"/>
                  <a:pt x="17399" y="10636"/>
                </a:cubicBezTo>
              </a:path>
              <a:path w="4954" h="2224">
                <a:moveTo>
                  <a:pt x="17685" y="9303"/>
                </a:moveTo>
                <a:cubicBezTo>
                  <a:pt x="17642" y="9358"/>
                  <a:pt x="17608" y="9497"/>
                  <a:pt x="17590" y="9557"/>
                </a:cubicBezTo>
                <a:cubicBezTo>
                  <a:pt x="17540" y="9719"/>
                  <a:pt x="17510" y="9958"/>
                  <a:pt x="17526" y="10128"/>
                </a:cubicBezTo>
                <a:cubicBezTo>
                  <a:pt x="17541" y="10294"/>
                  <a:pt x="17544" y="10447"/>
                  <a:pt x="17653" y="10573"/>
                </a:cubicBezTo>
                <a:cubicBezTo>
                  <a:pt x="17691" y="10617"/>
                  <a:pt x="17748" y="10668"/>
                  <a:pt x="17812" y="10636"/>
                </a:cubicBezTo>
                <a:cubicBezTo>
                  <a:pt x="17881" y="10602"/>
                  <a:pt x="17929" y="10481"/>
                  <a:pt x="17939" y="10414"/>
                </a:cubicBezTo>
                <a:cubicBezTo>
                  <a:pt x="17967" y="10233"/>
                  <a:pt x="17943" y="10019"/>
                  <a:pt x="17907" y="9842"/>
                </a:cubicBezTo>
                <a:cubicBezTo>
                  <a:pt x="17874" y="9680"/>
                  <a:pt x="17834" y="9590"/>
                  <a:pt x="17748" y="9462"/>
                </a:cubicBezTo>
                <a:cubicBezTo>
                  <a:pt x="17722" y="9410"/>
                  <a:pt x="17725" y="9389"/>
                  <a:pt x="17685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7"/>
          <p:cNvSpPr/>
          <p:nvPr/>
        </p:nvSpPr>
        <p:spPr>
          <a:xfrm>
            <a:off x="2297160" y="4035600"/>
            <a:ext cx="1428840" cy="639720"/>
          </a:xfrm>
          <a:custGeom>
            <a:avLst/>
            <a:gdLst/>
            <a:ahLst/>
            <a:rect l="l" t="t" r="r" b="b"/>
            <a:pathLst>
              <a:path w="3969" h="1779">
                <a:moveTo>
                  <a:pt x="6540" y="11335"/>
                </a:moveTo>
                <a:cubicBezTo>
                  <a:pt x="6540" y="11509"/>
                  <a:pt x="6521" y="11673"/>
                  <a:pt x="6509" y="11843"/>
                </a:cubicBezTo>
                <a:cubicBezTo>
                  <a:pt x="6495" y="12041"/>
                  <a:pt x="6502" y="12249"/>
                  <a:pt x="6477" y="12446"/>
                </a:cubicBezTo>
                <a:cubicBezTo>
                  <a:pt x="6457" y="12605"/>
                  <a:pt x="6434" y="12765"/>
                  <a:pt x="6414" y="12922"/>
                </a:cubicBezTo>
                <a:cubicBezTo>
                  <a:pt x="6414" y="12975"/>
                  <a:pt x="6425" y="12997"/>
                  <a:pt x="6382" y="12986"/>
                </a:cubicBezTo>
              </a:path>
              <a:path w="3969" h="1779">
                <a:moveTo>
                  <a:pt x="6985" y="11208"/>
                </a:moveTo>
                <a:cubicBezTo>
                  <a:pt x="6998" y="11235"/>
                  <a:pt x="7021" y="11262"/>
                  <a:pt x="6985" y="11335"/>
                </a:cubicBezTo>
                <a:cubicBezTo>
                  <a:pt x="6925" y="11456"/>
                  <a:pt x="6838" y="11572"/>
                  <a:pt x="6763" y="11684"/>
                </a:cubicBezTo>
                <a:cubicBezTo>
                  <a:pt x="6691" y="11791"/>
                  <a:pt x="6650" y="11901"/>
                  <a:pt x="6572" y="12002"/>
                </a:cubicBezTo>
                <a:cubicBezTo>
                  <a:pt x="6540" y="12043"/>
                  <a:pt x="6511" y="12045"/>
                  <a:pt x="6477" y="12065"/>
                </a:cubicBezTo>
                <a:cubicBezTo>
                  <a:pt x="6497" y="12039"/>
                  <a:pt x="6497" y="11998"/>
                  <a:pt x="6540" y="11970"/>
                </a:cubicBezTo>
                <a:cubicBezTo>
                  <a:pt x="6587" y="11940"/>
                  <a:pt x="6640" y="11892"/>
                  <a:pt x="6699" y="11906"/>
                </a:cubicBezTo>
                <a:cubicBezTo>
                  <a:pt x="6818" y="11934"/>
                  <a:pt x="6806" y="12034"/>
                  <a:pt x="6826" y="12128"/>
                </a:cubicBezTo>
                <a:cubicBezTo>
                  <a:pt x="6859" y="12289"/>
                  <a:pt x="6882" y="12444"/>
                  <a:pt x="6922" y="12605"/>
                </a:cubicBezTo>
                <a:cubicBezTo>
                  <a:pt x="6941" y="12681"/>
                  <a:pt x="7001" y="12887"/>
                  <a:pt x="7112" y="12859"/>
                </a:cubicBezTo>
                <a:cubicBezTo>
                  <a:pt x="7154" y="12817"/>
                  <a:pt x="7175" y="12796"/>
                  <a:pt x="7207" y="12764"/>
                </a:cubicBezTo>
              </a:path>
              <a:path w="3969" h="1779">
                <a:moveTo>
                  <a:pt x="7652" y="11938"/>
                </a:moveTo>
                <a:cubicBezTo>
                  <a:pt x="7618" y="11892"/>
                  <a:pt x="7620" y="11850"/>
                  <a:pt x="7556" y="11843"/>
                </a:cubicBezTo>
                <a:cubicBezTo>
                  <a:pt x="7489" y="11836"/>
                  <a:pt x="7446" y="11861"/>
                  <a:pt x="7398" y="11906"/>
                </a:cubicBezTo>
                <a:cubicBezTo>
                  <a:pt x="7285" y="12012"/>
                  <a:pt x="7275" y="12174"/>
                  <a:pt x="7239" y="12319"/>
                </a:cubicBezTo>
                <a:cubicBezTo>
                  <a:pt x="7204" y="12458"/>
                  <a:pt x="7190" y="12569"/>
                  <a:pt x="7239" y="12700"/>
                </a:cubicBezTo>
                <a:cubicBezTo>
                  <a:pt x="7324" y="12700"/>
                  <a:pt x="7382" y="12693"/>
                  <a:pt x="7430" y="12605"/>
                </a:cubicBezTo>
                <a:cubicBezTo>
                  <a:pt x="7494" y="12487"/>
                  <a:pt x="7498" y="12348"/>
                  <a:pt x="7525" y="12224"/>
                </a:cubicBezTo>
                <a:cubicBezTo>
                  <a:pt x="7548" y="12119"/>
                  <a:pt x="7579" y="12062"/>
                  <a:pt x="7525" y="11970"/>
                </a:cubicBezTo>
                <a:cubicBezTo>
                  <a:pt x="7525" y="12134"/>
                  <a:pt x="7536" y="12287"/>
                  <a:pt x="7556" y="12446"/>
                </a:cubicBezTo>
                <a:cubicBezTo>
                  <a:pt x="7565" y="12515"/>
                  <a:pt x="7579" y="12568"/>
                  <a:pt x="7588" y="12636"/>
                </a:cubicBezTo>
              </a:path>
              <a:path w="3969" h="1779">
                <a:moveTo>
                  <a:pt x="7874" y="11811"/>
                </a:moveTo>
                <a:cubicBezTo>
                  <a:pt x="7849" y="11910"/>
                  <a:pt x="7874" y="12011"/>
                  <a:pt x="7874" y="12128"/>
                </a:cubicBezTo>
                <a:cubicBezTo>
                  <a:pt x="7874" y="12264"/>
                  <a:pt x="7888" y="12379"/>
                  <a:pt x="7906" y="12510"/>
                </a:cubicBezTo>
                <a:cubicBezTo>
                  <a:pt x="7913" y="12562"/>
                  <a:pt x="7906" y="12657"/>
                  <a:pt x="7906" y="12605"/>
                </a:cubicBezTo>
                <a:cubicBezTo>
                  <a:pt x="7906" y="12499"/>
                  <a:pt x="7859" y="12429"/>
                  <a:pt x="7874" y="12319"/>
                </a:cubicBezTo>
                <a:cubicBezTo>
                  <a:pt x="7891" y="12200"/>
                  <a:pt x="7917" y="12080"/>
                  <a:pt x="7969" y="11970"/>
                </a:cubicBezTo>
                <a:cubicBezTo>
                  <a:pt x="8011" y="11882"/>
                  <a:pt x="8087" y="11869"/>
                  <a:pt x="8160" y="11811"/>
                </a:cubicBezTo>
              </a:path>
              <a:path w="3969" h="1779">
                <a:moveTo>
                  <a:pt x="8414" y="12256"/>
                </a:moveTo>
                <a:cubicBezTo>
                  <a:pt x="8438" y="12264"/>
                  <a:pt x="8496" y="12298"/>
                  <a:pt x="8541" y="12256"/>
                </a:cubicBezTo>
                <a:cubicBezTo>
                  <a:pt x="8603" y="12198"/>
                  <a:pt x="8680" y="12109"/>
                  <a:pt x="8731" y="12033"/>
                </a:cubicBezTo>
                <a:cubicBezTo>
                  <a:pt x="8757" y="11994"/>
                  <a:pt x="8845" y="11859"/>
                  <a:pt x="8826" y="11811"/>
                </a:cubicBezTo>
                <a:cubicBezTo>
                  <a:pt x="8816" y="11800"/>
                  <a:pt x="8805" y="11790"/>
                  <a:pt x="8795" y="11779"/>
                </a:cubicBezTo>
                <a:cubicBezTo>
                  <a:pt x="8721" y="11794"/>
                  <a:pt x="8648" y="11837"/>
                  <a:pt x="8604" y="11906"/>
                </a:cubicBezTo>
                <a:cubicBezTo>
                  <a:pt x="8511" y="12054"/>
                  <a:pt x="8483" y="12212"/>
                  <a:pt x="8477" y="12382"/>
                </a:cubicBezTo>
                <a:cubicBezTo>
                  <a:pt x="8473" y="12497"/>
                  <a:pt x="8494" y="12586"/>
                  <a:pt x="8604" y="12605"/>
                </a:cubicBezTo>
                <a:cubicBezTo>
                  <a:pt x="8662" y="12615"/>
                  <a:pt x="8783" y="12484"/>
                  <a:pt x="8826" y="12446"/>
                </a:cubicBezTo>
              </a:path>
              <a:path w="3969" h="1779">
                <a:moveTo>
                  <a:pt x="9080" y="11811"/>
                </a:moveTo>
                <a:cubicBezTo>
                  <a:pt x="9019" y="11852"/>
                  <a:pt x="9076" y="11919"/>
                  <a:pt x="9080" y="12002"/>
                </a:cubicBezTo>
                <a:cubicBezTo>
                  <a:pt x="9086" y="12137"/>
                  <a:pt x="9063" y="12253"/>
                  <a:pt x="9049" y="12382"/>
                </a:cubicBezTo>
                <a:cubicBezTo>
                  <a:pt x="9040" y="12464"/>
                  <a:pt x="9066" y="12501"/>
                  <a:pt x="9080" y="12573"/>
                </a:cubicBezTo>
                <a:cubicBezTo>
                  <a:pt x="9080" y="12440"/>
                  <a:pt x="9077" y="12322"/>
                  <a:pt x="9112" y="12192"/>
                </a:cubicBezTo>
                <a:cubicBezTo>
                  <a:pt x="9147" y="12062"/>
                  <a:pt x="9185" y="11943"/>
                  <a:pt x="9271" y="11843"/>
                </a:cubicBezTo>
                <a:cubicBezTo>
                  <a:pt x="9316" y="11790"/>
                  <a:pt x="9359" y="11755"/>
                  <a:pt x="9430" y="11748"/>
                </a:cubicBezTo>
                <a:cubicBezTo>
                  <a:pt x="9462" y="11748"/>
                  <a:pt x="9472" y="11748"/>
                  <a:pt x="9493" y="11748"/>
                </a:cubicBezTo>
                <a:cubicBezTo>
                  <a:pt x="9540" y="11871"/>
                  <a:pt x="9505" y="11907"/>
                  <a:pt x="9493" y="12033"/>
                </a:cubicBezTo>
                <a:cubicBezTo>
                  <a:pt x="9481" y="12155"/>
                  <a:pt x="9435" y="12363"/>
                  <a:pt x="9493" y="12478"/>
                </a:cubicBezTo>
                <a:cubicBezTo>
                  <a:pt x="9537" y="12566"/>
                  <a:pt x="9660" y="12592"/>
                  <a:pt x="9747" y="12573"/>
                </a:cubicBezTo>
                <a:cubicBezTo>
                  <a:pt x="9899" y="12539"/>
                  <a:pt x="9991" y="12424"/>
                  <a:pt x="10096" y="12319"/>
                </a:cubicBezTo>
              </a:path>
              <a:path w="3969" h="1779">
                <a:moveTo>
                  <a:pt x="10287" y="11652"/>
                </a:moveTo>
                <a:cubicBezTo>
                  <a:pt x="10287" y="11699"/>
                  <a:pt x="10234" y="11737"/>
                  <a:pt x="10255" y="11779"/>
                </a:cubicBezTo>
                <a:cubicBezTo>
                  <a:pt x="10273" y="11814"/>
                  <a:pt x="10316" y="11695"/>
                  <a:pt x="10319" y="11684"/>
                </a:cubicBezTo>
                <a:cubicBezTo>
                  <a:pt x="10284" y="11696"/>
                  <a:pt x="10260" y="11708"/>
                  <a:pt x="10255" y="11748"/>
                </a:cubicBezTo>
                <a:cubicBezTo>
                  <a:pt x="10255" y="11758"/>
                  <a:pt x="10255" y="11769"/>
                  <a:pt x="10255" y="11779"/>
                </a:cubicBezTo>
              </a:path>
              <a:path w="3969" h="1779">
                <a:moveTo>
                  <a:pt x="10319" y="12256"/>
                </a:moveTo>
                <a:cubicBezTo>
                  <a:pt x="10285" y="12300"/>
                  <a:pt x="10287" y="12295"/>
                  <a:pt x="10287" y="12351"/>
                </a:cubicBezTo>
                <a:cubicBezTo>
                  <a:pt x="10322" y="12339"/>
                  <a:pt x="10345" y="12328"/>
                  <a:pt x="10350" y="12287"/>
                </a:cubicBezTo>
                <a:cubicBezTo>
                  <a:pt x="10350" y="12277"/>
                  <a:pt x="10350" y="12266"/>
                  <a:pt x="10350" y="12256"/>
                </a:cubicBezTo>
                <a:cubicBezTo>
                  <a:pt x="10310" y="12269"/>
                  <a:pt x="10300" y="12300"/>
                  <a:pt x="10287" y="12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8"/>
          <p:cNvSpPr/>
          <p:nvPr/>
        </p:nvSpPr>
        <p:spPr>
          <a:xfrm>
            <a:off x="4686480" y="4000680"/>
            <a:ext cx="949320" cy="788760"/>
          </a:xfrm>
          <a:custGeom>
            <a:avLst/>
            <a:gdLst/>
            <a:ahLst/>
            <a:rect l="l" t="t" r="r" b="b"/>
            <a:pathLst>
              <a:path w="2636" h="2192">
                <a:moveTo>
                  <a:pt x="13049" y="11652"/>
                </a:moveTo>
                <a:cubicBezTo>
                  <a:pt x="13049" y="11746"/>
                  <a:pt x="13029" y="11819"/>
                  <a:pt x="13018" y="11906"/>
                </a:cubicBezTo>
                <a:cubicBezTo>
                  <a:pt x="13002" y="12031"/>
                  <a:pt x="13030" y="12141"/>
                  <a:pt x="13049" y="12256"/>
                </a:cubicBezTo>
                <a:cubicBezTo>
                  <a:pt x="13060" y="12325"/>
                  <a:pt x="13066" y="12354"/>
                  <a:pt x="13081" y="12414"/>
                </a:cubicBezTo>
                <a:cubicBezTo>
                  <a:pt x="13139" y="12402"/>
                  <a:pt x="13169" y="12412"/>
                  <a:pt x="13208" y="12351"/>
                </a:cubicBezTo>
                <a:cubicBezTo>
                  <a:pt x="13274" y="12249"/>
                  <a:pt x="13277" y="12181"/>
                  <a:pt x="13303" y="12065"/>
                </a:cubicBezTo>
                <a:cubicBezTo>
                  <a:pt x="13326" y="11964"/>
                  <a:pt x="13341" y="11845"/>
                  <a:pt x="13367" y="11748"/>
                </a:cubicBezTo>
                <a:cubicBezTo>
                  <a:pt x="13377" y="11727"/>
                  <a:pt x="13388" y="11705"/>
                  <a:pt x="13398" y="11684"/>
                </a:cubicBezTo>
                <a:cubicBezTo>
                  <a:pt x="13398" y="11789"/>
                  <a:pt x="13426" y="11866"/>
                  <a:pt x="13430" y="11970"/>
                </a:cubicBezTo>
                <a:cubicBezTo>
                  <a:pt x="13436" y="12113"/>
                  <a:pt x="13457" y="12241"/>
                  <a:pt x="13462" y="12382"/>
                </a:cubicBezTo>
                <a:cubicBezTo>
                  <a:pt x="13467" y="12537"/>
                  <a:pt x="13446" y="12679"/>
                  <a:pt x="13430" y="12827"/>
                </a:cubicBezTo>
                <a:cubicBezTo>
                  <a:pt x="13418" y="12940"/>
                  <a:pt x="13401" y="13068"/>
                  <a:pt x="13367" y="13176"/>
                </a:cubicBezTo>
                <a:cubicBezTo>
                  <a:pt x="13346" y="13243"/>
                  <a:pt x="13272" y="13296"/>
                  <a:pt x="13208" y="13303"/>
                </a:cubicBezTo>
                <a:cubicBezTo>
                  <a:pt x="13125" y="13312"/>
                  <a:pt x="13102" y="13197"/>
                  <a:pt x="13081" y="13144"/>
                </a:cubicBezTo>
              </a:path>
              <a:path w="2636" h="2192">
                <a:moveTo>
                  <a:pt x="13621" y="11779"/>
                </a:moveTo>
                <a:cubicBezTo>
                  <a:pt x="13685" y="11763"/>
                  <a:pt x="13703" y="11748"/>
                  <a:pt x="13780" y="11748"/>
                </a:cubicBezTo>
                <a:cubicBezTo>
                  <a:pt x="13790" y="11748"/>
                  <a:pt x="13801" y="11748"/>
                  <a:pt x="13811" y="11748"/>
                </a:cubicBezTo>
              </a:path>
              <a:path w="2636" h="2192">
                <a:moveTo>
                  <a:pt x="13716" y="12160"/>
                </a:moveTo>
                <a:cubicBezTo>
                  <a:pt x="13771" y="12119"/>
                  <a:pt x="13803" y="12101"/>
                  <a:pt x="13875" y="12097"/>
                </a:cubicBezTo>
                <a:cubicBezTo>
                  <a:pt x="13955" y="12092"/>
                  <a:pt x="13999" y="12106"/>
                  <a:pt x="14065" y="12065"/>
                </a:cubicBezTo>
              </a:path>
              <a:path w="2636" h="2192">
                <a:moveTo>
                  <a:pt x="14288" y="11430"/>
                </a:moveTo>
                <a:cubicBezTo>
                  <a:pt x="14288" y="11387"/>
                  <a:pt x="14293" y="11270"/>
                  <a:pt x="14319" y="11240"/>
                </a:cubicBezTo>
                <a:cubicBezTo>
                  <a:pt x="14335" y="11221"/>
                  <a:pt x="14379" y="11179"/>
                  <a:pt x="14414" y="11144"/>
                </a:cubicBezTo>
                <a:cubicBezTo>
                  <a:pt x="14475" y="11082"/>
                  <a:pt x="14483" y="11124"/>
                  <a:pt x="14542" y="11144"/>
                </a:cubicBezTo>
                <a:cubicBezTo>
                  <a:pt x="14596" y="11162"/>
                  <a:pt x="14619" y="11263"/>
                  <a:pt x="14605" y="11335"/>
                </a:cubicBezTo>
                <a:cubicBezTo>
                  <a:pt x="14589" y="11419"/>
                  <a:pt x="14563" y="11548"/>
                  <a:pt x="14510" y="11620"/>
                </a:cubicBezTo>
                <a:cubicBezTo>
                  <a:pt x="14464" y="11682"/>
                  <a:pt x="14453" y="11696"/>
                  <a:pt x="14414" y="11748"/>
                </a:cubicBezTo>
                <a:cubicBezTo>
                  <a:pt x="14414" y="11674"/>
                  <a:pt x="14430" y="11647"/>
                  <a:pt x="14510" y="11620"/>
                </a:cubicBezTo>
                <a:cubicBezTo>
                  <a:pt x="14587" y="11594"/>
                  <a:pt x="14566" y="11597"/>
                  <a:pt x="14637" y="11620"/>
                </a:cubicBezTo>
                <a:cubicBezTo>
                  <a:pt x="14686" y="11636"/>
                  <a:pt x="14749" y="11692"/>
                  <a:pt x="14764" y="11748"/>
                </a:cubicBezTo>
                <a:cubicBezTo>
                  <a:pt x="14792" y="11853"/>
                  <a:pt x="14741" y="11971"/>
                  <a:pt x="14700" y="12065"/>
                </a:cubicBezTo>
                <a:cubicBezTo>
                  <a:pt x="14666" y="12143"/>
                  <a:pt x="14629" y="12225"/>
                  <a:pt x="14573" y="12287"/>
                </a:cubicBezTo>
                <a:cubicBezTo>
                  <a:pt x="14525" y="12341"/>
                  <a:pt x="14489" y="12323"/>
                  <a:pt x="14478" y="12319"/>
                </a:cubicBezTo>
                <a:cubicBezTo>
                  <a:pt x="14436" y="12319"/>
                  <a:pt x="14425" y="12309"/>
                  <a:pt x="14446" y="12256"/>
                </a:cubicBezTo>
              </a:path>
              <a:path w="2636" h="2192">
                <a:moveTo>
                  <a:pt x="14891" y="11335"/>
                </a:moveTo>
                <a:cubicBezTo>
                  <a:pt x="14891" y="11438"/>
                  <a:pt x="14876" y="11552"/>
                  <a:pt x="14859" y="11652"/>
                </a:cubicBezTo>
                <a:cubicBezTo>
                  <a:pt x="14831" y="11812"/>
                  <a:pt x="14767" y="11961"/>
                  <a:pt x="14796" y="12128"/>
                </a:cubicBezTo>
                <a:cubicBezTo>
                  <a:pt x="14808" y="12199"/>
                  <a:pt x="14817" y="12279"/>
                  <a:pt x="14891" y="12287"/>
                </a:cubicBezTo>
                <a:cubicBezTo>
                  <a:pt x="14971" y="12296"/>
                  <a:pt x="14982" y="12260"/>
                  <a:pt x="15018" y="12192"/>
                </a:cubicBezTo>
                <a:cubicBezTo>
                  <a:pt x="15077" y="12080"/>
                  <a:pt x="15108" y="11968"/>
                  <a:pt x="15113" y="11843"/>
                </a:cubicBezTo>
                <a:cubicBezTo>
                  <a:pt x="15118" y="11713"/>
                  <a:pt x="15113" y="11581"/>
                  <a:pt x="15050" y="11462"/>
                </a:cubicBezTo>
                <a:cubicBezTo>
                  <a:pt x="15033" y="11429"/>
                  <a:pt x="14981" y="11393"/>
                  <a:pt x="14954" y="11366"/>
                </a:cubicBezTo>
              </a:path>
              <a:path w="2636" h="2192">
                <a:moveTo>
                  <a:pt x="15304" y="11462"/>
                </a:moveTo>
                <a:cubicBezTo>
                  <a:pt x="15320" y="11529"/>
                  <a:pt x="15369" y="11614"/>
                  <a:pt x="15399" y="11684"/>
                </a:cubicBezTo>
                <a:cubicBezTo>
                  <a:pt x="15449" y="11803"/>
                  <a:pt x="15544" y="11918"/>
                  <a:pt x="15589" y="12033"/>
                </a:cubicBezTo>
                <a:cubicBezTo>
                  <a:pt x="15606" y="12076"/>
                  <a:pt x="15615" y="12090"/>
                  <a:pt x="15653" y="12128"/>
                </a:cubicBezTo>
              </a:path>
              <a:path w="2636" h="2192">
                <a:moveTo>
                  <a:pt x="15621" y="11335"/>
                </a:moveTo>
                <a:cubicBezTo>
                  <a:pt x="15576" y="11350"/>
                  <a:pt x="15575" y="11430"/>
                  <a:pt x="15558" y="11494"/>
                </a:cubicBezTo>
                <a:cubicBezTo>
                  <a:pt x="15510" y="11673"/>
                  <a:pt x="15471" y="11853"/>
                  <a:pt x="15430" y="12033"/>
                </a:cubicBezTo>
                <a:cubicBezTo>
                  <a:pt x="15397" y="12170"/>
                  <a:pt x="15384" y="12223"/>
                  <a:pt x="15367" y="12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9"/>
          <p:cNvSpPr/>
          <p:nvPr/>
        </p:nvSpPr>
        <p:spPr>
          <a:xfrm>
            <a:off x="5840280" y="3989520"/>
            <a:ext cx="538200" cy="388800"/>
          </a:xfrm>
          <a:custGeom>
            <a:avLst/>
            <a:gdLst/>
            <a:ahLst/>
            <a:rect l="l" t="t" r="r" b="b"/>
            <a:pathLst>
              <a:path w="1493" h="1080">
                <a:moveTo>
                  <a:pt x="16320" y="11208"/>
                </a:moveTo>
                <a:cubicBezTo>
                  <a:pt x="16365" y="11285"/>
                  <a:pt x="16351" y="11367"/>
                  <a:pt x="16351" y="11462"/>
                </a:cubicBezTo>
                <a:cubicBezTo>
                  <a:pt x="16351" y="11592"/>
                  <a:pt x="16383" y="11710"/>
                  <a:pt x="16383" y="11843"/>
                </a:cubicBezTo>
                <a:cubicBezTo>
                  <a:pt x="16383" y="11885"/>
                  <a:pt x="16383" y="11928"/>
                  <a:pt x="16383" y="11970"/>
                </a:cubicBezTo>
              </a:path>
              <a:path w="1493" h="1080">
                <a:moveTo>
                  <a:pt x="16224" y="11652"/>
                </a:moveTo>
                <a:cubicBezTo>
                  <a:pt x="16311" y="11652"/>
                  <a:pt x="16402" y="11670"/>
                  <a:pt x="16478" y="11620"/>
                </a:cubicBezTo>
                <a:cubicBezTo>
                  <a:pt x="16516" y="11583"/>
                  <a:pt x="16535" y="11568"/>
                  <a:pt x="16574" y="11557"/>
                </a:cubicBezTo>
              </a:path>
              <a:path w="1493" h="1080">
                <a:moveTo>
                  <a:pt x="16764" y="11081"/>
                </a:moveTo>
                <a:cubicBezTo>
                  <a:pt x="16785" y="11102"/>
                  <a:pt x="16764" y="11195"/>
                  <a:pt x="16764" y="11271"/>
                </a:cubicBezTo>
                <a:cubicBezTo>
                  <a:pt x="16764" y="11567"/>
                  <a:pt x="16764" y="11864"/>
                  <a:pt x="16764" y="12160"/>
                </a:cubicBezTo>
              </a:path>
              <a:path w="1493" h="1080">
                <a:moveTo>
                  <a:pt x="17082" y="11144"/>
                </a:moveTo>
                <a:cubicBezTo>
                  <a:pt x="17041" y="11267"/>
                  <a:pt x="17025" y="11396"/>
                  <a:pt x="16986" y="11525"/>
                </a:cubicBezTo>
                <a:cubicBezTo>
                  <a:pt x="16941" y="11672"/>
                  <a:pt x="16944" y="11796"/>
                  <a:pt x="16954" y="11938"/>
                </a:cubicBezTo>
                <a:cubicBezTo>
                  <a:pt x="16963" y="12063"/>
                  <a:pt x="16948" y="12039"/>
                  <a:pt x="17050" y="12097"/>
                </a:cubicBezTo>
                <a:cubicBezTo>
                  <a:pt x="17107" y="12040"/>
                  <a:pt x="17147" y="11983"/>
                  <a:pt x="17177" y="11906"/>
                </a:cubicBezTo>
                <a:cubicBezTo>
                  <a:pt x="17233" y="11761"/>
                  <a:pt x="17240" y="11648"/>
                  <a:pt x="17240" y="11494"/>
                </a:cubicBezTo>
                <a:cubicBezTo>
                  <a:pt x="17240" y="11403"/>
                  <a:pt x="17232" y="11277"/>
                  <a:pt x="17177" y="11208"/>
                </a:cubicBezTo>
                <a:cubicBezTo>
                  <a:pt x="17133" y="11152"/>
                  <a:pt x="17095" y="11174"/>
                  <a:pt x="17050" y="11208"/>
                </a:cubicBezTo>
              </a:path>
              <a:path w="1493" h="1080">
                <a:moveTo>
                  <a:pt x="17431" y="11144"/>
                </a:moveTo>
                <a:cubicBezTo>
                  <a:pt x="17394" y="11193"/>
                  <a:pt x="17390" y="11245"/>
                  <a:pt x="17367" y="11303"/>
                </a:cubicBezTo>
                <a:cubicBezTo>
                  <a:pt x="17335" y="11385"/>
                  <a:pt x="17298" y="11565"/>
                  <a:pt x="17304" y="11652"/>
                </a:cubicBezTo>
                <a:cubicBezTo>
                  <a:pt x="17310" y="11738"/>
                  <a:pt x="17348" y="11865"/>
                  <a:pt x="17399" y="11938"/>
                </a:cubicBezTo>
                <a:cubicBezTo>
                  <a:pt x="17446" y="12006"/>
                  <a:pt x="17481" y="12002"/>
                  <a:pt x="17558" y="12002"/>
                </a:cubicBezTo>
                <a:cubicBezTo>
                  <a:pt x="17630" y="12002"/>
                  <a:pt x="17662" y="11902"/>
                  <a:pt x="17685" y="11843"/>
                </a:cubicBezTo>
                <a:cubicBezTo>
                  <a:pt x="17733" y="11721"/>
                  <a:pt x="17716" y="11591"/>
                  <a:pt x="17716" y="11462"/>
                </a:cubicBezTo>
                <a:cubicBezTo>
                  <a:pt x="17716" y="11360"/>
                  <a:pt x="17712" y="11184"/>
                  <a:pt x="17621" y="11112"/>
                </a:cubicBezTo>
                <a:cubicBezTo>
                  <a:pt x="17569" y="11087"/>
                  <a:pt x="17561" y="11076"/>
                  <a:pt x="17526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0"/>
          <p:cNvSpPr/>
          <p:nvPr/>
        </p:nvSpPr>
        <p:spPr>
          <a:xfrm>
            <a:off x="2149560" y="4765680"/>
            <a:ext cx="399960" cy="687240"/>
          </a:xfrm>
          <a:custGeom>
            <a:avLst/>
            <a:gdLst/>
            <a:ahLst/>
            <a:rect l="l" t="t" r="r" b="b"/>
            <a:pathLst>
              <a:path w="1112" h="1906">
                <a:moveTo>
                  <a:pt x="6223" y="13526"/>
                </a:moveTo>
                <a:cubicBezTo>
                  <a:pt x="6183" y="13586"/>
                  <a:pt x="6163" y="13637"/>
                  <a:pt x="6160" y="13716"/>
                </a:cubicBezTo>
                <a:cubicBezTo>
                  <a:pt x="6154" y="13859"/>
                  <a:pt x="6132" y="13988"/>
                  <a:pt x="6128" y="14129"/>
                </a:cubicBezTo>
                <a:cubicBezTo>
                  <a:pt x="6123" y="14301"/>
                  <a:pt x="6101" y="14466"/>
                  <a:pt x="6096" y="14637"/>
                </a:cubicBezTo>
                <a:cubicBezTo>
                  <a:pt x="6091" y="14803"/>
                  <a:pt x="6098" y="14956"/>
                  <a:pt x="6064" y="15113"/>
                </a:cubicBezTo>
                <a:cubicBezTo>
                  <a:pt x="6064" y="15124"/>
                  <a:pt x="6064" y="15134"/>
                  <a:pt x="6064" y="15145"/>
                </a:cubicBezTo>
                <a:cubicBezTo>
                  <a:pt x="6039" y="15095"/>
                  <a:pt x="6004" y="15019"/>
                  <a:pt x="6001" y="14922"/>
                </a:cubicBezTo>
                <a:cubicBezTo>
                  <a:pt x="5995" y="14731"/>
                  <a:pt x="5947" y="14546"/>
                  <a:pt x="5969" y="14351"/>
                </a:cubicBezTo>
                <a:cubicBezTo>
                  <a:pt x="5991" y="14159"/>
                  <a:pt x="6043" y="13971"/>
                  <a:pt x="6064" y="13780"/>
                </a:cubicBezTo>
                <a:cubicBezTo>
                  <a:pt x="6079" y="13647"/>
                  <a:pt x="6076" y="13598"/>
                  <a:pt x="6160" y="13494"/>
                </a:cubicBezTo>
                <a:cubicBezTo>
                  <a:pt x="6207" y="13507"/>
                  <a:pt x="6241" y="13491"/>
                  <a:pt x="6255" y="13557"/>
                </a:cubicBezTo>
                <a:cubicBezTo>
                  <a:pt x="6285" y="13695"/>
                  <a:pt x="6306" y="13860"/>
                  <a:pt x="6318" y="14002"/>
                </a:cubicBezTo>
                <a:cubicBezTo>
                  <a:pt x="6334" y="14197"/>
                  <a:pt x="6370" y="14381"/>
                  <a:pt x="6414" y="14573"/>
                </a:cubicBezTo>
                <a:cubicBezTo>
                  <a:pt x="6440" y="14689"/>
                  <a:pt x="6462" y="14850"/>
                  <a:pt x="6509" y="14954"/>
                </a:cubicBezTo>
                <a:cubicBezTo>
                  <a:pt x="6519" y="14965"/>
                  <a:pt x="6530" y="14975"/>
                  <a:pt x="6540" y="14986"/>
                </a:cubicBezTo>
                <a:cubicBezTo>
                  <a:pt x="6568" y="14940"/>
                  <a:pt x="6572" y="14894"/>
                  <a:pt x="6572" y="14796"/>
                </a:cubicBezTo>
                <a:cubicBezTo>
                  <a:pt x="6572" y="14601"/>
                  <a:pt x="6544" y="14417"/>
                  <a:pt x="6540" y="14224"/>
                </a:cubicBezTo>
                <a:cubicBezTo>
                  <a:pt x="6536" y="14024"/>
                  <a:pt x="6540" y="13817"/>
                  <a:pt x="6572" y="13621"/>
                </a:cubicBezTo>
                <a:cubicBezTo>
                  <a:pt x="6597" y="13469"/>
                  <a:pt x="6608" y="13328"/>
                  <a:pt x="6731" y="13240"/>
                </a:cubicBezTo>
              </a:path>
              <a:path w="1112" h="1906">
                <a:moveTo>
                  <a:pt x="6985" y="14065"/>
                </a:moveTo>
                <a:cubicBezTo>
                  <a:pt x="6934" y="14104"/>
                  <a:pt x="6923" y="14103"/>
                  <a:pt x="6890" y="14160"/>
                </a:cubicBezTo>
                <a:cubicBezTo>
                  <a:pt x="6842" y="14244"/>
                  <a:pt x="6806" y="14313"/>
                  <a:pt x="6794" y="14414"/>
                </a:cubicBezTo>
                <a:cubicBezTo>
                  <a:pt x="6783" y="14509"/>
                  <a:pt x="6772" y="14659"/>
                  <a:pt x="6826" y="14732"/>
                </a:cubicBezTo>
                <a:cubicBezTo>
                  <a:pt x="6866" y="14787"/>
                  <a:pt x="6912" y="14769"/>
                  <a:pt x="6953" y="14732"/>
                </a:cubicBezTo>
                <a:cubicBezTo>
                  <a:pt x="7038" y="14655"/>
                  <a:pt x="7025" y="14577"/>
                  <a:pt x="7048" y="14478"/>
                </a:cubicBezTo>
                <a:cubicBezTo>
                  <a:pt x="7070" y="14381"/>
                  <a:pt x="7112" y="14232"/>
                  <a:pt x="7080" y="14129"/>
                </a:cubicBezTo>
                <a:cubicBezTo>
                  <a:pt x="7052" y="14038"/>
                  <a:pt x="6997" y="14082"/>
                  <a:pt x="6953" y="14097"/>
                </a:cubicBezTo>
                <a:cubicBezTo>
                  <a:pt x="6943" y="14097"/>
                  <a:pt x="6932" y="14097"/>
                  <a:pt x="6922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1"/>
          <p:cNvSpPr/>
          <p:nvPr/>
        </p:nvSpPr>
        <p:spPr>
          <a:xfrm>
            <a:off x="2811600" y="4789440"/>
            <a:ext cx="1292040" cy="628560"/>
          </a:xfrm>
          <a:custGeom>
            <a:avLst/>
            <a:gdLst/>
            <a:ahLst/>
            <a:rect l="l" t="t" r="r" b="b"/>
            <a:pathLst>
              <a:path w="3589" h="1748">
                <a:moveTo>
                  <a:pt x="8223" y="13526"/>
                </a:moveTo>
                <a:cubicBezTo>
                  <a:pt x="8223" y="13452"/>
                  <a:pt x="8223" y="13377"/>
                  <a:pt x="8223" y="13303"/>
                </a:cubicBezTo>
                <a:cubicBezTo>
                  <a:pt x="8097" y="13303"/>
                  <a:pt x="8069" y="13352"/>
                  <a:pt x="8001" y="13462"/>
                </a:cubicBezTo>
                <a:cubicBezTo>
                  <a:pt x="7943" y="13556"/>
                  <a:pt x="7888" y="13615"/>
                  <a:pt x="7842" y="13716"/>
                </a:cubicBezTo>
                <a:cubicBezTo>
                  <a:pt x="7817" y="13771"/>
                  <a:pt x="7788" y="13842"/>
                  <a:pt x="7810" y="13906"/>
                </a:cubicBezTo>
                <a:cubicBezTo>
                  <a:pt x="7838" y="13988"/>
                  <a:pt x="7897" y="14027"/>
                  <a:pt x="7969" y="14065"/>
                </a:cubicBezTo>
                <a:cubicBezTo>
                  <a:pt x="8038" y="14101"/>
                  <a:pt x="8094" y="14152"/>
                  <a:pt x="8160" y="14192"/>
                </a:cubicBezTo>
                <a:cubicBezTo>
                  <a:pt x="8233" y="14236"/>
                  <a:pt x="8250" y="14297"/>
                  <a:pt x="8255" y="14383"/>
                </a:cubicBezTo>
                <a:cubicBezTo>
                  <a:pt x="8260" y="14467"/>
                  <a:pt x="8217" y="14545"/>
                  <a:pt x="8160" y="14605"/>
                </a:cubicBezTo>
                <a:cubicBezTo>
                  <a:pt x="8106" y="14662"/>
                  <a:pt x="8057" y="14730"/>
                  <a:pt x="7969" y="14700"/>
                </a:cubicBezTo>
                <a:cubicBezTo>
                  <a:pt x="7864" y="14665"/>
                  <a:pt x="7876" y="14600"/>
                  <a:pt x="7842" y="14510"/>
                </a:cubicBezTo>
              </a:path>
              <a:path w="3589" h="1748">
                <a:moveTo>
                  <a:pt x="8477" y="14002"/>
                </a:moveTo>
                <a:cubicBezTo>
                  <a:pt x="8477" y="14104"/>
                  <a:pt x="8452" y="14100"/>
                  <a:pt x="8414" y="14192"/>
                </a:cubicBezTo>
                <a:cubicBezTo>
                  <a:pt x="8376" y="14285"/>
                  <a:pt x="8303" y="14412"/>
                  <a:pt x="8287" y="14510"/>
                </a:cubicBezTo>
                <a:cubicBezTo>
                  <a:pt x="8276" y="14579"/>
                  <a:pt x="8287" y="14661"/>
                  <a:pt x="8287" y="14732"/>
                </a:cubicBezTo>
                <a:cubicBezTo>
                  <a:pt x="8355" y="14732"/>
                  <a:pt x="8366" y="14716"/>
                  <a:pt x="8414" y="14668"/>
                </a:cubicBezTo>
                <a:cubicBezTo>
                  <a:pt x="8486" y="14596"/>
                  <a:pt x="8535" y="14510"/>
                  <a:pt x="8572" y="14414"/>
                </a:cubicBezTo>
                <a:cubicBezTo>
                  <a:pt x="8597" y="14349"/>
                  <a:pt x="8628" y="14232"/>
                  <a:pt x="8604" y="14160"/>
                </a:cubicBezTo>
                <a:cubicBezTo>
                  <a:pt x="8582" y="14094"/>
                  <a:pt x="8565" y="14079"/>
                  <a:pt x="8509" y="14065"/>
                </a:cubicBezTo>
              </a:path>
              <a:path w="3589" h="1748">
                <a:moveTo>
                  <a:pt x="8890" y="13303"/>
                </a:moveTo>
                <a:cubicBezTo>
                  <a:pt x="8890" y="13707"/>
                  <a:pt x="8891" y="14111"/>
                  <a:pt x="8858" y="14510"/>
                </a:cubicBezTo>
                <a:cubicBezTo>
                  <a:pt x="8850" y="14614"/>
                  <a:pt x="8858" y="14722"/>
                  <a:pt x="8858" y="14827"/>
                </a:cubicBezTo>
              </a:path>
              <a:path w="3589" h="1748">
                <a:moveTo>
                  <a:pt x="9080" y="13970"/>
                </a:moveTo>
                <a:cubicBezTo>
                  <a:pt x="9080" y="14093"/>
                  <a:pt x="9101" y="14202"/>
                  <a:pt x="9112" y="14319"/>
                </a:cubicBezTo>
                <a:cubicBezTo>
                  <a:pt x="9125" y="14453"/>
                  <a:pt x="9085" y="14558"/>
                  <a:pt x="9176" y="14668"/>
                </a:cubicBezTo>
                <a:cubicBezTo>
                  <a:pt x="9210" y="14709"/>
                  <a:pt x="9224" y="14700"/>
                  <a:pt x="9271" y="14700"/>
                </a:cubicBezTo>
                <a:cubicBezTo>
                  <a:pt x="9341" y="14612"/>
                  <a:pt x="9338" y="14523"/>
                  <a:pt x="9366" y="14414"/>
                </a:cubicBezTo>
                <a:cubicBezTo>
                  <a:pt x="9401" y="14276"/>
                  <a:pt x="9433" y="14135"/>
                  <a:pt x="9462" y="14002"/>
                </a:cubicBezTo>
                <a:cubicBezTo>
                  <a:pt x="9462" y="13991"/>
                  <a:pt x="9462" y="13981"/>
                  <a:pt x="9462" y="13970"/>
                </a:cubicBezTo>
                <a:cubicBezTo>
                  <a:pt x="9462" y="14196"/>
                  <a:pt x="9470" y="14417"/>
                  <a:pt x="9493" y="14637"/>
                </a:cubicBezTo>
                <a:cubicBezTo>
                  <a:pt x="9503" y="14732"/>
                  <a:pt x="9493" y="14772"/>
                  <a:pt x="9588" y="14796"/>
                </a:cubicBezTo>
                <a:cubicBezTo>
                  <a:pt x="9639" y="14694"/>
                  <a:pt x="9657" y="14536"/>
                  <a:pt x="9684" y="14414"/>
                </a:cubicBezTo>
              </a:path>
              <a:path w="3589" h="1748">
                <a:moveTo>
                  <a:pt x="9842" y="13462"/>
                </a:moveTo>
                <a:cubicBezTo>
                  <a:pt x="9842" y="13394"/>
                  <a:pt x="9812" y="13642"/>
                  <a:pt x="9811" y="13684"/>
                </a:cubicBezTo>
                <a:cubicBezTo>
                  <a:pt x="9805" y="13888"/>
                  <a:pt x="9783" y="14085"/>
                  <a:pt x="9779" y="14288"/>
                </a:cubicBezTo>
                <a:cubicBezTo>
                  <a:pt x="9776" y="14424"/>
                  <a:pt x="9776" y="14587"/>
                  <a:pt x="9842" y="14700"/>
                </a:cubicBezTo>
              </a:path>
              <a:path w="3589" h="1748">
                <a:moveTo>
                  <a:pt x="9684" y="14192"/>
                </a:moveTo>
                <a:cubicBezTo>
                  <a:pt x="9743" y="14147"/>
                  <a:pt x="9809" y="14150"/>
                  <a:pt x="9874" y="14097"/>
                </a:cubicBezTo>
                <a:cubicBezTo>
                  <a:pt x="9929" y="14052"/>
                  <a:pt x="9983" y="13989"/>
                  <a:pt x="10033" y="13938"/>
                </a:cubicBezTo>
              </a:path>
              <a:path w="3589" h="1748">
                <a:moveTo>
                  <a:pt x="10096" y="13811"/>
                </a:moveTo>
                <a:cubicBezTo>
                  <a:pt x="10096" y="14105"/>
                  <a:pt x="10067" y="14419"/>
                  <a:pt x="10128" y="14700"/>
                </a:cubicBezTo>
                <a:cubicBezTo>
                  <a:pt x="10128" y="14711"/>
                  <a:pt x="10128" y="14721"/>
                  <a:pt x="10128" y="14732"/>
                </a:cubicBezTo>
              </a:path>
              <a:path w="3589" h="1748">
                <a:moveTo>
                  <a:pt x="10382" y="13811"/>
                </a:moveTo>
                <a:cubicBezTo>
                  <a:pt x="10373" y="13946"/>
                  <a:pt x="10347" y="14057"/>
                  <a:pt x="10319" y="14192"/>
                </a:cubicBezTo>
                <a:cubicBezTo>
                  <a:pt x="10288" y="14341"/>
                  <a:pt x="10254" y="14547"/>
                  <a:pt x="10287" y="14700"/>
                </a:cubicBezTo>
                <a:cubicBezTo>
                  <a:pt x="10315" y="14756"/>
                  <a:pt x="10319" y="14771"/>
                  <a:pt x="10350" y="14796"/>
                </a:cubicBezTo>
                <a:cubicBezTo>
                  <a:pt x="10431" y="14773"/>
                  <a:pt x="10441" y="14765"/>
                  <a:pt x="10478" y="14668"/>
                </a:cubicBezTo>
                <a:cubicBezTo>
                  <a:pt x="10534" y="14523"/>
                  <a:pt x="10541" y="14410"/>
                  <a:pt x="10541" y="14256"/>
                </a:cubicBezTo>
                <a:cubicBezTo>
                  <a:pt x="10541" y="14090"/>
                  <a:pt x="10535" y="13935"/>
                  <a:pt x="10509" y="13780"/>
                </a:cubicBezTo>
                <a:cubicBezTo>
                  <a:pt x="10509" y="13748"/>
                  <a:pt x="10509" y="13737"/>
                  <a:pt x="10509" y="13716"/>
                </a:cubicBezTo>
                <a:cubicBezTo>
                  <a:pt x="10595" y="13725"/>
                  <a:pt x="10606" y="13719"/>
                  <a:pt x="10668" y="13780"/>
                </a:cubicBezTo>
                <a:cubicBezTo>
                  <a:pt x="10718" y="13829"/>
                  <a:pt x="10780" y="13933"/>
                  <a:pt x="10795" y="14002"/>
                </a:cubicBezTo>
                <a:cubicBezTo>
                  <a:pt x="10837" y="14192"/>
                  <a:pt x="10782" y="14419"/>
                  <a:pt x="10763" y="14605"/>
                </a:cubicBezTo>
                <a:cubicBezTo>
                  <a:pt x="10756" y="14676"/>
                  <a:pt x="10763" y="14755"/>
                  <a:pt x="10763" y="14827"/>
                </a:cubicBezTo>
                <a:cubicBezTo>
                  <a:pt x="10763" y="14663"/>
                  <a:pt x="10783" y="14511"/>
                  <a:pt x="10795" y="14351"/>
                </a:cubicBezTo>
                <a:cubicBezTo>
                  <a:pt x="10809" y="14169"/>
                  <a:pt x="10833" y="14018"/>
                  <a:pt x="10890" y="13843"/>
                </a:cubicBezTo>
                <a:cubicBezTo>
                  <a:pt x="10929" y="13721"/>
                  <a:pt x="10960" y="13655"/>
                  <a:pt x="11081" y="13621"/>
                </a:cubicBezTo>
                <a:cubicBezTo>
                  <a:pt x="11102" y="13621"/>
                  <a:pt x="11123" y="13621"/>
                  <a:pt x="11144" y="13621"/>
                </a:cubicBezTo>
                <a:cubicBezTo>
                  <a:pt x="11228" y="13745"/>
                  <a:pt x="11236" y="13851"/>
                  <a:pt x="11240" y="14002"/>
                </a:cubicBezTo>
                <a:cubicBezTo>
                  <a:pt x="11246" y="14237"/>
                  <a:pt x="11256" y="14468"/>
                  <a:pt x="11271" y="14700"/>
                </a:cubicBezTo>
                <a:cubicBezTo>
                  <a:pt x="11282" y="14866"/>
                  <a:pt x="11264" y="14953"/>
                  <a:pt x="11398" y="15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2"/>
          <p:cNvSpPr/>
          <p:nvPr/>
        </p:nvSpPr>
        <p:spPr>
          <a:xfrm>
            <a:off x="4343400" y="4903920"/>
            <a:ext cx="1211400" cy="503280"/>
          </a:xfrm>
          <a:custGeom>
            <a:avLst/>
            <a:gdLst/>
            <a:ahLst/>
            <a:rect l="l" t="t" r="r" b="b"/>
            <a:pathLst>
              <a:path w="3366" h="1398">
                <a:moveTo>
                  <a:pt x="12065" y="13780"/>
                </a:moveTo>
                <a:cubicBezTo>
                  <a:pt x="12065" y="13913"/>
                  <a:pt x="12086" y="14030"/>
                  <a:pt x="12097" y="14160"/>
                </a:cubicBezTo>
                <a:cubicBezTo>
                  <a:pt x="12119" y="14413"/>
                  <a:pt x="12097" y="15113"/>
                  <a:pt x="12097" y="14859"/>
                </a:cubicBezTo>
                <a:cubicBezTo>
                  <a:pt x="12097" y="14715"/>
                  <a:pt x="12093" y="14585"/>
                  <a:pt x="12128" y="14446"/>
                </a:cubicBezTo>
                <a:cubicBezTo>
                  <a:pt x="12150" y="14358"/>
                  <a:pt x="12215" y="14195"/>
                  <a:pt x="12319" y="14160"/>
                </a:cubicBezTo>
                <a:cubicBezTo>
                  <a:pt x="12385" y="14138"/>
                  <a:pt x="12521" y="14224"/>
                  <a:pt x="12541" y="14288"/>
                </a:cubicBezTo>
                <a:cubicBezTo>
                  <a:pt x="12575" y="14394"/>
                  <a:pt x="12540" y="14566"/>
                  <a:pt x="12510" y="14668"/>
                </a:cubicBezTo>
                <a:cubicBezTo>
                  <a:pt x="12480" y="14769"/>
                  <a:pt x="12454" y="14876"/>
                  <a:pt x="12382" y="14954"/>
                </a:cubicBezTo>
                <a:cubicBezTo>
                  <a:pt x="12307" y="15035"/>
                  <a:pt x="12301" y="15032"/>
                  <a:pt x="12224" y="14986"/>
                </a:cubicBezTo>
                <a:cubicBezTo>
                  <a:pt x="12235" y="14908"/>
                  <a:pt x="12261" y="14859"/>
                  <a:pt x="12319" y="14796"/>
                </a:cubicBezTo>
                <a:cubicBezTo>
                  <a:pt x="12400" y="14709"/>
                  <a:pt x="12468" y="14658"/>
                  <a:pt x="12573" y="14605"/>
                </a:cubicBezTo>
                <a:cubicBezTo>
                  <a:pt x="12630" y="14576"/>
                  <a:pt x="12754" y="14523"/>
                  <a:pt x="12795" y="14478"/>
                </a:cubicBezTo>
                <a:cubicBezTo>
                  <a:pt x="12837" y="14432"/>
                  <a:pt x="12908" y="14317"/>
                  <a:pt x="12922" y="14256"/>
                </a:cubicBezTo>
                <a:cubicBezTo>
                  <a:pt x="12938" y="14183"/>
                  <a:pt x="12933" y="14056"/>
                  <a:pt x="12890" y="14002"/>
                </a:cubicBezTo>
                <a:cubicBezTo>
                  <a:pt x="12880" y="13991"/>
                  <a:pt x="12869" y="13981"/>
                  <a:pt x="12859" y="13970"/>
                </a:cubicBezTo>
                <a:cubicBezTo>
                  <a:pt x="12792" y="14054"/>
                  <a:pt x="12747" y="14146"/>
                  <a:pt x="12732" y="14256"/>
                </a:cubicBezTo>
                <a:cubicBezTo>
                  <a:pt x="12715" y="14377"/>
                  <a:pt x="12723" y="14523"/>
                  <a:pt x="12764" y="14637"/>
                </a:cubicBezTo>
                <a:cubicBezTo>
                  <a:pt x="12803" y="14746"/>
                  <a:pt x="12838" y="14790"/>
                  <a:pt x="12954" y="14796"/>
                </a:cubicBezTo>
                <a:cubicBezTo>
                  <a:pt x="12975" y="14796"/>
                  <a:pt x="12997" y="14796"/>
                  <a:pt x="13018" y="14796"/>
                </a:cubicBezTo>
              </a:path>
              <a:path w="3366" h="1398">
                <a:moveTo>
                  <a:pt x="13462" y="14129"/>
                </a:moveTo>
                <a:cubicBezTo>
                  <a:pt x="13462" y="14073"/>
                  <a:pt x="13464" y="14078"/>
                  <a:pt x="13430" y="14034"/>
                </a:cubicBezTo>
                <a:cubicBezTo>
                  <a:pt x="13377" y="14086"/>
                  <a:pt x="13338" y="14126"/>
                  <a:pt x="13303" y="14192"/>
                </a:cubicBezTo>
                <a:cubicBezTo>
                  <a:pt x="13250" y="14294"/>
                  <a:pt x="13192" y="14428"/>
                  <a:pt x="13176" y="14542"/>
                </a:cubicBezTo>
                <a:cubicBezTo>
                  <a:pt x="13164" y="14628"/>
                  <a:pt x="13155" y="14761"/>
                  <a:pt x="13208" y="14827"/>
                </a:cubicBezTo>
                <a:cubicBezTo>
                  <a:pt x="13271" y="14905"/>
                  <a:pt x="13327" y="14897"/>
                  <a:pt x="13398" y="14859"/>
                </a:cubicBezTo>
                <a:cubicBezTo>
                  <a:pt x="13419" y="14848"/>
                  <a:pt x="13441" y="14838"/>
                  <a:pt x="13462" y="14827"/>
                </a:cubicBezTo>
              </a:path>
              <a:path w="3366" h="1398">
                <a:moveTo>
                  <a:pt x="13906" y="14129"/>
                </a:moveTo>
                <a:cubicBezTo>
                  <a:pt x="13879" y="14108"/>
                  <a:pt x="13788" y="14064"/>
                  <a:pt x="13748" y="14097"/>
                </a:cubicBezTo>
                <a:cubicBezTo>
                  <a:pt x="13696" y="14140"/>
                  <a:pt x="13681" y="14238"/>
                  <a:pt x="13652" y="14288"/>
                </a:cubicBezTo>
                <a:cubicBezTo>
                  <a:pt x="13611" y="14357"/>
                  <a:pt x="13621" y="14424"/>
                  <a:pt x="13621" y="14510"/>
                </a:cubicBezTo>
                <a:cubicBezTo>
                  <a:pt x="13621" y="14565"/>
                  <a:pt x="13635" y="14702"/>
                  <a:pt x="13684" y="14732"/>
                </a:cubicBezTo>
                <a:cubicBezTo>
                  <a:pt x="13719" y="14754"/>
                  <a:pt x="13791" y="14728"/>
                  <a:pt x="13811" y="14700"/>
                </a:cubicBezTo>
                <a:cubicBezTo>
                  <a:pt x="13868" y="14618"/>
                  <a:pt x="13902" y="14548"/>
                  <a:pt x="13906" y="14446"/>
                </a:cubicBezTo>
                <a:cubicBezTo>
                  <a:pt x="13910" y="14345"/>
                  <a:pt x="13938" y="14260"/>
                  <a:pt x="13938" y="14160"/>
                </a:cubicBezTo>
                <a:cubicBezTo>
                  <a:pt x="13938" y="14150"/>
                  <a:pt x="13938" y="14139"/>
                  <a:pt x="13938" y="14129"/>
                </a:cubicBezTo>
                <a:cubicBezTo>
                  <a:pt x="13891" y="14144"/>
                  <a:pt x="13889" y="14227"/>
                  <a:pt x="13906" y="14288"/>
                </a:cubicBezTo>
                <a:cubicBezTo>
                  <a:pt x="13933" y="14384"/>
                  <a:pt x="13931" y="14481"/>
                  <a:pt x="13970" y="14573"/>
                </a:cubicBezTo>
                <a:cubicBezTo>
                  <a:pt x="13995" y="14633"/>
                  <a:pt x="13999" y="14654"/>
                  <a:pt x="14034" y="14700"/>
                </a:cubicBezTo>
                <a:cubicBezTo>
                  <a:pt x="14122" y="14678"/>
                  <a:pt x="14103" y="14646"/>
                  <a:pt x="14129" y="14573"/>
                </a:cubicBezTo>
                <a:cubicBezTo>
                  <a:pt x="14139" y="14552"/>
                  <a:pt x="14150" y="14531"/>
                  <a:pt x="14160" y="14510"/>
                </a:cubicBezTo>
              </a:path>
              <a:path w="3366" h="1398">
                <a:moveTo>
                  <a:pt x="14192" y="14097"/>
                </a:moveTo>
                <a:cubicBezTo>
                  <a:pt x="14192" y="14189"/>
                  <a:pt x="14214" y="14268"/>
                  <a:pt x="14224" y="14351"/>
                </a:cubicBezTo>
                <a:cubicBezTo>
                  <a:pt x="14240" y="14475"/>
                  <a:pt x="14203" y="14563"/>
                  <a:pt x="14288" y="14668"/>
                </a:cubicBezTo>
                <a:cubicBezTo>
                  <a:pt x="14343" y="14735"/>
                  <a:pt x="14288" y="14716"/>
                  <a:pt x="14383" y="14732"/>
                </a:cubicBezTo>
                <a:cubicBezTo>
                  <a:pt x="14401" y="14657"/>
                  <a:pt x="14465" y="14597"/>
                  <a:pt x="14478" y="14510"/>
                </a:cubicBezTo>
                <a:cubicBezTo>
                  <a:pt x="14496" y="14393"/>
                  <a:pt x="14510" y="14280"/>
                  <a:pt x="14510" y="14160"/>
                </a:cubicBezTo>
                <a:cubicBezTo>
                  <a:pt x="14510" y="14107"/>
                  <a:pt x="14510" y="14097"/>
                  <a:pt x="14510" y="14065"/>
                </a:cubicBezTo>
                <a:cubicBezTo>
                  <a:pt x="14455" y="14083"/>
                  <a:pt x="14464" y="14188"/>
                  <a:pt x="14478" y="14256"/>
                </a:cubicBezTo>
                <a:cubicBezTo>
                  <a:pt x="14504" y="14379"/>
                  <a:pt x="14510" y="14518"/>
                  <a:pt x="14542" y="14637"/>
                </a:cubicBezTo>
                <a:cubicBezTo>
                  <a:pt x="14564" y="14718"/>
                  <a:pt x="14572" y="14765"/>
                  <a:pt x="14637" y="14732"/>
                </a:cubicBezTo>
              </a:path>
              <a:path w="3366" h="1398">
                <a:moveTo>
                  <a:pt x="14986" y="13843"/>
                </a:moveTo>
                <a:cubicBezTo>
                  <a:pt x="15073" y="13756"/>
                  <a:pt x="14930" y="13928"/>
                  <a:pt x="14922" y="13938"/>
                </a:cubicBezTo>
                <a:cubicBezTo>
                  <a:pt x="14840" y="14038"/>
                  <a:pt x="14806" y="14141"/>
                  <a:pt x="14764" y="14256"/>
                </a:cubicBezTo>
                <a:cubicBezTo>
                  <a:pt x="14740" y="14321"/>
                  <a:pt x="14732" y="14320"/>
                  <a:pt x="14732" y="14383"/>
                </a:cubicBezTo>
                <a:cubicBezTo>
                  <a:pt x="14788" y="14341"/>
                  <a:pt x="14860" y="14331"/>
                  <a:pt x="14922" y="14288"/>
                </a:cubicBezTo>
                <a:cubicBezTo>
                  <a:pt x="15002" y="14233"/>
                  <a:pt x="14999" y="14235"/>
                  <a:pt x="15081" y="14256"/>
                </a:cubicBezTo>
                <a:cubicBezTo>
                  <a:pt x="15139" y="14353"/>
                  <a:pt x="15097" y="14400"/>
                  <a:pt x="15081" y="14510"/>
                </a:cubicBezTo>
                <a:cubicBezTo>
                  <a:pt x="15079" y="14523"/>
                  <a:pt x="15056" y="14713"/>
                  <a:pt x="15018" y="14700"/>
                </a:cubicBezTo>
                <a:cubicBezTo>
                  <a:pt x="15018" y="14689"/>
                  <a:pt x="15018" y="14679"/>
                  <a:pt x="15018" y="14668"/>
                </a:cubicBezTo>
                <a:cubicBezTo>
                  <a:pt x="15072" y="14651"/>
                  <a:pt x="15088" y="14580"/>
                  <a:pt x="15113" y="14510"/>
                </a:cubicBezTo>
                <a:cubicBezTo>
                  <a:pt x="15166" y="14363"/>
                  <a:pt x="15221" y="14212"/>
                  <a:pt x="15272" y="14065"/>
                </a:cubicBezTo>
                <a:cubicBezTo>
                  <a:pt x="15317" y="13935"/>
                  <a:pt x="15393" y="13817"/>
                  <a:pt x="15430" y="13684"/>
                </a:cubicBezTo>
                <a:cubicBezTo>
                  <a:pt x="15430" y="13652"/>
                  <a:pt x="15430" y="13642"/>
                  <a:pt x="15430" y="13621"/>
                </a:cubicBezTo>
                <a:cubicBezTo>
                  <a:pt x="15383" y="13716"/>
                  <a:pt x="15339" y="13806"/>
                  <a:pt x="15304" y="13906"/>
                </a:cubicBezTo>
                <a:cubicBezTo>
                  <a:pt x="15255" y="14049"/>
                  <a:pt x="15240" y="14169"/>
                  <a:pt x="15240" y="14319"/>
                </a:cubicBezTo>
                <a:cubicBezTo>
                  <a:pt x="15240" y="14377"/>
                  <a:pt x="15270" y="14533"/>
                  <a:pt x="15304" y="14573"/>
                </a:cubicBezTo>
                <a:cubicBezTo>
                  <a:pt x="15339" y="14615"/>
                  <a:pt x="15413" y="14527"/>
                  <a:pt x="15430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3"/>
          <p:cNvSpPr/>
          <p:nvPr/>
        </p:nvSpPr>
        <p:spPr>
          <a:xfrm>
            <a:off x="5807160" y="4754520"/>
            <a:ext cx="731880" cy="927000"/>
          </a:xfrm>
          <a:custGeom>
            <a:avLst/>
            <a:gdLst/>
            <a:ahLst/>
            <a:rect l="l" t="t" r="r" b="b"/>
            <a:pathLst>
              <a:path w="2033" h="2573">
                <a:moveTo>
                  <a:pt x="16383" y="13208"/>
                </a:moveTo>
                <a:cubicBezTo>
                  <a:pt x="16400" y="13361"/>
                  <a:pt x="16442" y="13494"/>
                  <a:pt x="16446" y="13652"/>
                </a:cubicBezTo>
                <a:cubicBezTo>
                  <a:pt x="16452" y="13938"/>
                  <a:pt x="16446" y="14224"/>
                  <a:pt x="16446" y="14510"/>
                </a:cubicBezTo>
              </a:path>
              <a:path w="2033" h="2573">
                <a:moveTo>
                  <a:pt x="16129" y="14065"/>
                </a:moveTo>
                <a:cubicBezTo>
                  <a:pt x="16190" y="14065"/>
                  <a:pt x="16265" y="14052"/>
                  <a:pt x="16320" y="14034"/>
                </a:cubicBezTo>
                <a:cubicBezTo>
                  <a:pt x="16420" y="14001"/>
                  <a:pt x="16492" y="13956"/>
                  <a:pt x="16574" y="13906"/>
                </a:cubicBezTo>
                <a:cubicBezTo>
                  <a:pt x="16680" y="13842"/>
                  <a:pt x="16707" y="13830"/>
                  <a:pt x="16764" y="13716"/>
                </a:cubicBezTo>
              </a:path>
              <a:path w="2033" h="2573">
                <a:moveTo>
                  <a:pt x="16732" y="13240"/>
                </a:moveTo>
                <a:cubicBezTo>
                  <a:pt x="16732" y="13351"/>
                  <a:pt x="16754" y="13452"/>
                  <a:pt x="16764" y="13557"/>
                </a:cubicBezTo>
                <a:cubicBezTo>
                  <a:pt x="16781" y="13745"/>
                  <a:pt x="16772" y="13941"/>
                  <a:pt x="16796" y="14129"/>
                </a:cubicBezTo>
                <a:cubicBezTo>
                  <a:pt x="16809" y="14232"/>
                  <a:pt x="16828" y="14310"/>
                  <a:pt x="16828" y="14414"/>
                </a:cubicBezTo>
                <a:cubicBezTo>
                  <a:pt x="16828" y="14252"/>
                  <a:pt x="16815" y="14094"/>
                  <a:pt x="16859" y="13938"/>
                </a:cubicBezTo>
                <a:cubicBezTo>
                  <a:pt x="16883" y="13854"/>
                  <a:pt x="16902" y="13769"/>
                  <a:pt x="16986" y="13748"/>
                </a:cubicBezTo>
                <a:cubicBezTo>
                  <a:pt x="17053" y="13831"/>
                  <a:pt x="17062" y="13901"/>
                  <a:pt x="17082" y="14002"/>
                </a:cubicBezTo>
                <a:cubicBezTo>
                  <a:pt x="17101" y="14098"/>
                  <a:pt x="17132" y="14266"/>
                  <a:pt x="17177" y="14351"/>
                </a:cubicBezTo>
                <a:cubicBezTo>
                  <a:pt x="17205" y="14380"/>
                  <a:pt x="17211" y="14391"/>
                  <a:pt x="17240" y="14383"/>
                </a:cubicBezTo>
                <a:cubicBezTo>
                  <a:pt x="17323" y="14383"/>
                  <a:pt x="17327" y="14364"/>
                  <a:pt x="17367" y="14288"/>
                </a:cubicBezTo>
                <a:cubicBezTo>
                  <a:pt x="17423" y="14183"/>
                  <a:pt x="17449" y="14054"/>
                  <a:pt x="17462" y="13938"/>
                </a:cubicBezTo>
                <a:cubicBezTo>
                  <a:pt x="17473" y="13835"/>
                  <a:pt x="17462" y="13725"/>
                  <a:pt x="17462" y="13621"/>
                </a:cubicBezTo>
                <a:cubicBezTo>
                  <a:pt x="17409" y="13639"/>
                  <a:pt x="17392" y="13711"/>
                  <a:pt x="17367" y="13780"/>
                </a:cubicBezTo>
                <a:cubicBezTo>
                  <a:pt x="17319" y="13914"/>
                  <a:pt x="17280" y="14047"/>
                  <a:pt x="17304" y="14192"/>
                </a:cubicBezTo>
                <a:cubicBezTo>
                  <a:pt x="17320" y="14286"/>
                  <a:pt x="17372" y="14408"/>
                  <a:pt x="17462" y="14446"/>
                </a:cubicBezTo>
                <a:cubicBezTo>
                  <a:pt x="17505" y="14446"/>
                  <a:pt x="17526" y="14446"/>
                  <a:pt x="17558" y="14446"/>
                </a:cubicBezTo>
              </a:path>
              <a:path w="2033" h="2573">
                <a:moveTo>
                  <a:pt x="17653" y="13716"/>
                </a:moveTo>
                <a:cubicBezTo>
                  <a:pt x="17653" y="13818"/>
                  <a:pt x="17674" y="13904"/>
                  <a:pt x="17685" y="14002"/>
                </a:cubicBezTo>
                <a:cubicBezTo>
                  <a:pt x="17700" y="14136"/>
                  <a:pt x="17723" y="14257"/>
                  <a:pt x="17780" y="14383"/>
                </a:cubicBezTo>
                <a:cubicBezTo>
                  <a:pt x="17802" y="14431"/>
                  <a:pt x="17811" y="14418"/>
                  <a:pt x="17844" y="14446"/>
                </a:cubicBezTo>
                <a:cubicBezTo>
                  <a:pt x="17880" y="14391"/>
                  <a:pt x="17913" y="14323"/>
                  <a:pt x="17939" y="14256"/>
                </a:cubicBezTo>
                <a:cubicBezTo>
                  <a:pt x="17989" y="14127"/>
                  <a:pt x="17985" y="13949"/>
                  <a:pt x="18002" y="13811"/>
                </a:cubicBezTo>
                <a:cubicBezTo>
                  <a:pt x="18003" y="13801"/>
                  <a:pt x="18002" y="13613"/>
                  <a:pt x="18002" y="13780"/>
                </a:cubicBezTo>
                <a:cubicBezTo>
                  <a:pt x="18002" y="13944"/>
                  <a:pt x="18022" y="14097"/>
                  <a:pt x="18034" y="14256"/>
                </a:cubicBezTo>
                <a:cubicBezTo>
                  <a:pt x="18049" y="14464"/>
                  <a:pt x="18085" y="14654"/>
                  <a:pt x="18129" y="14859"/>
                </a:cubicBezTo>
                <a:cubicBezTo>
                  <a:pt x="18170" y="15050"/>
                  <a:pt x="18161" y="15235"/>
                  <a:pt x="18161" y="15430"/>
                </a:cubicBezTo>
                <a:cubicBezTo>
                  <a:pt x="18161" y="15531"/>
                  <a:pt x="18162" y="15680"/>
                  <a:pt x="18066" y="15748"/>
                </a:cubicBezTo>
                <a:cubicBezTo>
                  <a:pt x="17960" y="15824"/>
                  <a:pt x="17900" y="15747"/>
                  <a:pt x="17844" y="15653"/>
                </a:cubicBezTo>
                <a:cubicBezTo>
                  <a:pt x="17823" y="15611"/>
                  <a:pt x="17801" y="15568"/>
                  <a:pt x="17780" y="15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4"/>
          <p:cNvSpPr/>
          <p:nvPr/>
        </p:nvSpPr>
        <p:spPr>
          <a:xfrm>
            <a:off x="6800760" y="4548240"/>
            <a:ext cx="1852560" cy="779400"/>
          </a:xfrm>
          <a:custGeom>
            <a:avLst/>
            <a:gdLst/>
            <a:ahLst/>
            <a:rect l="l" t="t" r="r" b="b"/>
            <a:pathLst>
              <a:path w="5145" h="2161">
                <a:moveTo>
                  <a:pt x="19240" y="12827"/>
                </a:moveTo>
                <a:cubicBezTo>
                  <a:pt x="19203" y="12903"/>
                  <a:pt x="19209" y="12953"/>
                  <a:pt x="19209" y="13049"/>
                </a:cubicBezTo>
                <a:cubicBezTo>
                  <a:pt x="19209" y="13236"/>
                  <a:pt x="19250" y="13435"/>
                  <a:pt x="19272" y="13621"/>
                </a:cubicBezTo>
                <a:cubicBezTo>
                  <a:pt x="19292" y="13790"/>
                  <a:pt x="19326" y="13997"/>
                  <a:pt x="19368" y="14160"/>
                </a:cubicBezTo>
                <a:cubicBezTo>
                  <a:pt x="19398" y="14277"/>
                  <a:pt x="19424" y="14224"/>
                  <a:pt x="19368" y="14224"/>
                </a:cubicBezTo>
                <a:cubicBezTo>
                  <a:pt x="19304" y="14081"/>
                  <a:pt x="19298" y="13922"/>
                  <a:pt x="19240" y="13780"/>
                </a:cubicBezTo>
                <a:cubicBezTo>
                  <a:pt x="19203" y="13689"/>
                  <a:pt x="19152" y="13559"/>
                  <a:pt x="19050" y="13526"/>
                </a:cubicBezTo>
                <a:cubicBezTo>
                  <a:pt x="19039" y="13526"/>
                  <a:pt x="19029" y="13526"/>
                  <a:pt x="19018" y="13526"/>
                </a:cubicBezTo>
                <a:cubicBezTo>
                  <a:pt x="18955" y="13588"/>
                  <a:pt x="18903" y="13655"/>
                  <a:pt x="18891" y="13748"/>
                </a:cubicBezTo>
                <a:cubicBezTo>
                  <a:pt x="18871" y="13901"/>
                  <a:pt x="18881" y="14079"/>
                  <a:pt x="18923" y="14224"/>
                </a:cubicBezTo>
                <a:cubicBezTo>
                  <a:pt x="18949" y="14313"/>
                  <a:pt x="18978" y="14421"/>
                  <a:pt x="19082" y="14446"/>
                </a:cubicBezTo>
                <a:cubicBezTo>
                  <a:pt x="19184" y="14470"/>
                  <a:pt x="19337" y="14449"/>
                  <a:pt x="19431" y="14414"/>
                </a:cubicBezTo>
                <a:cubicBezTo>
                  <a:pt x="19524" y="14379"/>
                  <a:pt x="19572" y="14304"/>
                  <a:pt x="19622" y="14224"/>
                </a:cubicBezTo>
              </a:path>
              <a:path w="5145" h="2161">
                <a:moveTo>
                  <a:pt x="19685" y="13875"/>
                </a:moveTo>
                <a:cubicBezTo>
                  <a:pt x="19754" y="13875"/>
                  <a:pt x="19760" y="13886"/>
                  <a:pt x="19812" y="13875"/>
                </a:cubicBezTo>
                <a:cubicBezTo>
                  <a:pt x="19880" y="13860"/>
                  <a:pt x="19913" y="13863"/>
                  <a:pt x="19971" y="13811"/>
                </a:cubicBezTo>
                <a:cubicBezTo>
                  <a:pt x="20011" y="13775"/>
                  <a:pt x="20008" y="13723"/>
                  <a:pt x="20034" y="13684"/>
                </a:cubicBezTo>
                <a:cubicBezTo>
                  <a:pt x="20071" y="13629"/>
                  <a:pt x="20084" y="13612"/>
                  <a:pt x="20034" y="13557"/>
                </a:cubicBezTo>
                <a:cubicBezTo>
                  <a:pt x="20003" y="13523"/>
                  <a:pt x="19922" y="13507"/>
                  <a:pt x="19876" y="13526"/>
                </a:cubicBezTo>
                <a:cubicBezTo>
                  <a:pt x="19788" y="13562"/>
                  <a:pt x="19757" y="13635"/>
                  <a:pt x="19717" y="13716"/>
                </a:cubicBezTo>
                <a:cubicBezTo>
                  <a:pt x="19671" y="13809"/>
                  <a:pt x="19666" y="13961"/>
                  <a:pt x="19685" y="14065"/>
                </a:cubicBezTo>
                <a:cubicBezTo>
                  <a:pt x="19700" y="14145"/>
                  <a:pt x="19748" y="14324"/>
                  <a:pt x="19812" y="14383"/>
                </a:cubicBezTo>
                <a:cubicBezTo>
                  <a:pt x="19874" y="14440"/>
                  <a:pt x="19937" y="14465"/>
                  <a:pt x="20002" y="14414"/>
                </a:cubicBezTo>
                <a:cubicBezTo>
                  <a:pt x="20095" y="14341"/>
                  <a:pt x="20090" y="14304"/>
                  <a:pt x="20130" y="14192"/>
                </a:cubicBezTo>
              </a:path>
              <a:path w="5145" h="2161">
                <a:moveTo>
                  <a:pt x="20193" y="13684"/>
                </a:moveTo>
                <a:cubicBezTo>
                  <a:pt x="20182" y="13690"/>
                  <a:pt x="20181" y="13837"/>
                  <a:pt x="20193" y="13906"/>
                </a:cubicBezTo>
                <a:cubicBezTo>
                  <a:pt x="20236" y="14152"/>
                  <a:pt x="20342" y="14387"/>
                  <a:pt x="20352" y="14637"/>
                </a:cubicBezTo>
                <a:cubicBezTo>
                  <a:pt x="20354" y="14690"/>
                  <a:pt x="20352" y="14743"/>
                  <a:pt x="20352" y="14796"/>
                </a:cubicBezTo>
                <a:cubicBezTo>
                  <a:pt x="20332" y="14716"/>
                  <a:pt x="20308" y="14633"/>
                  <a:pt x="20288" y="14542"/>
                </a:cubicBezTo>
                <a:cubicBezTo>
                  <a:pt x="20244" y="14342"/>
                  <a:pt x="20205" y="14080"/>
                  <a:pt x="20225" y="13875"/>
                </a:cubicBezTo>
                <a:cubicBezTo>
                  <a:pt x="20234" y="13782"/>
                  <a:pt x="20249" y="13610"/>
                  <a:pt x="20288" y="13526"/>
                </a:cubicBezTo>
                <a:cubicBezTo>
                  <a:pt x="20317" y="13497"/>
                  <a:pt x="20323" y="13486"/>
                  <a:pt x="20352" y="13494"/>
                </a:cubicBezTo>
                <a:cubicBezTo>
                  <a:pt x="20421" y="13511"/>
                  <a:pt x="20444" y="13555"/>
                  <a:pt x="20479" y="13621"/>
                </a:cubicBezTo>
                <a:cubicBezTo>
                  <a:pt x="20536" y="13729"/>
                  <a:pt x="20492" y="13799"/>
                  <a:pt x="20479" y="13906"/>
                </a:cubicBezTo>
                <a:cubicBezTo>
                  <a:pt x="20464" y="14026"/>
                  <a:pt x="20429" y="14185"/>
                  <a:pt x="20352" y="14288"/>
                </a:cubicBezTo>
                <a:cubicBezTo>
                  <a:pt x="20328" y="14321"/>
                  <a:pt x="20233" y="14440"/>
                  <a:pt x="20225" y="14383"/>
                </a:cubicBezTo>
                <a:cubicBezTo>
                  <a:pt x="20225" y="14341"/>
                  <a:pt x="20225" y="14320"/>
                  <a:pt x="20225" y="14288"/>
                </a:cubicBezTo>
              </a:path>
              <a:path w="5145" h="2161">
                <a:moveTo>
                  <a:pt x="20860" y="13494"/>
                </a:moveTo>
                <a:cubicBezTo>
                  <a:pt x="20860" y="13433"/>
                  <a:pt x="20855" y="13430"/>
                  <a:pt x="20828" y="13367"/>
                </a:cubicBezTo>
                <a:cubicBezTo>
                  <a:pt x="20775" y="13388"/>
                  <a:pt x="20671" y="13465"/>
                  <a:pt x="20638" y="13526"/>
                </a:cubicBezTo>
                <a:cubicBezTo>
                  <a:pt x="20573" y="13646"/>
                  <a:pt x="20546" y="13805"/>
                  <a:pt x="20542" y="13938"/>
                </a:cubicBezTo>
                <a:cubicBezTo>
                  <a:pt x="20538" y="14058"/>
                  <a:pt x="20563" y="14178"/>
                  <a:pt x="20669" y="14256"/>
                </a:cubicBezTo>
                <a:cubicBezTo>
                  <a:pt x="20728" y="14299"/>
                  <a:pt x="20807" y="14267"/>
                  <a:pt x="20860" y="14224"/>
                </a:cubicBezTo>
                <a:cubicBezTo>
                  <a:pt x="20916" y="14179"/>
                  <a:pt x="20973" y="14070"/>
                  <a:pt x="20987" y="14002"/>
                </a:cubicBezTo>
                <a:cubicBezTo>
                  <a:pt x="21013" y="13872"/>
                  <a:pt x="21012" y="13646"/>
                  <a:pt x="20955" y="13526"/>
                </a:cubicBezTo>
                <a:cubicBezTo>
                  <a:pt x="20923" y="13458"/>
                  <a:pt x="20877" y="13451"/>
                  <a:pt x="20828" y="13494"/>
                </a:cubicBezTo>
                <a:cubicBezTo>
                  <a:pt x="20799" y="13523"/>
                  <a:pt x="20793" y="13534"/>
                  <a:pt x="20764" y="13526"/>
                </a:cubicBezTo>
              </a:path>
              <a:path w="5145" h="2161">
                <a:moveTo>
                  <a:pt x="21304" y="13335"/>
                </a:moveTo>
                <a:cubicBezTo>
                  <a:pt x="21258" y="13405"/>
                  <a:pt x="21217" y="13480"/>
                  <a:pt x="21177" y="13557"/>
                </a:cubicBezTo>
                <a:cubicBezTo>
                  <a:pt x="21146" y="13616"/>
                  <a:pt x="21123" y="13665"/>
                  <a:pt x="21082" y="13716"/>
                </a:cubicBezTo>
                <a:cubicBezTo>
                  <a:pt x="21151" y="13716"/>
                  <a:pt x="21160" y="13701"/>
                  <a:pt x="21209" y="13652"/>
                </a:cubicBezTo>
                <a:cubicBezTo>
                  <a:pt x="21241" y="13620"/>
                  <a:pt x="21316" y="13560"/>
                  <a:pt x="21368" y="13589"/>
                </a:cubicBezTo>
                <a:cubicBezTo>
                  <a:pt x="21428" y="13623"/>
                  <a:pt x="21413" y="13819"/>
                  <a:pt x="21400" y="13875"/>
                </a:cubicBezTo>
                <a:cubicBezTo>
                  <a:pt x="21372" y="13998"/>
                  <a:pt x="21285" y="14113"/>
                  <a:pt x="21241" y="14224"/>
                </a:cubicBezTo>
                <a:cubicBezTo>
                  <a:pt x="21241" y="14256"/>
                  <a:pt x="21241" y="14267"/>
                  <a:pt x="21209" y="14256"/>
                </a:cubicBezTo>
                <a:cubicBezTo>
                  <a:pt x="21209" y="14171"/>
                  <a:pt x="21209" y="14087"/>
                  <a:pt x="21209" y="14002"/>
                </a:cubicBezTo>
              </a:path>
              <a:path w="5145" h="2161">
                <a:moveTo>
                  <a:pt x="21558" y="13272"/>
                </a:moveTo>
                <a:cubicBezTo>
                  <a:pt x="21558" y="13509"/>
                  <a:pt x="21562" y="13744"/>
                  <a:pt x="21590" y="13970"/>
                </a:cubicBezTo>
                <a:cubicBezTo>
                  <a:pt x="21590" y="14057"/>
                  <a:pt x="21587" y="14082"/>
                  <a:pt x="21622" y="14129"/>
                </a:cubicBezTo>
              </a:path>
              <a:path w="5145" h="2161">
                <a:moveTo>
                  <a:pt x="21971" y="12890"/>
                </a:moveTo>
                <a:cubicBezTo>
                  <a:pt x="21971" y="13115"/>
                  <a:pt x="21950" y="13333"/>
                  <a:pt x="21939" y="13557"/>
                </a:cubicBezTo>
                <a:cubicBezTo>
                  <a:pt x="21927" y="13783"/>
                  <a:pt x="21976" y="14006"/>
                  <a:pt x="22003" y="14224"/>
                </a:cubicBezTo>
                <a:cubicBezTo>
                  <a:pt x="22003" y="14277"/>
                  <a:pt x="21992" y="14298"/>
                  <a:pt x="22034" y="14288"/>
                </a:cubicBezTo>
              </a:path>
              <a:path w="5145" h="2161">
                <a:moveTo>
                  <a:pt x="21844" y="13716"/>
                </a:moveTo>
                <a:cubicBezTo>
                  <a:pt x="21929" y="13767"/>
                  <a:pt x="21969" y="13721"/>
                  <a:pt x="22066" y="13716"/>
                </a:cubicBezTo>
                <a:cubicBezTo>
                  <a:pt x="22156" y="13711"/>
                  <a:pt x="22198" y="13709"/>
                  <a:pt x="22288" y="13684"/>
                </a:cubicBezTo>
              </a:path>
              <a:path w="5145" h="2161">
                <a:moveTo>
                  <a:pt x="22796" y="12636"/>
                </a:moveTo>
                <a:cubicBezTo>
                  <a:pt x="22820" y="12782"/>
                  <a:pt x="22799" y="12895"/>
                  <a:pt x="22796" y="13049"/>
                </a:cubicBezTo>
                <a:cubicBezTo>
                  <a:pt x="22789" y="13401"/>
                  <a:pt x="22803" y="13749"/>
                  <a:pt x="22828" y="14097"/>
                </a:cubicBezTo>
                <a:cubicBezTo>
                  <a:pt x="22835" y="14193"/>
                  <a:pt x="22845" y="14260"/>
                  <a:pt x="22860" y="14351"/>
                </a:cubicBezTo>
              </a:path>
              <a:path w="5145" h="2161">
                <a:moveTo>
                  <a:pt x="22606" y="13557"/>
                </a:moveTo>
                <a:cubicBezTo>
                  <a:pt x="22623" y="13627"/>
                  <a:pt x="22667" y="13649"/>
                  <a:pt x="22733" y="13684"/>
                </a:cubicBezTo>
                <a:cubicBezTo>
                  <a:pt x="22803" y="13722"/>
                  <a:pt x="22846" y="13716"/>
                  <a:pt x="22924" y="13716"/>
                </a:cubicBezTo>
              </a:path>
              <a:path w="5145" h="2161">
                <a:moveTo>
                  <a:pt x="22987" y="13684"/>
                </a:moveTo>
                <a:cubicBezTo>
                  <a:pt x="23073" y="13622"/>
                  <a:pt x="23097" y="13560"/>
                  <a:pt x="23146" y="13462"/>
                </a:cubicBezTo>
              </a:path>
              <a:path w="5145" h="2161">
                <a:moveTo>
                  <a:pt x="23146" y="12700"/>
                </a:moveTo>
                <a:cubicBezTo>
                  <a:pt x="23210" y="12780"/>
                  <a:pt x="23232" y="12881"/>
                  <a:pt x="23241" y="12986"/>
                </a:cubicBezTo>
                <a:cubicBezTo>
                  <a:pt x="23260" y="13201"/>
                  <a:pt x="23225" y="13411"/>
                  <a:pt x="23209" y="13621"/>
                </a:cubicBezTo>
                <a:cubicBezTo>
                  <a:pt x="23200" y="13746"/>
                  <a:pt x="23209" y="13876"/>
                  <a:pt x="23209" y="14002"/>
                </a:cubicBezTo>
                <a:cubicBezTo>
                  <a:pt x="23251" y="13918"/>
                  <a:pt x="23292" y="13756"/>
                  <a:pt x="23304" y="13652"/>
                </a:cubicBezTo>
                <a:cubicBezTo>
                  <a:pt x="23319" y="13515"/>
                  <a:pt x="23322" y="13420"/>
                  <a:pt x="23400" y="13303"/>
                </a:cubicBezTo>
                <a:cubicBezTo>
                  <a:pt x="23425" y="13377"/>
                  <a:pt x="23455" y="13471"/>
                  <a:pt x="23463" y="13557"/>
                </a:cubicBezTo>
                <a:cubicBezTo>
                  <a:pt x="23476" y="13702"/>
                  <a:pt x="23490" y="13863"/>
                  <a:pt x="23527" y="14002"/>
                </a:cubicBezTo>
                <a:cubicBezTo>
                  <a:pt x="23537" y="14023"/>
                  <a:pt x="23548" y="14044"/>
                  <a:pt x="23558" y="14065"/>
                </a:cubicBezTo>
                <a:cubicBezTo>
                  <a:pt x="23621" y="14074"/>
                  <a:pt x="23692" y="14111"/>
                  <a:pt x="23749" y="14065"/>
                </a:cubicBezTo>
                <a:cubicBezTo>
                  <a:pt x="23826" y="14004"/>
                  <a:pt x="23894" y="13845"/>
                  <a:pt x="23908" y="13748"/>
                </a:cubicBezTo>
                <a:cubicBezTo>
                  <a:pt x="23933" y="13580"/>
                  <a:pt x="23900" y="13397"/>
                  <a:pt x="23876" y="13240"/>
                </a:cubicBezTo>
                <a:cubicBezTo>
                  <a:pt x="23876" y="13219"/>
                  <a:pt x="23876" y="13197"/>
                  <a:pt x="23876" y="13176"/>
                </a:cubicBezTo>
                <a:cubicBezTo>
                  <a:pt x="23827" y="13218"/>
                  <a:pt x="23801" y="13213"/>
                  <a:pt x="23781" y="13303"/>
                </a:cubicBezTo>
                <a:cubicBezTo>
                  <a:pt x="23749" y="13449"/>
                  <a:pt x="23757" y="13600"/>
                  <a:pt x="23781" y="13748"/>
                </a:cubicBezTo>
                <a:cubicBezTo>
                  <a:pt x="23791" y="13812"/>
                  <a:pt x="23837" y="14056"/>
                  <a:pt x="23908" y="14097"/>
                </a:cubicBezTo>
                <a:cubicBezTo>
                  <a:pt x="23933" y="14111"/>
                  <a:pt x="24004" y="14117"/>
                  <a:pt x="24035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5"/>
          <p:cNvSpPr/>
          <p:nvPr/>
        </p:nvSpPr>
        <p:spPr>
          <a:xfrm>
            <a:off x="2046240" y="5554800"/>
            <a:ext cx="789120" cy="446040"/>
          </a:xfrm>
          <a:custGeom>
            <a:avLst/>
            <a:gdLst/>
            <a:ahLst/>
            <a:rect l="l" t="t" r="r" b="b"/>
            <a:pathLst>
              <a:path w="2192" h="1240">
                <a:moveTo>
                  <a:pt x="6286" y="15430"/>
                </a:moveTo>
                <a:cubicBezTo>
                  <a:pt x="6209" y="15430"/>
                  <a:pt x="6160" y="15428"/>
                  <a:pt x="6096" y="15462"/>
                </a:cubicBezTo>
                <a:cubicBezTo>
                  <a:pt x="6013" y="15506"/>
                  <a:pt x="5944" y="15557"/>
                  <a:pt x="5874" y="15621"/>
                </a:cubicBezTo>
                <a:cubicBezTo>
                  <a:pt x="5781" y="15707"/>
                  <a:pt x="5768" y="15718"/>
                  <a:pt x="5715" y="15843"/>
                </a:cubicBezTo>
                <a:cubicBezTo>
                  <a:pt x="5689" y="15895"/>
                  <a:pt x="5678" y="15903"/>
                  <a:pt x="5683" y="15938"/>
                </a:cubicBezTo>
                <a:cubicBezTo>
                  <a:pt x="5723" y="15909"/>
                  <a:pt x="5761" y="15880"/>
                  <a:pt x="5810" y="15875"/>
                </a:cubicBezTo>
                <a:cubicBezTo>
                  <a:pt x="5865" y="15869"/>
                  <a:pt x="5922" y="15889"/>
                  <a:pt x="5969" y="15907"/>
                </a:cubicBezTo>
                <a:cubicBezTo>
                  <a:pt x="6077" y="15950"/>
                  <a:pt x="6071" y="16035"/>
                  <a:pt x="6096" y="16129"/>
                </a:cubicBezTo>
                <a:cubicBezTo>
                  <a:pt x="6131" y="16262"/>
                  <a:pt x="6116" y="16317"/>
                  <a:pt x="6096" y="16446"/>
                </a:cubicBezTo>
                <a:cubicBezTo>
                  <a:pt x="6081" y="16539"/>
                  <a:pt x="6045" y="16640"/>
                  <a:pt x="5937" y="16669"/>
                </a:cubicBezTo>
                <a:cubicBezTo>
                  <a:pt x="5855" y="16691"/>
                  <a:pt x="5769" y="16589"/>
                  <a:pt x="5715" y="16542"/>
                </a:cubicBezTo>
              </a:path>
              <a:path w="2192" h="1240">
                <a:moveTo>
                  <a:pt x="6414" y="15716"/>
                </a:moveTo>
                <a:cubicBezTo>
                  <a:pt x="6407" y="15696"/>
                  <a:pt x="6384" y="15638"/>
                  <a:pt x="6350" y="15621"/>
                </a:cubicBezTo>
                <a:cubicBezTo>
                  <a:pt x="6272" y="15583"/>
                  <a:pt x="6214" y="15695"/>
                  <a:pt x="6191" y="15748"/>
                </a:cubicBezTo>
                <a:cubicBezTo>
                  <a:pt x="6140" y="15866"/>
                  <a:pt x="6113" y="16005"/>
                  <a:pt x="6096" y="16129"/>
                </a:cubicBezTo>
                <a:cubicBezTo>
                  <a:pt x="6084" y="16220"/>
                  <a:pt x="6150" y="16311"/>
                  <a:pt x="6191" y="16383"/>
                </a:cubicBezTo>
                <a:cubicBezTo>
                  <a:pt x="6235" y="16462"/>
                  <a:pt x="6237" y="16446"/>
                  <a:pt x="6318" y="16446"/>
                </a:cubicBezTo>
                <a:cubicBezTo>
                  <a:pt x="6392" y="16356"/>
                  <a:pt x="6410" y="16278"/>
                  <a:pt x="6414" y="16161"/>
                </a:cubicBezTo>
                <a:cubicBezTo>
                  <a:pt x="6420" y="16013"/>
                  <a:pt x="6414" y="15864"/>
                  <a:pt x="6414" y="15716"/>
                </a:cubicBezTo>
                <a:cubicBezTo>
                  <a:pt x="6414" y="15797"/>
                  <a:pt x="6436" y="15859"/>
                  <a:pt x="6445" y="15938"/>
                </a:cubicBezTo>
                <a:cubicBezTo>
                  <a:pt x="6461" y="16078"/>
                  <a:pt x="6470" y="16215"/>
                  <a:pt x="6509" y="16351"/>
                </a:cubicBezTo>
                <a:cubicBezTo>
                  <a:pt x="6534" y="16429"/>
                  <a:pt x="6532" y="16447"/>
                  <a:pt x="6572" y="16478"/>
                </a:cubicBezTo>
              </a:path>
              <a:path w="2192" h="1240">
                <a:moveTo>
                  <a:pt x="6636" y="15621"/>
                </a:moveTo>
                <a:cubicBezTo>
                  <a:pt x="6694" y="15697"/>
                  <a:pt x="6681" y="15781"/>
                  <a:pt x="6699" y="15875"/>
                </a:cubicBezTo>
                <a:cubicBezTo>
                  <a:pt x="6728" y="16029"/>
                  <a:pt x="6754" y="16170"/>
                  <a:pt x="6794" y="16320"/>
                </a:cubicBezTo>
                <a:cubicBezTo>
                  <a:pt x="6794" y="16330"/>
                  <a:pt x="6794" y="16341"/>
                  <a:pt x="6794" y="16351"/>
                </a:cubicBezTo>
                <a:cubicBezTo>
                  <a:pt x="6794" y="16250"/>
                  <a:pt x="6772" y="16162"/>
                  <a:pt x="6763" y="16066"/>
                </a:cubicBezTo>
                <a:cubicBezTo>
                  <a:pt x="6750" y="15926"/>
                  <a:pt x="6736" y="15709"/>
                  <a:pt x="6794" y="15589"/>
                </a:cubicBezTo>
                <a:cubicBezTo>
                  <a:pt x="6879" y="15610"/>
                  <a:pt x="6856" y="15663"/>
                  <a:pt x="6890" y="15748"/>
                </a:cubicBezTo>
                <a:cubicBezTo>
                  <a:pt x="6936" y="15862"/>
                  <a:pt x="6971" y="15981"/>
                  <a:pt x="6985" y="16097"/>
                </a:cubicBezTo>
                <a:cubicBezTo>
                  <a:pt x="6996" y="16188"/>
                  <a:pt x="6955" y="16203"/>
                  <a:pt x="7017" y="16224"/>
                </a:cubicBezTo>
                <a:cubicBezTo>
                  <a:pt x="7017" y="16050"/>
                  <a:pt x="7030" y="15885"/>
                  <a:pt x="7048" y="15716"/>
                </a:cubicBezTo>
                <a:cubicBezTo>
                  <a:pt x="7056" y="15640"/>
                  <a:pt x="7066" y="15596"/>
                  <a:pt x="7080" y="15526"/>
                </a:cubicBezTo>
                <a:cubicBezTo>
                  <a:pt x="7144" y="15526"/>
                  <a:pt x="7144" y="15533"/>
                  <a:pt x="7176" y="15589"/>
                </a:cubicBezTo>
                <a:cubicBezTo>
                  <a:pt x="7241" y="15704"/>
                  <a:pt x="7242" y="15810"/>
                  <a:pt x="7271" y="15938"/>
                </a:cubicBezTo>
                <a:cubicBezTo>
                  <a:pt x="7294" y="16041"/>
                  <a:pt x="7303" y="16210"/>
                  <a:pt x="7366" y="16288"/>
                </a:cubicBezTo>
                <a:cubicBezTo>
                  <a:pt x="7409" y="16342"/>
                  <a:pt x="7418" y="16321"/>
                  <a:pt x="7461" y="16288"/>
                </a:cubicBezTo>
              </a:path>
              <a:path w="2192" h="1240">
                <a:moveTo>
                  <a:pt x="7588" y="15780"/>
                </a:moveTo>
                <a:cubicBezTo>
                  <a:pt x="7588" y="15816"/>
                  <a:pt x="7591" y="15830"/>
                  <a:pt x="7620" y="15843"/>
                </a:cubicBezTo>
                <a:cubicBezTo>
                  <a:pt x="7688" y="15843"/>
                  <a:pt x="7698" y="15829"/>
                  <a:pt x="7747" y="15780"/>
                </a:cubicBezTo>
                <a:cubicBezTo>
                  <a:pt x="7791" y="15736"/>
                  <a:pt x="7831" y="15650"/>
                  <a:pt x="7842" y="15589"/>
                </a:cubicBezTo>
                <a:cubicBezTo>
                  <a:pt x="7854" y="15523"/>
                  <a:pt x="7849" y="15470"/>
                  <a:pt x="7779" y="15462"/>
                </a:cubicBezTo>
                <a:cubicBezTo>
                  <a:pt x="7703" y="15453"/>
                  <a:pt x="7681" y="15487"/>
                  <a:pt x="7652" y="15558"/>
                </a:cubicBezTo>
                <a:cubicBezTo>
                  <a:pt x="7593" y="15702"/>
                  <a:pt x="7568" y="15880"/>
                  <a:pt x="7556" y="16034"/>
                </a:cubicBezTo>
                <a:cubicBezTo>
                  <a:pt x="7546" y="16155"/>
                  <a:pt x="7575" y="16289"/>
                  <a:pt x="7652" y="16383"/>
                </a:cubicBezTo>
                <a:cubicBezTo>
                  <a:pt x="7716" y="16461"/>
                  <a:pt x="7805" y="16386"/>
                  <a:pt x="7874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6"/>
          <p:cNvSpPr/>
          <p:nvPr/>
        </p:nvSpPr>
        <p:spPr>
          <a:xfrm>
            <a:off x="3097080" y="5521320"/>
            <a:ext cx="1121040" cy="525600"/>
          </a:xfrm>
          <a:custGeom>
            <a:avLst/>
            <a:gdLst/>
            <a:ahLst/>
            <a:rect l="l" t="t" r="r" b="b"/>
            <a:pathLst>
              <a:path w="3113" h="1462">
                <a:moveTo>
                  <a:pt x="8922" y="15907"/>
                </a:moveTo>
                <a:lnTo>
                  <a:pt x="8922" y="15907"/>
                </a:lnTo>
              </a:path>
              <a:path w="3113" h="1462">
                <a:moveTo>
                  <a:pt x="8922" y="15907"/>
                </a:moveTo>
                <a:cubicBezTo>
                  <a:pt x="8933" y="15886"/>
                  <a:pt x="8943" y="15864"/>
                  <a:pt x="8954" y="15843"/>
                </a:cubicBezTo>
              </a:path>
              <a:path w="3113" h="1462">
                <a:moveTo>
                  <a:pt x="8731" y="15335"/>
                </a:moveTo>
                <a:cubicBezTo>
                  <a:pt x="8659" y="15499"/>
                  <a:pt x="8659" y="15638"/>
                  <a:pt x="8636" y="15812"/>
                </a:cubicBezTo>
                <a:cubicBezTo>
                  <a:pt x="8613" y="15984"/>
                  <a:pt x="8584" y="16150"/>
                  <a:pt x="8636" y="16320"/>
                </a:cubicBezTo>
                <a:cubicBezTo>
                  <a:pt x="8662" y="16372"/>
                  <a:pt x="8660" y="16393"/>
                  <a:pt x="8700" y="16383"/>
                </a:cubicBezTo>
                <a:cubicBezTo>
                  <a:pt x="8761" y="16321"/>
                  <a:pt x="8786" y="16246"/>
                  <a:pt x="8795" y="16161"/>
                </a:cubicBezTo>
                <a:cubicBezTo>
                  <a:pt x="8809" y="16028"/>
                  <a:pt x="8800" y="15878"/>
                  <a:pt x="8826" y="15748"/>
                </a:cubicBezTo>
                <a:cubicBezTo>
                  <a:pt x="8837" y="15716"/>
                  <a:pt x="8847" y="15685"/>
                  <a:pt x="8858" y="15653"/>
                </a:cubicBezTo>
                <a:cubicBezTo>
                  <a:pt x="8858" y="15828"/>
                  <a:pt x="8871" y="15992"/>
                  <a:pt x="8890" y="16161"/>
                </a:cubicBezTo>
                <a:cubicBezTo>
                  <a:pt x="8901" y="16257"/>
                  <a:pt x="8898" y="16340"/>
                  <a:pt x="8954" y="16415"/>
                </a:cubicBezTo>
              </a:path>
              <a:path w="3113" h="1462">
                <a:moveTo>
                  <a:pt x="9080" y="15653"/>
                </a:moveTo>
                <a:cubicBezTo>
                  <a:pt x="9130" y="15718"/>
                  <a:pt x="9112" y="15788"/>
                  <a:pt x="9112" y="15875"/>
                </a:cubicBezTo>
                <a:cubicBezTo>
                  <a:pt x="9112" y="16021"/>
                  <a:pt x="9163" y="16147"/>
                  <a:pt x="9176" y="16288"/>
                </a:cubicBezTo>
                <a:cubicBezTo>
                  <a:pt x="9189" y="16421"/>
                  <a:pt x="9186" y="16390"/>
                  <a:pt x="9208" y="16478"/>
                </a:cubicBezTo>
                <a:cubicBezTo>
                  <a:pt x="9208" y="16262"/>
                  <a:pt x="9215" y="16055"/>
                  <a:pt x="9239" y="15843"/>
                </a:cubicBezTo>
                <a:cubicBezTo>
                  <a:pt x="9239" y="15777"/>
                  <a:pt x="9240" y="15754"/>
                  <a:pt x="9271" y="15716"/>
                </a:cubicBezTo>
                <a:cubicBezTo>
                  <a:pt x="9374" y="15742"/>
                  <a:pt x="9343" y="15782"/>
                  <a:pt x="9366" y="15875"/>
                </a:cubicBezTo>
                <a:cubicBezTo>
                  <a:pt x="9395" y="15993"/>
                  <a:pt x="9405" y="16110"/>
                  <a:pt x="9430" y="16224"/>
                </a:cubicBezTo>
                <a:cubicBezTo>
                  <a:pt x="9430" y="16256"/>
                  <a:pt x="9430" y="16267"/>
                  <a:pt x="9430" y="16288"/>
                </a:cubicBezTo>
                <a:cubicBezTo>
                  <a:pt x="9448" y="16214"/>
                  <a:pt x="9462" y="16154"/>
                  <a:pt x="9462" y="16066"/>
                </a:cubicBezTo>
                <a:cubicBezTo>
                  <a:pt x="9462" y="15943"/>
                  <a:pt x="9467" y="15761"/>
                  <a:pt x="9525" y="15653"/>
                </a:cubicBezTo>
                <a:cubicBezTo>
                  <a:pt x="9536" y="15642"/>
                  <a:pt x="9546" y="15632"/>
                  <a:pt x="9557" y="15621"/>
                </a:cubicBezTo>
                <a:cubicBezTo>
                  <a:pt x="9610" y="15585"/>
                  <a:pt x="9617" y="15641"/>
                  <a:pt x="9620" y="15716"/>
                </a:cubicBezTo>
                <a:cubicBezTo>
                  <a:pt x="9627" y="15867"/>
                  <a:pt x="9669" y="16010"/>
                  <a:pt x="9684" y="16161"/>
                </a:cubicBezTo>
                <a:cubicBezTo>
                  <a:pt x="9695" y="16276"/>
                  <a:pt x="9697" y="16333"/>
                  <a:pt x="9779" y="16415"/>
                </a:cubicBezTo>
              </a:path>
              <a:path w="3113" h="1462">
                <a:moveTo>
                  <a:pt x="10033" y="15621"/>
                </a:moveTo>
                <a:cubicBezTo>
                  <a:pt x="9965" y="15689"/>
                  <a:pt x="9934" y="15747"/>
                  <a:pt x="9906" y="15843"/>
                </a:cubicBezTo>
                <a:cubicBezTo>
                  <a:pt x="9872" y="15958"/>
                  <a:pt x="9820" y="16168"/>
                  <a:pt x="9842" y="16288"/>
                </a:cubicBezTo>
                <a:cubicBezTo>
                  <a:pt x="9854" y="16355"/>
                  <a:pt x="9880" y="16400"/>
                  <a:pt x="9938" y="16415"/>
                </a:cubicBezTo>
                <a:cubicBezTo>
                  <a:pt x="9953" y="16357"/>
                  <a:pt x="9981" y="16284"/>
                  <a:pt x="10001" y="16224"/>
                </a:cubicBezTo>
                <a:cubicBezTo>
                  <a:pt x="10036" y="16118"/>
                  <a:pt x="10052" y="15988"/>
                  <a:pt x="10065" y="15875"/>
                </a:cubicBezTo>
                <a:cubicBezTo>
                  <a:pt x="10075" y="15782"/>
                  <a:pt x="10065" y="15683"/>
                  <a:pt x="10065" y="15589"/>
                </a:cubicBezTo>
                <a:cubicBezTo>
                  <a:pt x="10139" y="15646"/>
                  <a:pt x="10102" y="15630"/>
                  <a:pt x="10160" y="15716"/>
                </a:cubicBezTo>
                <a:cubicBezTo>
                  <a:pt x="10220" y="15805"/>
                  <a:pt x="10244" y="15924"/>
                  <a:pt x="10255" y="16034"/>
                </a:cubicBezTo>
                <a:cubicBezTo>
                  <a:pt x="10267" y="16157"/>
                  <a:pt x="10292" y="16268"/>
                  <a:pt x="10319" y="16383"/>
                </a:cubicBezTo>
                <a:cubicBezTo>
                  <a:pt x="10319" y="16394"/>
                  <a:pt x="10319" y="16404"/>
                  <a:pt x="10319" y="16415"/>
                </a:cubicBezTo>
                <a:cubicBezTo>
                  <a:pt x="10385" y="16398"/>
                  <a:pt x="10405" y="16326"/>
                  <a:pt x="10414" y="16256"/>
                </a:cubicBezTo>
                <a:cubicBezTo>
                  <a:pt x="10430" y="16137"/>
                  <a:pt x="10462" y="16027"/>
                  <a:pt x="10478" y="15907"/>
                </a:cubicBezTo>
                <a:cubicBezTo>
                  <a:pt x="10478" y="15843"/>
                  <a:pt x="10478" y="15822"/>
                  <a:pt x="10478" y="15780"/>
                </a:cubicBezTo>
                <a:cubicBezTo>
                  <a:pt x="10478" y="15700"/>
                  <a:pt x="10506" y="15888"/>
                  <a:pt x="10509" y="15907"/>
                </a:cubicBezTo>
                <a:cubicBezTo>
                  <a:pt x="10526" y="16013"/>
                  <a:pt x="10512" y="16122"/>
                  <a:pt x="10541" y="16224"/>
                </a:cubicBezTo>
                <a:cubicBezTo>
                  <a:pt x="10561" y="16292"/>
                  <a:pt x="10573" y="16336"/>
                  <a:pt x="10636" y="16351"/>
                </a:cubicBezTo>
              </a:path>
              <a:path w="3113" h="1462">
                <a:moveTo>
                  <a:pt x="10700" y="15621"/>
                </a:moveTo>
                <a:cubicBezTo>
                  <a:pt x="10700" y="15744"/>
                  <a:pt x="10719" y="15852"/>
                  <a:pt x="10732" y="15970"/>
                </a:cubicBezTo>
                <a:cubicBezTo>
                  <a:pt x="10747" y="16105"/>
                  <a:pt x="10721" y="16223"/>
                  <a:pt x="10763" y="16351"/>
                </a:cubicBezTo>
                <a:cubicBezTo>
                  <a:pt x="10763" y="16449"/>
                  <a:pt x="10763" y="16391"/>
                  <a:pt x="10763" y="16320"/>
                </a:cubicBezTo>
                <a:cubicBezTo>
                  <a:pt x="10763" y="16151"/>
                  <a:pt x="10742" y="15975"/>
                  <a:pt x="10795" y="15812"/>
                </a:cubicBezTo>
                <a:cubicBezTo>
                  <a:pt x="10814" y="15754"/>
                  <a:pt x="10850" y="15725"/>
                  <a:pt x="10890" y="15684"/>
                </a:cubicBezTo>
                <a:cubicBezTo>
                  <a:pt x="10965" y="15740"/>
                  <a:pt x="10960" y="15715"/>
                  <a:pt x="10986" y="15812"/>
                </a:cubicBezTo>
                <a:cubicBezTo>
                  <a:pt x="11026" y="15961"/>
                  <a:pt x="11068" y="16102"/>
                  <a:pt x="11081" y="16256"/>
                </a:cubicBezTo>
                <a:cubicBezTo>
                  <a:pt x="11092" y="16385"/>
                  <a:pt x="11116" y="16485"/>
                  <a:pt x="11144" y="16605"/>
                </a:cubicBezTo>
                <a:cubicBezTo>
                  <a:pt x="11144" y="16616"/>
                  <a:pt x="11144" y="16626"/>
                  <a:pt x="11144" y="16637"/>
                </a:cubicBezTo>
              </a:path>
              <a:path w="3113" h="1462">
                <a:moveTo>
                  <a:pt x="11430" y="15494"/>
                </a:moveTo>
                <a:cubicBezTo>
                  <a:pt x="11430" y="15595"/>
                  <a:pt x="11459" y="15679"/>
                  <a:pt x="11462" y="15780"/>
                </a:cubicBezTo>
                <a:cubicBezTo>
                  <a:pt x="11469" y="16038"/>
                  <a:pt x="11522" y="16262"/>
                  <a:pt x="11589" y="16510"/>
                </a:cubicBezTo>
                <a:cubicBezTo>
                  <a:pt x="11616" y="16609"/>
                  <a:pt x="11605" y="16768"/>
                  <a:pt x="11716" y="16796"/>
                </a:cubicBezTo>
              </a:path>
              <a:path w="3113" h="1462">
                <a:moveTo>
                  <a:pt x="11271" y="16192"/>
                </a:moveTo>
                <a:cubicBezTo>
                  <a:pt x="11324" y="16179"/>
                  <a:pt x="11410" y="16181"/>
                  <a:pt x="11462" y="16161"/>
                </a:cubicBezTo>
                <a:cubicBezTo>
                  <a:pt x="11540" y="16131"/>
                  <a:pt x="11622" y="16107"/>
                  <a:pt x="11716" y="16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7"/>
          <p:cNvSpPr/>
          <p:nvPr/>
        </p:nvSpPr>
        <p:spPr>
          <a:xfrm>
            <a:off x="4400640" y="5635800"/>
            <a:ext cx="1235160" cy="696600"/>
          </a:xfrm>
          <a:custGeom>
            <a:avLst/>
            <a:gdLst/>
            <a:ahLst/>
            <a:rect l="l" t="t" r="r" b="b"/>
            <a:pathLst>
              <a:path w="3430" h="1938">
                <a:moveTo>
                  <a:pt x="12224" y="16320"/>
                </a:moveTo>
                <a:cubicBezTo>
                  <a:pt x="12266" y="16277"/>
                  <a:pt x="12291" y="16233"/>
                  <a:pt x="12319" y="16192"/>
                </a:cubicBezTo>
                <a:cubicBezTo>
                  <a:pt x="12360" y="16132"/>
                  <a:pt x="12376" y="16081"/>
                  <a:pt x="12382" y="16002"/>
                </a:cubicBezTo>
                <a:cubicBezTo>
                  <a:pt x="12388" y="15917"/>
                  <a:pt x="12371" y="15850"/>
                  <a:pt x="12351" y="15780"/>
                </a:cubicBezTo>
                <a:cubicBezTo>
                  <a:pt x="12351" y="15744"/>
                  <a:pt x="12348" y="15730"/>
                  <a:pt x="12319" y="15716"/>
                </a:cubicBezTo>
                <a:cubicBezTo>
                  <a:pt x="12257" y="15794"/>
                  <a:pt x="12228" y="15868"/>
                  <a:pt x="12224" y="15970"/>
                </a:cubicBezTo>
                <a:cubicBezTo>
                  <a:pt x="12216" y="16160"/>
                  <a:pt x="12209" y="16358"/>
                  <a:pt x="12256" y="16542"/>
                </a:cubicBezTo>
                <a:cubicBezTo>
                  <a:pt x="12274" y="16613"/>
                  <a:pt x="12324" y="16777"/>
                  <a:pt x="12382" y="16796"/>
                </a:cubicBezTo>
                <a:cubicBezTo>
                  <a:pt x="12460" y="16822"/>
                  <a:pt x="12523" y="16778"/>
                  <a:pt x="12541" y="16700"/>
                </a:cubicBezTo>
                <a:cubicBezTo>
                  <a:pt x="12541" y="16634"/>
                  <a:pt x="12542" y="16611"/>
                  <a:pt x="12573" y="16574"/>
                </a:cubicBezTo>
              </a:path>
              <a:path w="3430" h="1938">
                <a:moveTo>
                  <a:pt x="12510" y="16002"/>
                </a:moveTo>
                <a:cubicBezTo>
                  <a:pt x="12525" y="16079"/>
                  <a:pt x="12547" y="16149"/>
                  <a:pt x="12573" y="16224"/>
                </a:cubicBezTo>
                <a:cubicBezTo>
                  <a:pt x="12625" y="16373"/>
                  <a:pt x="12656" y="16500"/>
                  <a:pt x="12732" y="16637"/>
                </a:cubicBezTo>
                <a:cubicBezTo>
                  <a:pt x="12766" y="16698"/>
                  <a:pt x="12763" y="16741"/>
                  <a:pt x="12795" y="16796"/>
                </a:cubicBezTo>
              </a:path>
              <a:path w="3430" h="1938">
                <a:moveTo>
                  <a:pt x="12827" y="16764"/>
                </a:moveTo>
                <a:cubicBezTo>
                  <a:pt x="12827" y="16676"/>
                  <a:pt x="12806" y="16621"/>
                  <a:pt x="12795" y="16542"/>
                </a:cubicBezTo>
                <a:cubicBezTo>
                  <a:pt x="12777" y="16411"/>
                  <a:pt x="12756" y="16149"/>
                  <a:pt x="12827" y="16034"/>
                </a:cubicBezTo>
                <a:cubicBezTo>
                  <a:pt x="12852" y="15994"/>
                  <a:pt x="12862" y="15976"/>
                  <a:pt x="12890" y="15938"/>
                </a:cubicBezTo>
              </a:path>
              <a:path w="3430" h="1938">
                <a:moveTo>
                  <a:pt x="13144" y="16415"/>
                </a:moveTo>
                <a:cubicBezTo>
                  <a:pt x="13144" y="16468"/>
                  <a:pt x="13173" y="16409"/>
                  <a:pt x="13176" y="16383"/>
                </a:cubicBezTo>
                <a:cubicBezTo>
                  <a:pt x="13184" y="16317"/>
                  <a:pt x="13208" y="16273"/>
                  <a:pt x="13208" y="16192"/>
                </a:cubicBezTo>
                <a:cubicBezTo>
                  <a:pt x="13208" y="16103"/>
                  <a:pt x="13198" y="16043"/>
                  <a:pt x="13176" y="15970"/>
                </a:cubicBezTo>
                <a:cubicBezTo>
                  <a:pt x="13176" y="15938"/>
                  <a:pt x="13176" y="15927"/>
                  <a:pt x="13144" y="15938"/>
                </a:cubicBezTo>
              </a:path>
              <a:path w="3430" h="1938">
                <a:moveTo>
                  <a:pt x="13081" y="16129"/>
                </a:moveTo>
                <a:cubicBezTo>
                  <a:pt x="13081" y="16238"/>
                  <a:pt x="13105" y="16284"/>
                  <a:pt x="13144" y="16383"/>
                </a:cubicBezTo>
                <a:cubicBezTo>
                  <a:pt x="13188" y="16496"/>
                  <a:pt x="13217" y="16550"/>
                  <a:pt x="13303" y="16637"/>
                </a:cubicBezTo>
                <a:cubicBezTo>
                  <a:pt x="13336" y="16670"/>
                  <a:pt x="13400" y="16697"/>
                  <a:pt x="13430" y="16637"/>
                </a:cubicBezTo>
                <a:cubicBezTo>
                  <a:pt x="13452" y="16592"/>
                  <a:pt x="13430" y="16458"/>
                  <a:pt x="13430" y="16415"/>
                </a:cubicBezTo>
              </a:path>
              <a:path w="3430" h="1938">
                <a:moveTo>
                  <a:pt x="13367" y="15938"/>
                </a:moveTo>
                <a:cubicBezTo>
                  <a:pt x="13411" y="15999"/>
                  <a:pt x="13406" y="16059"/>
                  <a:pt x="13430" y="16129"/>
                </a:cubicBezTo>
                <a:cubicBezTo>
                  <a:pt x="13470" y="16247"/>
                  <a:pt x="13485" y="16362"/>
                  <a:pt x="13526" y="16478"/>
                </a:cubicBezTo>
                <a:cubicBezTo>
                  <a:pt x="13553" y="16534"/>
                  <a:pt x="13557" y="16549"/>
                  <a:pt x="13589" y="16574"/>
                </a:cubicBezTo>
                <a:cubicBezTo>
                  <a:pt x="13589" y="16492"/>
                  <a:pt x="13567" y="16427"/>
                  <a:pt x="13557" y="16351"/>
                </a:cubicBezTo>
                <a:cubicBezTo>
                  <a:pt x="13543" y="16242"/>
                  <a:pt x="13527" y="16022"/>
                  <a:pt x="13589" y="15938"/>
                </a:cubicBezTo>
                <a:cubicBezTo>
                  <a:pt x="13604" y="15917"/>
                  <a:pt x="13651" y="15836"/>
                  <a:pt x="13684" y="15843"/>
                </a:cubicBezTo>
                <a:cubicBezTo>
                  <a:pt x="13695" y="15854"/>
                  <a:pt x="13705" y="15864"/>
                  <a:pt x="13716" y="15875"/>
                </a:cubicBezTo>
              </a:path>
              <a:path w="3430" h="1938">
                <a:moveTo>
                  <a:pt x="13875" y="16161"/>
                </a:moveTo>
                <a:cubicBezTo>
                  <a:pt x="13875" y="16303"/>
                  <a:pt x="13905" y="16377"/>
                  <a:pt x="13938" y="16510"/>
                </a:cubicBezTo>
                <a:cubicBezTo>
                  <a:pt x="13951" y="16562"/>
                  <a:pt x="13950" y="16561"/>
                  <a:pt x="14002" y="16574"/>
                </a:cubicBezTo>
                <a:cubicBezTo>
                  <a:pt x="14047" y="16514"/>
                  <a:pt x="14034" y="16462"/>
                  <a:pt x="14034" y="16383"/>
                </a:cubicBezTo>
                <a:cubicBezTo>
                  <a:pt x="14034" y="16203"/>
                  <a:pt x="14034" y="15727"/>
                  <a:pt x="14034" y="15907"/>
                </a:cubicBezTo>
                <a:cubicBezTo>
                  <a:pt x="14068" y="16012"/>
                  <a:pt x="14069" y="16115"/>
                  <a:pt x="14097" y="16224"/>
                </a:cubicBezTo>
                <a:cubicBezTo>
                  <a:pt x="14146" y="16412"/>
                  <a:pt x="14145" y="16605"/>
                  <a:pt x="14192" y="16796"/>
                </a:cubicBezTo>
                <a:cubicBezTo>
                  <a:pt x="14227" y="16938"/>
                  <a:pt x="14281" y="17062"/>
                  <a:pt x="14288" y="17208"/>
                </a:cubicBezTo>
                <a:cubicBezTo>
                  <a:pt x="14292" y="17301"/>
                  <a:pt x="14329" y="17517"/>
                  <a:pt x="14256" y="17590"/>
                </a:cubicBezTo>
                <a:cubicBezTo>
                  <a:pt x="14248" y="17598"/>
                  <a:pt x="14173" y="17590"/>
                  <a:pt x="14160" y="17590"/>
                </a:cubicBezTo>
              </a:path>
              <a:path w="3430" h="1938">
                <a:moveTo>
                  <a:pt x="14383" y="15653"/>
                </a:moveTo>
                <a:cubicBezTo>
                  <a:pt x="14383" y="15751"/>
                  <a:pt x="14395" y="15844"/>
                  <a:pt x="14414" y="15938"/>
                </a:cubicBezTo>
                <a:cubicBezTo>
                  <a:pt x="14451" y="16119"/>
                  <a:pt x="14462" y="16297"/>
                  <a:pt x="14510" y="16478"/>
                </a:cubicBezTo>
                <a:cubicBezTo>
                  <a:pt x="14530" y="16553"/>
                  <a:pt x="14539" y="16610"/>
                  <a:pt x="14573" y="16669"/>
                </a:cubicBezTo>
              </a:path>
              <a:path w="3430" h="1938">
                <a:moveTo>
                  <a:pt x="14288" y="16256"/>
                </a:moveTo>
                <a:cubicBezTo>
                  <a:pt x="14329" y="16224"/>
                  <a:pt x="14367" y="16191"/>
                  <a:pt x="14414" y="16161"/>
                </a:cubicBezTo>
                <a:cubicBezTo>
                  <a:pt x="14473" y="16123"/>
                  <a:pt x="14522" y="16104"/>
                  <a:pt x="14573" y="16066"/>
                </a:cubicBezTo>
              </a:path>
              <a:path w="3430" h="1938">
                <a:moveTo>
                  <a:pt x="14605" y="15907"/>
                </a:moveTo>
                <a:cubicBezTo>
                  <a:pt x="14661" y="15980"/>
                  <a:pt x="14614" y="16001"/>
                  <a:pt x="14637" y="16097"/>
                </a:cubicBezTo>
                <a:cubicBezTo>
                  <a:pt x="14672" y="16242"/>
                  <a:pt x="14690" y="16389"/>
                  <a:pt x="14700" y="16542"/>
                </a:cubicBezTo>
              </a:path>
              <a:path w="3430" h="1938">
                <a:moveTo>
                  <a:pt x="14764" y="15938"/>
                </a:moveTo>
                <a:cubicBezTo>
                  <a:pt x="14813" y="16003"/>
                  <a:pt x="14778" y="16018"/>
                  <a:pt x="14796" y="16097"/>
                </a:cubicBezTo>
                <a:cubicBezTo>
                  <a:pt x="14829" y="16246"/>
                  <a:pt x="14838" y="16394"/>
                  <a:pt x="14891" y="16542"/>
                </a:cubicBezTo>
                <a:cubicBezTo>
                  <a:pt x="14898" y="16561"/>
                  <a:pt x="14922" y="16682"/>
                  <a:pt x="14922" y="16605"/>
                </a:cubicBezTo>
                <a:cubicBezTo>
                  <a:pt x="14922" y="16483"/>
                  <a:pt x="14895" y="16378"/>
                  <a:pt x="14891" y="16256"/>
                </a:cubicBezTo>
                <a:cubicBezTo>
                  <a:pt x="14888" y="16159"/>
                  <a:pt x="14901" y="16052"/>
                  <a:pt x="14922" y="16002"/>
                </a:cubicBezTo>
                <a:cubicBezTo>
                  <a:pt x="14922" y="15991"/>
                  <a:pt x="14922" y="15981"/>
                  <a:pt x="14922" y="15970"/>
                </a:cubicBezTo>
                <a:cubicBezTo>
                  <a:pt x="14976" y="16024"/>
                  <a:pt x="15008" y="16084"/>
                  <a:pt x="15018" y="16161"/>
                </a:cubicBezTo>
                <a:cubicBezTo>
                  <a:pt x="15033" y="16272"/>
                  <a:pt x="15058" y="16370"/>
                  <a:pt x="15081" y="16478"/>
                </a:cubicBezTo>
                <a:cubicBezTo>
                  <a:pt x="15081" y="16489"/>
                  <a:pt x="15081" y="16499"/>
                  <a:pt x="15081" y="16510"/>
                </a:cubicBezTo>
                <a:cubicBezTo>
                  <a:pt x="15155" y="16485"/>
                  <a:pt x="15090" y="16448"/>
                  <a:pt x="15081" y="16383"/>
                </a:cubicBezTo>
                <a:cubicBezTo>
                  <a:pt x="15060" y="16231"/>
                  <a:pt x="15073" y="16038"/>
                  <a:pt x="15113" y="15907"/>
                </a:cubicBezTo>
                <a:cubicBezTo>
                  <a:pt x="15113" y="15896"/>
                  <a:pt x="15113" y="15886"/>
                  <a:pt x="15113" y="15875"/>
                </a:cubicBezTo>
                <a:cubicBezTo>
                  <a:pt x="15168" y="15948"/>
                  <a:pt x="15151" y="16009"/>
                  <a:pt x="15176" y="16097"/>
                </a:cubicBezTo>
                <a:cubicBezTo>
                  <a:pt x="15206" y="16201"/>
                  <a:pt x="15261" y="16315"/>
                  <a:pt x="15304" y="16415"/>
                </a:cubicBezTo>
                <a:cubicBezTo>
                  <a:pt x="15324" y="16461"/>
                  <a:pt x="15380" y="16551"/>
                  <a:pt x="15430" y="16574"/>
                </a:cubicBezTo>
                <a:cubicBezTo>
                  <a:pt x="15441" y="16574"/>
                  <a:pt x="15451" y="16574"/>
                  <a:pt x="15462" y="16574"/>
                </a:cubicBezTo>
                <a:cubicBezTo>
                  <a:pt x="15520" y="16559"/>
                  <a:pt x="15573" y="16514"/>
                  <a:pt x="15589" y="16446"/>
                </a:cubicBezTo>
                <a:cubicBezTo>
                  <a:pt x="15616" y="16329"/>
                  <a:pt x="15572" y="16205"/>
                  <a:pt x="15558" y="16097"/>
                </a:cubicBezTo>
                <a:cubicBezTo>
                  <a:pt x="15546" y="16002"/>
                  <a:pt x="15559" y="15962"/>
                  <a:pt x="15462" y="15938"/>
                </a:cubicBezTo>
                <a:cubicBezTo>
                  <a:pt x="15408" y="15956"/>
                  <a:pt x="15403" y="16028"/>
                  <a:pt x="15399" y="16097"/>
                </a:cubicBezTo>
                <a:cubicBezTo>
                  <a:pt x="15392" y="16229"/>
                  <a:pt x="15417" y="16353"/>
                  <a:pt x="15462" y="16478"/>
                </a:cubicBezTo>
                <a:cubicBezTo>
                  <a:pt x="15495" y="16570"/>
                  <a:pt x="15533" y="16683"/>
                  <a:pt x="15589" y="16764"/>
                </a:cubicBezTo>
                <a:cubicBezTo>
                  <a:pt x="15618" y="16793"/>
                  <a:pt x="15624" y="16804"/>
                  <a:pt x="15653" y="1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18"/>
          <p:cNvSpPr/>
          <p:nvPr/>
        </p:nvSpPr>
        <p:spPr>
          <a:xfrm>
            <a:off x="5761080" y="5589720"/>
            <a:ext cx="1120680" cy="685800"/>
          </a:xfrm>
          <a:custGeom>
            <a:avLst/>
            <a:gdLst/>
            <a:ahLst/>
            <a:rect l="l" t="t" r="r" b="b"/>
            <a:pathLst>
              <a:path w="3113" h="1906">
                <a:moveTo>
                  <a:pt x="16002" y="16510"/>
                </a:moveTo>
                <a:cubicBezTo>
                  <a:pt x="16002" y="16711"/>
                  <a:pt x="16002" y="16912"/>
                  <a:pt x="16002" y="17113"/>
                </a:cubicBezTo>
              </a:path>
              <a:path w="3113" h="1906">
                <a:moveTo>
                  <a:pt x="16383" y="15526"/>
                </a:moveTo>
                <a:cubicBezTo>
                  <a:pt x="16383" y="15668"/>
                  <a:pt x="16362" y="15802"/>
                  <a:pt x="16351" y="15938"/>
                </a:cubicBezTo>
                <a:cubicBezTo>
                  <a:pt x="16336" y="16118"/>
                  <a:pt x="16360" y="16362"/>
                  <a:pt x="16383" y="16542"/>
                </a:cubicBezTo>
                <a:cubicBezTo>
                  <a:pt x="16394" y="16584"/>
                  <a:pt x="16404" y="16627"/>
                  <a:pt x="16415" y="16669"/>
                </a:cubicBezTo>
              </a:path>
              <a:path w="3113" h="1906">
                <a:moveTo>
                  <a:pt x="16097" y="16351"/>
                </a:moveTo>
                <a:cubicBezTo>
                  <a:pt x="16146" y="16388"/>
                  <a:pt x="16162" y="16383"/>
                  <a:pt x="16224" y="16383"/>
                </a:cubicBezTo>
                <a:cubicBezTo>
                  <a:pt x="16290" y="16383"/>
                  <a:pt x="16367" y="16376"/>
                  <a:pt x="16415" y="16320"/>
                </a:cubicBezTo>
                <a:cubicBezTo>
                  <a:pt x="16455" y="16273"/>
                  <a:pt x="16482" y="16185"/>
                  <a:pt x="16510" y="16129"/>
                </a:cubicBezTo>
              </a:path>
              <a:path w="3113" h="1906">
                <a:moveTo>
                  <a:pt x="16605" y="15526"/>
                </a:moveTo>
                <a:cubicBezTo>
                  <a:pt x="16605" y="15794"/>
                  <a:pt x="16621" y="16055"/>
                  <a:pt x="16637" y="16320"/>
                </a:cubicBezTo>
                <a:cubicBezTo>
                  <a:pt x="16647" y="16489"/>
                  <a:pt x="16677" y="16630"/>
                  <a:pt x="16700" y="16796"/>
                </a:cubicBezTo>
                <a:cubicBezTo>
                  <a:pt x="16700" y="16710"/>
                  <a:pt x="16663" y="16586"/>
                  <a:pt x="16669" y="16510"/>
                </a:cubicBezTo>
                <a:cubicBezTo>
                  <a:pt x="16673" y="16454"/>
                  <a:pt x="16703" y="16332"/>
                  <a:pt x="16732" y="16288"/>
                </a:cubicBezTo>
                <a:cubicBezTo>
                  <a:pt x="16743" y="16277"/>
                  <a:pt x="16753" y="16267"/>
                  <a:pt x="16764" y="16256"/>
                </a:cubicBezTo>
                <a:cubicBezTo>
                  <a:pt x="16811" y="16268"/>
                  <a:pt x="16861" y="16305"/>
                  <a:pt x="16891" y="16351"/>
                </a:cubicBezTo>
                <a:cubicBezTo>
                  <a:pt x="16951" y="16444"/>
                  <a:pt x="16975" y="16554"/>
                  <a:pt x="17050" y="16637"/>
                </a:cubicBezTo>
                <a:cubicBezTo>
                  <a:pt x="17061" y="16648"/>
                  <a:pt x="17071" y="16658"/>
                  <a:pt x="17082" y="16669"/>
                </a:cubicBezTo>
                <a:cubicBezTo>
                  <a:pt x="17126" y="16658"/>
                  <a:pt x="17182" y="16602"/>
                  <a:pt x="17177" y="16542"/>
                </a:cubicBezTo>
                <a:cubicBezTo>
                  <a:pt x="17162" y="16374"/>
                  <a:pt x="17121" y="16204"/>
                  <a:pt x="17113" y="16034"/>
                </a:cubicBezTo>
                <a:cubicBezTo>
                  <a:pt x="17113" y="15981"/>
                  <a:pt x="17124" y="15960"/>
                  <a:pt x="17082" y="15970"/>
                </a:cubicBezTo>
                <a:cubicBezTo>
                  <a:pt x="17082" y="16051"/>
                  <a:pt x="17059" y="16113"/>
                  <a:pt x="17050" y="16192"/>
                </a:cubicBezTo>
                <a:cubicBezTo>
                  <a:pt x="17037" y="16304"/>
                  <a:pt x="17065" y="16502"/>
                  <a:pt x="17113" y="16605"/>
                </a:cubicBezTo>
                <a:cubicBezTo>
                  <a:pt x="17130" y="16641"/>
                  <a:pt x="17196" y="16693"/>
                  <a:pt x="17240" y="16669"/>
                </a:cubicBezTo>
                <a:cubicBezTo>
                  <a:pt x="17313" y="16628"/>
                  <a:pt x="17296" y="16585"/>
                  <a:pt x="17304" y="16510"/>
                </a:cubicBezTo>
              </a:path>
              <a:path w="3113" h="1906">
                <a:moveTo>
                  <a:pt x="17367" y="16002"/>
                </a:moveTo>
                <a:cubicBezTo>
                  <a:pt x="17367" y="16123"/>
                  <a:pt x="17357" y="16235"/>
                  <a:pt x="17399" y="16351"/>
                </a:cubicBezTo>
                <a:cubicBezTo>
                  <a:pt x="17417" y="16401"/>
                  <a:pt x="17460" y="16577"/>
                  <a:pt x="17494" y="16605"/>
                </a:cubicBezTo>
                <a:cubicBezTo>
                  <a:pt x="17505" y="16605"/>
                  <a:pt x="17515" y="16605"/>
                  <a:pt x="17526" y="16605"/>
                </a:cubicBezTo>
                <a:cubicBezTo>
                  <a:pt x="17583" y="16587"/>
                  <a:pt x="17558" y="16514"/>
                  <a:pt x="17558" y="16446"/>
                </a:cubicBezTo>
                <a:cubicBezTo>
                  <a:pt x="17558" y="16343"/>
                  <a:pt x="17510" y="15933"/>
                  <a:pt x="17590" y="15907"/>
                </a:cubicBezTo>
                <a:cubicBezTo>
                  <a:pt x="17590" y="16018"/>
                  <a:pt x="17618" y="16114"/>
                  <a:pt x="17621" y="16224"/>
                </a:cubicBezTo>
                <a:cubicBezTo>
                  <a:pt x="17626" y="16402"/>
                  <a:pt x="17661" y="16587"/>
                  <a:pt x="17685" y="16764"/>
                </a:cubicBezTo>
                <a:cubicBezTo>
                  <a:pt x="17707" y="16931"/>
                  <a:pt x="17748" y="17071"/>
                  <a:pt x="17748" y="17240"/>
                </a:cubicBezTo>
                <a:cubicBezTo>
                  <a:pt x="17748" y="17279"/>
                  <a:pt x="17755" y="17404"/>
                  <a:pt x="17716" y="17431"/>
                </a:cubicBezTo>
                <a:cubicBezTo>
                  <a:pt x="17706" y="17431"/>
                  <a:pt x="17695" y="17431"/>
                  <a:pt x="17685" y="17431"/>
                </a:cubicBezTo>
              </a:path>
              <a:path w="3113" h="1906">
                <a:moveTo>
                  <a:pt x="18034" y="16066"/>
                </a:moveTo>
                <a:cubicBezTo>
                  <a:pt x="18034" y="16125"/>
                  <a:pt x="18051" y="16168"/>
                  <a:pt x="18066" y="16224"/>
                </a:cubicBezTo>
                <a:cubicBezTo>
                  <a:pt x="18103" y="16361"/>
                  <a:pt x="18145" y="16526"/>
                  <a:pt x="18161" y="16669"/>
                </a:cubicBezTo>
                <a:cubicBezTo>
                  <a:pt x="18161" y="16711"/>
                  <a:pt x="18161" y="16754"/>
                  <a:pt x="18161" y="16796"/>
                </a:cubicBezTo>
                <a:cubicBezTo>
                  <a:pt x="18244" y="16852"/>
                  <a:pt x="18169" y="16722"/>
                  <a:pt x="18161" y="16669"/>
                </a:cubicBezTo>
                <a:cubicBezTo>
                  <a:pt x="18142" y="16541"/>
                  <a:pt x="18104" y="16420"/>
                  <a:pt x="18098" y="16288"/>
                </a:cubicBezTo>
                <a:cubicBezTo>
                  <a:pt x="18098" y="16230"/>
                  <a:pt x="18093" y="16214"/>
                  <a:pt x="18129" y="16192"/>
                </a:cubicBezTo>
                <a:cubicBezTo>
                  <a:pt x="18144" y="16238"/>
                  <a:pt x="18170" y="16252"/>
                  <a:pt x="18193" y="16320"/>
                </a:cubicBezTo>
                <a:cubicBezTo>
                  <a:pt x="18220" y="16398"/>
                  <a:pt x="18246" y="16507"/>
                  <a:pt x="18288" y="16574"/>
                </a:cubicBezTo>
                <a:cubicBezTo>
                  <a:pt x="18316" y="16619"/>
                  <a:pt x="18314" y="16624"/>
                  <a:pt x="18352" y="16637"/>
                </a:cubicBezTo>
                <a:cubicBezTo>
                  <a:pt x="18352" y="16453"/>
                  <a:pt x="18343" y="16271"/>
                  <a:pt x="18383" y="16097"/>
                </a:cubicBezTo>
                <a:cubicBezTo>
                  <a:pt x="18383" y="16087"/>
                  <a:pt x="18383" y="16076"/>
                  <a:pt x="18383" y="16066"/>
                </a:cubicBezTo>
              </a:path>
              <a:path w="3113" h="1906">
                <a:moveTo>
                  <a:pt x="18510" y="16034"/>
                </a:moveTo>
                <a:cubicBezTo>
                  <a:pt x="18510" y="16120"/>
                  <a:pt x="18526" y="16205"/>
                  <a:pt x="18542" y="16288"/>
                </a:cubicBezTo>
                <a:cubicBezTo>
                  <a:pt x="18563" y="16398"/>
                  <a:pt x="18579" y="16498"/>
                  <a:pt x="18606" y="16605"/>
                </a:cubicBezTo>
              </a:path>
              <a:path w="3113" h="1906">
                <a:moveTo>
                  <a:pt x="18701" y="15812"/>
                </a:moveTo>
                <a:cubicBezTo>
                  <a:pt x="18701" y="15879"/>
                  <a:pt x="18721" y="15907"/>
                  <a:pt x="18732" y="15970"/>
                </a:cubicBezTo>
                <a:cubicBezTo>
                  <a:pt x="18752" y="16085"/>
                  <a:pt x="18744" y="16205"/>
                  <a:pt x="18764" y="16320"/>
                </a:cubicBezTo>
                <a:cubicBezTo>
                  <a:pt x="18791" y="16475"/>
                  <a:pt x="18824" y="16612"/>
                  <a:pt x="18860" y="16764"/>
                </a:cubicBezTo>
                <a:cubicBezTo>
                  <a:pt x="18860" y="16800"/>
                  <a:pt x="18863" y="16814"/>
                  <a:pt x="18891" y="16828"/>
                </a:cubicBezTo>
              </a:path>
              <a:path w="3113" h="1906">
                <a:moveTo>
                  <a:pt x="18955" y="15780"/>
                </a:moveTo>
                <a:cubicBezTo>
                  <a:pt x="18955" y="15892"/>
                  <a:pt x="18982" y="15987"/>
                  <a:pt x="18986" y="16097"/>
                </a:cubicBezTo>
                <a:cubicBezTo>
                  <a:pt x="18993" y="16277"/>
                  <a:pt x="19013" y="16427"/>
                  <a:pt x="19050" y="16605"/>
                </a:cubicBezTo>
                <a:cubicBezTo>
                  <a:pt x="19080" y="16754"/>
                  <a:pt x="19088" y="16797"/>
                  <a:pt x="19114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19"/>
          <p:cNvSpPr/>
          <p:nvPr/>
        </p:nvSpPr>
        <p:spPr>
          <a:xfrm>
            <a:off x="6994440" y="5737320"/>
            <a:ext cx="641520" cy="331560"/>
          </a:xfrm>
          <a:custGeom>
            <a:avLst/>
            <a:gdLst/>
            <a:ahLst/>
            <a:rect l="l" t="t" r="r" b="b"/>
            <a:pathLst>
              <a:path w="1779" h="922">
                <a:moveTo>
                  <a:pt x="19431" y="16097"/>
                </a:moveTo>
                <a:cubicBezTo>
                  <a:pt x="19451" y="16177"/>
                  <a:pt x="19463" y="16222"/>
                  <a:pt x="19463" y="16320"/>
                </a:cubicBezTo>
                <a:cubicBezTo>
                  <a:pt x="19463" y="16436"/>
                  <a:pt x="19476" y="16584"/>
                  <a:pt x="19494" y="16700"/>
                </a:cubicBezTo>
                <a:cubicBezTo>
                  <a:pt x="19518" y="16795"/>
                  <a:pt x="19529" y="16804"/>
                  <a:pt x="19526" y="16859"/>
                </a:cubicBezTo>
                <a:cubicBezTo>
                  <a:pt x="19526" y="16651"/>
                  <a:pt x="19502" y="16410"/>
                  <a:pt x="19558" y="16224"/>
                </a:cubicBezTo>
                <a:cubicBezTo>
                  <a:pt x="19558" y="16188"/>
                  <a:pt x="19561" y="16174"/>
                  <a:pt x="19590" y="16161"/>
                </a:cubicBezTo>
                <a:cubicBezTo>
                  <a:pt x="19655" y="16225"/>
                  <a:pt x="19648" y="16268"/>
                  <a:pt x="19685" y="16351"/>
                </a:cubicBezTo>
                <a:cubicBezTo>
                  <a:pt x="19730" y="16452"/>
                  <a:pt x="19740" y="16562"/>
                  <a:pt x="19780" y="16669"/>
                </a:cubicBezTo>
                <a:cubicBezTo>
                  <a:pt x="19824" y="16787"/>
                  <a:pt x="19827" y="16767"/>
                  <a:pt x="19907" y="16828"/>
                </a:cubicBezTo>
                <a:cubicBezTo>
                  <a:pt x="19982" y="16809"/>
                  <a:pt x="19997" y="16778"/>
                  <a:pt x="20002" y="16700"/>
                </a:cubicBezTo>
                <a:cubicBezTo>
                  <a:pt x="20008" y="16601"/>
                  <a:pt x="20009" y="16531"/>
                  <a:pt x="20002" y="16446"/>
                </a:cubicBezTo>
                <a:cubicBezTo>
                  <a:pt x="19991" y="16325"/>
                  <a:pt x="19988" y="16215"/>
                  <a:pt x="19971" y="16097"/>
                </a:cubicBezTo>
                <a:cubicBezTo>
                  <a:pt x="19961" y="16023"/>
                  <a:pt x="19996" y="16021"/>
                  <a:pt x="19939" y="16002"/>
                </a:cubicBezTo>
                <a:cubicBezTo>
                  <a:pt x="19939" y="16164"/>
                  <a:pt x="19929" y="16320"/>
                  <a:pt x="19971" y="16478"/>
                </a:cubicBezTo>
                <a:cubicBezTo>
                  <a:pt x="19989" y="16545"/>
                  <a:pt x="19989" y="16667"/>
                  <a:pt x="20066" y="16700"/>
                </a:cubicBezTo>
                <a:cubicBezTo>
                  <a:pt x="20106" y="16717"/>
                  <a:pt x="20139" y="16660"/>
                  <a:pt x="20161" y="16637"/>
                </a:cubicBezTo>
              </a:path>
              <a:path w="1779" h="922">
                <a:moveTo>
                  <a:pt x="20193" y="16066"/>
                </a:moveTo>
                <a:cubicBezTo>
                  <a:pt x="20206" y="16118"/>
                  <a:pt x="20247" y="16175"/>
                  <a:pt x="20256" y="16224"/>
                </a:cubicBezTo>
                <a:cubicBezTo>
                  <a:pt x="20274" y="16319"/>
                  <a:pt x="20307" y="16388"/>
                  <a:pt x="20352" y="16478"/>
                </a:cubicBezTo>
                <a:cubicBezTo>
                  <a:pt x="20388" y="16550"/>
                  <a:pt x="20401" y="16618"/>
                  <a:pt x="20479" y="16637"/>
                </a:cubicBezTo>
                <a:cubicBezTo>
                  <a:pt x="20479" y="16564"/>
                  <a:pt x="20458" y="16513"/>
                  <a:pt x="20447" y="16446"/>
                </a:cubicBezTo>
                <a:cubicBezTo>
                  <a:pt x="20424" y="16311"/>
                  <a:pt x="20444" y="16149"/>
                  <a:pt x="20479" y="16034"/>
                </a:cubicBezTo>
                <a:cubicBezTo>
                  <a:pt x="20479" y="16023"/>
                  <a:pt x="20479" y="16013"/>
                  <a:pt x="20479" y="16002"/>
                </a:cubicBezTo>
              </a:path>
              <a:path w="1779" h="922">
                <a:moveTo>
                  <a:pt x="20733" y="16478"/>
                </a:moveTo>
                <a:cubicBezTo>
                  <a:pt x="20779" y="16466"/>
                  <a:pt x="20812" y="16431"/>
                  <a:pt x="20828" y="16383"/>
                </a:cubicBezTo>
                <a:cubicBezTo>
                  <a:pt x="20851" y="16316"/>
                  <a:pt x="20857" y="16055"/>
                  <a:pt x="20796" y="16002"/>
                </a:cubicBezTo>
                <a:cubicBezTo>
                  <a:pt x="20785" y="16002"/>
                  <a:pt x="20775" y="16002"/>
                  <a:pt x="20764" y="16002"/>
                </a:cubicBezTo>
                <a:cubicBezTo>
                  <a:pt x="20746" y="16093"/>
                  <a:pt x="20733" y="16157"/>
                  <a:pt x="20733" y="16256"/>
                </a:cubicBezTo>
                <a:cubicBezTo>
                  <a:pt x="20733" y="16381"/>
                  <a:pt x="20772" y="16459"/>
                  <a:pt x="20796" y="16574"/>
                </a:cubicBezTo>
                <a:cubicBezTo>
                  <a:pt x="20810" y="16641"/>
                  <a:pt x="20809" y="16691"/>
                  <a:pt x="20892" y="16700"/>
                </a:cubicBezTo>
                <a:cubicBezTo>
                  <a:pt x="20949" y="16706"/>
                  <a:pt x="20983" y="16698"/>
                  <a:pt x="20987" y="16637"/>
                </a:cubicBezTo>
                <a:cubicBezTo>
                  <a:pt x="20987" y="16616"/>
                  <a:pt x="20987" y="16595"/>
                  <a:pt x="20987" y="16574"/>
                </a:cubicBezTo>
              </a:path>
              <a:path w="1779" h="922">
                <a:moveTo>
                  <a:pt x="21018" y="16097"/>
                </a:moveTo>
                <a:cubicBezTo>
                  <a:pt x="21018" y="16183"/>
                  <a:pt x="21024" y="16272"/>
                  <a:pt x="21050" y="16351"/>
                </a:cubicBezTo>
                <a:cubicBezTo>
                  <a:pt x="21071" y="16413"/>
                  <a:pt x="21106" y="16496"/>
                  <a:pt x="21146" y="16542"/>
                </a:cubicBezTo>
                <a:cubicBezTo>
                  <a:pt x="21187" y="16589"/>
                  <a:pt x="21161" y="16590"/>
                  <a:pt x="21209" y="16605"/>
                </a:cubicBezTo>
                <a:cubicBezTo>
                  <a:pt x="21164" y="16546"/>
                  <a:pt x="21170" y="16515"/>
                  <a:pt x="21146" y="16446"/>
                </a:cubicBezTo>
                <a:cubicBezTo>
                  <a:pt x="21109" y="16343"/>
                  <a:pt x="21086" y="16240"/>
                  <a:pt x="21082" y="16129"/>
                </a:cubicBezTo>
                <a:cubicBezTo>
                  <a:pt x="21078" y="16037"/>
                  <a:pt x="21085" y="15961"/>
                  <a:pt x="21177" y="15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20"/>
          <p:cNvSpPr/>
          <p:nvPr/>
        </p:nvSpPr>
        <p:spPr>
          <a:xfrm>
            <a:off x="7796160" y="5565600"/>
            <a:ext cx="708120" cy="492480"/>
          </a:xfrm>
          <a:custGeom>
            <a:avLst/>
            <a:gdLst/>
            <a:ahLst/>
            <a:rect l="l" t="t" r="r" b="b"/>
            <a:pathLst>
              <a:path w="1969" h="1367">
                <a:moveTo>
                  <a:pt x="21685" y="15462"/>
                </a:moveTo>
                <a:cubicBezTo>
                  <a:pt x="21685" y="15473"/>
                  <a:pt x="21685" y="15483"/>
                  <a:pt x="21685" y="15494"/>
                </a:cubicBezTo>
              </a:path>
              <a:path w="1969" h="1367">
                <a:moveTo>
                  <a:pt x="21654" y="15716"/>
                </a:moveTo>
                <a:cubicBezTo>
                  <a:pt x="21666" y="15766"/>
                  <a:pt x="21685" y="15787"/>
                  <a:pt x="21685" y="15843"/>
                </a:cubicBezTo>
                <a:cubicBezTo>
                  <a:pt x="21685" y="15875"/>
                  <a:pt x="21685" y="15906"/>
                  <a:pt x="21685" y="15938"/>
                </a:cubicBezTo>
              </a:path>
              <a:path w="1969" h="1367">
                <a:moveTo>
                  <a:pt x="21717" y="16288"/>
                </a:moveTo>
                <a:cubicBezTo>
                  <a:pt x="21750" y="16386"/>
                  <a:pt x="21749" y="16469"/>
                  <a:pt x="21749" y="16574"/>
                </a:cubicBezTo>
                <a:cubicBezTo>
                  <a:pt x="21749" y="16606"/>
                  <a:pt x="21749" y="16637"/>
                  <a:pt x="21749" y="16669"/>
                </a:cubicBezTo>
                <a:cubicBezTo>
                  <a:pt x="21749" y="16537"/>
                  <a:pt x="21765" y="16412"/>
                  <a:pt x="21780" y="16288"/>
                </a:cubicBezTo>
                <a:cubicBezTo>
                  <a:pt x="21792" y="16186"/>
                  <a:pt x="21788" y="16061"/>
                  <a:pt x="21844" y="15970"/>
                </a:cubicBezTo>
                <a:cubicBezTo>
                  <a:pt x="21878" y="15916"/>
                  <a:pt x="21914" y="15907"/>
                  <a:pt x="21971" y="15907"/>
                </a:cubicBezTo>
                <a:cubicBezTo>
                  <a:pt x="22031" y="15907"/>
                  <a:pt x="22060" y="16047"/>
                  <a:pt x="22066" y="16097"/>
                </a:cubicBezTo>
                <a:cubicBezTo>
                  <a:pt x="22084" y="16242"/>
                  <a:pt x="22074" y="16397"/>
                  <a:pt x="22098" y="16542"/>
                </a:cubicBezTo>
                <a:cubicBezTo>
                  <a:pt x="22103" y="16574"/>
                  <a:pt x="22149" y="16830"/>
                  <a:pt x="22162" y="16828"/>
                </a:cubicBezTo>
                <a:cubicBezTo>
                  <a:pt x="22172" y="16817"/>
                  <a:pt x="22183" y="16807"/>
                  <a:pt x="22193" y="16796"/>
                </a:cubicBezTo>
              </a:path>
              <a:path w="1969" h="1367">
                <a:moveTo>
                  <a:pt x="22447" y="16129"/>
                </a:moveTo>
                <a:cubicBezTo>
                  <a:pt x="22435" y="16078"/>
                  <a:pt x="22416" y="16045"/>
                  <a:pt x="22384" y="16002"/>
                </a:cubicBezTo>
              </a:path>
              <a:path w="1969" h="1367">
                <a:moveTo>
                  <a:pt x="22352" y="15907"/>
                </a:moveTo>
                <a:cubicBezTo>
                  <a:pt x="22314" y="15919"/>
                  <a:pt x="22295" y="16011"/>
                  <a:pt x="22288" y="16066"/>
                </a:cubicBezTo>
                <a:cubicBezTo>
                  <a:pt x="22267" y="16227"/>
                  <a:pt x="22275" y="16425"/>
                  <a:pt x="22320" y="16574"/>
                </a:cubicBezTo>
              </a:path>
              <a:path w="1969" h="1367">
                <a:moveTo>
                  <a:pt x="22352" y="16637"/>
                </a:moveTo>
                <a:cubicBezTo>
                  <a:pt x="22403" y="16586"/>
                  <a:pt x="22466" y="16521"/>
                  <a:pt x="22479" y="16446"/>
                </a:cubicBezTo>
                <a:cubicBezTo>
                  <a:pt x="22497" y="16344"/>
                  <a:pt x="22495" y="16228"/>
                  <a:pt x="22511" y="16129"/>
                </a:cubicBezTo>
                <a:cubicBezTo>
                  <a:pt x="22521" y="16065"/>
                  <a:pt x="22492" y="16054"/>
                  <a:pt x="22479" y="16002"/>
                </a:cubicBezTo>
                <a:cubicBezTo>
                  <a:pt x="22495" y="16081"/>
                  <a:pt x="22511" y="16139"/>
                  <a:pt x="22511" y="16224"/>
                </a:cubicBezTo>
                <a:cubicBezTo>
                  <a:pt x="22511" y="16348"/>
                  <a:pt x="22549" y="16459"/>
                  <a:pt x="22574" y="16574"/>
                </a:cubicBezTo>
                <a:cubicBezTo>
                  <a:pt x="22574" y="16605"/>
                  <a:pt x="22574" y="16616"/>
                  <a:pt x="22606" y="16605"/>
                </a:cubicBezTo>
                <a:cubicBezTo>
                  <a:pt x="22657" y="16539"/>
                  <a:pt x="22615" y="16525"/>
                  <a:pt x="22638" y="16446"/>
                </a:cubicBezTo>
                <a:cubicBezTo>
                  <a:pt x="22649" y="16425"/>
                  <a:pt x="22659" y="16404"/>
                  <a:pt x="22670" y="16383"/>
                </a:cubicBezTo>
              </a:path>
              <a:path w="1969" h="1367">
                <a:moveTo>
                  <a:pt x="22701" y="15938"/>
                </a:moveTo>
                <a:cubicBezTo>
                  <a:pt x="22714" y="15976"/>
                  <a:pt x="22710" y="16010"/>
                  <a:pt x="22733" y="16066"/>
                </a:cubicBezTo>
                <a:cubicBezTo>
                  <a:pt x="22772" y="16158"/>
                  <a:pt x="22785" y="16278"/>
                  <a:pt x="22828" y="16383"/>
                </a:cubicBezTo>
                <a:cubicBezTo>
                  <a:pt x="22856" y="16450"/>
                  <a:pt x="22879" y="16572"/>
                  <a:pt x="22955" y="16605"/>
                </a:cubicBezTo>
                <a:cubicBezTo>
                  <a:pt x="23009" y="16628"/>
                  <a:pt x="23047" y="16590"/>
                  <a:pt x="23050" y="16542"/>
                </a:cubicBezTo>
                <a:cubicBezTo>
                  <a:pt x="23061" y="16385"/>
                  <a:pt x="23050" y="16223"/>
                  <a:pt x="23050" y="16066"/>
                </a:cubicBezTo>
              </a:path>
              <a:path w="1969" h="1367">
                <a:moveTo>
                  <a:pt x="23114" y="15907"/>
                </a:moveTo>
                <a:cubicBezTo>
                  <a:pt x="23133" y="15851"/>
                  <a:pt x="23167" y="15887"/>
                  <a:pt x="23178" y="15938"/>
                </a:cubicBezTo>
                <a:cubicBezTo>
                  <a:pt x="23194" y="16013"/>
                  <a:pt x="23201" y="16063"/>
                  <a:pt x="23241" y="16129"/>
                </a:cubicBezTo>
                <a:cubicBezTo>
                  <a:pt x="23292" y="16129"/>
                  <a:pt x="23343" y="16121"/>
                  <a:pt x="23368" y="16066"/>
                </a:cubicBezTo>
                <a:cubicBezTo>
                  <a:pt x="23402" y="15990"/>
                  <a:pt x="23412" y="15930"/>
                  <a:pt x="23432" y="15843"/>
                </a:cubicBezTo>
                <a:cubicBezTo>
                  <a:pt x="23447" y="15777"/>
                  <a:pt x="23506" y="15596"/>
                  <a:pt x="23463" y="15526"/>
                </a:cubicBezTo>
                <a:cubicBezTo>
                  <a:pt x="23453" y="15526"/>
                  <a:pt x="23442" y="15526"/>
                  <a:pt x="23432" y="15526"/>
                </a:cubicBezTo>
                <a:cubicBezTo>
                  <a:pt x="23386" y="15587"/>
                  <a:pt x="23346" y="15700"/>
                  <a:pt x="23336" y="15780"/>
                </a:cubicBezTo>
                <a:cubicBezTo>
                  <a:pt x="23317" y="15933"/>
                  <a:pt x="23326" y="16110"/>
                  <a:pt x="23368" y="16256"/>
                </a:cubicBezTo>
                <a:cubicBezTo>
                  <a:pt x="23396" y="16352"/>
                  <a:pt x="23431" y="16428"/>
                  <a:pt x="23495" y="16478"/>
                </a:cubicBezTo>
                <a:cubicBezTo>
                  <a:pt x="23553" y="16523"/>
                  <a:pt x="23563" y="16481"/>
                  <a:pt x="23590" y="16446"/>
                </a:cubicBezTo>
                <a:cubicBezTo>
                  <a:pt x="23627" y="16410"/>
                  <a:pt x="23637" y="16394"/>
                  <a:pt x="23622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21"/>
          <p:cNvSpPr/>
          <p:nvPr/>
        </p:nvSpPr>
        <p:spPr>
          <a:xfrm>
            <a:off x="6286680" y="6114960"/>
            <a:ext cx="366480" cy="400320"/>
          </a:xfrm>
          <a:custGeom>
            <a:avLst/>
            <a:gdLst/>
            <a:ahLst/>
            <a:rect l="l" t="t" r="r" b="b"/>
            <a:pathLst>
              <a:path w="1017" h="1113">
                <a:moveTo>
                  <a:pt x="17621" y="17208"/>
                </a:moveTo>
                <a:cubicBezTo>
                  <a:pt x="17671" y="17291"/>
                  <a:pt x="17653" y="17391"/>
                  <a:pt x="17653" y="17494"/>
                </a:cubicBezTo>
                <a:cubicBezTo>
                  <a:pt x="17653" y="17660"/>
                  <a:pt x="17666" y="17808"/>
                  <a:pt x="17685" y="17970"/>
                </a:cubicBezTo>
                <a:cubicBezTo>
                  <a:pt x="17685" y="18034"/>
                  <a:pt x="17685" y="18055"/>
                  <a:pt x="17685" y="18098"/>
                </a:cubicBezTo>
              </a:path>
              <a:path w="1017" h="1113">
                <a:moveTo>
                  <a:pt x="17462" y="17653"/>
                </a:moveTo>
                <a:cubicBezTo>
                  <a:pt x="17511" y="17653"/>
                  <a:pt x="17582" y="17640"/>
                  <a:pt x="17621" y="17621"/>
                </a:cubicBezTo>
                <a:cubicBezTo>
                  <a:pt x="17668" y="17598"/>
                  <a:pt x="17739" y="17472"/>
                  <a:pt x="17780" y="17431"/>
                </a:cubicBezTo>
              </a:path>
              <a:path w="1017" h="1113">
                <a:moveTo>
                  <a:pt x="17844" y="16986"/>
                </a:moveTo>
                <a:cubicBezTo>
                  <a:pt x="17861" y="17072"/>
                  <a:pt x="17875" y="17114"/>
                  <a:pt x="17875" y="17208"/>
                </a:cubicBezTo>
                <a:cubicBezTo>
                  <a:pt x="17875" y="17319"/>
                  <a:pt x="17888" y="17479"/>
                  <a:pt x="17907" y="17590"/>
                </a:cubicBezTo>
                <a:cubicBezTo>
                  <a:pt x="17926" y="17701"/>
                  <a:pt x="17939" y="17791"/>
                  <a:pt x="17939" y="17907"/>
                </a:cubicBezTo>
                <a:cubicBezTo>
                  <a:pt x="17939" y="17896"/>
                  <a:pt x="17939" y="17886"/>
                  <a:pt x="17939" y="17875"/>
                </a:cubicBezTo>
                <a:cubicBezTo>
                  <a:pt x="17961" y="17765"/>
                  <a:pt x="17970" y="17677"/>
                  <a:pt x="17970" y="17558"/>
                </a:cubicBezTo>
                <a:cubicBezTo>
                  <a:pt x="17970" y="17446"/>
                  <a:pt x="17957" y="17412"/>
                  <a:pt x="18034" y="17336"/>
                </a:cubicBezTo>
                <a:cubicBezTo>
                  <a:pt x="18052" y="17424"/>
                  <a:pt x="18112" y="17498"/>
                  <a:pt x="18129" y="17590"/>
                </a:cubicBezTo>
                <a:cubicBezTo>
                  <a:pt x="18148" y="17692"/>
                  <a:pt x="18155" y="17791"/>
                  <a:pt x="18224" y="17875"/>
                </a:cubicBezTo>
                <a:cubicBezTo>
                  <a:pt x="18269" y="17930"/>
                  <a:pt x="18269" y="17883"/>
                  <a:pt x="18288" y="17939"/>
                </a:cubicBezTo>
                <a:cubicBezTo>
                  <a:pt x="18336" y="17891"/>
                  <a:pt x="18352" y="17880"/>
                  <a:pt x="18352" y="17812"/>
                </a:cubicBezTo>
                <a:cubicBezTo>
                  <a:pt x="18352" y="17687"/>
                  <a:pt x="18344" y="17551"/>
                  <a:pt x="18320" y="17431"/>
                </a:cubicBezTo>
                <a:cubicBezTo>
                  <a:pt x="18305" y="17358"/>
                  <a:pt x="18294" y="17322"/>
                  <a:pt x="18256" y="17272"/>
                </a:cubicBezTo>
                <a:cubicBezTo>
                  <a:pt x="18256" y="17449"/>
                  <a:pt x="18227" y="17645"/>
                  <a:pt x="18288" y="17812"/>
                </a:cubicBezTo>
                <a:cubicBezTo>
                  <a:pt x="18310" y="17872"/>
                  <a:pt x="18369" y="17965"/>
                  <a:pt x="18447" y="17939"/>
                </a:cubicBezTo>
                <a:cubicBezTo>
                  <a:pt x="18457" y="17928"/>
                  <a:pt x="18468" y="17918"/>
                  <a:pt x="18478" y="179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22"/>
          <p:cNvSpPr/>
          <p:nvPr/>
        </p:nvSpPr>
        <p:spPr>
          <a:xfrm>
            <a:off x="6778800" y="6194520"/>
            <a:ext cx="604800" cy="298440"/>
          </a:xfrm>
          <a:custGeom>
            <a:avLst/>
            <a:gdLst/>
            <a:ahLst/>
            <a:rect l="l" t="t" r="r" b="b"/>
            <a:pathLst>
              <a:path w="1683" h="827">
                <a:moveTo>
                  <a:pt x="19018" y="17240"/>
                </a:moveTo>
                <a:cubicBezTo>
                  <a:pt x="18981" y="17221"/>
                  <a:pt x="18912" y="17233"/>
                  <a:pt x="18891" y="17304"/>
                </a:cubicBezTo>
                <a:cubicBezTo>
                  <a:pt x="18870" y="17376"/>
                  <a:pt x="18848" y="17460"/>
                  <a:pt x="18828" y="17526"/>
                </a:cubicBezTo>
                <a:cubicBezTo>
                  <a:pt x="18828" y="17537"/>
                  <a:pt x="18828" y="17547"/>
                  <a:pt x="18828" y="17558"/>
                </a:cubicBezTo>
                <a:cubicBezTo>
                  <a:pt x="18872" y="17543"/>
                  <a:pt x="18866" y="17513"/>
                  <a:pt x="18923" y="17494"/>
                </a:cubicBezTo>
                <a:cubicBezTo>
                  <a:pt x="18976" y="17476"/>
                  <a:pt x="19044" y="17530"/>
                  <a:pt x="19082" y="17558"/>
                </a:cubicBezTo>
                <a:cubicBezTo>
                  <a:pt x="19123" y="17589"/>
                  <a:pt x="19156" y="17728"/>
                  <a:pt x="19145" y="17780"/>
                </a:cubicBezTo>
                <a:cubicBezTo>
                  <a:pt x="19137" y="17819"/>
                  <a:pt x="19103" y="17977"/>
                  <a:pt x="19082" y="18002"/>
                </a:cubicBezTo>
                <a:cubicBezTo>
                  <a:pt x="19020" y="18074"/>
                  <a:pt x="18995" y="18001"/>
                  <a:pt x="18986" y="17939"/>
                </a:cubicBezTo>
              </a:path>
              <a:path w="1683" h="827">
                <a:moveTo>
                  <a:pt x="19368" y="17367"/>
                </a:moveTo>
                <a:cubicBezTo>
                  <a:pt x="19326" y="17398"/>
                  <a:pt x="19313" y="17442"/>
                  <a:pt x="19272" y="17462"/>
                </a:cubicBezTo>
                <a:cubicBezTo>
                  <a:pt x="19238" y="17478"/>
                  <a:pt x="19213" y="17502"/>
                  <a:pt x="19209" y="17558"/>
                </a:cubicBezTo>
                <a:cubicBezTo>
                  <a:pt x="19200" y="17680"/>
                  <a:pt x="19224" y="17790"/>
                  <a:pt x="19240" y="17907"/>
                </a:cubicBezTo>
                <a:cubicBezTo>
                  <a:pt x="19252" y="17999"/>
                  <a:pt x="19269" y="17985"/>
                  <a:pt x="19336" y="17970"/>
                </a:cubicBezTo>
                <a:cubicBezTo>
                  <a:pt x="19373" y="17962"/>
                  <a:pt x="19396" y="17925"/>
                  <a:pt x="19399" y="17875"/>
                </a:cubicBezTo>
                <a:cubicBezTo>
                  <a:pt x="19406" y="17772"/>
                  <a:pt x="19404" y="17724"/>
                  <a:pt x="19399" y="17621"/>
                </a:cubicBezTo>
                <a:cubicBezTo>
                  <a:pt x="19396" y="17542"/>
                  <a:pt x="19375" y="17487"/>
                  <a:pt x="19399" y="17462"/>
                </a:cubicBezTo>
                <a:cubicBezTo>
                  <a:pt x="19399" y="17518"/>
                  <a:pt x="19411" y="17571"/>
                  <a:pt x="19431" y="17621"/>
                </a:cubicBezTo>
                <a:cubicBezTo>
                  <a:pt x="19462" y="17697"/>
                  <a:pt x="19488" y="17768"/>
                  <a:pt x="19526" y="17844"/>
                </a:cubicBezTo>
              </a:path>
              <a:path w="1683" h="827">
                <a:moveTo>
                  <a:pt x="19590" y="17399"/>
                </a:moveTo>
                <a:cubicBezTo>
                  <a:pt x="19590" y="17468"/>
                  <a:pt x="19601" y="17529"/>
                  <a:pt x="19622" y="17590"/>
                </a:cubicBezTo>
                <a:cubicBezTo>
                  <a:pt x="19650" y="17670"/>
                  <a:pt x="19698" y="17761"/>
                  <a:pt x="19717" y="17844"/>
                </a:cubicBezTo>
                <a:cubicBezTo>
                  <a:pt x="19717" y="17896"/>
                  <a:pt x="19706" y="17917"/>
                  <a:pt x="19748" y="17907"/>
                </a:cubicBezTo>
                <a:cubicBezTo>
                  <a:pt x="19748" y="17825"/>
                  <a:pt x="19721" y="17765"/>
                  <a:pt x="19717" y="17685"/>
                </a:cubicBezTo>
                <a:cubicBezTo>
                  <a:pt x="19713" y="17612"/>
                  <a:pt x="19686" y="17452"/>
                  <a:pt x="19748" y="17431"/>
                </a:cubicBezTo>
                <a:cubicBezTo>
                  <a:pt x="19802" y="17448"/>
                  <a:pt x="19803" y="17531"/>
                  <a:pt x="19844" y="17590"/>
                </a:cubicBezTo>
                <a:cubicBezTo>
                  <a:pt x="19880" y="17641"/>
                  <a:pt x="19897" y="17695"/>
                  <a:pt x="19939" y="17748"/>
                </a:cubicBezTo>
                <a:cubicBezTo>
                  <a:pt x="19939" y="17663"/>
                  <a:pt x="19907" y="17420"/>
                  <a:pt x="19971" y="17399"/>
                </a:cubicBezTo>
                <a:cubicBezTo>
                  <a:pt x="20051" y="17399"/>
                  <a:pt x="20029" y="17416"/>
                  <a:pt x="20066" y="17494"/>
                </a:cubicBezTo>
                <a:cubicBezTo>
                  <a:pt x="20105" y="17576"/>
                  <a:pt x="20142" y="17674"/>
                  <a:pt x="20193" y="17748"/>
                </a:cubicBezTo>
                <a:cubicBezTo>
                  <a:pt x="20217" y="17782"/>
                  <a:pt x="20258" y="17814"/>
                  <a:pt x="20288" y="17844"/>
                </a:cubicBezTo>
                <a:cubicBezTo>
                  <a:pt x="20341" y="17804"/>
                  <a:pt x="20359" y="17808"/>
                  <a:pt x="20384" y="17748"/>
                </a:cubicBezTo>
                <a:cubicBezTo>
                  <a:pt x="20412" y="17682"/>
                  <a:pt x="20415" y="17658"/>
                  <a:pt x="20415" y="17590"/>
                </a:cubicBezTo>
                <a:cubicBezTo>
                  <a:pt x="20415" y="17508"/>
                  <a:pt x="20384" y="17441"/>
                  <a:pt x="20352" y="17367"/>
                </a:cubicBezTo>
                <a:cubicBezTo>
                  <a:pt x="20352" y="17479"/>
                  <a:pt x="20371" y="17577"/>
                  <a:pt x="20384" y="17685"/>
                </a:cubicBezTo>
                <a:cubicBezTo>
                  <a:pt x="20396" y="17786"/>
                  <a:pt x="20389" y="17923"/>
                  <a:pt x="20447" y="18002"/>
                </a:cubicBezTo>
                <a:cubicBezTo>
                  <a:pt x="20476" y="18031"/>
                  <a:pt x="20482" y="18041"/>
                  <a:pt x="20510" y="18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23"/>
          <p:cNvSpPr/>
          <p:nvPr/>
        </p:nvSpPr>
        <p:spPr>
          <a:xfrm>
            <a:off x="7623000" y="6012000"/>
            <a:ext cx="1132200" cy="399960"/>
          </a:xfrm>
          <a:custGeom>
            <a:avLst/>
            <a:gdLst/>
            <a:ahLst/>
            <a:rect l="l" t="t" r="r" b="b"/>
            <a:pathLst>
              <a:path w="3144" h="1113">
                <a:moveTo>
                  <a:pt x="21463" y="17304"/>
                </a:moveTo>
                <a:cubicBezTo>
                  <a:pt x="21391" y="17304"/>
                  <a:pt x="21363" y="17292"/>
                  <a:pt x="21304" y="17272"/>
                </a:cubicBezTo>
                <a:cubicBezTo>
                  <a:pt x="21253" y="17255"/>
                  <a:pt x="21291" y="17257"/>
                  <a:pt x="21241" y="17240"/>
                </a:cubicBezTo>
                <a:cubicBezTo>
                  <a:pt x="21179" y="17302"/>
                  <a:pt x="21177" y="17310"/>
                  <a:pt x="21177" y="17399"/>
                </a:cubicBezTo>
                <a:cubicBezTo>
                  <a:pt x="21177" y="17524"/>
                  <a:pt x="21190" y="17632"/>
                  <a:pt x="21209" y="17748"/>
                </a:cubicBezTo>
                <a:cubicBezTo>
                  <a:pt x="21209" y="17769"/>
                  <a:pt x="21209" y="17791"/>
                  <a:pt x="21209" y="17812"/>
                </a:cubicBezTo>
                <a:cubicBezTo>
                  <a:pt x="21301" y="17812"/>
                  <a:pt x="21276" y="17821"/>
                  <a:pt x="21336" y="17748"/>
                </a:cubicBezTo>
                <a:cubicBezTo>
                  <a:pt x="21378" y="17697"/>
                  <a:pt x="21420" y="17625"/>
                  <a:pt x="21431" y="17558"/>
                </a:cubicBezTo>
                <a:cubicBezTo>
                  <a:pt x="21439" y="17510"/>
                  <a:pt x="21431" y="17449"/>
                  <a:pt x="21431" y="17399"/>
                </a:cubicBezTo>
                <a:cubicBezTo>
                  <a:pt x="21455" y="17407"/>
                  <a:pt x="21487" y="17456"/>
                  <a:pt x="21495" y="17494"/>
                </a:cubicBezTo>
                <a:cubicBezTo>
                  <a:pt x="21510" y="17565"/>
                  <a:pt x="21537" y="17591"/>
                  <a:pt x="21558" y="17653"/>
                </a:cubicBezTo>
                <a:cubicBezTo>
                  <a:pt x="21558" y="17685"/>
                  <a:pt x="21558" y="17696"/>
                  <a:pt x="21590" y="17685"/>
                </a:cubicBezTo>
              </a:path>
              <a:path w="3144" h="1113">
                <a:moveTo>
                  <a:pt x="21654" y="17304"/>
                </a:moveTo>
                <a:cubicBezTo>
                  <a:pt x="21665" y="17384"/>
                  <a:pt x="21703" y="17444"/>
                  <a:pt x="21717" y="17526"/>
                </a:cubicBezTo>
                <a:cubicBezTo>
                  <a:pt x="21730" y="17603"/>
                  <a:pt x="21773" y="17671"/>
                  <a:pt x="21780" y="17748"/>
                </a:cubicBezTo>
                <a:cubicBezTo>
                  <a:pt x="21780" y="17780"/>
                  <a:pt x="21780" y="17791"/>
                  <a:pt x="21780" y="17748"/>
                </a:cubicBezTo>
                <a:cubicBezTo>
                  <a:pt x="21780" y="17573"/>
                  <a:pt x="21774" y="17405"/>
                  <a:pt x="21812" y="17240"/>
                </a:cubicBezTo>
                <a:cubicBezTo>
                  <a:pt x="21812" y="17208"/>
                  <a:pt x="21812" y="17197"/>
                  <a:pt x="21844" y="17208"/>
                </a:cubicBezTo>
                <a:cubicBezTo>
                  <a:pt x="21863" y="17214"/>
                  <a:pt x="21929" y="17267"/>
                  <a:pt x="21939" y="17304"/>
                </a:cubicBezTo>
                <a:cubicBezTo>
                  <a:pt x="21958" y="17371"/>
                  <a:pt x="21996" y="17457"/>
                  <a:pt x="22003" y="17526"/>
                </a:cubicBezTo>
                <a:cubicBezTo>
                  <a:pt x="22003" y="17558"/>
                  <a:pt x="22003" y="17569"/>
                  <a:pt x="22003" y="17590"/>
                </a:cubicBezTo>
                <a:cubicBezTo>
                  <a:pt x="22029" y="17550"/>
                  <a:pt x="22029" y="17564"/>
                  <a:pt x="22034" y="17494"/>
                </a:cubicBezTo>
                <a:cubicBezTo>
                  <a:pt x="22040" y="17406"/>
                  <a:pt x="22044" y="17345"/>
                  <a:pt x="22066" y="17272"/>
                </a:cubicBezTo>
                <a:cubicBezTo>
                  <a:pt x="22082" y="17220"/>
                  <a:pt x="22081" y="17260"/>
                  <a:pt x="22098" y="17208"/>
                </a:cubicBezTo>
                <a:cubicBezTo>
                  <a:pt x="22166" y="17259"/>
                  <a:pt x="22171" y="17289"/>
                  <a:pt x="22225" y="17367"/>
                </a:cubicBezTo>
                <a:cubicBezTo>
                  <a:pt x="22281" y="17447"/>
                  <a:pt x="22309" y="17532"/>
                  <a:pt x="22352" y="17621"/>
                </a:cubicBezTo>
                <a:cubicBezTo>
                  <a:pt x="22389" y="17698"/>
                  <a:pt x="22399" y="17716"/>
                  <a:pt x="22479" y="17716"/>
                </a:cubicBezTo>
              </a:path>
              <a:path w="3144" h="1113">
                <a:moveTo>
                  <a:pt x="22701" y="17240"/>
                </a:moveTo>
                <a:cubicBezTo>
                  <a:pt x="22662" y="17280"/>
                  <a:pt x="22612" y="17312"/>
                  <a:pt x="22606" y="17367"/>
                </a:cubicBezTo>
                <a:cubicBezTo>
                  <a:pt x="22596" y="17458"/>
                  <a:pt x="22597" y="17480"/>
                  <a:pt x="22606" y="17558"/>
                </a:cubicBezTo>
                <a:cubicBezTo>
                  <a:pt x="22615" y="17637"/>
                  <a:pt x="22586" y="17664"/>
                  <a:pt x="22670" y="17685"/>
                </a:cubicBezTo>
                <a:cubicBezTo>
                  <a:pt x="22680" y="17655"/>
                  <a:pt x="22681" y="17625"/>
                  <a:pt x="22701" y="17590"/>
                </a:cubicBezTo>
                <a:cubicBezTo>
                  <a:pt x="22731" y="17537"/>
                  <a:pt x="22733" y="17527"/>
                  <a:pt x="22733" y="17462"/>
                </a:cubicBezTo>
                <a:cubicBezTo>
                  <a:pt x="22733" y="17405"/>
                  <a:pt x="22701" y="17364"/>
                  <a:pt x="22701" y="17304"/>
                </a:cubicBezTo>
                <a:cubicBezTo>
                  <a:pt x="22701" y="17252"/>
                  <a:pt x="22717" y="17288"/>
                  <a:pt x="22733" y="17240"/>
                </a:cubicBezTo>
                <a:cubicBezTo>
                  <a:pt x="22737" y="17241"/>
                  <a:pt x="22825" y="17268"/>
                  <a:pt x="22828" y="17272"/>
                </a:cubicBezTo>
                <a:cubicBezTo>
                  <a:pt x="22863" y="17316"/>
                  <a:pt x="22873" y="17378"/>
                  <a:pt x="22892" y="17431"/>
                </a:cubicBezTo>
                <a:cubicBezTo>
                  <a:pt x="22920" y="17508"/>
                  <a:pt x="22922" y="17615"/>
                  <a:pt x="22955" y="17685"/>
                </a:cubicBezTo>
                <a:cubicBezTo>
                  <a:pt x="22984" y="17713"/>
                  <a:pt x="22990" y="17723"/>
                  <a:pt x="23019" y="17716"/>
                </a:cubicBezTo>
                <a:cubicBezTo>
                  <a:pt x="23019" y="17649"/>
                  <a:pt x="23039" y="17621"/>
                  <a:pt x="23050" y="17558"/>
                </a:cubicBezTo>
                <a:cubicBezTo>
                  <a:pt x="23071" y="17437"/>
                  <a:pt x="23020" y="17312"/>
                  <a:pt x="23082" y="17208"/>
                </a:cubicBezTo>
                <a:cubicBezTo>
                  <a:pt x="23082" y="17289"/>
                  <a:pt x="23101" y="17326"/>
                  <a:pt x="23114" y="17399"/>
                </a:cubicBezTo>
                <a:cubicBezTo>
                  <a:pt x="23132" y="17499"/>
                  <a:pt x="23115" y="17561"/>
                  <a:pt x="23178" y="17653"/>
                </a:cubicBezTo>
                <a:cubicBezTo>
                  <a:pt x="23188" y="17664"/>
                  <a:pt x="23199" y="17674"/>
                  <a:pt x="23209" y="17685"/>
                </a:cubicBezTo>
                <a:cubicBezTo>
                  <a:pt x="23225" y="17621"/>
                  <a:pt x="23247" y="17562"/>
                  <a:pt x="23273" y="17494"/>
                </a:cubicBezTo>
              </a:path>
              <a:path w="3144" h="1113">
                <a:moveTo>
                  <a:pt x="23304" y="17113"/>
                </a:moveTo>
                <a:cubicBezTo>
                  <a:pt x="23304" y="17209"/>
                  <a:pt x="23321" y="17278"/>
                  <a:pt x="23336" y="17367"/>
                </a:cubicBezTo>
                <a:cubicBezTo>
                  <a:pt x="23346" y="17424"/>
                  <a:pt x="23343" y="17540"/>
                  <a:pt x="23368" y="17590"/>
                </a:cubicBezTo>
                <a:cubicBezTo>
                  <a:pt x="23379" y="17600"/>
                  <a:pt x="23389" y="17611"/>
                  <a:pt x="23400" y="17621"/>
                </a:cubicBezTo>
                <a:cubicBezTo>
                  <a:pt x="23400" y="17440"/>
                  <a:pt x="23384" y="17242"/>
                  <a:pt x="23432" y="17082"/>
                </a:cubicBezTo>
                <a:cubicBezTo>
                  <a:pt x="23432" y="17050"/>
                  <a:pt x="23432" y="17040"/>
                  <a:pt x="23463" y="17050"/>
                </a:cubicBezTo>
                <a:cubicBezTo>
                  <a:pt x="23475" y="17087"/>
                  <a:pt x="23516" y="17124"/>
                  <a:pt x="23527" y="17177"/>
                </a:cubicBezTo>
                <a:cubicBezTo>
                  <a:pt x="23542" y="17252"/>
                  <a:pt x="23559" y="17364"/>
                  <a:pt x="23590" y="17431"/>
                </a:cubicBezTo>
                <a:cubicBezTo>
                  <a:pt x="23611" y="17476"/>
                  <a:pt x="23633" y="17520"/>
                  <a:pt x="23686" y="17526"/>
                </a:cubicBezTo>
                <a:cubicBezTo>
                  <a:pt x="23696" y="17526"/>
                  <a:pt x="23707" y="17526"/>
                  <a:pt x="23717" y="17526"/>
                </a:cubicBezTo>
              </a:path>
              <a:path w="3144" h="1113">
                <a:moveTo>
                  <a:pt x="23749" y="16700"/>
                </a:moveTo>
                <a:cubicBezTo>
                  <a:pt x="23749" y="16798"/>
                  <a:pt x="23760" y="16893"/>
                  <a:pt x="23781" y="16986"/>
                </a:cubicBezTo>
                <a:cubicBezTo>
                  <a:pt x="23811" y="17121"/>
                  <a:pt x="23857" y="17271"/>
                  <a:pt x="23908" y="17399"/>
                </a:cubicBezTo>
                <a:cubicBezTo>
                  <a:pt x="23930" y="17455"/>
                  <a:pt x="23959" y="17475"/>
                  <a:pt x="23971" y="17526"/>
                </a:cubicBezTo>
              </a:path>
              <a:path w="3144" h="1113">
                <a:moveTo>
                  <a:pt x="23717" y="17240"/>
                </a:moveTo>
                <a:cubicBezTo>
                  <a:pt x="23783" y="17175"/>
                  <a:pt x="23797" y="17173"/>
                  <a:pt x="23876" y="17145"/>
                </a:cubicBezTo>
                <a:cubicBezTo>
                  <a:pt x="23972" y="17111"/>
                  <a:pt x="24065" y="17092"/>
                  <a:pt x="24162" y="17050"/>
                </a:cubicBezTo>
                <a:cubicBezTo>
                  <a:pt x="24232" y="17014"/>
                  <a:pt x="24261" y="17004"/>
                  <a:pt x="24320" y="17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ngth of a rectangle is 2 cm more than 4 times the width.  If the perimeter of the rectangle is 84 cm, what are the dim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4"/>
          <p:cNvSpPr/>
          <p:nvPr/>
        </p:nvSpPr>
        <p:spPr>
          <a:xfrm>
            <a:off x="5361120" y="1863720"/>
            <a:ext cx="250560" cy="22320"/>
          </a:xfrm>
          <a:custGeom>
            <a:avLst/>
            <a:gdLst/>
            <a:ahLst/>
            <a:rect l="l" t="t" r="r" b="b"/>
            <a:pathLst>
              <a:path w="699" h="65">
                <a:moveTo>
                  <a:pt x="14954" y="5175"/>
                </a:moveTo>
                <a:cubicBezTo>
                  <a:pt x="14943" y="5175"/>
                  <a:pt x="14933" y="5175"/>
                  <a:pt x="14922" y="5175"/>
                </a:cubicBezTo>
              </a:path>
              <a:path w="699" h="65">
                <a:moveTo>
                  <a:pt x="14954" y="5175"/>
                </a:moveTo>
                <a:cubicBezTo>
                  <a:pt x="14933" y="5175"/>
                  <a:pt x="14912" y="5175"/>
                  <a:pt x="14891" y="5175"/>
                </a:cubicBezTo>
              </a:path>
              <a:path w="699" h="65">
                <a:moveTo>
                  <a:pt x="14891" y="5175"/>
                </a:moveTo>
                <a:cubicBezTo>
                  <a:pt x="14956" y="5192"/>
                  <a:pt x="14972" y="5207"/>
                  <a:pt x="15050" y="5207"/>
                </a:cubicBezTo>
                <a:cubicBezTo>
                  <a:pt x="15144" y="5207"/>
                  <a:pt x="15218" y="5228"/>
                  <a:pt x="15304" y="5239"/>
                </a:cubicBezTo>
                <a:cubicBezTo>
                  <a:pt x="15395" y="5251"/>
                  <a:pt x="15497" y="5239"/>
                  <a:pt x="15589" y="5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5"/>
          <p:cNvSpPr/>
          <p:nvPr/>
        </p:nvSpPr>
        <p:spPr>
          <a:xfrm>
            <a:off x="949320" y="2297160"/>
            <a:ext cx="4205160" cy="2927160"/>
          </a:xfrm>
          <a:custGeom>
            <a:avLst/>
            <a:gdLst/>
            <a:ahLst/>
            <a:rect l="l" t="t" r="r" b="b"/>
            <a:pathLst>
              <a:path w="11685" h="8129">
                <a:moveTo>
                  <a:pt x="3048" y="6699"/>
                </a:moveTo>
                <a:cubicBezTo>
                  <a:pt x="3442" y="6699"/>
                  <a:pt x="3834" y="6695"/>
                  <a:pt x="4223" y="6668"/>
                </a:cubicBezTo>
                <a:cubicBezTo>
                  <a:pt x="4412" y="6655"/>
                  <a:pt x="4605" y="6641"/>
                  <a:pt x="4794" y="6636"/>
                </a:cubicBezTo>
                <a:cubicBezTo>
                  <a:pt x="4942" y="6636"/>
                  <a:pt x="4985" y="6636"/>
                  <a:pt x="5080" y="6636"/>
                </a:cubicBezTo>
              </a:path>
              <a:path w="11685" h="8129">
                <a:moveTo>
                  <a:pt x="10668" y="10001"/>
                </a:moveTo>
                <a:cubicBezTo>
                  <a:pt x="10668" y="10095"/>
                  <a:pt x="10640" y="10160"/>
                  <a:pt x="10636" y="10255"/>
                </a:cubicBezTo>
                <a:cubicBezTo>
                  <a:pt x="10629" y="10430"/>
                  <a:pt x="10626" y="10593"/>
                  <a:pt x="10604" y="10763"/>
                </a:cubicBezTo>
                <a:cubicBezTo>
                  <a:pt x="10603" y="10773"/>
                  <a:pt x="10601" y="11054"/>
                  <a:pt x="10573" y="11017"/>
                </a:cubicBezTo>
                <a:cubicBezTo>
                  <a:pt x="10573" y="11007"/>
                  <a:pt x="10573" y="10996"/>
                  <a:pt x="10573" y="10986"/>
                </a:cubicBezTo>
              </a:path>
              <a:path w="11685" h="8129">
                <a:moveTo>
                  <a:pt x="10192" y="10478"/>
                </a:moveTo>
                <a:cubicBezTo>
                  <a:pt x="10442" y="10478"/>
                  <a:pt x="10711" y="10447"/>
                  <a:pt x="10954" y="10509"/>
                </a:cubicBezTo>
                <a:cubicBezTo>
                  <a:pt x="10986" y="10520"/>
                  <a:pt x="11017" y="10530"/>
                  <a:pt x="11049" y="10541"/>
                </a:cubicBezTo>
              </a:path>
              <a:path w="11685" h="8129">
                <a:moveTo>
                  <a:pt x="6699" y="6604"/>
                </a:moveTo>
                <a:cubicBezTo>
                  <a:pt x="6737" y="6627"/>
                  <a:pt x="6734" y="6634"/>
                  <a:pt x="6794" y="6636"/>
                </a:cubicBezTo>
                <a:cubicBezTo>
                  <a:pt x="6891" y="6640"/>
                  <a:pt x="6987" y="6622"/>
                  <a:pt x="7080" y="6604"/>
                </a:cubicBezTo>
                <a:cubicBezTo>
                  <a:pt x="7253" y="6570"/>
                  <a:pt x="7416" y="6542"/>
                  <a:pt x="7588" y="6509"/>
                </a:cubicBezTo>
                <a:cubicBezTo>
                  <a:pt x="7809" y="6467"/>
                  <a:pt x="8034" y="6477"/>
                  <a:pt x="8255" y="6445"/>
                </a:cubicBezTo>
                <a:cubicBezTo>
                  <a:pt x="8426" y="6420"/>
                  <a:pt x="8596" y="6421"/>
                  <a:pt x="8763" y="6382"/>
                </a:cubicBezTo>
              </a:path>
              <a:path w="11685" h="8129">
                <a:moveTo>
                  <a:pt x="11494" y="9620"/>
                </a:moveTo>
                <a:cubicBezTo>
                  <a:pt x="11536" y="9678"/>
                  <a:pt x="11554" y="9735"/>
                  <a:pt x="11557" y="9811"/>
                </a:cubicBezTo>
                <a:cubicBezTo>
                  <a:pt x="11563" y="9953"/>
                  <a:pt x="11563" y="10088"/>
                  <a:pt x="11525" y="10224"/>
                </a:cubicBezTo>
                <a:cubicBezTo>
                  <a:pt x="11490" y="10347"/>
                  <a:pt x="11486" y="10455"/>
                  <a:pt x="11430" y="10573"/>
                </a:cubicBezTo>
                <a:cubicBezTo>
                  <a:pt x="11401" y="10635"/>
                  <a:pt x="11398" y="10640"/>
                  <a:pt x="11398" y="10700"/>
                </a:cubicBezTo>
                <a:cubicBezTo>
                  <a:pt x="11467" y="10700"/>
                  <a:pt x="11487" y="10672"/>
                  <a:pt x="11557" y="10668"/>
                </a:cubicBezTo>
                <a:cubicBezTo>
                  <a:pt x="11648" y="10663"/>
                  <a:pt x="11722" y="10695"/>
                  <a:pt x="11811" y="10700"/>
                </a:cubicBezTo>
                <a:cubicBezTo>
                  <a:pt x="11901" y="10705"/>
                  <a:pt x="11971" y="10732"/>
                  <a:pt x="12065" y="10732"/>
                </a:cubicBezTo>
                <a:cubicBezTo>
                  <a:pt x="12150" y="10732"/>
                  <a:pt x="12183" y="10689"/>
                  <a:pt x="12224" y="10636"/>
                </a:cubicBezTo>
                <a:cubicBezTo>
                  <a:pt x="12235" y="10625"/>
                  <a:pt x="12245" y="10615"/>
                  <a:pt x="12256" y="10604"/>
                </a:cubicBezTo>
              </a:path>
              <a:path w="11685" h="8129">
                <a:moveTo>
                  <a:pt x="12160" y="9525"/>
                </a:moveTo>
                <a:cubicBezTo>
                  <a:pt x="12124" y="9632"/>
                  <a:pt x="12116" y="9729"/>
                  <a:pt x="12097" y="9842"/>
                </a:cubicBezTo>
                <a:cubicBezTo>
                  <a:pt x="12064" y="10033"/>
                  <a:pt x="12038" y="10219"/>
                  <a:pt x="12033" y="10414"/>
                </a:cubicBezTo>
                <a:cubicBezTo>
                  <a:pt x="12028" y="10604"/>
                  <a:pt x="12011" y="10800"/>
                  <a:pt x="11970" y="10986"/>
                </a:cubicBezTo>
                <a:cubicBezTo>
                  <a:pt x="11935" y="11148"/>
                  <a:pt x="11935" y="11305"/>
                  <a:pt x="11874" y="11462"/>
                </a:cubicBezTo>
                <a:cubicBezTo>
                  <a:pt x="11861" y="11495"/>
                  <a:pt x="11804" y="11652"/>
                  <a:pt x="11843" y="11684"/>
                </a:cubicBezTo>
                <a:cubicBezTo>
                  <a:pt x="11853" y="11673"/>
                  <a:pt x="11864" y="11663"/>
                  <a:pt x="11874" y="11652"/>
                </a:cubicBezTo>
              </a:path>
              <a:path w="11685" h="8129">
                <a:moveTo>
                  <a:pt x="12382" y="10096"/>
                </a:moveTo>
                <a:cubicBezTo>
                  <a:pt x="12382" y="10215"/>
                  <a:pt x="12408" y="10300"/>
                  <a:pt x="12446" y="10414"/>
                </a:cubicBezTo>
                <a:cubicBezTo>
                  <a:pt x="12497" y="10565"/>
                  <a:pt x="12501" y="10732"/>
                  <a:pt x="12541" y="10890"/>
                </a:cubicBezTo>
                <a:cubicBezTo>
                  <a:pt x="12576" y="11031"/>
                  <a:pt x="12644" y="11167"/>
                  <a:pt x="12700" y="11303"/>
                </a:cubicBezTo>
                <a:cubicBezTo>
                  <a:pt x="12730" y="11375"/>
                  <a:pt x="12741" y="11406"/>
                  <a:pt x="12795" y="11462"/>
                </a:cubicBezTo>
                <a:cubicBezTo>
                  <a:pt x="12804" y="11388"/>
                  <a:pt x="12810" y="11313"/>
                  <a:pt x="12827" y="11240"/>
                </a:cubicBezTo>
                <a:cubicBezTo>
                  <a:pt x="12857" y="11113"/>
                  <a:pt x="12886" y="10990"/>
                  <a:pt x="12890" y="10858"/>
                </a:cubicBezTo>
                <a:cubicBezTo>
                  <a:pt x="12894" y="10733"/>
                  <a:pt x="12922" y="10635"/>
                  <a:pt x="12922" y="10509"/>
                </a:cubicBezTo>
                <a:cubicBezTo>
                  <a:pt x="12922" y="10456"/>
                  <a:pt x="12922" y="10403"/>
                  <a:pt x="12922" y="10350"/>
                </a:cubicBezTo>
                <a:cubicBezTo>
                  <a:pt x="12945" y="10434"/>
                  <a:pt x="12959" y="10517"/>
                  <a:pt x="12986" y="10604"/>
                </a:cubicBezTo>
                <a:cubicBezTo>
                  <a:pt x="13027" y="10736"/>
                  <a:pt x="13028" y="10893"/>
                  <a:pt x="13081" y="11017"/>
                </a:cubicBezTo>
                <a:cubicBezTo>
                  <a:pt x="13137" y="11147"/>
                  <a:pt x="13174" y="11303"/>
                  <a:pt x="13240" y="11430"/>
                </a:cubicBezTo>
                <a:cubicBezTo>
                  <a:pt x="13283" y="11514"/>
                  <a:pt x="13340" y="11610"/>
                  <a:pt x="13398" y="11684"/>
                </a:cubicBezTo>
                <a:cubicBezTo>
                  <a:pt x="13418" y="11649"/>
                  <a:pt x="13450" y="11610"/>
                  <a:pt x="13462" y="11525"/>
                </a:cubicBezTo>
                <a:cubicBezTo>
                  <a:pt x="13505" y="11229"/>
                  <a:pt x="13469" y="10902"/>
                  <a:pt x="13494" y="10604"/>
                </a:cubicBezTo>
                <a:cubicBezTo>
                  <a:pt x="13507" y="10455"/>
                  <a:pt x="13535" y="10320"/>
                  <a:pt x="13621" y="10192"/>
                </a:cubicBezTo>
                <a:cubicBezTo>
                  <a:pt x="13680" y="10133"/>
                  <a:pt x="13698" y="10117"/>
                  <a:pt x="13716" y="10065"/>
                </a:cubicBezTo>
              </a:path>
              <a:path w="11685" h="8129">
                <a:moveTo>
                  <a:pt x="9176" y="9334"/>
                </a:moveTo>
                <a:lnTo>
                  <a:pt x="9176" y="9334"/>
                </a:lnTo>
              </a:path>
              <a:path w="11685" h="8129">
                <a:moveTo>
                  <a:pt x="9176" y="9334"/>
                </a:moveTo>
                <a:cubicBezTo>
                  <a:pt x="9176" y="9345"/>
                  <a:pt x="9176" y="9355"/>
                  <a:pt x="9176" y="9366"/>
                </a:cubicBezTo>
              </a:path>
              <a:path w="11685" h="8129">
                <a:moveTo>
                  <a:pt x="9176" y="9366"/>
                </a:moveTo>
                <a:cubicBezTo>
                  <a:pt x="9170" y="9461"/>
                  <a:pt x="9159" y="9533"/>
                  <a:pt x="9144" y="9620"/>
                </a:cubicBezTo>
                <a:cubicBezTo>
                  <a:pt x="9122" y="9745"/>
                  <a:pt x="9099" y="9875"/>
                  <a:pt x="9080" y="10001"/>
                </a:cubicBezTo>
                <a:cubicBezTo>
                  <a:pt x="9058" y="10149"/>
                  <a:pt x="9066" y="10298"/>
                  <a:pt x="9049" y="10446"/>
                </a:cubicBezTo>
                <a:cubicBezTo>
                  <a:pt x="9034" y="10584"/>
                  <a:pt x="8993" y="10718"/>
                  <a:pt x="8985" y="10858"/>
                </a:cubicBezTo>
                <a:cubicBezTo>
                  <a:pt x="8978" y="10978"/>
                  <a:pt x="8962" y="11090"/>
                  <a:pt x="8954" y="11208"/>
                </a:cubicBezTo>
                <a:cubicBezTo>
                  <a:pt x="8949" y="11294"/>
                  <a:pt x="8928" y="11384"/>
                  <a:pt x="8922" y="11462"/>
                </a:cubicBezTo>
                <a:cubicBezTo>
                  <a:pt x="8918" y="11516"/>
                  <a:pt x="8907" y="11586"/>
                  <a:pt x="8954" y="11620"/>
                </a:cubicBezTo>
                <a:cubicBezTo>
                  <a:pt x="8991" y="11647"/>
                  <a:pt x="9067" y="11619"/>
                  <a:pt x="9080" y="11620"/>
                </a:cubicBezTo>
                <a:cubicBezTo>
                  <a:pt x="9263" y="11638"/>
                  <a:pt x="9448" y="11603"/>
                  <a:pt x="9620" y="11589"/>
                </a:cubicBezTo>
                <a:cubicBezTo>
                  <a:pt x="9766" y="11577"/>
                  <a:pt x="9927" y="11567"/>
                  <a:pt x="10065" y="11557"/>
                </a:cubicBezTo>
                <a:cubicBezTo>
                  <a:pt x="10362" y="11535"/>
                  <a:pt x="10664" y="11572"/>
                  <a:pt x="10954" y="11589"/>
                </a:cubicBezTo>
                <a:cubicBezTo>
                  <a:pt x="11084" y="11596"/>
                  <a:pt x="11208" y="11597"/>
                  <a:pt x="11335" y="11620"/>
                </a:cubicBezTo>
                <a:cubicBezTo>
                  <a:pt x="11532" y="11656"/>
                  <a:pt x="11737" y="11678"/>
                  <a:pt x="11938" y="11684"/>
                </a:cubicBezTo>
                <a:cubicBezTo>
                  <a:pt x="12091" y="11688"/>
                  <a:pt x="12233" y="11736"/>
                  <a:pt x="12382" y="11748"/>
                </a:cubicBezTo>
                <a:cubicBezTo>
                  <a:pt x="12522" y="11760"/>
                  <a:pt x="12657" y="11770"/>
                  <a:pt x="12795" y="11779"/>
                </a:cubicBezTo>
                <a:cubicBezTo>
                  <a:pt x="13027" y="11794"/>
                  <a:pt x="13267" y="11797"/>
                  <a:pt x="13494" y="11811"/>
                </a:cubicBezTo>
                <a:cubicBezTo>
                  <a:pt x="13653" y="11821"/>
                  <a:pt x="13820" y="11832"/>
                  <a:pt x="13970" y="11843"/>
                </a:cubicBezTo>
                <a:cubicBezTo>
                  <a:pt x="14062" y="11850"/>
                  <a:pt x="14176" y="11861"/>
                  <a:pt x="14256" y="11811"/>
                </a:cubicBezTo>
                <a:cubicBezTo>
                  <a:pt x="14332" y="11764"/>
                  <a:pt x="14307" y="11727"/>
                  <a:pt x="14319" y="11652"/>
                </a:cubicBezTo>
                <a:cubicBezTo>
                  <a:pt x="14336" y="11545"/>
                  <a:pt x="14314" y="11403"/>
                  <a:pt x="14288" y="11303"/>
                </a:cubicBezTo>
                <a:cubicBezTo>
                  <a:pt x="14252" y="11165"/>
                  <a:pt x="14203" y="11031"/>
                  <a:pt x="14192" y="10890"/>
                </a:cubicBezTo>
                <a:cubicBezTo>
                  <a:pt x="14162" y="10523"/>
                  <a:pt x="14298" y="10025"/>
                  <a:pt x="14160" y="9684"/>
                </a:cubicBezTo>
                <a:cubicBezTo>
                  <a:pt x="14141" y="9637"/>
                  <a:pt x="14116" y="9589"/>
                  <a:pt x="14065" y="9557"/>
                </a:cubicBezTo>
                <a:cubicBezTo>
                  <a:pt x="14010" y="9522"/>
                  <a:pt x="14003" y="9535"/>
                  <a:pt x="13938" y="9525"/>
                </a:cubicBezTo>
                <a:cubicBezTo>
                  <a:pt x="13791" y="9503"/>
                  <a:pt x="13640" y="9517"/>
                  <a:pt x="13494" y="9493"/>
                </a:cubicBezTo>
                <a:cubicBezTo>
                  <a:pt x="13352" y="9470"/>
                  <a:pt x="13215" y="9422"/>
                  <a:pt x="13081" y="9398"/>
                </a:cubicBezTo>
                <a:cubicBezTo>
                  <a:pt x="12897" y="9365"/>
                  <a:pt x="12699" y="9366"/>
                  <a:pt x="12510" y="9366"/>
                </a:cubicBezTo>
                <a:cubicBezTo>
                  <a:pt x="12305" y="9366"/>
                  <a:pt x="12078" y="9356"/>
                  <a:pt x="11874" y="9334"/>
                </a:cubicBezTo>
                <a:cubicBezTo>
                  <a:pt x="11670" y="9312"/>
                  <a:pt x="11477" y="9303"/>
                  <a:pt x="11271" y="9303"/>
                </a:cubicBezTo>
                <a:cubicBezTo>
                  <a:pt x="11068" y="9303"/>
                  <a:pt x="10873" y="9271"/>
                  <a:pt x="10668" y="9271"/>
                </a:cubicBezTo>
                <a:cubicBezTo>
                  <a:pt x="10420" y="9271"/>
                  <a:pt x="10181" y="9265"/>
                  <a:pt x="9938" y="9303"/>
                </a:cubicBezTo>
                <a:cubicBezTo>
                  <a:pt x="9795" y="9325"/>
                  <a:pt x="9635" y="9355"/>
                  <a:pt x="9493" y="9366"/>
                </a:cubicBezTo>
                <a:cubicBezTo>
                  <a:pt x="9400" y="9373"/>
                  <a:pt x="9302" y="9366"/>
                  <a:pt x="9208" y="9366"/>
                </a:cubicBezTo>
              </a:path>
              <a:path w="11685" h="8129">
                <a:moveTo>
                  <a:pt x="9716" y="11525"/>
                </a:moveTo>
                <a:cubicBezTo>
                  <a:pt x="9716" y="11608"/>
                  <a:pt x="9697" y="11670"/>
                  <a:pt x="9684" y="11748"/>
                </a:cubicBezTo>
                <a:cubicBezTo>
                  <a:pt x="9667" y="11852"/>
                  <a:pt x="9633" y="11965"/>
                  <a:pt x="9620" y="12065"/>
                </a:cubicBezTo>
                <a:cubicBezTo>
                  <a:pt x="9575" y="12421"/>
                  <a:pt x="9644" y="12795"/>
                  <a:pt x="9588" y="13144"/>
                </a:cubicBezTo>
                <a:cubicBezTo>
                  <a:pt x="9576" y="13217"/>
                  <a:pt x="9567" y="13306"/>
                  <a:pt x="9557" y="13367"/>
                </a:cubicBezTo>
                <a:cubicBezTo>
                  <a:pt x="9557" y="13388"/>
                  <a:pt x="9557" y="13409"/>
                  <a:pt x="9557" y="13430"/>
                </a:cubicBezTo>
                <a:cubicBezTo>
                  <a:pt x="9629" y="13430"/>
                  <a:pt x="9678" y="13346"/>
                  <a:pt x="9747" y="13367"/>
                </a:cubicBezTo>
                <a:cubicBezTo>
                  <a:pt x="9793" y="13381"/>
                  <a:pt x="9861" y="13412"/>
                  <a:pt x="9938" y="13430"/>
                </a:cubicBezTo>
                <a:cubicBezTo>
                  <a:pt x="10033" y="13453"/>
                  <a:pt x="10132" y="13483"/>
                  <a:pt x="10224" y="13526"/>
                </a:cubicBezTo>
                <a:cubicBezTo>
                  <a:pt x="10309" y="13566"/>
                  <a:pt x="10390" y="13577"/>
                  <a:pt x="10478" y="13621"/>
                </a:cubicBezTo>
                <a:cubicBezTo>
                  <a:pt x="10556" y="13659"/>
                  <a:pt x="10628" y="13706"/>
                  <a:pt x="10700" y="13748"/>
                </a:cubicBezTo>
                <a:cubicBezTo>
                  <a:pt x="10768" y="13787"/>
                  <a:pt x="10787" y="13801"/>
                  <a:pt x="10858" y="13811"/>
                </a:cubicBezTo>
                <a:cubicBezTo>
                  <a:pt x="10869" y="13811"/>
                  <a:pt x="10879" y="13811"/>
                  <a:pt x="10890" y="13811"/>
                </a:cubicBezTo>
                <a:cubicBezTo>
                  <a:pt x="10890" y="13707"/>
                  <a:pt x="10907" y="13622"/>
                  <a:pt x="10922" y="13526"/>
                </a:cubicBezTo>
                <a:cubicBezTo>
                  <a:pt x="10940" y="13415"/>
                  <a:pt x="10942" y="13286"/>
                  <a:pt x="10954" y="13176"/>
                </a:cubicBezTo>
                <a:cubicBezTo>
                  <a:pt x="10989" y="12865"/>
                  <a:pt x="10950" y="12527"/>
                  <a:pt x="10922" y="12224"/>
                </a:cubicBezTo>
                <a:cubicBezTo>
                  <a:pt x="10909" y="12084"/>
                  <a:pt x="10921" y="11947"/>
                  <a:pt x="10890" y="11811"/>
                </a:cubicBezTo>
                <a:cubicBezTo>
                  <a:pt x="10870" y="11722"/>
                  <a:pt x="10822" y="11632"/>
                  <a:pt x="10795" y="11557"/>
                </a:cubicBezTo>
              </a:path>
              <a:path w="11685" h="8129">
                <a:moveTo>
                  <a:pt x="5969" y="10509"/>
                </a:moveTo>
                <a:cubicBezTo>
                  <a:pt x="5921" y="10526"/>
                  <a:pt x="5920" y="10521"/>
                  <a:pt x="5874" y="10541"/>
                </a:cubicBezTo>
                <a:cubicBezTo>
                  <a:pt x="5804" y="10572"/>
                  <a:pt x="5723" y="10595"/>
                  <a:pt x="5652" y="10636"/>
                </a:cubicBezTo>
                <a:cubicBezTo>
                  <a:pt x="5537" y="10703"/>
                  <a:pt x="5414" y="10762"/>
                  <a:pt x="5302" y="10827"/>
                </a:cubicBezTo>
                <a:cubicBezTo>
                  <a:pt x="5155" y="10912"/>
                  <a:pt x="5004" y="10994"/>
                  <a:pt x="4858" y="11081"/>
                </a:cubicBezTo>
                <a:cubicBezTo>
                  <a:pt x="4704" y="11173"/>
                  <a:pt x="4558" y="11266"/>
                  <a:pt x="4413" y="11366"/>
                </a:cubicBezTo>
                <a:cubicBezTo>
                  <a:pt x="4206" y="11508"/>
                  <a:pt x="4001" y="11651"/>
                  <a:pt x="3810" y="11811"/>
                </a:cubicBezTo>
                <a:cubicBezTo>
                  <a:pt x="3689" y="11913"/>
                  <a:pt x="3574" y="12015"/>
                  <a:pt x="3461" y="12128"/>
                </a:cubicBezTo>
                <a:cubicBezTo>
                  <a:pt x="3367" y="12222"/>
                  <a:pt x="3258" y="12318"/>
                  <a:pt x="3175" y="12414"/>
                </a:cubicBezTo>
                <a:cubicBezTo>
                  <a:pt x="3090" y="12512"/>
                  <a:pt x="3021" y="12654"/>
                  <a:pt x="2953" y="12764"/>
                </a:cubicBezTo>
                <a:cubicBezTo>
                  <a:pt x="2877" y="12887"/>
                  <a:pt x="2818" y="13011"/>
                  <a:pt x="2762" y="13144"/>
                </a:cubicBezTo>
                <a:cubicBezTo>
                  <a:pt x="2715" y="13256"/>
                  <a:pt x="2695" y="13351"/>
                  <a:pt x="2667" y="13462"/>
                </a:cubicBezTo>
                <a:cubicBezTo>
                  <a:pt x="2647" y="13542"/>
                  <a:pt x="2626" y="13597"/>
                  <a:pt x="2635" y="13684"/>
                </a:cubicBezTo>
                <a:cubicBezTo>
                  <a:pt x="2639" y="13722"/>
                  <a:pt x="2651" y="13806"/>
                  <a:pt x="2667" y="13843"/>
                </a:cubicBezTo>
                <a:cubicBezTo>
                  <a:pt x="2684" y="13884"/>
                  <a:pt x="2711" y="13930"/>
                  <a:pt x="2730" y="13970"/>
                </a:cubicBezTo>
                <a:cubicBezTo>
                  <a:pt x="2751" y="14013"/>
                  <a:pt x="2771" y="14053"/>
                  <a:pt x="2794" y="14097"/>
                </a:cubicBezTo>
                <a:cubicBezTo>
                  <a:pt x="2817" y="14141"/>
                  <a:pt x="2829" y="14180"/>
                  <a:pt x="2858" y="14224"/>
                </a:cubicBezTo>
                <a:cubicBezTo>
                  <a:pt x="2882" y="14261"/>
                  <a:pt x="2926" y="14308"/>
                  <a:pt x="2953" y="14351"/>
                </a:cubicBezTo>
                <a:cubicBezTo>
                  <a:pt x="2978" y="14391"/>
                  <a:pt x="2984" y="14436"/>
                  <a:pt x="3016" y="14478"/>
                </a:cubicBezTo>
                <a:cubicBezTo>
                  <a:pt x="3016" y="14510"/>
                  <a:pt x="3016" y="14521"/>
                  <a:pt x="3048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6"/>
          <p:cNvSpPr/>
          <p:nvPr/>
        </p:nvSpPr>
        <p:spPr>
          <a:xfrm>
            <a:off x="5829480" y="2949480"/>
            <a:ext cx="2571480" cy="743040"/>
          </a:xfrm>
          <a:custGeom>
            <a:avLst/>
            <a:gdLst/>
            <a:ahLst/>
            <a:rect l="l" t="t" r="r" b="b"/>
            <a:pathLst>
              <a:path w="7145" h="2064">
                <a:moveTo>
                  <a:pt x="16700" y="8731"/>
                </a:moveTo>
                <a:cubicBezTo>
                  <a:pt x="16704" y="8721"/>
                  <a:pt x="16764" y="8661"/>
                  <a:pt x="16732" y="8636"/>
                </a:cubicBezTo>
                <a:cubicBezTo>
                  <a:pt x="16691" y="8604"/>
                  <a:pt x="16684" y="8579"/>
                  <a:pt x="16605" y="8572"/>
                </a:cubicBezTo>
                <a:cubicBezTo>
                  <a:pt x="16533" y="8566"/>
                  <a:pt x="16409" y="8623"/>
                  <a:pt x="16351" y="8668"/>
                </a:cubicBezTo>
                <a:cubicBezTo>
                  <a:pt x="16261" y="8738"/>
                  <a:pt x="16212" y="8907"/>
                  <a:pt x="16192" y="9017"/>
                </a:cubicBezTo>
                <a:cubicBezTo>
                  <a:pt x="16176" y="9105"/>
                  <a:pt x="16185" y="9236"/>
                  <a:pt x="16288" y="9271"/>
                </a:cubicBezTo>
                <a:cubicBezTo>
                  <a:pt x="16353" y="9293"/>
                  <a:pt x="16527" y="9226"/>
                  <a:pt x="16574" y="9176"/>
                </a:cubicBezTo>
                <a:cubicBezTo>
                  <a:pt x="16664" y="9080"/>
                  <a:pt x="16740" y="8957"/>
                  <a:pt x="16764" y="8826"/>
                </a:cubicBezTo>
                <a:cubicBezTo>
                  <a:pt x="16780" y="8740"/>
                  <a:pt x="16723" y="8690"/>
                  <a:pt x="16669" y="8636"/>
                </a:cubicBezTo>
                <a:cubicBezTo>
                  <a:pt x="16631" y="8598"/>
                  <a:pt x="16539" y="8593"/>
                  <a:pt x="16510" y="8636"/>
                </a:cubicBezTo>
                <a:cubicBezTo>
                  <a:pt x="16510" y="8647"/>
                  <a:pt x="16510" y="8657"/>
                  <a:pt x="16510" y="8668"/>
                </a:cubicBezTo>
              </a:path>
              <a:path w="7145" h="2064">
                <a:moveTo>
                  <a:pt x="16510" y="9144"/>
                </a:moveTo>
                <a:cubicBezTo>
                  <a:pt x="16444" y="9210"/>
                  <a:pt x="16443" y="9223"/>
                  <a:pt x="16415" y="9303"/>
                </a:cubicBezTo>
                <a:cubicBezTo>
                  <a:pt x="16375" y="9414"/>
                  <a:pt x="16325" y="9456"/>
                  <a:pt x="16320" y="9588"/>
                </a:cubicBezTo>
                <a:cubicBezTo>
                  <a:pt x="16316" y="9697"/>
                  <a:pt x="16312" y="9787"/>
                  <a:pt x="16383" y="9874"/>
                </a:cubicBezTo>
                <a:cubicBezTo>
                  <a:pt x="16443" y="9947"/>
                  <a:pt x="16457" y="9946"/>
                  <a:pt x="16542" y="9906"/>
                </a:cubicBezTo>
                <a:cubicBezTo>
                  <a:pt x="16644" y="9857"/>
                  <a:pt x="16665" y="9754"/>
                  <a:pt x="16700" y="9652"/>
                </a:cubicBezTo>
                <a:cubicBezTo>
                  <a:pt x="16730" y="9566"/>
                  <a:pt x="16769" y="9409"/>
                  <a:pt x="16700" y="9366"/>
                </a:cubicBezTo>
                <a:cubicBezTo>
                  <a:pt x="16639" y="9328"/>
                  <a:pt x="16610" y="9303"/>
                  <a:pt x="16542" y="9303"/>
                </a:cubicBezTo>
              </a:path>
              <a:path w="7145" h="2064">
                <a:moveTo>
                  <a:pt x="16923" y="8700"/>
                </a:moveTo>
                <a:cubicBezTo>
                  <a:pt x="16923" y="8689"/>
                  <a:pt x="16923" y="8679"/>
                  <a:pt x="16923" y="8668"/>
                </a:cubicBezTo>
                <a:cubicBezTo>
                  <a:pt x="16978" y="8687"/>
                  <a:pt x="16954" y="8759"/>
                  <a:pt x="16954" y="8826"/>
                </a:cubicBezTo>
                <a:cubicBezTo>
                  <a:pt x="16954" y="8996"/>
                  <a:pt x="16936" y="9185"/>
                  <a:pt x="16986" y="9334"/>
                </a:cubicBezTo>
                <a:cubicBezTo>
                  <a:pt x="16998" y="9370"/>
                  <a:pt x="16974" y="9334"/>
                  <a:pt x="17050" y="9334"/>
                </a:cubicBezTo>
                <a:cubicBezTo>
                  <a:pt x="17115" y="9334"/>
                  <a:pt x="17125" y="9348"/>
                  <a:pt x="17177" y="9366"/>
                </a:cubicBezTo>
                <a:cubicBezTo>
                  <a:pt x="17237" y="9386"/>
                  <a:pt x="17277" y="9363"/>
                  <a:pt x="17336" y="9398"/>
                </a:cubicBezTo>
                <a:cubicBezTo>
                  <a:pt x="17395" y="9362"/>
                  <a:pt x="17432" y="9373"/>
                  <a:pt x="17462" y="9334"/>
                </a:cubicBezTo>
                <a:cubicBezTo>
                  <a:pt x="17473" y="9324"/>
                  <a:pt x="17483" y="9313"/>
                  <a:pt x="17494" y="9303"/>
                </a:cubicBezTo>
              </a:path>
              <a:path w="7145" h="2064">
                <a:moveTo>
                  <a:pt x="17367" y="8572"/>
                </a:moveTo>
                <a:cubicBezTo>
                  <a:pt x="17367" y="8715"/>
                  <a:pt x="17329" y="8882"/>
                  <a:pt x="17336" y="9017"/>
                </a:cubicBezTo>
                <a:cubicBezTo>
                  <a:pt x="17344" y="9171"/>
                  <a:pt x="17344" y="9372"/>
                  <a:pt x="17367" y="9525"/>
                </a:cubicBezTo>
                <a:cubicBezTo>
                  <a:pt x="17387" y="9655"/>
                  <a:pt x="17439" y="9776"/>
                  <a:pt x="17462" y="9906"/>
                </a:cubicBezTo>
                <a:cubicBezTo>
                  <a:pt x="17462" y="9927"/>
                  <a:pt x="17462" y="9949"/>
                  <a:pt x="17462" y="9970"/>
                </a:cubicBezTo>
              </a:path>
              <a:path w="7145" h="2064">
                <a:moveTo>
                  <a:pt x="17621" y="9144"/>
                </a:moveTo>
                <a:cubicBezTo>
                  <a:pt x="17688" y="9110"/>
                  <a:pt x="17684" y="9080"/>
                  <a:pt x="17780" y="9080"/>
                </a:cubicBezTo>
                <a:cubicBezTo>
                  <a:pt x="17865" y="9080"/>
                  <a:pt x="17949" y="9080"/>
                  <a:pt x="18034" y="9080"/>
                </a:cubicBezTo>
              </a:path>
              <a:path w="7145" h="2064">
                <a:moveTo>
                  <a:pt x="17716" y="9493"/>
                </a:moveTo>
                <a:cubicBezTo>
                  <a:pt x="17670" y="9493"/>
                  <a:pt x="17702" y="9501"/>
                  <a:pt x="17748" y="9493"/>
                </a:cubicBezTo>
                <a:cubicBezTo>
                  <a:pt x="17794" y="9485"/>
                  <a:pt x="17906" y="9492"/>
                  <a:pt x="17939" y="9462"/>
                </a:cubicBezTo>
                <a:cubicBezTo>
                  <a:pt x="18020" y="9387"/>
                  <a:pt x="17942" y="9398"/>
                  <a:pt x="18066" y="9398"/>
                </a:cubicBezTo>
              </a:path>
              <a:path w="7145" h="2064">
                <a:moveTo>
                  <a:pt x="18288" y="8985"/>
                </a:moveTo>
                <a:cubicBezTo>
                  <a:pt x="18272" y="8938"/>
                  <a:pt x="18256" y="8959"/>
                  <a:pt x="18256" y="8890"/>
                </a:cubicBezTo>
                <a:cubicBezTo>
                  <a:pt x="18256" y="8825"/>
                  <a:pt x="18270" y="8815"/>
                  <a:pt x="18288" y="8763"/>
                </a:cubicBezTo>
                <a:cubicBezTo>
                  <a:pt x="18309" y="8700"/>
                  <a:pt x="18339" y="8676"/>
                  <a:pt x="18415" y="8668"/>
                </a:cubicBezTo>
                <a:cubicBezTo>
                  <a:pt x="18495" y="8660"/>
                  <a:pt x="18505" y="8695"/>
                  <a:pt x="18542" y="8763"/>
                </a:cubicBezTo>
                <a:cubicBezTo>
                  <a:pt x="18590" y="8853"/>
                  <a:pt x="18574" y="8948"/>
                  <a:pt x="18574" y="9049"/>
                </a:cubicBezTo>
                <a:cubicBezTo>
                  <a:pt x="18574" y="9191"/>
                  <a:pt x="18521" y="9327"/>
                  <a:pt x="18478" y="9462"/>
                </a:cubicBezTo>
                <a:cubicBezTo>
                  <a:pt x="18444" y="9570"/>
                  <a:pt x="18382" y="9671"/>
                  <a:pt x="18352" y="9779"/>
                </a:cubicBezTo>
                <a:cubicBezTo>
                  <a:pt x="18333" y="9846"/>
                  <a:pt x="18300" y="9850"/>
                  <a:pt x="18320" y="9842"/>
                </a:cubicBezTo>
                <a:cubicBezTo>
                  <a:pt x="18352" y="9829"/>
                  <a:pt x="18377" y="9832"/>
                  <a:pt x="18415" y="9811"/>
                </a:cubicBezTo>
                <a:cubicBezTo>
                  <a:pt x="18498" y="9765"/>
                  <a:pt x="18463" y="9794"/>
                  <a:pt x="18542" y="9811"/>
                </a:cubicBezTo>
                <a:cubicBezTo>
                  <a:pt x="18595" y="9822"/>
                  <a:pt x="18654" y="9837"/>
                  <a:pt x="18701" y="9842"/>
                </a:cubicBezTo>
                <a:cubicBezTo>
                  <a:pt x="18753" y="9848"/>
                  <a:pt x="18770" y="9874"/>
                  <a:pt x="18828" y="9874"/>
                </a:cubicBezTo>
              </a:path>
              <a:path w="7145" h="2064">
                <a:moveTo>
                  <a:pt x="19272" y="8192"/>
                </a:moveTo>
                <a:cubicBezTo>
                  <a:pt x="19224" y="8248"/>
                  <a:pt x="19189" y="8315"/>
                  <a:pt x="19145" y="8382"/>
                </a:cubicBezTo>
                <a:cubicBezTo>
                  <a:pt x="19057" y="8518"/>
                  <a:pt x="18983" y="8644"/>
                  <a:pt x="18923" y="8795"/>
                </a:cubicBezTo>
                <a:cubicBezTo>
                  <a:pt x="18865" y="8941"/>
                  <a:pt x="18811" y="9146"/>
                  <a:pt x="18796" y="9303"/>
                </a:cubicBezTo>
                <a:cubicBezTo>
                  <a:pt x="18780" y="9464"/>
                  <a:pt x="18794" y="9655"/>
                  <a:pt x="18828" y="9811"/>
                </a:cubicBezTo>
                <a:cubicBezTo>
                  <a:pt x="18851" y="9916"/>
                  <a:pt x="18915" y="10048"/>
                  <a:pt x="18986" y="10128"/>
                </a:cubicBezTo>
                <a:cubicBezTo>
                  <a:pt x="19022" y="10168"/>
                  <a:pt x="19061" y="10203"/>
                  <a:pt x="19082" y="10224"/>
                </a:cubicBezTo>
                <a:cubicBezTo>
                  <a:pt x="19093" y="10234"/>
                  <a:pt x="19103" y="10245"/>
                  <a:pt x="19114" y="10255"/>
                </a:cubicBezTo>
              </a:path>
              <a:path w="7145" h="2064">
                <a:moveTo>
                  <a:pt x="19177" y="9049"/>
                </a:moveTo>
                <a:cubicBezTo>
                  <a:pt x="19140" y="9000"/>
                  <a:pt x="19145" y="8984"/>
                  <a:pt x="19145" y="8922"/>
                </a:cubicBezTo>
                <a:cubicBezTo>
                  <a:pt x="19145" y="8880"/>
                  <a:pt x="19200" y="8785"/>
                  <a:pt x="19240" y="8763"/>
                </a:cubicBezTo>
                <a:cubicBezTo>
                  <a:pt x="19287" y="8737"/>
                  <a:pt x="19392" y="8769"/>
                  <a:pt x="19431" y="8795"/>
                </a:cubicBezTo>
                <a:cubicBezTo>
                  <a:pt x="19509" y="8846"/>
                  <a:pt x="19494" y="8938"/>
                  <a:pt x="19494" y="9017"/>
                </a:cubicBezTo>
                <a:cubicBezTo>
                  <a:pt x="19494" y="9128"/>
                  <a:pt x="19425" y="9225"/>
                  <a:pt x="19399" y="9334"/>
                </a:cubicBezTo>
                <a:cubicBezTo>
                  <a:pt x="19377" y="9425"/>
                  <a:pt x="19331" y="9500"/>
                  <a:pt x="19304" y="9588"/>
                </a:cubicBezTo>
                <a:cubicBezTo>
                  <a:pt x="19304" y="9599"/>
                  <a:pt x="19304" y="9609"/>
                  <a:pt x="19304" y="9620"/>
                </a:cubicBezTo>
                <a:cubicBezTo>
                  <a:pt x="19353" y="9583"/>
                  <a:pt x="19369" y="9588"/>
                  <a:pt x="19431" y="9588"/>
                </a:cubicBezTo>
                <a:cubicBezTo>
                  <a:pt x="19489" y="9588"/>
                  <a:pt x="19506" y="9614"/>
                  <a:pt x="19558" y="9620"/>
                </a:cubicBezTo>
                <a:cubicBezTo>
                  <a:pt x="19610" y="9626"/>
                  <a:pt x="19627" y="9652"/>
                  <a:pt x="19685" y="9652"/>
                </a:cubicBezTo>
                <a:cubicBezTo>
                  <a:pt x="19717" y="9652"/>
                  <a:pt x="19727" y="9652"/>
                  <a:pt x="19748" y="9652"/>
                </a:cubicBezTo>
              </a:path>
              <a:path w="7145" h="2064">
                <a:moveTo>
                  <a:pt x="19907" y="8954"/>
                </a:moveTo>
                <a:cubicBezTo>
                  <a:pt x="19907" y="9136"/>
                  <a:pt x="19894" y="9331"/>
                  <a:pt x="19939" y="9493"/>
                </a:cubicBezTo>
                <a:cubicBezTo>
                  <a:pt x="19939" y="9525"/>
                  <a:pt x="19939" y="9536"/>
                  <a:pt x="19939" y="9557"/>
                </a:cubicBezTo>
              </a:path>
              <a:path w="7145" h="2064">
                <a:moveTo>
                  <a:pt x="19812" y="9271"/>
                </a:moveTo>
                <a:cubicBezTo>
                  <a:pt x="19852" y="9261"/>
                  <a:pt x="19932" y="9255"/>
                  <a:pt x="19971" y="9239"/>
                </a:cubicBezTo>
                <a:cubicBezTo>
                  <a:pt x="20013" y="9222"/>
                  <a:pt x="20050" y="9196"/>
                  <a:pt x="20098" y="9176"/>
                </a:cubicBezTo>
              </a:path>
              <a:path w="7145" h="2064">
                <a:moveTo>
                  <a:pt x="20256" y="8763"/>
                </a:moveTo>
                <a:cubicBezTo>
                  <a:pt x="20314" y="8840"/>
                  <a:pt x="20272" y="8832"/>
                  <a:pt x="20256" y="8922"/>
                </a:cubicBezTo>
                <a:cubicBezTo>
                  <a:pt x="20237" y="9031"/>
                  <a:pt x="20256" y="9159"/>
                  <a:pt x="20256" y="9271"/>
                </a:cubicBezTo>
                <a:cubicBezTo>
                  <a:pt x="20354" y="9271"/>
                  <a:pt x="20456" y="9266"/>
                  <a:pt x="20510" y="9239"/>
                </a:cubicBezTo>
                <a:cubicBezTo>
                  <a:pt x="20546" y="9239"/>
                  <a:pt x="20560" y="9236"/>
                  <a:pt x="20574" y="9208"/>
                </a:cubicBezTo>
              </a:path>
              <a:path w="7145" h="2064">
                <a:moveTo>
                  <a:pt x="20542" y="8636"/>
                </a:moveTo>
                <a:cubicBezTo>
                  <a:pt x="20542" y="8748"/>
                  <a:pt x="20522" y="8847"/>
                  <a:pt x="20510" y="8954"/>
                </a:cubicBezTo>
                <a:cubicBezTo>
                  <a:pt x="20494" y="9098"/>
                  <a:pt x="20537" y="9226"/>
                  <a:pt x="20542" y="9366"/>
                </a:cubicBezTo>
                <a:cubicBezTo>
                  <a:pt x="20546" y="9480"/>
                  <a:pt x="20566" y="9576"/>
                  <a:pt x="20574" y="9684"/>
                </a:cubicBezTo>
                <a:cubicBezTo>
                  <a:pt x="20574" y="9716"/>
                  <a:pt x="20574" y="9726"/>
                  <a:pt x="20574" y="9747"/>
                </a:cubicBezTo>
              </a:path>
              <a:path w="7145" h="2064">
                <a:moveTo>
                  <a:pt x="20701" y="9080"/>
                </a:moveTo>
                <a:cubicBezTo>
                  <a:pt x="20734" y="9178"/>
                  <a:pt x="20733" y="9261"/>
                  <a:pt x="20733" y="9366"/>
                </a:cubicBezTo>
                <a:cubicBezTo>
                  <a:pt x="20733" y="9454"/>
                  <a:pt x="20748" y="9575"/>
                  <a:pt x="20796" y="9652"/>
                </a:cubicBezTo>
                <a:cubicBezTo>
                  <a:pt x="20825" y="9681"/>
                  <a:pt x="20831" y="9692"/>
                  <a:pt x="20860" y="9684"/>
                </a:cubicBezTo>
                <a:cubicBezTo>
                  <a:pt x="20924" y="9663"/>
                  <a:pt x="20920" y="9569"/>
                  <a:pt x="20923" y="9493"/>
                </a:cubicBezTo>
                <a:cubicBezTo>
                  <a:pt x="20927" y="9377"/>
                  <a:pt x="20923" y="9260"/>
                  <a:pt x="20923" y="9144"/>
                </a:cubicBezTo>
                <a:cubicBezTo>
                  <a:pt x="20923" y="9212"/>
                  <a:pt x="20928" y="9308"/>
                  <a:pt x="20955" y="9366"/>
                </a:cubicBezTo>
                <a:cubicBezTo>
                  <a:pt x="20987" y="9435"/>
                  <a:pt x="21025" y="9501"/>
                  <a:pt x="21082" y="9557"/>
                </a:cubicBezTo>
                <a:cubicBezTo>
                  <a:pt x="21129" y="9603"/>
                  <a:pt x="21162" y="9598"/>
                  <a:pt x="21209" y="9557"/>
                </a:cubicBezTo>
                <a:cubicBezTo>
                  <a:pt x="21256" y="9515"/>
                  <a:pt x="21268" y="9429"/>
                  <a:pt x="21272" y="9366"/>
                </a:cubicBezTo>
                <a:cubicBezTo>
                  <a:pt x="21275" y="9321"/>
                  <a:pt x="21240" y="9170"/>
                  <a:pt x="21209" y="9144"/>
                </a:cubicBezTo>
                <a:cubicBezTo>
                  <a:pt x="21183" y="9123"/>
                  <a:pt x="21147" y="9097"/>
                  <a:pt x="21114" y="9080"/>
                </a:cubicBezTo>
              </a:path>
              <a:path w="7145" h="2064">
                <a:moveTo>
                  <a:pt x="21082" y="8318"/>
                </a:moveTo>
                <a:cubicBezTo>
                  <a:pt x="21106" y="8348"/>
                  <a:pt x="21134" y="8400"/>
                  <a:pt x="21177" y="8446"/>
                </a:cubicBezTo>
                <a:cubicBezTo>
                  <a:pt x="21275" y="8551"/>
                  <a:pt x="21331" y="8636"/>
                  <a:pt x="21400" y="8763"/>
                </a:cubicBezTo>
                <a:cubicBezTo>
                  <a:pt x="21466" y="8884"/>
                  <a:pt x="21541" y="9003"/>
                  <a:pt x="21558" y="9144"/>
                </a:cubicBezTo>
                <a:cubicBezTo>
                  <a:pt x="21583" y="9349"/>
                  <a:pt x="21583" y="9616"/>
                  <a:pt x="21526" y="9811"/>
                </a:cubicBezTo>
                <a:cubicBezTo>
                  <a:pt x="21499" y="9902"/>
                  <a:pt x="21464" y="9994"/>
                  <a:pt x="21400" y="10065"/>
                </a:cubicBezTo>
                <a:cubicBezTo>
                  <a:pt x="21400" y="10096"/>
                  <a:pt x="21400" y="10107"/>
                  <a:pt x="21368" y="10096"/>
                </a:cubicBezTo>
              </a:path>
              <a:path w="7145" h="2064">
                <a:moveTo>
                  <a:pt x="21971" y="8858"/>
                </a:moveTo>
                <a:cubicBezTo>
                  <a:pt x="21971" y="9096"/>
                  <a:pt x="21981" y="9322"/>
                  <a:pt x="22003" y="9557"/>
                </a:cubicBezTo>
                <a:cubicBezTo>
                  <a:pt x="22011" y="9644"/>
                  <a:pt x="22121" y="9812"/>
                  <a:pt x="22034" y="9811"/>
                </a:cubicBezTo>
                <a:cubicBezTo>
                  <a:pt x="22024" y="9800"/>
                  <a:pt x="22013" y="9790"/>
                  <a:pt x="22003" y="9779"/>
                </a:cubicBezTo>
              </a:path>
              <a:path w="7145" h="2064">
                <a:moveTo>
                  <a:pt x="21812" y="9398"/>
                </a:moveTo>
                <a:cubicBezTo>
                  <a:pt x="21897" y="9398"/>
                  <a:pt x="21954" y="9396"/>
                  <a:pt x="22034" y="9366"/>
                </a:cubicBezTo>
              </a:path>
              <a:path w="7145" h="2064">
                <a:moveTo>
                  <a:pt x="22288" y="8922"/>
                </a:moveTo>
                <a:cubicBezTo>
                  <a:pt x="22298" y="8881"/>
                  <a:pt x="22301" y="8800"/>
                  <a:pt x="22320" y="8763"/>
                </a:cubicBezTo>
                <a:cubicBezTo>
                  <a:pt x="22344" y="8715"/>
                  <a:pt x="22398" y="8636"/>
                  <a:pt x="22447" y="8604"/>
                </a:cubicBezTo>
                <a:cubicBezTo>
                  <a:pt x="22557" y="8533"/>
                  <a:pt x="22549" y="8630"/>
                  <a:pt x="22574" y="8700"/>
                </a:cubicBezTo>
                <a:cubicBezTo>
                  <a:pt x="22623" y="8838"/>
                  <a:pt x="22604" y="8941"/>
                  <a:pt x="22574" y="9080"/>
                </a:cubicBezTo>
                <a:cubicBezTo>
                  <a:pt x="22537" y="9249"/>
                  <a:pt x="22505" y="9425"/>
                  <a:pt x="22447" y="9588"/>
                </a:cubicBezTo>
                <a:cubicBezTo>
                  <a:pt x="22424" y="9654"/>
                  <a:pt x="22396" y="9710"/>
                  <a:pt x="22384" y="9779"/>
                </a:cubicBezTo>
                <a:cubicBezTo>
                  <a:pt x="22412" y="9742"/>
                  <a:pt x="22429" y="9674"/>
                  <a:pt x="22479" y="9652"/>
                </a:cubicBezTo>
                <a:cubicBezTo>
                  <a:pt x="22518" y="9635"/>
                  <a:pt x="22611" y="9668"/>
                  <a:pt x="22638" y="9684"/>
                </a:cubicBezTo>
                <a:cubicBezTo>
                  <a:pt x="22692" y="9717"/>
                  <a:pt x="22703" y="9764"/>
                  <a:pt x="22765" y="9779"/>
                </a:cubicBezTo>
              </a:path>
              <a:path w="7145" h="2064">
                <a:moveTo>
                  <a:pt x="22828" y="9080"/>
                </a:moveTo>
                <a:cubicBezTo>
                  <a:pt x="22828" y="9227"/>
                  <a:pt x="22841" y="9350"/>
                  <a:pt x="22860" y="9493"/>
                </a:cubicBezTo>
                <a:cubicBezTo>
                  <a:pt x="22871" y="9575"/>
                  <a:pt x="22884" y="9649"/>
                  <a:pt x="22924" y="9716"/>
                </a:cubicBezTo>
                <a:cubicBezTo>
                  <a:pt x="23028" y="9716"/>
                  <a:pt x="22993" y="9668"/>
                  <a:pt x="23019" y="9588"/>
                </a:cubicBezTo>
                <a:cubicBezTo>
                  <a:pt x="23054" y="9482"/>
                  <a:pt x="23021" y="9374"/>
                  <a:pt x="23050" y="9271"/>
                </a:cubicBezTo>
                <a:cubicBezTo>
                  <a:pt x="23061" y="9250"/>
                  <a:pt x="23071" y="9229"/>
                  <a:pt x="23082" y="9208"/>
                </a:cubicBezTo>
                <a:cubicBezTo>
                  <a:pt x="23082" y="9296"/>
                  <a:pt x="23090" y="9382"/>
                  <a:pt x="23114" y="9462"/>
                </a:cubicBezTo>
                <a:cubicBezTo>
                  <a:pt x="23140" y="9546"/>
                  <a:pt x="23179" y="9574"/>
                  <a:pt x="23209" y="9620"/>
                </a:cubicBezTo>
                <a:cubicBezTo>
                  <a:pt x="23209" y="9631"/>
                  <a:pt x="23209" y="9641"/>
                  <a:pt x="23209" y="9652"/>
                </a:cubicBezTo>
                <a:cubicBezTo>
                  <a:pt x="23272" y="9604"/>
                  <a:pt x="23266" y="9597"/>
                  <a:pt x="23304" y="9525"/>
                </a:cubicBezTo>
                <a:cubicBezTo>
                  <a:pt x="23360" y="9421"/>
                  <a:pt x="23336" y="9292"/>
                  <a:pt x="23336" y="9176"/>
                </a:cubicBezTo>
                <a:cubicBezTo>
                  <a:pt x="23336" y="9079"/>
                  <a:pt x="23329" y="9016"/>
                  <a:pt x="23241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7"/>
          <p:cNvSpPr/>
          <p:nvPr/>
        </p:nvSpPr>
        <p:spPr>
          <a:xfrm>
            <a:off x="2286000" y="3508200"/>
            <a:ext cx="1281240" cy="630360"/>
          </a:xfrm>
          <a:custGeom>
            <a:avLst/>
            <a:gdLst/>
            <a:ahLst/>
            <a:rect l="l" t="t" r="r" b="b"/>
            <a:pathLst>
              <a:path w="3557" h="1748">
                <a:moveTo>
                  <a:pt x="6445" y="10541"/>
                </a:moveTo>
                <a:cubicBezTo>
                  <a:pt x="6413" y="10582"/>
                  <a:pt x="6393" y="10619"/>
                  <a:pt x="6382" y="10668"/>
                </a:cubicBezTo>
                <a:cubicBezTo>
                  <a:pt x="6367" y="10737"/>
                  <a:pt x="6354" y="10821"/>
                  <a:pt x="6350" y="10890"/>
                </a:cubicBezTo>
                <a:cubicBezTo>
                  <a:pt x="6344" y="10998"/>
                  <a:pt x="6351" y="11084"/>
                  <a:pt x="6414" y="11176"/>
                </a:cubicBezTo>
                <a:cubicBezTo>
                  <a:pt x="6479" y="11271"/>
                  <a:pt x="6532" y="11271"/>
                  <a:pt x="6636" y="11271"/>
                </a:cubicBezTo>
                <a:cubicBezTo>
                  <a:pt x="6787" y="11271"/>
                  <a:pt x="6884" y="11250"/>
                  <a:pt x="7017" y="11176"/>
                </a:cubicBezTo>
                <a:cubicBezTo>
                  <a:pt x="7142" y="11106"/>
                  <a:pt x="7261" y="10949"/>
                  <a:pt x="7334" y="10827"/>
                </a:cubicBezTo>
                <a:cubicBezTo>
                  <a:pt x="7424" y="10676"/>
                  <a:pt x="7505" y="10496"/>
                  <a:pt x="7525" y="10319"/>
                </a:cubicBezTo>
                <a:cubicBezTo>
                  <a:pt x="7539" y="10198"/>
                  <a:pt x="7540" y="10048"/>
                  <a:pt x="7493" y="9938"/>
                </a:cubicBezTo>
                <a:cubicBezTo>
                  <a:pt x="7460" y="9861"/>
                  <a:pt x="7424" y="9818"/>
                  <a:pt x="7334" y="9842"/>
                </a:cubicBezTo>
                <a:cubicBezTo>
                  <a:pt x="7254" y="9863"/>
                  <a:pt x="7195" y="10073"/>
                  <a:pt x="7176" y="10128"/>
                </a:cubicBezTo>
                <a:cubicBezTo>
                  <a:pt x="7119" y="10293"/>
                  <a:pt x="7112" y="10431"/>
                  <a:pt x="7112" y="10604"/>
                </a:cubicBezTo>
                <a:cubicBezTo>
                  <a:pt x="7112" y="10777"/>
                  <a:pt x="7096" y="10946"/>
                  <a:pt x="7144" y="11112"/>
                </a:cubicBezTo>
                <a:cubicBezTo>
                  <a:pt x="7179" y="11236"/>
                  <a:pt x="7226" y="11330"/>
                  <a:pt x="7302" y="11430"/>
                </a:cubicBezTo>
                <a:cubicBezTo>
                  <a:pt x="7333" y="11470"/>
                  <a:pt x="7375" y="11513"/>
                  <a:pt x="7430" y="11494"/>
                </a:cubicBezTo>
                <a:cubicBezTo>
                  <a:pt x="7487" y="11475"/>
                  <a:pt x="7443" y="11485"/>
                  <a:pt x="7461" y="11430"/>
                </a:cubicBezTo>
              </a:path>
              <a:path w="3557" h="1748">
                <a:moveTo>
                  <a:pt x="8064" y="10382"/>
                </a:moveTo>
                <a:cubicBezTo>
                  <a:pt x="8166" y="10420"/>
                  <a:pt x="8247" y="10389"/>
                  <a:pt x="8350" y="10414"/>
                </a:cubicBezTo>
                <a:cubicBezTo>
                  <a:pt x="8466" y="10442"/>
                  <a:pt x="8576" y="10472"/>
                  <a:pt x="8700" y="10478"/>
                </a:cubicBezTo>
                <a:cubicBezTo>
                  <a:pt x="8769" y="10481"/>
                  <a:pt x="8790" y="10509"/>
                  <a:pt x="8858" y="10509"/>
                </a:cubicBezTo>
              </a:path>
              <a:path w="3557" h="1748">
                <a:moveTo>
                  <a:pt x="8128" y="10827"/>
                </a:moveTo>
                <a:cubicBezTo>
                  <a:pt x="8117" y="10827"/>
                  <a:pt x="8107" y="10827"/>
                  <a:pt x="8096" y="10827"/>
                </a:cubicBezTo>
                <a:cubicBezTo>
                  <a:pt x="8166" y="10878"/>
                  <a:pt x="8172" y="10832"/>
                  <a:pt x="8255" y="10827"/>
                </a:cubicBezTo>
                <a:cubicBezTo>
                  <a:pt x="8379" y="10819"/>
                  <a:pt x="8444" y="10809"/>
                  <a:pt x="8572" y="10827"/>
                </a:cubicBezTo>
                <a:cubicBezTo>
                  <a:pt x="8670" y="10840"/>
                  <a:pt x="8763" y="10846"/>
                  <a:pt x="8858" y="10858"/>
                </a:cubicBezTo>
              </a:path>
              <a:path w="3557" h="1748">
                <a:moveTo>
                  <a:pt x="9398" y="9970"/>
                </a:moveTo>
                <a:cubicBezTo>
                  <a:pt x="9421" y="9925"/>
                  <a:pt x="9425" y="9883"/>
                  <a:pt x="9462" y="9842"/>
                </a:cubicBezTo>
                <a:cubicBezTo>
                  <a:pt x="9495" y="9805"/>
                  <a:pt x="9523" y="9797"/>
                  <a:pt x="9588" y="9779"/>
                </a:cubicBezTo>
                <a:cubicBezTo>
                  <a:pt x="9656" y="9760"/>
                  <a:pt x="9688" y="9747"/>
                  <a:pt x="9747" y="9779"/>
                </a:cubicBezTo>
                <a:cubicBezTo>
                  <a:pt x="9818" y="9817"/>
                  <a:pt x="9823" y="9934"/>
                  <a:pt x="9811" y="10001"/>
                </a:cubicBezTo>
                <a:cubicBezTo>
                  <a:pt x="9791" y="10109"/>
                  <a:pt x="9725" y="10279"/>
                  <a:pt x="9684" y="10382"/>
                </a:cubicBezTo>
                <a:cubicBezTo>
                  <a:pt x="9619" y="10545"/>
                  <a:pt x="9520" y="10708"/>
                  <a:pt x="9430" y="10858"/>
                </a:cubicBezTo>
                <a:cubicBezTo>
                  <a:pt x="9357" y="10980"/>
                  <a:pt x="9296" y="11129"/>
                  <a:pt x="9208" y="11240"/>
                </a:cubicBezTo>
                <a:cubicBezTo>
                  <a:pt x="9185" y="11269"/>
                  <a:pt x="9060" y="11404"/>
                  <a:pt x="9112" y="11366"/>
                </a:cubicBezTo>
                <a:cubicBezTo>
                  <a:pt x="9146" y="11342"/>
                  <a:pt x="9151" y="11338"/>
                  <a:pt x="9208" y="11335"/>
                </a:cubicBezTo>
                <a:cubicBezTo>
                  <a:pt x="9294" y="11330"/>
                  <a:pt x="9352" y="11354"/>
                  <a:pt x="9430" y="11366"/>
                </a:cubicBezTo>
                <a:cubicBezTo>
                  <a:pt x="9507" y="11378"/>
                  <a:pt x="9552" y="11403"/>
                  <a:pt x="9620" y="11430"/>
                </a:cubicBezTo>
                <a:cubicBezTo>
                  <a:pt x="9663" y="11447"/>
                  <a:pt x="9728" y="11474"/>
                  <a:pt x="9779" y="11462"/>
                </a:cubicBezTo>
                <a:cubicBezTo>
                  <a:pt x="9854" y="11445"/>
                  <a:pt x="9872" y="11394"/>
                  <a:pt x="9906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8"/>
          <p:cNvSpPr/>
          <p:nvPr/>
        </p:nvSpPr>
        <p:spPr>
          <a:xfrm>
            <a:off x="5919840" y="3807000"/>
            <a:ext cx="549360" cy="490320"/>
          </a:xfrm>
          <a:custGeom>
            <a:avLst/>
            <a:gdLst/>
            <a:ahLst/>
            <a:rect l="l" t="t" r="r" b="b"/>
            <a:pathLst>
              <a:path w="1525" h="1366">
                <a:moveTo>
                  <a:pt x="16986" y="10732"/>
                </a:moveTo>
                <a:cubicBezTo>
                  <a:pt x="16975" y="10732"/>
                  <a:pt x="16965" y="10732"/>
                  <a:pt x="16954" y="10732"/>
                </a:cubicBezTo>
              </a:path>
              <a:path w="1525" h="1366">
                <a:moveTo>
                  <a:pt x="16986" y="10732"/>
                </a:moveTo>
                <a:cubicBezTo>
                  <a:pt x="16975" y="10732"/>
                  <a:pt x="16965" y="10732"/>
                  <a:pt x="16954" y="10732"/>
                </a:cubicBezTo>
              </a:path>
              <a:path w="1525" h="1366">
                <a:moveTo>
                  <a:pt x="16954" y="10732"/>
                </a:moveTo>
                <a:cubicBezTo>
                  <a:pt x="16944" y="10730"/>
                  <a:pt x="16831" y="10703"/>
                  <a:pt x="16828" y="10700"/>
                </a:cubicBezTo>
                <a:cubicBezTo>
                  <a:pt x="16806" y="10672"/>
                  <a:pt x="16772" y="10612"/>
                  <a:pt x="16700" y="10636"/>
                </a:cubicBezTo>
                <a:cubicBezTo>
                  <a:pt x="16670" y="10646"/>
                  <a:pt x="16563" y="10708"/>
                  <a:pt x="16542" y="10732"/>
                </a:cubicBezTo>
                <a:cubicBezTo>
                  <a:pt x="16503" y="10777"/>
                  <a:pt x="16456" y="10874"/>
                  <a:pt x="16446" y="10922"/>
                </a:cubicBezTo>
                <a:cubicBezTo>
                  <a:pt x="16435" y="10977"/>
                  <a:pt x="16426" y="11144"/>
                  <a:pt x="16478" y="11176"/>
                </a:cubicBezTo>
                <a:cubicBezTo>
                  <a:pt x="16539" y="11214"/>
                  <a:pt x="16575" y="11209"/>
                  <a:pt x="16637" y="11176"/>
                </a:cubicBezTo>
                <a:cubicBezTo>
                  <a:pt x="16722" y="11130"/>
                  <a:pt x="16801" y="11099"/>
                  <a:pt x="16859" y="11017"/>
                </a:cubicBezTo>
                <a:cubicBezTo>
                  <a:pt x="16900" y="10959"/>
                  <a:pt x="16921" y="10882"/>
                  <a:pt x="16954" y="10827"/>
                </a:cubicBezTo>
                <a:cubicBezTo>
                  <a:pt x="16976" y="10790"/>
                  <a:pt x="16981" y="10697"/>
                  <a:pt x="16923" y="10668"/>
                </a:cubicBezTo>
                <a:cubicBezTo>
                  <a:pt x="16853" y="10632"/>
                  <a:pt x="16860" y="10647"/>
                  <a:pt x="16796" y="10668"/>
                </a:cubicBezTo>
                <a:cubicBezTo>
                  <a:pt x="16760" y="10668"/>
                  <a:pt x="16746" y="10671"/>
                  <a:pt x="16732" y="10700"/>
                </a:cubicBezTo>
              </a:path>
              <a:path w="1525" h="1366">
                <a:moveTo>
                  <a:pt x="16828" y="11081"/>
                </a:moveTo>
                <a:cubicBezTo>
                  <a:pt x="16772" y="11095"/>
                  <a:pt x="16743" y="11132"/>
                  <a:pt x="16700" y="11176"/>
                </a:cubicBezTo>
                <a:cubicBezTo>
                  <a:pt x="16653" y="11224"/>
                  <a:pt x="16585" y="11331"/>
                  <a:pt x="16574" y="11398"/>
                </a:cubicBezTo>
                <a:cubicBezTo>
                  <a:pt x="16546" y="11562"/>
                  <a:pt x="16517" y="11685"/>
                  <a:pt x="16542" y="11843"/>
                </a:cubicBezTo>
                <a:cubicBezTo>
                  <a:pt x="16542" y="11900"/>
                  <a:pt x="16538" y="11917"/>
                  <a:pt x="16574" y="11938"/>
                </a:cubicBezTo>
                <a:cubicBezTo>
                  <a:pt x="16664" y="11938"/>
                  <a:pt x="16648" y="11913"/>
                  <a:pt x="16700" y="11843"/>
                </a:cubicBezTo>
                <a:cubicBezTo>
                  <a:pt x="16759" y="11764"/>
                  <a:pt x="16802" y="11676"/>
                  <a:pt x="16828" y="11589"/>
                </a:cubicBezTo>
                <a:cubicBezTo>
                  <a:pt x="16861" y="11479"/>
                  <a:pt x="16891" y="11418"/>
                  <a:pt x="16891" y="11303"/>
                </a:cubicBezTo>
                <a:cubicBezTo>
                  <a:pt x="16891" y="11250"/>
                  <a:pt x="16841" y="11271"/>
                  <a:pt x="16796" y="11271"/>
                </a:cubicBezTo>
                <a:cubicBezTo>
                  <a:pt x="16785" y="11271"/>
                  <a:pt x="16775" y="11271"/>
                  <a:pt x="16764" y="11271"/>
                </a:cubicBezTo>
              </a:path>
              <a:path w="1525" h="1366">
                <a:moveTo>
                  <a:pt x="17113" y="10763"/>
                </a:moveTo>
                <a:cubicBezTo>
                  <a:pt x="17155" y="10819"/>
                  <a:pt x="17145" y="10847"/>
                  <a:pt x="17145" y="10922"/>
                </a:cubicBezTo>
                <a:cubicBezTo>
                  <a:pt x="17145" y="10989"/>
                  <a:pt x="17113" y="11039"/>
                  <a:pt x="17113" y="11112"/>
                </a:cubicBezTo>
                <a:cubicBezTo>
                  <a:pt x="17113" y="11173"/>
                  <a:pt x="17110" y="11191"/>
                  <a:pt x="17082" y="11240"/>
                </a:cubicBezTo>
                <a:cubicBezTo>
                  <a:pt x="17158" y="11240"/>
                  <a:pt x="17348" y="11268"/>
                  <a:pt x="17367" y="11208"/>
                </a:cubicBezTo>
              </a:path>
              <a:path w="1525" h="1366">
                <a:moveTo>
                  <a:pt x="17431" y="10573"/>
                </a:moveTo>
                <a:cubicBezTo>
                  <a:pt x="17431" y="10661"/>
                  <a:pt x="17402" y="10737"/>
                  <a:pt x="17399" y="10827"/>
                </a:cubicBezTo>
                <a:cubicBezTo>
                  <a:pt x="17393" y="10988"/>
                  <a:pt x="17367" y="11139"/>
                  <a:pt x="17367" y="11303"/>
                </a:cubicBezTo>
                <a:cubicBezTo>
                  <a:pt x="17367" y="11462"/>
                  <a:pt x="17367" y="11620"/>
                  <a:pt x="17367" y="11779"/>
                </a:cubicBezTo>
              </a:path>
              <a:path w="1525" h="1366">
                <a:moveTo>
                  <a:pt x="17653" y="11112"/>
                </a:moveTo>
                <a:cubicBezTo>
                  <a:pt x="17653" y="11102"/>
                  <a:pt x="17653" y="11091"/>
                  <a:pt x="17653" y="11081"/>
                </a:cubicBezTo>
                <a:cubicBezTo>
                  <a:pt x="17703" y="11068"/>
                  <a:pt x="17723" y="11049"/>
                  <a:pt x="17780" y="11049"/>
                </a:cubicBezTo>
                <a:cubicBezTo>
                  <a:pt x="17833" y="11049"/>
                  <a:pt x="17886" y="11049"/>
                  <a:pt x="17939" y="11049"/>
                </a:cubicBezTo>
              </a:path>
              <a:path w="1525" h="1366">
                <a:moveTo>
                  <a:pt x="17685" y="11430"/>
                </a:moveTo>
                <a:cubicBezTo>
                  <a:pt x="17715" y="11422"/>
                  <a:pt x="17785" y="11413"/>
                  <a:pt x="17812" y="11398"/>
                </a:cubicBezTo>
                <a:cubicBezTo>
                  <a:pt x="17867" y="11367"/>
                  <a:pt x="17915" y="11367"/>
                  <a:pt x="17970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9"/>
          <p:cNvSpPr/>
          <p:nvPr/>
        </p:nvSpPr>
        <p:spPr>
          <a:xfrm>
            <a:off x="6594480" y="3772080"/>
            <a:ext cx="1773360" cy="457200"/>
          </a:xfrm>
          <a:custGeom>
            <a:avLst/>
            <a:gdLst/>
            <a:ahLst/>
            <a:rect l="l" t="t" r="r" b="b"/>
            <a:pathLst>
              <a:path w="4922" h="1271">
                <a:moveTo>
                  <a:pt x="18415" y="10573"/>
                </a:moveTo>
                <a:cubicBezTo>
                  <a:pt x="18475" y="10652"/>
                  <a:pt x="18431" y="10660"/>
                  <a:pt x="18415" y="10763"/>
                </a:cubicBezTo>
                <a:cubicBezTo>
                  <a:pt x="18400" y="10860"/>
                  <a:pt x="18367" y="10956"/>
                  <a:pt x="18352" y="11049"/>
                </a:cubicBezTo>
                <a:cubicBezTo>
                  <a:pt x="18338" y="11132"/>
                  <a:pt x="18367" y="11113"/>
                  <a:pt x="18320" y="11176"/>
                </a:cubicBezTo>
                <a:cubicBezTo>
                  <a:pt x="18364" y="11161"/>
                  <a:pt x="18358" y="11131"/>
                  <a:pt x="18415" y="11112"/>
                </a:cubicBezTo>
                <a:cubicBezTo>
                  <a:pt x="18497" y="11084"/>
                  <a:pt x="18604" y="11122"/>
                  <a:pt x="18669" y="11144"/>
                </a:cubicBezTo>
                <a:cubicBezTo>
                  <a:pt x="18701" y="11144"/>
                  <a:pt x="18711" y="11144"/>
                  <a:pt x="18732" y="11144"/>
                </a:cubicBezTo>
              </a:path>
              <a:path w="4922" h="1271">
                <a:moveTo>
                  <a:pt x="18764" y="10478"/>
                </a:moveTo>
                <a:cubicBezTo>
                  <a:pt x="18764" y="10746"/>
                  <a:pt x="18758" y="11007"/>
                  <a:pt x="18732" y="11271"/>
                </a:cubicBezTo>
                <a:cubicBezTo>
                  <a:pt x="18717" y="11427"/>
                  <a:pt x="18732" y="11591"/>
                  <a:pt x="18732" y="11748"/>
                </a:cubicBezTo>
              </a:path>
              <a:path w="4922" h="1271">
                <a:moveTo>
                  <a:pt x="19304" y="10827"/>
                </a:moveTo>
                <a:cubicBezTo>
                  <a:pt x="19279" y="10827"/>
                  <a:pt x="19286" y="10849"/>
                  <a:pt x="19304" y="10922"/>
                </a:cubicBezTo>
                <a:cubicBezTo>
                  <a:pt x="19333" y="11036"/>
                  <a:pt x="19364" y="11183"/>
                  <a:pt x="19336" y="11303"/>
                </a:cubicBezTo>
                <a:cubicBezTo>
                  <a:pt x="19322" y="11366"/>
                  <a:pt x="19304" y="11394"/>
                  <a:pt x="19304" y="11462"/>
                </a:cubicBezTo>
              </a:path>
              <a:path w="4922" h="1271">
                <a:moveTo>
                  <a:pt x="19082" y="11240"/>
                </a:moveTo>
                <a:cubicBezTo>
                  <a:pt x="19150" y="11240"/>
                  <a:pt x="19176" y="11219"/>
                  <a:pt x="19240" y="11208"/>
                </a:cubicBezTo>
                <a:cubicBezTo>
                  <a:pt x="19316" y="11195"/>
                  <a:pt x="19388" y="11185"/>
                  <a:pt x="19463" y="11176"/>
                </a:cubicBezTo>
              </a:path>
              <a:path w="4922" h="1271">
                <a:moveTo>
                  <a:pt x="20161" y="10700"/>
                </a:moveTo>
                <a:cubicBezTo>
                  <a:pt x="20161" y="10635"/>
                  <a:pt x="20167" y="10632"/>
                  <a:pt x="20130" y="10604"/>
                </a:cubicBezTo>
                <a:cubicBezTo>
                  <a:pt x="20101" y="10583"/>
                  <a:pt x="20045" y="10550"/>
                  <a:pt x="20002" y="10573"/>
                </a:cubicBezTo>
                <a:cubicBezTo>
                  <a:pt x="19920" y="10618"/>
                  <a:pt x="19889" y="10623"/>
                  <a:pt x="19812" y="10700"/>
                </a:cubicBezTo>
                <a:cubicBezTo>
                  <a:pt x="19771" y="10741"/>
                  <a:pt x="19699" y="10832"/>
                  <a:pt x="19685" y="10890"/>
                </a:cubicBezTo>
                <a:cubicBezTo>
                  <a:pt x="19678" y="10922"/>
                  <a:pt x="19713" y="11093"/>
                  <a:pt x="19748" y="11112"/>
                </a:cubicBezTo>
                <a:cubicBezTo>
                  <a:pt x="19806" y="11143"/>
                  <a:pt x="19910" y="11147"/>
                  <a:pt x="19971" y="11176"/>
                </a:cubicBezTo>
                <a:cubicBezTo>
                  <a:pt x="20030" y="11204"/>
                  <a:pt x="20105" y="11274"/>
                  <a:pt x="20130" y="11335"/>
                </a:cubicBezTo>
                <a:cubicBezTo>
                  <a:pt x="20151" y="11386"/>
                  <a:pt x="20128" y="11457"/>
                  <a:pt x="20098" y="11494"/>
                </a:cubicBezTo>
                <a:cubicBezTo>
                  <a:pt x="20065" y="11534"/>
                  <a:pt x="20048" y="11525"/>
                  <a:pt x="20002" y="11525"/>
                </a:cubicBezTo>
                <a:cubicBezTo>
                  <a:pt x="19960" y="11468"/>
                  <a:pt x="19943" y="11411"/>
                  <a:pt x="19939" y="11335"/>
                </a:cubicBezTo>
                <a:cubicBezTo>
                  <a:pt x="19931" y="11199"/>
                  <a:pt x="19963" y="11084"/>
                  <a:pt x="20002" y="10954"/>
                </a:cubicBezTo>
                <a:cubicBezTo>
                  <a:pt x="20029" y="10862"/>
                  <a:pt x="20123" y="10702"/>
                  <a:pt x="20193" y="10636"/>
                </a:cubicBezTo>
                <a:cubicBezTo>
                  <a:pt x="20214" y="10625"/>
                  <a:pt x="20235" y="10615"/>
                  <a:pt x="20256" y="10604"/>
                </a:cubicBezTo>
              </a:path>
              <a:path w="4922" h="1271">
                <a:moveTo>
                  <a:pt x="20384" y="10827"/>
                </a:moveTo>
                <a:cubicBezTo>
                  <a:pt x="20434" y="10890"/>
                  <a:pt x="20466" y="10970"/>
                  <a:pt x="20479" y="11049"/>
                </a:cubicBezTo>
                <a:cubicBezTo>
                  <a:pt x="20492" y="11126"/>
                  <a:pt x="20494" y="11211"/>
                  <a:pt x="20542" y="11271"/>
                </a:cubicBezTo>
                <a:cubicBezTo>
                  <a:pt x="20581" y="11319"/>
                  <a:pt x="20558" y="11351"/>
                  <a:pt x="20606" y="11366"/>
                </a:cubicBezTo>
                <a:cubicBezTo>
                  <a:pt x="20606" y="11211"/>
                  <a:pt x="20615" y="11068"/>
                  <a:pt x="20638" y="10922"/>
                </a:cubicBezTo>
                <a:cubicBezTo>
                  <a:pt x="20648" y="10861"/>
                  <a:pt x="20656" y="10848"/>
                  <a:pt x="20669" y="10795"/>
                </a:cubicBezTo>
                <a:cubicBezTo>
                  <a:pt x="20719" y="10795"/>
                  <a:pt x="20752" y="10802"/>
                  <a:pt x="20764" y="10858"/>
                </a:cubicBezTo>
                <a:cubicBezTo>
                  <a:pt x="20782" y="10942"/>
                  <a:pt x="20769" y="11030"/>
                  <a:pt x="20796" y="11112"/>
                </a:cubicBezTo>
                <a:cubicBezTo>
                  <a:pt x="20809" y="11151"/>
                  <a:pt x="20864" y="11285"/>
                  <a:pt x="20892" y="11303"/>
                </a:cubicBezTo>
                <a:cubicBezTo>
                  <a:pt x="20927" y="11325"/>
                  <a:pt x="20971" y="11335"/>
                  <a:pt x="21018" y="11335"/>
                </a:cubicBezTo>
                <a:cubicBezTo>
                  <a:pt x="21018" y="11269"/>
                  <a:pt x="21042" y="11238"/>
                  <a:pt x="21050" y="11176"/>
                </a:cubicBezTo>
                <a:cubicBezTo>
                  <a:pt x="21065" y="11065"/>
                  <a:pt x="21050" y="10939"/>
                  <a:pt x="21050" y="10827"/>
                </a:cubicBezTo>
              </a:path>
              <a:path w="4922" h="1271">
                <a:moveTo>
                  <a:pt x="21431" y="10636"/>
                </a:moveTo>
                <a:cubicBezTo>
                  <a:pt x="21431" y="10707"/>
                  <a:pt x="21459" y="10756"/>
                  <a:pt x="21463" y="10827"/>
                </a:cubicBezTo>
                <a:cubicBezTo>
                  <a:pt x="21469" y="10931"/>
                  <a:pt x="21457" y="11009"/>
                  <a:pt x="21463" y="11112"/>
                </a:cubicBezTo>
                <a:cubicBezTo>
                  <a:pt x="21467" y="11175"/>
                  <a:pt x="21463" y="11240"/>
                  <a:pt x="21463" y="11303"/>
                </a:cubicBezTo>
              </a:path>
              <a:path w="4922" h="1271">
                <a:moveTo>
                  <a:pt x="21368" y="11017"/>
                </a:moveTo>
                <a:cubicBezTo>
                  <a:pt x="21432" y="11017"/>
                  <a:pt x="21475" y="11027"/>
                  <a:pt x="21526" y="10986"/>
                </a:cubicBezTo>
                <a:cubicBezTo>
                  <a:pt x="21562" y="10950"/>
                  <a:pt x="21579" y="10939"/>
                  <a:pt x="21622" y="10954"/>
                </a:cubicBezTo>
              </a:path>
              <a:path w="4922" h="1271">
                <a:moveTo>
                  <a:pt x="21844" y="10604"/>
                </a:moveTo>
                <a:cubicBezTo>
                  <a:pt x="21853" y="10571"/>
                  <a:pt x="21871" y="10496"/>
                  <a:pt x="21908" y="10478"/>
                </a:cubicBezTo>
                <a:cubicBezTo>
                  <a:pt x="21950" y="10457"/>
                  <a:pt x="22006" y="10484"/>
                  <a:pt x="22034" y="10509"/>
                </a:cubicBezTo>
                <a:cubicBezTo>
                  <a:pt x="22102" y="10569"/>
                  <a:pt x="22074" y="10628"/>
                  <a:pt x="22066" y="10700"/>
                </a:cubicBezTo>
                <a:cubicBezTo>
                  <a:pt x="22055" y="10800"/>
                  <a:pt x="22019" y="10925"/>
                  <a:pt x="21971" y="11017"/>
                </a:cubicBezTo>
                <a:cubicBezTo>
                  <a:pt x="21924" y="11108"/>
                  <a:pt x="21849" y="11210"/>
                  <a:pt x="21812" y="11303"/>
                </a:cubicBezTo>
                <a:cubicBezTo>
                  <a:pt x="21812" y="11314"/>
                  <a:pt x="21812" y="11324"/>
                  <a:pt x="21812" y="11335"/>
                </a:cubicBezTo>
                <a:cubicBezTo>
                  <a:pt x="21829" y="11266"/>
                  <a:pt x="21859" y="11284"/>
                  <a:pt x="21908" y="11240"/>
                </a:cubicBezTo>
                <a:cubicBezTo>
                  <a:pt x="21975" y="11180"/>
                  <a:pt x="21987" y="11220"/>
                  <a:pt x="22066" y="11240"/>
                </a:cubicBezTo>
                <a:cubicBezTo>
                  <a:pt x="22132" y="11257"/>
                  <a:pt x="22139" y="11248"/>
                  <a:pt x="22193" y="11303"/>
                </a:cubicBezTo>
              </a:path>
              <a:path w="4922" h="1271">
                <a:moveTo>
                  <a:pt x="22384" y="10795"/>
                </a:moveTo>
                <a:cubicBezTo>
                  <a:pt x="22426" y="10851"/>
                  <a:pt x="22416" y="10879"/>
                  <a:pt x="22416" y="10954"/>
                </a:cubicBezTo>
                <a:cubicBezTo>
                  <a:pt x="22416" y="11004"/>
                  <a:pt x="22426" y="11133"/>
                  <a:pt x="22447" y="11176"/>
                </a:cubicBezTo>
                <a:cubicBezTo>
                  <a:pt x="22458" y="11198"/>
                  <a:pt x="22543" y="11279"/>
                  <a:pt x="22574" y="11240"/>
                </a:cubicBezTo>
                <a:cubicBezTo>
                  <a:pt x="22590" y="11220"/>
                  <a:pt x="22633" y="11111"/>
                  <a:pt x="22638" y="11081"/>
                </a:cubicBezTo>
                <a:cubicBezTo>
                  <a:pt x="22651" y="11010"/>
                  <a:pt x="22632" y="10948"/>
                  <a:pt x="22670" y="10890"/>
                </a:cubicBezTo>
                <a:cubicBezTo>
                  <a:pt x="22698" y="10861"/>
                  <a:pt x="22708" y="10855"/>
                  <a:pt x="22701" y="10827"/>
                </a:cubicBezTo>
                <a:cubicBezTo>
                  <a:pt x="22722" y="10834"/>
                  <a:pt x="22779" y="10855"/>
                  <a:pt x="22796" y="10890"/>
                </a:cubicBezTo>
                <a:cubicBezTo>
                  <a:pt x="22820" y="10939"/>
                  <a:pt x="22855" y="11000"/>
                  <a:pt x="22892" y="11049"/>
                </a:cubicBezTo>
                <a:cubicBezTo>
                  <a:pt x="22929" y="11098"/>
                  <a:pt x="22979" y="11117"/>
                  <a:pt x="23019" y="11144"/>
                </a:cubicBezTo>
                <a:cubicBezTo>
                  <a:pt x="23072" y="11180"/>
                  <a:pt x="23116" y="11182"/>
                  <a:pt x="23178" y="11144"/>
                </a:cubicBezTo>
                <a:cubicBezTo>
                  <a:pt x="23224" y="11116"/>
                  <a:pt x="23237" y="11002"/>
                  <a:pt x="23241" y="10954"/>
                </a:cubicBezTo>
                <a:cubicBezTo>
                  <a:pt x="23248" y="10870"/>
                  <a:pt x="23242" y="10808"/>
                  <a:pt x="23209" y="10732"/>
                </a:cubicBezTo>
                <a:cubicBezTo>
                  <a:pt x="23182" y="10676"/>
                  <a:pt x="23178" y="10661"/>
                  <a:pt x="23146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0"/>
          <p:cNvSpPr/>
          <p:nvPr/>
        </p:nvSpPr>
        <p:spPr>
          <a:xfrm>
            <a:off x="2251080" y="4240080"/>
            <a:ext cx="2560680" cy="630360"/>
          </a:xfrm>
          <a:custGeom>
            <a:avLst/>
            <a:gdLst/>
            <a:ahLst/>
            <a:rect l="l" t="t" r="r" b="b"/>
            <a:pathLst>
              <a:path w="7113" h="1748">
                <a:moveTo>
                  <a:pt x="6731" y="12446"/>
                </a:moveTo>
                <a:cubicBezTo>
                  <a:pt x="6751" y="12426"/>
                  <a:pt x="6771" y="12381"/>
                  <a:pt x="6794" y="12351"/>
                </a:cubicBezTo>
                <a:cubicBezTo>
                  <a:pt x="6838" y="12292"/>
                  <a:pt x="6826" y="12235"/>
                  <a:pt x="6826" y="12160"/>
                </a:cubicBezTo>
                <a:cubicBezTo>
                  <a:pt x="6826" y="12101"/>
                  <a:pt x="6777" y="11982"/>
                  <a:pt x="6731" y="11938"/>
                </a:cubicBezTo>
                <a:cubicBezTo>
                  <a:pt x="6687" y="11897"/>
                  <a:pt x="6602" y="11796"/>
                  <a:pt x="6540" y="11779"/>
                </a:cubicBezTo>
                <a:cubicBezTo>
                  <a:pt x="6471" y="11760"/>
                  <a:pt x="6378" y="11777"/>
                  <a:pt x="6318" y="11811"/>
                </a:cubicBezTo>
                <a:cubicBezTo>
                  <a:pt x="6265" y="11842"/>
                  <a:pt x="6258" y="11948"/>
                  <a:pt x="6255" y="12002"/>
                </a:cubicBezTo>
                <a:cubicBezTo>
                  <a:pt x="6250" y="12100"/>
                  <a:pt x="6234" y="12232"/>
                  <a:pt x="6286" y="12319"/>
                </a:cubicBezTo>
                <a:cubicBezTo>
                  <a:pt x="6352" y="12431"/>
                  <a:pt x="6412" y="12551"/>
                  <a:pt x="6477" y="12668"/>
                </a:cubicBezTo>
                <a:cubicBezTo>
                  <a:pt x="6561" y="12820"/>
                  <a:pt x="6590" y="12955"/>
                  <a:pt x="6636" y="13113"/>
                </a:cubicBezTo>
                <a:cubicBezTo>
                  <a:pt x="6664" y="13208"/>
                  <a:pt x="6669" y="13269"/>
                  <a:pt x="6636" y="13367"/>
                </a:cubicBezTo>
                <a:cubicBezTo>
                  <a:pt x="6620" y="13415"/>
                  <a:pt x="6566" y="13526"/>
                  <a:pt x="6509" y="13526"/>
                </a:cubicBezTo>
                <a:cubicBezTo>
                  <a:pt x="6451" y="13526"/>
                  <a:pt x="6391" y="13496"/>
                  <a:pt x="6350" y="13462"/>
                </a:cubicBezTo>
                <a:cubicBezTo>
                  <a:pt x="6283" y="13407"/>
                  <a:pt x="6290" y="13350"/>
                  <a:pt x="6286" y="13272"/>
                </a:cubicBezTo>
                <a:cubicBezTo>
                  <a:pt x="6282" y="13195"/>
                  <a:pt x="6340" y="13050"/>
                  <a:pt x="6382" y="12986"/>
                </a:cubicBezTo>
                <a:cubicBezTo>
                  <a:pt x="6458" y="12872"/>
                  <a:pt x="6545" y="12792"/>
                  <a:pt x="6604" y="12668"/>
                </a:cubicBezTo>
                <a:cubicBezTo>
                  <a:pt x="6642" y="12589"/>
                  <a:pt x="6695" y="12522"/>
                  <a:pt x="6731" y="12446"/>
                </a:cubicBezTo>
                <a:cubicBezTo>
                  <a:pt x="6765" y="12375"/>
                  <a:pt x="6800" y="12321"/>
                  <a:pt x="6826" y="12256"/>
                </a:cubicBezTo>
                <a:cubicBezTo>
                  <a:pt x="6826" y="12211"/>
                  <a:pt x="6832" y="12188"/>
                  <a:pt x="6858" y="12160"/>
                </a:cubicBezTo>
              </a:path>
              <a:path w="7113" h="1748">
                <a:moveTo>
                  <a:pt x="7239" y="11970"/>
                </a:moveTo>
                <a:cubicBezTo>
                  <a:pt x="7253" y="11975"/>
                  <a:pt x="7306" y="12037"/>
                  <a:pt x="7302" y="12065"/>
                </a:cubicBezTo>
                <a:cubicBezTo>
                  <a:pt x="7292" y="12138"/>
                  <a:pt x="7262" y="12250"/>
                  <a:pt x="7239" y="12319"/>
                </a:cubicBezTo>
                <a:cubicBezTo>
                  <a:pt x="7210" y="12404"/>
                  <a:pt x="7180" y="12493"/>
                  <a:pt x="7144" y="12573"/>
                </a:cubicBezTo>
                <a:cubicBezTo>
                  <a:pt x="7108" y="12652"/>
                  <a:pt x="7112" y="12709"/>
                  <a:pt x="7112" y="12795"/>
                </a:cubicBezTo>
                <a:cubicBezTo>
                  <a:pt x="7112" y="12847"/>
                  <a:pt x="7128" y="12811"/>
                  <a:pt x="7144" y="12859"/>
                </a:cubicBezTo>
                <a:cubicBezTo>
                  <a:pt x="7181" y="12822"/>
                  <a:pt x="7224" y="12779"/>
                  <a:pt x="7271" y="12764"/>
                </a:cubicBezTo>
                <a:cubicBezTo>
                  <a:pt x="7310" y="12751"/>
                  <a:pt x="7360" y="12736"/>
                  <a:pt x="7398" y="12732"/>
                </a:cubicBezTo>
                <a:cubicBezTo>
                  <a:pt x="7414" y="12730"/>
                  <a:pt x="7508" y="12754"/>
                  <a:pt x="7525" y="12764"/>
                </a:cubicBezTo>
                <a:cubicBezTo>
                  <a:pt x="7570" y="12789"/>
                  <a:pt x="7598" y="12821"/>
                  <a:pt x="7652" y="12827"/>
                </a:cubicBezTo>
                <a:cubicBezTo>
                  <a:pt x="7691" y="12831"/>
                  <a:pt x="7710" y="12804"/>
                  <a:pt x="7747" y="12795"/>
                </a:cubicBezTo>
              </a:path>
              <a:path w="7113" h="1748">
                <a:moveTo>
                  <a:pt x="7810" y="11906"/>
                </a:moveTo>
                <a:cubicBezTo>
                  <a:pt x="7800" y="11895"/>
                  <a:pt x="7789" y="11885"/>
                  <a:pt x="7779" y="11874"/>
                </a:cubicBezTo>
                <a:cubicBezTo>
                  <a:pt x="7779" y="11951"/>
                  <a:pt x="7766" y="12025"/>
                  <a:pt x="7747" y="12097"/>
                </a:cubicBezTo>
                <a:cubicBezTo>
                  <a:pt x="7710" y="12237"/>
                  <a:pt x="7689" y="12371"/>
                  <a:pt x="7652" y="12510"/>
                </a:cubicBezTo>
                <a:cubicBezTo>
                  <a:pt x="7614" y="12652"/>
                  <a:pt x="7593" y="12806"/>
                  <a:pt x="7588" y="12954"/>
                </a:cubicBezTo>
                <a:cubicBezTo>
                  <a:pt x="7584" y="13086"/>
                  <a:pt x="7556" y="13202"/>
                  <a:pt x="7556" y="13335"/>
                </a:cubicBezTo>
                <a:cubicBezTo>
                  <a:pt x="7556" y="13388"/>
                  <a:pt x="7556" y="13441"/>
                  <a:pt x="7556" y="13494"/>
                </a:cubicBezTo>
              </a:path>
              <a:path w="7113" h="1748">
                <a:moveTo>
                  <a:pt x="8192" y="12541"/>
                </a:moveTo>
                <a:cubicBezTo>
                  <a:pt x="8329" y="12541"/>
                  <a:pt x="8467" y="12541"/>
                  <a:pt x="8604" y="12541"/>
                </a:cubicBezTo>
              </a:path>
              <a:path w="7113" h="1748">
                <a:moveTo>
                  <a:pt x="8160" y="12986"/>
                </a:moveTo>
                <a:cubicBezTo>
                  <a:pt x="8260" y="13006"/>
                  <a:pt x="8281" y="13024"/>
                  <a:pt x="8382" y="12986"/>
                </a:cubicBezTo>
              </a:path>
              <a:path w="7113" h="1748">
                <a:moveTo>
                  <a:pt x="9112" y="12256"/>
                </a:moveTo>
                <a:cubicBezTo>
                  <a:pt x="9103" y="12229"/>
                  <a:pt x="9054" y="12207"/>
                  <a:pt x="9080" y="12160"/>
                </a:cubicBezTo>
                <a:cubicBezTo>
                  <a:pt x="9108" y="12110"/>
                  <a:pt x="9138" y="12052"/>
                  <a:pt x="9176" y="12002"/>
                </a:cubicBezTo>
                <a:cubicBezTo>
                  <a:pt x="9214" y="11952"/>
                  <a:pt x="9274" y="11894"/>
                  <a:pt x="9334" y="11874"/>
                </a:cubicBezTo>
                <a:cubicBezTo>
                  <a:pt x="9394" y="11854"/>
                  <a:pt x="9449" y="11893"/>
                  <a:pt x="9493" y="11906"/>
                </a:cubicBezTo>
                <a:cubicBezTo>
                  <a:pt x="9551" y="11924"/>
                  <a:pt x="9525" y="12031"/>
                  <a:pt x="9525" y="12097"/>
                </a:cubicBezTo>
                <a:cubicBezTo>
                  <a:pt x="9525" y="12175"/>
                  <a:pt x="9474" y="12317"/>
                  <a:pt x="9430" y="12382"/>
                </a:cubicBezTo>
                <a:cubicBezTo>
                  <a:pt x="9362" y="12483"/>
                  <a:pt x="9308" y="12602"/>
                  <a:pt x="9239" y="12700"/>
                </a:cubicBezTo>
                <a:cubicBezTo>
                  <a:pt x="9176" y="12789"/>
                  <a:pt x="9083" y="12868"/>
                  <a:pt x="9017" y="12954"/>
                </a:cubicBezTo>
                <a:cubicBezTo>
                  <a:pt x="8991" y="12988"/>
                  <a:pt x="8953" y="13019"/>
                  <a:pt x="8922" y="13049"/>
                </a:cubicBezTo>
                <a:cubicBezTo>
                  <a:pt x="8936" y="12994"/>
                  <a:pt x="8974" y="12965"/>
                  <a:pt x="9017" y="12922"/>
                </a:cubicBezTo>
                <a:cubicBezTo>
                  <a:pt x="9064" y="12874"/>
                  <a:pt x="9144" y="12843"/>
                  <a:pt x="9208" y="12827"/>
                </a:cubicBezTo>
                <a:cubicBezTo>
                  <a:pt x="9301" y="12803"/>
                  <a:pt x="9301" y="12862"/>
                  <a:pt x="9366" y="12890"/>
                </a:cubicBezTo>
                <a:cubicBezTo>
                  <a:pt x="9428" y="12917"/>
                  <a:pt x="9429" y="12935"/>
                  <a:pt x="9462" y="12986"/>
                </a:cubicBezTo>
                <a:cubicBezTo>
                  <a:pt x="9492" y="13032"/>
                  <a:pt x="9485" y="13036"/>
                  <a:pt x="9525" y="13049"/>
                </a:cubicBezTo>
              </a:path>
              <a:path w="7113" h="1748">
                <a:moveTo>
                  <a:pt x="9716" y="13049"/>
                </a:moveTo>
                <a:cubicBezTo>
                  <a:pt x="9764" y="13086"/>
                  <a:pt x="9780" y="13081"/>
                  <a:pt x="9842" y="13081"/>
                </a:cubicBezTo>
                <a:cubicBezTo>
                  <a:pt x="9912" y="13081"/>
                  <a:pt x="10038" y="13060"/>
                  <a:pt x="10096" y="13018"/>
                </a:cubicBezTo>
                <a:cubicBezTo>
                  <a:pt x="10232" y="12920"/>
                  <a:pt x="10335" y="12772"/>
                  <a:pt x="10414" y="12636"/>
                </a:cubicBezTo>
                <a:cubicBezTo>
                  <a:pt x="10490" y="12505"/>
                  <a:pt x="10552" y="12346"/>
                  <a:pt x="10573" y="12192"/>
                </a:cubicBezTo>
                <a:cubicBezTo>
                  <a:pt x="10585" y="12104"/>
                  <a:pt x="10592" y="11974"/>
                  <a:pt x="10541" y="11906"/>
                </a:cubicBezTo>
                <a:cubicBezTo>
                  <a:pt x="10472" y="11906"/>
                  <a:pt x="10420" y="11933"/>
                  <a:pt x="10382" y="12002"/>
                </a:cubicBezTo>
                <a:cubicBezTo>
                  <a:pt x="10309" y="12134"/>
                  <a:pt x="10267" y="12269"/>
                  <a:pt x="10224" y="12414"/>
                </a:cubicBezTo>
                <a:cubicBezTo>
                  <a:pt x="10188" y="12536"/>
                  <a:pt x="10168" y="12698"/>
                  <a:pt x="10192" y="12827"/>
                </a:cubicBezTo>
                <a:cubicBezTo>
                  <a:pt x="10216" y="12954"/>
                  <a:pt x="10260" y="12982"/>
                  <a:pt x="10350" y="13049"/>
                </a:cubicBezTo>
                <a:cubicBezTo>
                  <a:pt x="10406" y="13091"/>
                  <a:pt x="10390" y="13091"/>
                  <a:pt x="10446" y="13049"/>
                </a:cubicBezTo>
              </a:path>
              <a:path w="7113" h="1748">
                <a:moveTo>
                  <a:pt x="11112" y="12160"/>
                </a:moveTo>
                <a:cubicBezTo>
                  <a:pt x="11112" y="12262"/>
                  <a:pt x="11092" y="12348"/>
                  <a:pt x="11081" y="12446"/>
                </a:cubicBezTo>
                <a:cubicBezTo>
                  <a:pt x="11066" y="12576"/>
                  <a:pt x="11049" y="12694"/>
                  <a:pt x="11049" y="12827"/>
                </a:cubicBezTo>
                <a:cubicBezTo>
                  <a:pt x="11049" y="12880"/>
                  <a:pt x="11049" y="12933"/>
                  <a:pt x="11049" y="12986"/>
                </a:cubicBezTo>
              </a:path>
              <a:path w="7113" h="1748">
                <a:moveTo>
                  <a:pt x="10858" y="12478"/>
                </a:moveTo>
                <a:cubicBezTo>
                  <a:pt x="10937" y="12498"/>
                  <a:pt x="10984" y="12510"/>
                  <a:pt x="11081" y="12510"/>
                </a:cubicBezTo>
                <a:cubicBezTo>
                  <a:pt x="11205" y="12510"/>
                  <a:pt x="11315" y="12517"/>
                  <a:pt x="11430" y="12478"/>
                </a:cubicBezTo>
              </a:path>
              <a:path w="7113" h="1748">
                <a:moveTo>
                  <a:pt x="11716" y="11970"/>
                </a:moveTo>
                <a:cubicBezTo>
                  <a:pt x="11729" y="11917"/>
                  <a:pt x="11752" y="11881"/>
                  <a:pt x="11811" y="11874"/>
                </a:cubicBezTo>
                <a:cubicBezTo>
                  <a:pt x="11842" y="11871"/>
                  <a:pt x="11942" y="11919"/>
                  <a:pt x="11970" y="11938"/>
                </a:cubicBezTo>
                <a:cubicBezTo>
                  <a:pt x="12017" y="11969"/>
                  <a:pt x="12030" y="12046"/>
                  <a:pt x="12033" y="12097"/>
                </a:cubicBezTo>
                <a:cubicBezTo>
                  <a:pt x="12041" y="12229"/>
                  <a:pt x="12003" y="12268"/>
                  <a:pt x="11938" y="12382"/>
                </a:cubicBezTo>
                <a:cubicBezTo>
                  <a:pt x="11877" y="12489"/>
                  <a:pt x="11809" y="12593"/>
                  <a:pt x="11748" y="12700"/>
                </a:cubicBezTo>
                <a:cubicBezTo>
                  <a:pt x="11714" y="12761"/>
                  <a:pt x="11645" y="12829"/>
                  <a:pt x="11620" y="12890"/>
                </a:cubicBezTo>
                <a:cubicBezTo>
                  <a:pt x="11604" y="12929"/>
                  <a:pt x="11587" y="12969"/>
                  <a:pt x="11620" y="12986"/>
                </a:cubicBezTo>
                <a:cubicBezTo>
                  <a:pt x="11670" y="13011"/>
                  <a:pt x="11732" y="12957"/>
                  <a:pt x="11779" y="12954"/>
                </a:cubicBezTo>
                <a:cubicBezTo>
                  <a:pt x="11859" y="12949"/>
                  <a:pt x="11905" y="12966"/>
                  <a:pt x="11970" y="12986"/>
                </a:cubicBezTo>
                <a:cubicBezTo>
                  <a:pt x="12032" y="13004"/>
                  <a:pt x="12115" y="12988"/>
                  <a:pt x="12160" y="12954"/>
                </a:cubicBezTo>
              </a:path>
              <a:path w="7113" h="1748">
                <a:moveTo>
                  <a:pt x="12351" y="12224"/>
                </a:moveTo>
                <a:cubicBezTo>
                  <a:pt x="12367" y="12288"/>
                  <a:pt x="12390" y="12345"/>
                  <a:pt x="12414" y="12414"/>
                </a:cubicBezTo>
                <a:cubicBezTo>
                  <a:pt x="12454" y="12529"/>
                  <a:pt x="12447" y="12651"/>
                  <a:pt x="12478" y="12764"/>
                </a:cubicBezTo>
                <a:cubicBezTo>
                  <a:pt x="12496" y="12828"/>
                  <a:pt x="12536" y="12940"/>
                  <a:pt x="12573" y="12986"/>
                </a:cubicBezTo>
                <a:cubicBezTo>
                  <a:pt x="12584" y="12997"/>
                  <a:pt x="12594" y="13007"/>
                  <a:pt x="12605" y="13018"/>
                </a:cubicBezTo>
                <a:cubicBezTo>
                  <a:pt x="12605" y="12934"/>
                  <a:pt x="12632" y="12877"/>
                  <a:pt x="12636" y="12795"/>
                </a:cubicBezTo>
                <a:cubicBezTo>
                  <a:pt x="12641" y="12705"/>
                  <a:pt x="12668" y="12635"/>
                  <a:pt x="12668" y="12541"/>
                </a:cubicBezTo>
                <a:cubicBezTo>
                  <a:pt x="12668" y="12489"/>
                  <a:pt x="12669" y="12430"/>
                  <a:pt x="12700" y="12414"/>
                </a:cubicBezTo>
                <a:cubicBezTo>
                  <a:pt x="12732" y="12414"/>
                  <a:pt x="12743" y="12414"/>
                  <a:pt x="12764" y="12414"/>
                </a:cubicBezTo>
                <a:cubicBezTo>
                  <a:pt x="12774" y="12456"/>
                  <a:pt x="12809" y="12536"/>
                  <a:pt x="12827" y="12573"/>
                </a:cubicBezTo>
                <a:cubicBezTo>
                  <a:pt x="12863" y="12644"/>
                  <a:pt x="12880" y="12728"/>
                  <a:pt x="12922" y="12795"/>
                </a:cubicBezTo>
                <a:cubicBezTo>
                  <a:pt x="12970" y="12872"/>
                  <a:pt x="13015" y="12953"/>
                  <a:pt x="13081" y="13018"/>
                </a:cubicBezTo>
                <a:cubicBezTo>
                  <a:pt x="13118" y="13055"/>
                  <a:pt x="13130" y="13069"/>
                  <a:pt x="13176" y="13081"/>
                </a:cubicBezTo>
                <a:cubicBezTo>
                  <a:pt x="13176" y="12844"/>
                  <a:pt x="13181" y="12613"/>
                  <a:pt x="13208" y="12382"/>
                </a:cubicBezTo>
                <a:cubicBezTo>
                  <a:pt x="13223" y="12250"/>
                  <a:pt x="13243" y="12197"/>
                  <a:pt x="13335" y="12097"/>
                </a:cubicBezTo>
                <a:cubicBezTo>
                  <a:pt x="13346" y="12086"/>
                  <a:pt x="13356" y="12076"/>
                  <a:pt x="13367" y="12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1"/>
          <p:cNvSpPr/>
          <p:nvPr/>
        </p:nvSpPr>
        <p:spPr>
          <a:xfrm>
            <a:off x="6161040" y="4332240"/>
            <a:ext cx="1692360" cy="593640"/>
          </a:xfrm>
          <a:custGeom>
            <a:avLst/>
            <a:gdLst/>
            <a:ahLst/>
            <a:rect l="l" t="t" r="r" b="b"/>
            <a:pathLst>
              <a:path w="4700" h="1652">
                <a:moveTo>
                  <a:pt x="17716" y="12446"/>
                </a:moveTo>
                <a:lnTo>
                  <a:pt x="17716" y="12446"/>
                </a:lnTo>
              </a:path>
              <a:path w="4700" h="1652">
                <a:moveTo>
                  <a:pt x="17716" y="12446"/>
                </a:moveTo>
                <a:lnTo>
                  <a:pt x="17716" y="12446"/>
                </a:lnTo>
              </a:path>
              <a:path w="4700" h="1652">
                <a:moveTo>
                  <a:pt x="17685" y="12446"/>
                </a:moveTo>
                <a:cubicBezTo>
                  <a:pt x="17645" y="12406"/>
                  <a:pt x="17614" y="12355"/>
                  <a:pt x="17558" y="12351"/>
                </a:cubicBezTo>
                <a:cubicBezTo>
                  <a:pt x="17476" y="12345"/>
                  <a:pt x="17433" y="12364"/>
                  <a:pt x="17367" y="12414"/>
                </a:cubicBezTo>
                <a:cubicBezTo>
                  <a:pt x="17285" y="12477"/>
                  <a:pt x="17263" y="12556"/>
                  <a:pt x="17208" y="12636"/>
                </a:cubicBezTo>
                <a:cubicBezTo>
                  <a:pt x="17166" y="12697"/>
                  <a:pt x="17121" y="12751"/>
                  <a:pt x="17113" y="12827"/>
                </a:cubicBezTo>
                <a:cubicBezTo>
                  <a:pt x="17108" y="12880"/>
                  <a:pt x="17149" y="12909"/>
                  <a:pt x="17177" y="12922"/>
                </a:cubicBezTo>
                <a:cubicBezTo>
                  <a:pt x="17239" y="12951"/>
                  <a:pt x="17306" y="12961"/>
                  <a:pt x="17367" y="12986"/>
                </a:cubicBezTo>
                <a:cubicBezTo>
                  <a:pt x="17471" y="13028"/>
                  <a:pt x="17496" y="13062"/>
                  <a:pt x="17558" y="13144"/>
                </a:cubicBezTo>
                <a:cubicBezTo>
                  <a:pt x="17588" y="13184"/>
                  <a:pt x="17617" y="13281"/>
                  <a:pt x="17590" y="13335"/>
                </a:cubicBezTo>
                <a:cubicBezTo>
                  <a:pt x="17569" y="13377"/>
                  <a:pt x="17510" y="13472"/>
                  <a:pt x="17462" y="13494"/>
                </a:cubicBezTo>
                <a:cubicBezTo>
                  <a:pt x="17439" y="13504"/>
                  <a:pt x="17311" y="13461"/>
                  <a:pt x="17304" y="13430"/>
                </a:cubicBezTo>
                <a:cubicBezTo>
                  <a:pt x="17282" y="13333"/>
                  <a:pt x="17272" y="13249"/>
                  <a:pt x="17272" y="13144"/>
                </a:cubicBezTo>
                <a:cubicBezTo>
                  <a:pt x="17272" y="13008"/>
                  <a:pt x="17282" y="12921"/>
                  <a:pt x="17336" y="12795"/>
                </a:cubicBezTo>
                <a:cubicBezTo>
                  <a:pt x="17369" y="12718"/>
                  <a:pt x="17404" y="12663"/>
                  <a:pt x="17462" y="12605"/>
                </a:cubicBezTo>
              </a:path>
              <a:path w="4700" h="1652">
                <a:moveTo>
                  <a:pt x="17812" y="12414"/>
                </a:moveTo>
                <a:cubicBezTo>
                  <a:pt x="17851" y="12466"/>
                  <a:pt x="17859" y="12535"/>
                  <a:pt x="17844" y="12605"/>
                </a:cubicBezTo>
                <a:cubicBezTo>
                  <a:pt x="17821" y="12710"/>
                  <a:pt x="17797" y="12820"/>
                  <a:pt x="17780" y="12922"/>
                </a:cubicBezTo>
                <a:cubicBezTo>
                  <a:pt x="17774" y="12960"/>
                  <a:pt x="17780" y="13010"/>
                  <a:pt x="17780" y="13049"/>
                </a:cubicBezTo>
                <a:cubicBezTo>
                  <a:pt x="17810" y="13039"/>
                  <a:pt x="17841" y="13009"/>
                  <a:pt x="17875" y="12986"/>
                </a:cubicBezTo>
                <a:cubicBezTo>
                  <a:pt x="17917" y="12958"/>
                  <a:pt x="17951" y="12928"/>
                  <a:pt x="18002" y="12922"/>
                </a:cubicBezTo>
                <a:cubicBezTo>
                  <a:pt x="18018" y="12920"/>
                  <a:pt x="18112" y="12944"/>
                  <a:pt x="18129" y="12954"/>
                </a:cubicBezTo>
                <a:cubicBezTo>
                  <a:pt x="18158" y="12983"/>
                  <a:pt x="18164" y="12994"/>
                  <a:pt x="18193" y="12986"/>
                </a:cubicBezTo>
              </a:path>
              <a:path w="4700" h="1652">
                <a:moveTo>
                  <a:pt x="18129" y="12319"/>
                </a:moveTo>
                <a:cubicBezTo>
                  <a:pt x="18129" y="12556"/>
                  <a:pt x="18117" y="12785"/>
                  <a:pt x="18098" y="13018"/>
                </a:cubicBezTo>
                <a:cubicBezTo>
                  <a:pt x="18085" y="13178"/>
                  <a:pt x="18081" y="13336"/>
                  <a:pt x="18066" y="13494"/>
                </a:cubicBezTo>
                <a:cubicBezTo>
                  <a:pt x="18066" y="13589"/>
                  <a:pt x="18066" y="13621"/>
                  <a:pt x="18066" y="13684"/>
                </a:cubicBezTo>
              </a:path>
              <a:path w="4700" h="1652">
                <a:moveTo>
                  <a:pt x="18447" y="12636"/>
                </a:moveTo>
                <a:cubicBezTo>
                  <a:pt x="18487" y="12628"/>
                  <a:pt x="18562" y="12581"/>
                  <a:pt x="18606" y="12605"/>
                </a:cubicBezTo>
                <a:cubicBezTo>
                  <a:pt x="18673" y="12641"/>
                  <a:pt x="18701" y="12651"/>
                  <a:pt x="18764" y="12605"/>
                </a:cubicBezTo>
              </a:path>
              <a:path w="4700" h="1652">
                <a:moveTo>
                  <a:pt x="18478" y="12827"/>
                </a:moveTo>
                <a:cubicBezTo>
                  <a:pt x="18478" y="12838"/>
                  <a:pt x="18478" y="12848"/>
                  <a:pt x="18478" y="12859"/>
                </a:cubicBezTo>
                <a:cubicBezTo>
                  <a:pt x="18540" y="12874"/>
                  <a:pt x="18551" y="12929"/>
                  <a:pt x="18606" y="12954"/>
                </a:cubicBezTo>
                <a:cubicBezTo>
                  <a:pt x="18647" y="12973"/>
                  <a:pt x="18720" y="12975"/>
                  <a:pt x="18764" y="12986"/>
                </a:cubicBezTo>
              </a:path>
              <a:path w="4700" h="1652">
                <a:moveTo>
                  <a:pt x="19082" y="12160"/>
                </a:moveTo>
                <a:cubicBezTo>
                  <a:pt x="19082" y="12285"/>
                  <a:pt x="19070" y="12393"/>
                  <a:pt x="19050" y="12510"/>
                </a:cubicBezTo>
                <a:cubicBezTo>
                  <a:pt x="19039" y="12573"/>
                  <a:pt x="19024" y="12640"/>
                  <a:pt x="19018" y="12700"/>
                </a:cubicBezTo>
                <a:cubicBezTo>
                  <a:pt x="19018" y="12711"/>
                  <a:pt x="19018" y="12721"/>
                  <a:pt x="19018" y="12732"/>
                </a:cubicBezTo>
                <a:cubicBezTo>
                  <a:pt x="18984" y="12715"/>
                  <a:pt x="19026" y="12680"/>
                  <a:pt x="19050" y="12668"/>
                </a:cubicBezTo>
                <a:cubicBezTo>
                  <a:pt x="19077" y="12655"/>
                  <a:pt x="19149" y="12639"/>
                  <a:pt x="19177" y="12636"/>
                </a:cubicBezTo>
                <a:cubicBezTo>
                  <a:pt x="19219" y="12631"/>
                  <a:pt x="19246" y="12635"/>
                  <a:pt x="19272" y="12668"/>
                </a:cubicBezTo>
                <a:cubicBezTo>
                  <a:pt x="19272" y="12704"/>
                  <a:pt x="19275" y="12718"/>
                  <a:pt x="19304" y="12732"/>
                </a:cubicBezTo>
              </a:path>
              <a:path w="4700" h="1652">
                <a:moveTo>
                  <a:pt x="19368" y="12033"/>
                </a:moveTo>
                <a:cubicBezTo>
                  <a:pt x="19368" y="12156"/>
                  <a:pt x="19347" y="12262"/>
                  <a:pt x="19336" y="12382"/>
                </a:cubicBezTo>
                <a:cubicBezTo>
                  <a:pt x="19321" y="12552"/>
                  <a:pt x="19286" y="12721"/>
                  <a:pt x="19272" y="12890"/>
                </a:cubicBezTo>
                <a:cubicBezTo>
                  <a:pt x="19261" y="13026"/>
                  <a:pt x="19272" y="13167"/>
                  <a:pt x="19272" y="13303"/>
                </a:cubicBezTo>
              </a:path>
              <a:path w="4700" h="1652">
                <a:moveTo>
                  <a:pt x="19907" y="12256"/>
                </a:moveTo>
                <a:cubicBezTo>
                  <a:pt x="19907" y="12390"/>
                  <a:pt x="19921" y="12507"/>
                  <a:pt x="19939" y="12636"/>
                </a:cubicBezTo>
                <a:cubicBezTo>
                  <a:pt x="19954" y="12748"/>
                  <a:pt x="19939" y="12873"/>
                  <a:pt x="19939" y="12986"/>
                </a:cubicBezTo>
              </a:path>
              <a:path w="4700" h="1652">
                <a:moveTo>
                  <a:pt x="19812" y="12732"/>
                </a:moveTo>
                <a:cubicBezTo>
                  <a:pt x="19877" y="12732"/>
                  <a:pt x="19920" y="12742"/>
                  <a:pt x="19971" y="12700"/>
                </a:cubicBezTo>
                <a:cubicBezTo>
                  <a:pt x="20020" y="12660"/>
                  <a:pt x="20040" y="12638"/>
                  <a:pt x="20098" y="12605"/>
                </a:cubicBezTo>
              </a:path>
              <a:path w="4700" h="1652">
                <a:moveTo>
                  <a:pt x="20447" y="12097"/>
                </a:moveTo>
                <a:cubicBezTo>
                  <a:pt x="20447" y="12271"/>
                  <a:pt x="20432" y="12434"/>
                  <a:pt x="20415" y="12605"/>
                </a:cubicBezTo>
                <a:cubicBezTo>
                  <a:pt x="20401" y="12742"/>
                  <a:pt x="20390" y="12882"/>
                  <a:pt x="20384" y="13018"/>
                </a:cubicBezTo>
                <a:cubicBezTo>
                  <a:pt x="20384" y="13081"/>
                  <a:pt x="20384" y="13102"/>
                  <a:pt x="20384" y="13144"/>
                </a:cubicBezTo>
              </a:path>
              <a:path w="4700" h="1652">
                <a:moveTo>
                  <a:pt x="20701" y="12192"/>
                </a:moveTo>
                <a:cubicBezTo>
                  <a:pt x="20680" y="12294"/>
                  <a:pt x="20647" y="12402"/>
                  <a:pt x="20638" y="12510"/>
                </a:cubicBezTo>
                <a:cubicBezTo>
                  <a:pt x="20624" y="12674"/>
                  <a:pt x="20617" y="12793"/>
                  <a:pt x="20638" y="12954"/>
                </a:cubicBezTo>
                <a:cubicBezTo>
                  <a:pt x="20648" y="13027"/>
                  <a:pt x="20645" y="13103"/>
                  <a:pt x="20733" y="13113"/>
                </a:cubicBezTo>
                <a:cubicBezTo>
                  <a:pt x="20814" y="13122"/>
                  <a:pt x="20843" y="13038"/>
                  <a:pt x="20860" y="12986"/>
                </a:cubicBezTo>
                <a:cubicBezTo>
                  <a:pt x="20904" y="12848"/>
                  <a:pt x="20923" y="12750"/>
                  <a:pt x="20923" y="12605"/>
                </a:cubicBezTo>
                <a:cubicBezTo>
                  <a:pt x="20923" y="12516"/>
                  <a:pt x="20938" y="12396"/>
                  <a:pt x="20892" y="12319"/>
                </a:cubicBezTo>
                <a:cubicBezTo>
                  <a:pt x="20852" y="12253"/>
                  <a:pt x="20788" y="12257"/>
                  <a:pt x="20733" y="12224"/>
                </a:cubicBezTo>
              </a:path>
              <a:path w="4700" h="1652">
                <a:moveTo>
                  <a:pt x="21082" y="12414"/>
                </a:moveTo>
                <a:cubicBezTo>
                  <a:pt x="21125" y="12472"/>
                  <a:pt x="21142" y="12528"/>
                  <a:pt x="21146" y="12605"/>
                </a:cubicBezTo>
                <a:cubicBezTo>
                  <a:pt x="21151" y="12693"/>
                  <a:pt x="21189" y="12746"/>
                  <a:pt x="21209" y="12827"/>
                </a:cubicBezTo>
                <a:cubicBezTo>
                  <a:pt x="21222" y="12877"/>
                  <a:pt x="21241" y="12911"/>
                  <a:pt x="21272" y="12954"/>
                </a:cubicBezTo>
                <a:cubicBezTo>
                  <a:pt x="21272" y="12881"/>
                  <a:pt x="21293" y="12831"/>
                  <a:pt x="21304" y="12764"/>
                </a:cubicBezTo>
                <a:cubicBezTo>
                  <a:pt x="21319" y="12675"/>
                  <a:pt x="21330" y="12585"/>
                  <a:pt x="21368" y="12510"/>
                </a:cubicBezTo>
                <a:cubicBezTo>
                  <a:pt x="21396" y="12454"/>
                  <a:pt x="21400" y="12439"/>
                  <a:pt x="21431" y="12414"/>
                </a:cubicBezTo>
                <a:cubicBezTo>
                  <a:pt x="21481" y="12431"/>
                  <a:pt x="21465" y="12465"/>
                  <a:pt x="21495" y="12510"/>
                </a:cubicBezTo>
                <a:cubicBezTo>
                  <a:pt x="21542" y="12582"/>
                  <a:pt x="21570" y="12648"/>
                  <a:pt x="21590" y="12732"/>
                </a:cubicBezTo>
                <a:cubicBezTo>
                  <a:pt x="21600" y="12776"/>
                  <a:pt x="21631" y="12847"/>
                  <a:pt x="21654" y="12859"/>
                </a:cubicBezTo>
                <a:cubicBezTo>
                  <a:pt x="21694" y="12879"/>
                  <a:pt x="21733" y="12839"/>
                  <a:pt x="21749" y="12827"/>
                </a:cubicBezTo>
                <a:cubicBezTo>
                  <a:pt x="21802" y="12787"/>
                  <a:pt x="21780" y="12696"/>
                  <a:pt x="21780" y="12636"/>
                </a:cubicBezTo>
                <a:cubicBezTo>
                  <a:pt x="21780" y="12470"/>
                  <a:pt x="21786" y="12316"/>
                  <a:pt x="21812" y="12160"/>
                </a:cubicBezTo>
                <a:cubicBezTo>
                  <a:pt x="21812" y="12139"/>
                  <a:pt x="21812" y="12118"/>
                  <a:pt x="21812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2"/>
          <p:cNvSpPr/>
          <p:nvPr/>
        </p:nvSpPr>
        <p:spPr>
          <a:xfrm>
            <a:off x="982800" y="4879800"/>
            <a:ext cx="2342880" cy="1041480"/>
          </a:xfrm>
          <a:custGeom>
            <a:avLst/>
            <a:gdLst/>
            <a:ahLst/>
            <a:rect l="l" t="t" r="r" b="b"/>
            <a:pathLst>
              <a:path w="6510" h="2890">
                <a:moveTo>
                  <a:pt x="2984" y="13875"/>
                </a:moveTo>
                <a:cubicBezTo>
                  <a:pt x="2974" y="13875"/>
                  <a:pt x="2963" y="13875"/>
                  <a:pt x="2953" y="13875"/>
                </a:cubicBezTo>
                <a:cubicBezTo>
                  <a:pt x="2967" y="13933"/>
                  <a:pt x="2988" y="13982"/>
                  <a:pt x="3016" y="14034"/>
                </a:cubicBezTo>
                <a:cubicBezTo>
                  <a:pt x="3065" y="14125"/>
                  <a:pt x="3136" y="14188"/>
                  <a:pt x="3175" y="14288"/>
                </a:cubicBezTo>
                <a:cubicBezTo>
                  <a:pt x="3213" y="14384"/>
                  <a:pt x="3264" y="14466"/>
                  <a:pt x="3334" y="14542"/>
                </a:cubicBezTo>
                <a:cubicBezTo>
                  <a:pt x="3375" y="14587"/>
                  <a:pt x="3351" y="14589"/>
                  <a:pt x="3397" y="14605"/>
                </a:cubicBezTo>
                <a:cubicBezTo>
                  <a:pt x="3326" y="14581"/>
                  <a:pt x="3387" y="14577"/>
                  <a:pt x="3302" y="14605"/>
                </a:cubicBezTo>
                <a:cubicBezTo>
                  <a:pt x="3223" y="14631"/>
                  <a:pt x="3188" y="14654"/>
                  <a:pt x="3112" y="14700"/>
                </a:cubicBezTo>
                <a:cubicBezTo>
                  <a:pt x="3015" y="14759"/>
                  <a:pt x="2949" y="14826"/>
                  <a:pt x="2858" y="14891"/>
                </a:cubicBezTo>
                <a:cubicBezTo>
                  <a:pt x="2797" y="14935"/>
                  <a:pt x="2777" y="14959"/>
                  <a:pt x="2730" y="15018"/>
                </a:cubicBezTo>
              </a:path>
              <a:path w="6510" h="2890">
                <a:moveTo>
                  <a:pt x="3746" y="14668"/>
                </a:moveTo>
                <a:cubicBezTo>
                  <a:pt x="3752" y="14729"/>
                  <a:pt x="3748" y="14779"/>
                  <a:pt x="3778" y="14827"/>
                </a:cubicBezTo>
                <a:cubicBezTo>
                  <a:pt x="3816" y="14888"/>
                  <a:pt x="3862" y="14960"/>
                  <a:pt x="3905" y="15018"/>
                </a:cubicBezTo>
                <a:cubicBezTo>
                  <a:pt x="3922" y="15041"/>
                  <a:pt x="4006" y="15115"/>
                  <a:pt x="4032" y="15113"/>
                </a:cubicBezTo>
                <a:cubicBezTo>
                  <a:pt x="4108" y="15108"/>
                  <a:pt x="4241" y="15009"/>
                  <a:pt x="4286" y="14954"/>
                </a:cubicBezTo>
                <a:cubicBezTo>
                  <a:pt x="4396" y="14820"/>
                  <a:pt x="4454" y="14658"/>
                  <a:pt x="4540" y="14510"/>
                </a:cubicBezTo>
                <a:cubicBezTo>
                  <a:pt x="4623" y="14367"/>
                  <a:pt x="4648" y="14229"/>
                  <a:pt x="4667" y="14065"/>
                </a:cubicBezTo>
                <a:cubicBezTo>
                  <a:pt x="4674" y="14006"/>
                  <a:pt x="4681" y="13853"/>
                  <a:pt x="4636" y="13811"/>
                </a:cubicBezTo>
                <a:cubicBezTo>
                  <a:pt x="4581" y="13760"/>
                  <a:pt x="4498" y="13841"/>
                  <a:pt x="4477" y="13875"/>
                </a:cubicBezTo>
                <a:cubicBezTo>
                  <a:pt x="4413" y="13977"/>
                  <a:pt x="4329" y="14078"/>
                  <a:pt x="4286" y="14192"/>
                </a:cubicBezTo>
                <a:cubicBezTo>
                  <a:pt x="4237" y="14322"/>
                  <a:pt x="4228" y="14499"/>
                  <a:pt x="4223" y="14637"/>
                </a:cubicBezTo>
                <a:cubicBezTo>
                  <a:pt x="4219" y="14750"/>
                  <a:pt x="4243" y="14884"/>
                  <a:pt x="4286" y="14986"/>
                </a:cubicBezTo>
                <a:cubicBezTo>
                  <a:pt x="4311" y="15044"/>
                  <a:pt x="4356" y="15096"/>
                  <a:pt x="4382" y="15145"/>
                </a:cubicBezTo>
                <a:cubicBezTo>
                  <a:pt x="4407" y="15197"/>
                  <a:pt x="4405" y="15218"/>
                  <a:pt x="4445" y="15208"/>
                </a:cubicBezTo>
              </a:path>
              <a:path w="6510" h="2890">
                <a:moveTo>
                  <a:pt x="4985" y="14383"/>
                </a:moveTo>
                <a:cubicBezTo>
                  <a:pt x="5059" y="14383"/>
                  <a:pt x="5106" y="14398"/>
                  <a:pt x="5175" y="14414"/>
                </a:cubicBezTo>
                <a:cubicBezTo>
                  <a:pt x="5242" y="14429"/>
                  <a:pt x="5293" y="14446"/>
                  <a:pt x="5366" y="14446"/>
                </a:cubicBezTo>
                <a:cubicBezTo>
                  <a:pt x="5420" y="14446"/>
                  <a:pt x="5414" y="14433"/>
                  <a:pt x="5429" y="14478"/>
                </a:cubicBezTo>
              </a:path>
              <a:path w="6510" h="2890">
                <a:moveTo>
                  <a:pt x="4921" y="14922"/>
                </a:moveTo>
                <a:cubicBezTo>
                  <a:pt x="4995" y="14937"/>
                  <a:pt x="5070" y="14974"/>
                  <a:pt x="5144" y="14986"/>
                </a:cubicBezTo>
                <a:cubicBezTo>
                  <a:pt x="5213" y="14998"/>
                  <a:pt x="5295" y="14986"/>
                  <a:pt x="5366" y="14986"/>
                </a:cubicBezTo>
              </a:path>
              <a:path w="6510" h="2890">
                <a:moveTo>
                  <a:pt x="5810" y="14129"/>
                </a:moveTo>
                <a:cubicBezTo>
                  <a:pt x="5842" y="14045"/>
                  <a:pt x="5843" y="14002"/>
                  <a:pt x="5906" y="13938"/>
                </a:cubicBezTo>
                <a:cubicBezTo>
                  <a:pt x="5938" y="13906"/>
                  <a:pt x="5988" y="13880"/>
                  <a:pt x="6032" y="13875"/>
                </a:cubicBezTo>
                <a:cubicBezTo>
                  <a:pt x="6081" y="13870"/>
                  <a:pt x="6117" y="13886"/>
                  <a:pt x="6128" y="13938"/>
                </a:cubicBezTo>
                <a:cubicBezTo>
                  <a:pt x="6151" y="14044"/>
                  <a:pt x="6111" y="14159"/>
                  <a:pt x="6096" y="14256"/>
                </a:cubicBezTo>
                <a:cubicBezTo>
                  <a:pt x="6080" y="14358"/>
                  <a:pt x="6038" y="14443"/>
                  <a:pt x="6001" y="14542"/>
                </a:cubicBezTo>
                <a:cubicBezTo>
                  <a:pt x="5966" y="14635"/>
                  <a:pt x="5905" y="14747"/>
                  <a:pt x="5842" y="14827"/>
                </a:cubicBezTo>
                <a:cubicBezTo>
                  <a:pt x="5789" y="14895"/>
                  <a:pt x="5725" y="14953"/>
                  <a:pt x="5683" y="15018"/>
                </a:cubicBezTo>
                <a:cubicBezTo>
                  <a:pt x="5655" y="15047"/>
                  <a:pt x="5640" y="15057"/>
                  <a:pt x="5683" y="15050"/>
                </a:cubicBezTo>
                <a:cubicBezTo>
                  <a:pt x="5748" y="15034"/>
                  <a:pt x="5764" y="15018"/>
                  <a:pt x="5842" y="15018"/>
                </a:cubicBezTo>
                <a:cubicBezTo>
                  <a:pt x="5932" y="15018"/>
                  <a:pt x="5989" y="15025"/>
                  <a:pt x="6064" y="15050"/>
                </a:cubicBezTo>
                <a:cubicBezTo>
                  <a:pt x="6123" y="15070"/>
                  <a:pt x="6126" y="15072"/>
                  <a:pt x="6160" y="15050"/>
                </a:cubicBezTo>
              </a:path>
              <a:path w="6510" h="2890">
                <a:moveTo>
                  <a:pt x="6794" y="14097"/>
                </a:moveTo>
                <a:cubicBezTo>
                  <a:pt x="6794" y="14241"/>
                  <a:pt x="6782" y="14371"/>
                  <a:pt x="6763" y="14510"/>
                </a:cubicBezTo>
                <a:cubicBezTo>
                  <a:pt x="6748" y="14618"/>
                  <a:pt x="6731" y="14715"/>
                  <a:pt x="6731" y="14827"/>
                </a:cubicBezTo>
                <a:cubicBezTo>
                  <a:pt x="6731" y="14869"/>
                  <a:pt x="6731" y="14912"/>
                  <a:pt x="6731" y="14954"/>
                </a:cubicBezTo>
              </a:path>
              <a:path w="6510" h="2890">
                <a:moveTo>
                  <a:pt x="6572" y="14510"/>
                </a:moveTo>
                <a:cubicBezTo>
                  <a:pt x="6649" y="14525"/>
                  <a:pt x="6719" y="14547"/>
                  <a:pt x="6794" y="14573"/>
                </a:cubicBezTo>
                <a:cubicBezTo>
                  <a:pt x="6878" y="14601"/>
                  <a:pt x="6897" y="14612"/>
                  <a:pt x="6953" y="14605"/>
                </a:cubicBezTo>
              </a:path>
              <a:path w="6510" h="2890">
                <a:moveTo>
                  <a:pt x="7493" y="13875"/>
                </a:moveTo>
                <a:cubicBezTo>
                  <a:pt x="7493" y="13939"/>
                  <a:pt x="7477" y="14004"/>
                  <a:pt x="7461" y="14065"/>
                </a:cubicBezTo>
                <a:cubicBezTo>
                  <a:pt x="7440" y="14146"/>
                  <a:pt x="7399" y="14280"/>
                  <a:pt x="7366" y="14351"/>
                </a:cubicBezTo>
                <a:cubicBezTo>
                  <a:pt x="7337" y="14414"/>
                  <a:pt x="7302" y="14400"/>
                  <a:pt x="7302" y="14478"/>
                </a:cubicBezTo>
                <a:cubicBezTo>
                  <a:pt x="7376" y="14478"/>
                  <a:pt x="7434" y="14498"/>
                  <a:pt x="7493" y="14510"/>
                </a:cubicBezTo>
                <a:cubicBezTo>
                  <a:pt x="7552" y="14522"/>
                  <a:pt x="7631" y="14541"/>
                  <a:pt x="7684" y="14573"/>
                </a:cubicBezTo>
                <a:cubicBezTo>
                  <a:pt x="7741" y="14608"/>
                  <a:pt x="7753" y="14624"/>
                  <a:pt x="7810" y="14573"/>
                </a:cubicBezTo>
                <a:cubicBezTo>
                  <a:pt x="7821" y="14563"/>
                  <a:pt x="7831" y="14552"/>
                  <a:pt x="7842" y="14542"/>
                </a:cubicBezTo>
              </a:path>
              <a:path w="6510" h="2890">
                <a:moveTo>
                  <a:pt x="7842" y="13811"/>
                </a:moveTo>
                <a:cubicBezTo>
                  <a:pt x="7823" y="13906"/>
                  <a:pt x="7799" y="14000"/>
                  <a:pt x="7779" y="14097"/>
                </a:cubicBezTo>
                <a:cubicBezTo>
                  <a:pt x="7743" y="14270"/>
                  <a:pt x="7711" y="14432"/>
                  <a:pt x="7684" y="14605"/>
                </a:cubicBezTo>
                <a:cubicBezTo>
                  <a:pt x="7661" y="14755"/>
                  <a:pt x="7608" y="14902"/>
                  <a:pt x="7588" y="15050"/>
                </a:cubicBezTo>
                <a:cubicBezTo>
                  <a:pt x="7583" y="15084"/>
                  <a:pt x="7588" y="15291"/>
                  <a:pt x="7588" y="15208"/>
                </a:cubicBezTo>
              </a:path>
              <a:path w="6510" h="2890">
                <a:moveTo>
                  <a:pt x="8731" y="13557"/>
                </a:moveTo>
                <a:cubicBezTo>
                  <a:pt x="8673" y="13616"/>
                  <a:pt x="8628" y="13604"/>
                  <a:pt x="8572" y="13652"/>
                </a:cubicBezTo>
                <a:cubicBezTo>
                  <a:pt x="8488" y="13725"/>
                  <a:pt x="8388" y="13785"/>
                  <a:pt x="8318" y="13875"/>
                </a:cubicBezTo>
                <a:cubicBezTo>
                  <a:pt x="8235" y="13981"/>
                  <a:pt x="8175" y="14130"/>
                  <a:pt x="8128" y="14256"/>
                </a:cubicBezTo>
                <a:cubicBezTo>
                  <a:pt x="8079" y="14388"/>
                  <a:pt x="8038" y="14525"/>
                  <a:pt x="8064" y="14668"/>
                </a:cubicBezTo>
                <a:cubicBezTo>
                  <a:pt x="8088" y="14803"/>
                  <a:pt x="8154" y="14910"/>
                  <a:pt x="8223" y="15018"/>
                </a:cubicBezTo>
                <a:cubicBezTo>
                  <a:pt x="8266" y="15086"/>
                  <a:pt x="8278" y="15121"/>
                  <a:pt x="8350" y="15145"/>
                </a:cubicBezTo>
                <a:cubicBezTo>
                  <a:pt x="8361" y="15145"/>
                  <a:pt x="8371" y="15145"/>
                  <a:pt x="8382" y="15145"/>
                </a:cubicBezTo>
              </a:path>
              <a:path w="6510" h="2890">
                <a:moveTo>
                  <a:pt x="8826" y="14351"/>
                </a:moveTo>
                <a:cubicBezTo>
                  <a:pt x="8826" y="14254"/>
                  <a:pt x="8792" y="14247"/>
                  <a:pt x="8763" y="14160"/>
                </a:cubicBezTo>
                <a:cubicBezTo>
                  <a:pt x="8738" y="14086"/>
                  <a:pt x="8716" y="14097"/>
                  <a:pt x="8636" y="14097"/>
                </a:cubicBezTo>
                <a:cubicBezTo>
                  <a:pt x="8574" y="14097"/>
                  <a:pt x="8508" y="14090"/>
                  <a:pt x="8477" y="14160"/>
                </a:cubicBezTo>
                <a:cubicBezTo>
                  <a:pt x="8451" y="14217"/>
                  <a:pt x="8486" y="14302"/>
                  <a:pt x="8509" y="14351"/>
                </a:cubicBezTo>
                <a:cubicBezTo>
                  <a:pt x="8552" y="14441"/>
                  <a:pt x="8637" y="14546"/>
                  <a:pt x="8668" y="14637"/>
                </a:cubicBezTo>
                <a:cubicBezTo>
                  <a:pt x="8691" y="14704"/>
                  <a:pt x="8700" y="14786"/>
                  <a:pt x="8700" y="14859"/>
                </a:cubicBezTo>
                <a:cubicBezTo>
                  <a:pt x="8700" y="14895"/>
                  <a:pt x="8697" y="14909"/>
                  <a:pt x="8668" y="14922"/>
                </a:cubicBezTo>
                <a:cubicBezTo>
                  <a:pt x="8622" y="14922"/>
                  <a:pt x="8557" y="14916"/>
                  <a:pt x="8541" y="14859"/>
                </a:cubicBezTo>
                <a:cubicBezTo>
                  <a:pt x="8522" y="14793"/>
                  <a:pt x="8509" y="14741"/>
                  <a:pt x="8509" y="14668"/>
                </a:cubicBezTo>
                <a:cubicBezTo>
                  <a:pt x="8509" y="14621"/>
                  <a:pt x="8567" y="14509"/>
                  <a:pt x="8604" y="14478"/>
                </a:cubicBezTo>
                <a:cubicBezTo>
                  <a:pt x="8658" y="14432"/>
                  <a:pt x="8789" y="14417"/>
                  <a:pt x="8826" y="14383"/>
                </a:cubicBezTo>
                <a:cubicBezTo>
                  <a:pt x="8837" y="14362"/>
                  <a:pt x="8847" y="14340"/>
                  <a:pt x="8858" y="14319"/>
                </a:cubicBezTo>
              </a:path>
              <a:path w="6510" h="2890">
                <a:moveTo>
                  <a:pt x="9017" y="13780"/>
                </a:moveTo>
                <a:cubicBezTo>
                  <a:pt x="9061" y="13837"/>
                  <a:pt x="9112" y="13934"/>
                  <a:pt x="9144" y="14002"/>
                </a:cubicBezTo>
                <a:cubicBezTo>
                  <a:pt x="9212" y="14148"/>
                  <a:pt x="9235" y="14320"/>
                  <a:pt x="9239" y="14478"/>
                </a:cubicBezTo>
                <a:cubicBezTo>
                  <a:pt x="9244" y="14681"/>
                  <a:pt x="9216" y="14800"/>
                  <a:pt x="9144" y="14986"/>
                </a:cubicBezTo>
                <a:cubicBezTo>
                  <a:pt x="9099" y="15101"/>
                  <a:pt x="9050" y="15198"/>
                  <a:pt x="8985" y="15304"/>
                </a:cubicBezTo>
              </a:path>
              <a:path w="6510" h="2890">
                <a:moveTo>
                  <a:pt x="3842" y="15780"/>
                </a:moveTo>
                <a:cubicBezTo>
                  <a:pt x="3794" y="15796"/>
                  <a:pt x="3810" y="15818"/>
                  <a:pt x="3810" y="15875"/>
                </a:cubicBezTo>
                <a:cubicBezTo>
                  <a:pt x="3810" y="15960"/>
                  <a:pt x="3816" y="15975"/>
                  <a:pt x="3874" y="16034"/>
                </a:cubicBezTo>
                <a:cubicBezTo>
                  <a:pt x="3952" y="16113"/>
                  <a:pt x="3933" y="16127"/>
                  <a:pt x="4032" y="16161"/>
                </a:cubicBezTo>
                <a:cubicBezTo>
                  <a:pt x="4144" y="16200"/>
                  <a:pt x="4209" y="16192"/>
                  <a:pt x="4318" y="16129"/>
                </a:cubicBezTo>
                <a:cubicBezTo>
                  <a:pt x="4407" y="16077"/>
                  <a:pt x="4552" y="15967"/>
                  <a:pt x="4604" y="15875"/>
                </a:cubicBezTo>
                <a:cubicBezTo>
                  <a:pt x="4657" y="15783"/>
                  <a:pt x="4667" y="15691"/>
                  <a:pt x="4667" y="15589"/>
                </a:cubicBezTo>
                <a:cubicBezTo>
                  <a:pt x="4667" y="15528"/>
                  <a:pt x="4664" y="15511"/>
                  <a:pt x="4636" y="15462"/>
                </a:cubicBezTo>
                <a:cubicBezTo>
                  <a:pt x="4556" y="15482"/>
                  <a:pt x="4530" y="15529"/>
                  <a:pt x="4477" y="15589"/>
                </a:cubicBezTo>
                <a:cubicBezTo>
                  <a:pt x="4388" y="15690"/>
                  <a:pt x="4361" y="15779"/>
                  <a:pt x="4318" y="15907"/>
                </a:cubicBezTo>
                <a:cubicBezTo>
                  <a:pt x="4278" y="16025"/>
                  <a:pt x="4286" y="16133"/>
                  <a:pt x="4286" y="16256"/>
                </a:cubicBezTo>
                <a:cubicBezTo>
                  <a:pt x="4286" y="16348"/>
                  <a:pt x="4320" y="16385"/>
                  <a:pt x="4382" y="16446"/>
                </a:cubicBezTo>
              </a:path>
              <a:path w="6510" h="2890">
                <a:moveTo>
                  <a:pt x="4921" y="15780"/>
                </a:moveTo>
                <a:cubicBezTo>
                  <a:pt x="4995" y="15780"/>
                  <a:pt x="5070" y="15780"/>
                  <a:pt x="5144" y="15780"/>
                </a:cubicBezTo>
              </a:path>
              <a:path w="6510" h="2890">
                <a:moveTo>
                  <a:pt x="4921" y="16034"/>
                </a:moveTo>
                <a:cubicBezTo>
                  <a:pt x="4911" y="16045"/>
                  <a:pt x="4900" y="16055"/>
                  <a:pt x="4890" y="16066"/>
                </a:cubicBezTo>
                <a:cubicBezTo>
                  <a:pt x="4947" y="16108"/>
                  <a:pt x="5004" y="16125"/>
                  <a:pt x="5080" y="16129"/>
                </a:cubicBezTo>
                <a:cubicBezTo>
                  <a:pt x="5101" y="16129"/>
                  <a:pt x="5123" y="16129"/>
                  <a:pt x="5144" y="16129"/>
                </a:cubicBezTo>
              </a:path>
              <a:path w="6510" h="2890">
                <a:moveTo>
                  <a:pt x="5652" y="15589"/>
                </a:moveTo>
                <a:cubicBezTo>
                  <a:pt x="5660" y="15557"/>
                  <a:pt x="5701" y="15501"/>
                  <a:pt x="5715" y="15494"/>
                </a:cubicBezTo>
                <a:cubicBezTo>
                  <a:pt x="5771" y="15466"/>
                  <a:pt x="5864" y="15522"/>
                  <a:pt x="5874" y="15526"/>
                </a:cubicBezTo>
                <a:cubicBezTo>
                  <a:pt x="5947" y="15557"/>
                  <a:pt x="5937" y="15564"/>
                  <a:pt x="5937" y="15653"/>
                </a:cubicBezTo>
                <a:cubicBezTo>
                  <a:pt x="5937" y="15728"/>
                  <a:pt x="5875" y="15809"/>
                  <a:pt x="5842" y="15875"/>
                </a:cubicBezTo>
                <a:cubicBezTo>
                  <a:pt x="5794" y="15970"/>
                  <a:pt x="5711" y="16013"/>
                  <a:pt x="5652" y="16097"/>
                </a:cubicBezTo>
                <a:cubicBezTo>
                  <a:pt x="5623" y="16138"/>
                  <a:pt x="5544" y="16212"/>
                  <a:pt x="5524" y="16256"/>
                </a:cubicBezTo>
                <a:cubicBezTo>
                  <a:pt x="5524" y="16288"/>
                  <a:pt x="5524" y="16299"/>
                  <a:pt x="5524" y="16320"/>
                </a:cubicBezTo>
                <a:cubicBezTo>
                  <a:pt x="5591" y="16320"/>
                  <a:pt x="5619" y="16340"/>
                  <a:pt x="5683" y="16351"/>
                </a:cubicBezTo>
                <a:cubicBezTo>
                  <a:pt x="5742" y="16361"/>
                  <a:pt x="5814" y="16351"/>
                  <a:pt x="5874" y="16351"/>
                </a:cubicBezTo>
              </a:path>
              <a:path w="6510" h="2890">
                <a:moveTo>
                  <a:pt x="6477" y="15684"/>
                </a:moveTo>
                <a:cubicBezTo>
                  <a:pt x="6477" y="15746"/>
                  <a:pt x="6463" y="15819"/>
                  <a:pt x="6445" y="15875"/>
                </a:cubicBezTo>
                <a:cubicBezTo>
                  <a:pt x="6410" y="15980"/>
                  <a:pt x="6389" y="16090"/>
                  <a:pt x="6350" y="16192"/>
                </a:cubicBezTo>
                <a:cubicBezTo>
                  <a:pt x="6319" y="16272"/>
                  <a:pt x="6318" y="16266"/>
                  <a:pt x="6318" y="16351"/>
                </a:cubicBezTo>
              </a:path>
              <a:path w="6510" h="2890">
                <a:moveTo>
                  <a:pt x="6223" y="15938"/>
                </a:moveTo>
                <a:cubicBezTo>
                  <a:pt x="6153" y="15938"/>
                  <a:pt x="6292" y="15961"/>
                  <a:pt x="6318" y="15970"/>
                </a:cubicBezTo>
                <a:cubicBezTo>
                  <a:pt x="6414" y="16005"/>
                  <a:pt x="6471" y="16002"/>
                  <a:pt x="6572" y="16002"/>
                </a:cubicBezTo>
              </a:path>
              <a:path w="6510" h="2890">
                <a:moveTo>
                  <a:pt x="7017" y="15462"/>
                </a:moveTo>
                <a:cubicBezTo>
                  <a:pt x="7078" y="15462"/>
                  <a:pt x="7118" y="15434"/>
                  <a:pt x="7176" y="15430"/>
                </a:cubicBezTo>
                <a:cubicBezTo>
                  <a:pt x="7266" y="15424"/>
                  <a:pt x="7307" y="15467"/>
                  <a:pt x="7366" y="15526"/>
                </a:cubicBezTo>
                <a:cubicBezTo>
                  <a:pt x="7400" y="15560"/>
                  <a:pt x="7422" y="15636"/>
                  <a:pt x="7398" y="15684"/>
                </a:cubicBezTo>
                <a:cubicBezTo>
                  <a:pt x="7353" y="15773"/>
                  <a:pt x="7313" y="15763"/>
                  <a:pt x="7239" y="15812"/>
                </a:cubicBezTo>
                <a:cubicBezTo>
                  <a:pt x="7185" y="15848"/>
                  <a:pt x="7146" y="15843"/>
                  <a:pt x="7080" y="15843"/>
                </a:cubicBezTo>
                <a:cubicBezTo>
                  <a:pt x="7140" y="15843"/>
                  <a:pt x="7221" y="15850"/>
                  <a:pt x="7271" y="15875"/>
                </a:cubicBezTo>
                <a:cubicBezTo>
                  <a:pt x="7314" y="15897"/>
                  <a:pt x="7361" y="15959"/>
                  <a:pt x="7366" y="16002"/>
                </a:cubicBezTo>
                <a:cubicBezTo>
                  <a:pt x="7375" y="16079"/>
                  <a:pt x="7346" y="16134"/>
                  <a:pt x="7334" y="16192"/>
                </a:cubicBezTo>
                <a:cubicBezTo>
                  <a:pt x="7311" y="16307"/>
                  <a:pt x="7299" y="16265"/>
                  <a:pt x="7207" y="16320"/>
                </a:cubicBezTo>
                <a:cubicBezTo>
                  <a:pt x="7153" y="16352"/>
                  <a:pt x="7111" y="16358"/>
                  <a:pt x="7048" y="16320"/>
                </a:cubicBezTo>
                <a:cubicBezTo>
                  <a:pt x="6988" y="16284"/>
                  <a:pt x="6994" y="16252"/>
                  <a:pt x="6985" y="16192"/>
                </a:cubicBezTo>
              </a:path>
              <a:path w="6510" h="2890">
                <a:moveTo>
                  <a:pt x="7493" y="15621"/>
                </a:moveTo>
                <a:cubicBezTo>
                  <a:pt x="7565" y="15564"/>
                  <a:pt x="7623" y="15533"/>
                  <a:pt x="7715" y="15526"/>
                </a:cubicBezTo>
                <a:cubicBezTo>
                  <a:pt x="7791" y="15520"/>
                  <a:pt x="7816" y="15539"/>
                  <a:pt x="7874" y="15558"/>
                </a:cubicBezTo>
                <a:cubicBezTo>
                  <a:pt x="7943" y="15581"/>
                  <a:pt x="7890" y="15620"/>
                  <a:pt x="7874" y="15684"/>
                </a:cubicBezTo>
                <a:cubicBezTo>
                  <a:pt x="7853" y="15769"/>
                  <a:pt x="7804" y="15811"/>
                  <a:pt x="7747" y="15875"/>
                </a:cubicBezTo>
                <a:cubicBezTo>
                  <a:pt x="7670" y="15962"/>
                  <a:pt x="7610" y="16019"/>
                  <a:pt x="7525" y="16097"/>
                </a:cubicBezTo>
                <a:cubicBezTo>
                  <a:pt x="7485" y="16134"/>
                  <a:pt x="7437" y="16206"/>
                  <a:pt x="7430" y="16224"/>
                </a:cubicBezTo>
                <a:cubicBezTo>
                  <a:pt x="7411" y="16270"/>
                  <a:pt x="7474" y="16311"/>
                  <a:pt x="7493" y="16320"/>
                </a:cubicBezTo>
                <a:cubicBezTo>
                  <a:pt x="7556" y="16349"/>
                  <a:pt x="7676" y="16378"/>
                  <a:pt x="7747" y="16351"/>
                </a:cubicBezTo>
                <a:cubicBezTo>
                  <a:pt x="7797" y="16332"/>
                  <a:pt x="7784" y="16320"/>
                  <a:pt x="7842" y="16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3"/>
          <p:cNvSpPr/>
          <p:nvPr/>
        </p:nvSpPr>
        <p:spPr>
          <a:xfrm>
            <a:off x="3943440" y="5178600"/>
            <a:ext cx="1211040" cy="707760"/>
          </a:xfrm>
          <a:custGeom>
            <a:avLst/>
            <a:gdLst/>
            <a:ahLst/>
            <a:rect l="l" t="t" r="r" b="b"/>
            <a:pathLst>
              <a:path w="3366" h="1969">
                <a:moveTo>
                  <a:pt x="11208" y="14573"/>
                </a:moveTo>
                <a:cubicBezTo>
                  <a:pt x="11219" y="14495"/>
                  <a:pt x="11224" y="14521"/>
                  <a:pt x="11271" y="14478"/>
                </a:cubicBezTo>
                <a:cubicBezTo>
                  <a:pt x="11335" y="14420"/>
                  <a:pt x="11434" y="14364"/>
                  <a:pt x="11525" y="14383"/>
                </a:cubicBezTo>
                <a:cubicBezTo>
                  <a:pt x="11592" y="14397"/>
                  <a:pt x="11675" y="14415"/>
                  <a:pt x="11716" y="14478"/>
                </a:cubicBezTo>
                <a:cubicBezTo>
                  <a:pt x="11752" y="14534"/>
                  <a:pt x="11766" y="14634"/>
                  <a:pt x="11748" y="14700"/>
                </a:cubicBezTo>
                <a:cubicBezTo>
                  <a:pt x="11720" y="14799"/>
                  <a:pt x="11612" y="14872"/>
                  <a:pt x="11557" y="14954"/>
                </a:cubicBezTo>
                <a:cubicBezTo>
                  <a:pt x="11502" y="15037"/>
                  <a:pt x="11439" y="15047"/>
                  <a:pt x="11366" y="15113"/>
                </a:cubicBezTo>
                <a:cubicBezTo>
                  <a:pt x="11320" y="15155"/>
                  <a:pt x="11327" y="15137"/>
                  <a:pt x="11271" y="15145"/>
                </a:cubicBezTo>
                <a:cubicBezTo>
                  <a:pt x="11357" y="15162"/>
                  <a:pt x="11365" y="15169"/>
                  <a:pt x="11430" y="15208"/>
                </a:cubicBezTo>
                <a:cubicBezTo>
                  <a:pt x="11510" y="15257"/>
                  <a:pt x="11596" y="15297"/>
                  <a:pt x="11652" y="15367"/>
                </a:cubicBezTo>
                <a:cubicBezTo>
                  <a:pt x="11696" y="15421"/>
                  <a:pt x="11764" y="15550"/>
                  <a:pt x="11748" y="15621"/>
                </a:cubicBezTo>
                <a:cubicBezTo>
                  <a:pt x="11727" y="15713"/>
                  <a:pt x="11650" y="15809"/>
                  <a:pt x="11589" y="15875"/>
                </a:cubicBezTo>
                <a:cubicBezTo>
                  <a:pt x="11548" y="15919"/>
                  <a:pt x="11399" y="15991"/>
                  <a:pt x="11335" y="16002"/>
                </a:cubicBezTo>
                <a:cubicBezTo>
                  <a:pt x="11249" y="16017"/>
                  <a:pt x="11116" y="16019"/>
                  <a:pt x="11049" y="15970"/>
                </a:cubicBezTo>
                <a:cubicBezTo>
                  <a:pt x="10993" y="15929"/>
                  <a:pt x="10967" y="15877"/>
                  <a:pt x="10954" y="15812"/>
                </a:cubicBezTo>
                <a:cubicBezTo>
                  <a:pt x="10954" y="15791"/>
                  <a:pt x="10954" y="15769"/>
                  <a:pt x="10954" y="15748"/>
                </a:cubicBezTo>
              </a:path>
              <a:path w="3366" h="1969">
                <a:moveTo>
                  <a:pt x="11938" y="14542"/>
                </a:moveTo>
                <a:cubicBezTo>
                  <a:pt x="11938" y="14676"/>
                  <a:pt x="11929" y="14806"/>
                  <a:pt x="11906" y="14922"/>
                </a:cubicBezTo>
                <a:cubicBezTo>
                  <a:pt x="11893" y="14989"/>
                  <a:pt x="11878" y="15080"/>
                  <a:pt x="11874" y="15145"/>
                </a:cubicBezTo>
                <a:cubicBezTo>
                  <a:pt x="11868" y="15232"/>
                  <a:pt x="11872" y="15234"/>
                  <a:pt x="11938" y="15272"/>
                </a:cubicBezTo>
                <a:cubicBezTo>
                  <a:pt x="12013" y="15315"/>
                  <a:pt x="12081" y="15360"/>
                  <a:pt x="12160" y="15399"/>
                </a:cubicBezTo>
                <a:cubicBezTo>
                  <a:pt x="12228" y="15433"/>
                  <a:pt x="12276" y="15462"/>
                  <a:pt x="12351" y="15462"/>
                </a:cubicBezTo>
                <a:cubicBezTo>
                  <a:pt x="12395" y="15462"/>
                  <a:pt x="12412" y="15450"/>
                  <a:pt x="12414" y="15399"/>
                </a:cubicBezTo>
              </a:path>
              <a:path w="3366" h="1969">
                <a:moveTo>
                  <a:pt x="12351" y="14510"/>
                </a:moveTo>
                <a:cubicBezTo>
                  <a:pt x="12308" y="14624"/>
                  <a:pt x="12319" y="14734"/>
                  <a:pt x="12319" y="14859"/>
                </a:cubicBezTo>
                <a:cubicBezTo>
                  <a:pt x="12319" y="15159"/>
                  <a:pt x="12310" y="15452"/>
                  <a:pt x="12287" y="15748"/>
                </a:cubicBezTo>
                <a:cubicBezTo>
                  <a:pt x="12275" y="15904"/>
                  <a:pt x="12296" y="16072"/>
                  <a:pt x="12256" y="16224"/>
                </a:cubicBezTo>
                <a:cubicBezTo>
                  <a:pt x="12225" y="16285"/>
                  <a:pt x="12215" y="16304"/>
                  <a:pt x="12224" y="16351"/>
                </a:cubicBezTo>
              </a:path>
              <a:path w="3366" h="1969">
                <a:moveTo>
                  <a:pt x="12795" y="14859"/>
                </a:moveTo>
                <a:cubicBezTo>
                  <a:pt x="12848" y="14929"/>
                  <a:pt x="12881" y="14996"/>
                  <a:pt x="12922" y="15081"/>
                </a:cubicBezTo>
                <a:cubicBezTo>
                  <a:pt x="12979" y="15201"/>
                  <a:pt x="13060" y="15309"/>
                  <a:pt x="13113" y="15430"/>
                </a:cubicBezTo>
                <a:cubicBezTo>
                  <a:pt x="13161" y="15539"/>
                  <a:pt x="13200" y="15621"/>
                  <a:pt x="13272" y="15716"/>
                </a:cubicBezTo>
                <a:cubicBezTo>
                  <a:pt x="13282" y="15727"/>
                  <a:pt x="13293" y="15737"/>
                  <a:pt x="13303" y="15748"/>
                </a:cubicBezTo>
              </a:path>
              <a:path w="3366" h="1969">
                <a:moveTo>
                  <a:pt x="13176" y="15081"/>
                </a:moveTo>
                <a:cubicBezTo>
                  <a:pt x="13092" y="15102"/>
                  <a:pt x="13104" y="15176"/>
                  <a:pt x="13049" y="15240"/>
                </a:cubicBezTo>
                <a:cubicBezTo>
                  <a:pt x="12964" y="15338"/>
                  <a:pt x="12846" y="15395"/>
                  <a:pt x="12764" y="15494"/>
                </a:cubicBezTo>
                <a:cubicBezTo>
                  <a:pt x="12709" y="15561"/>
                  <a:pt x="12666" y="15623"/>
                  <a:pt x="12605" y="15684"/>
                </a:cubicBezTo>
              </a:path>
              <a:path w="3366" h="1969">
                <a:moveTo>
                  <a:pt x="14129" y="15081"/>
                </a:moveTo>
                <a:cubicBezTo>
                  <a:pt x="14159" y="15028"/>
                  <a:pt x="14188" y="14989"/>
                  <a:pt x="14192" y="14922"/>
                </a:cubicBezTo>
                <a:cubicBezTo>
                  <a:pt x="14195" y="14866"/>
                  <a:pt x="14178" y="14813"/>
                  <a:pt x="14160" y="14764"/>
                </a:cubicBezTo>
                <a:cubicBezTo>
                  <a:pt x="14139" y="14708"/>
                  <a:pt x="14086" y="14638"/>
                  <a:pt x="14034" y="14605"/>
                </a:cubicBezTo>
                <a:cubicBezTo>
                  <a:pt x="13972" y="14565"/>
                  <a:pt x="13914" y="14524"/>
                  <a:pt x="13843" y="14510"/>
                </a:cubicBezTo>
                <a:cubicBezTo>
                  <a:pt x="13766" y="14495"/>
                  <a:pt x="13732" y="14557"/>
                  <a:pt x="13684" y="14605"/>
                </a:cubicBezTo>
                <a:cubicBezTo>
                  <a:pt x="13609" y="14679"/>
                  <a:pt x="13671" y="14772"/>
                  <a:pt x="13684" y="14859"/>
                </a:cubicBezTo>
                <a:cubicBezTo>
                  <a:pt x="13704" y="14998"/>
                  <a:pt x="13766" y="15106"/>
                  <a:pt x="13811" y="15240"/>
                </a:cubicBezTo>
                <a:cubicBezTo>
                  <a:pt x="13851" y="15359"/>
                  <a:pt x="13874" y="15473"/>
                  <a:pt x="13906" y="15589"/>
                </a:cubicBezTo>
                <a:cubicBezTo>
                  <a:pt x="13936" y="15699"/>
                  <a:pt x="13954" y="15766"/>
                  <a:pt x="13906" y="15875"/>
                </a:cubicBezTo>
                <a:cubicBezTo>
                  <a:pt x="13870" y="15957"/>
                  <a:pt x="13835" y="15960"/>
                  <a:pt x="13780" y="16002"/>
                </a:cubicBezTo>
                <a:cubicBezTo>
                  <a:pt x="13714" y="16052"/>
                  <a:pt x="13708" y="16027"/>
                  <a:pt x="13652" y="15970"/>
                </a:cubicBezTo>
                <a:cubicBezTo>
                  <a:pt x="13609" y="15927"/>
                  <a:pt x="13592" y="15840"/>
                  <a:pt x="13589" y="15780"/>
                </a:cubicBezTo>
                <a:cubicBezTo>
                  <a:pt x="13585" y="15699"/>
                  <a:pt x="13607" y="15594"/>
                  <a:pt x="13652" y="15526"/>
                </a:cubicBezTo>
                <a:cubicBezTo>
                  <a:pt x="13709" y="15440"/>
                  <a:pt x="13804" y="15347"/>
                  <a:pt x="13875" y="15272"/>
                </a:cubicBezTo>
                <a:cubicBezTo>
                  <a:pt x="13966" y="15175"/>
                  <a:pt x="14024" y="15123"/>
                  <a:pt x="14129" y="15050"/>
                </a:cubicBezTo>
                <a:cubicBezTo>
                  <a:pt x="14192" y="15006"/>
                  <a:pt x="14251" y="14961"/>
                  <a:pt x="14319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4"/>
          <p:cNvSpPr/>
          <p:nvPr/>
        </p:nvSpPr>
        <p:spPr>
          <a:xfrm>
            <a:off x="6068880" y="4835520"/>
            <a:ext cx="2571840" cy="1382760"/>
          </a:xfrm>
          <a:custGeom>
            <a:avLst/>
            <a:gdLst/>
            <a:ahLst/>
            <a:rect l="l" t="t" r="r" b="b"/>
            <a:pathLst>
              <a:path w="7145" h="3843">
                <a:moveTo>
                  <a:pt x="18637" y="13811"/>
                </a:moveTo>
                <a:cubicBezTo>
                  <a:pt x="18637" y="13801"/>
                  <a:pt x="18637" y="13790"/>
                  <a:pt x="18637" y="13780"/>
                </a:cubicBezTo>
                <a:cubicBezTo>
                  <a:pt x="18718" y="13780"/>
                  <a:pt x="18797" y="13795"/>
                  <a:pt x="18860" y="13748"/>
                </a:cubicBezTo>
              </a:path>
              <a:path w="7145" h="3843">
                <a:moveTo>
                  <a:pt x="19145" y="13494"/>
                </a:moveTo>
                <a:cubicBezTo>
                  <a:pt x="19158" y="13544"/>
                  <a:pt x="19177" y="13564"/>
                  <a:pt x="19177" y="13621"/>
                </a:cubicBezTo>
                <a:cubicBezTo>
                  <a:pt x="19177" y="13689"/>
                  <a:pt x="19157" y="13715"/>
                  <a:pt x="19145" y="13780"/>
                </a:cubicBezTo>
                <a:cubicBezTo>
                  <a:pt x="19132" y="13853"/>
                  <a:pt x="19049" y="13936"/>
                  <a:pt x="19114" y="13970"/>
                </a:cubicBezTo>
                <a:cubicBezTo>
                  <a:pt x="19152" y="13989"/>
                  <a:pt x="19172" y="13959"/>
                  <a:pt x="19209" y="13938"/>
                </a:cubicBezTo>
                <a:cubicBezTo>
                  <a:pt x="19286" y="13895"/>
                  <a:pt x="19255" y="13929"/>
                  <a:pt x="19336" y="13938"/>
                </a:cubicBezTo>
                <a:cubicBezTo>
                  <a:pt x="19372" y="13938"/>
                  <a:pt x="19386" y="13935"/>
                  <a:pt x="19399" y="13906"/>
                </a:cubicBezTo>
              </a:path>
              <a:path w="7145" h="3843">
                <a:moveTo>
                  <a:pt x="19431" y="13430"/>
                </a:moveTo>
                <a:cubicBezTo>
                  <a:pt x="19431" y="13736"/>
                  <a:pt x="19406" y="14051"/>
                  <a:pt x="19463" y="14351"/>
                </a:cubicBezTo>
              </a:path>
              <a:path w="7145" h="3843">
                <a:moveTo>
                  <a:pt x="16859" y="14288"/>
                </a:moveTo>
                <a:cubicBezTo>
                  <a:pt x="16859" y="14277"/>
                  <a:pt x="16859" y="14267"/>
                  <a:pt x="16859" y="14256"/>
                </a:cubicBezTo>
                <a:cubicBezTo>
                  <a:pt x="16906" y="14256"/>
                  <a:pt x="16952" y="14247"/>
                  <a:pt x="16986" y="14224"/>
                </a:cubicBezTo>
                <a:cubicBezTo>
                  <a:pt x="17038" y="14189"/>
                  <a:pt x="17097" y="14191"/>
                  <a:pt x="17145" y="14160"/>
                </a:cubicBezTo>
                <a:cubicBezTo>
                  <a:pt x="17181" y="14125"/>
                  <a:pt x="17198" y="14114"/>
                  <a:pt x="17240" y="14129"/>
                </a:cubicBezTo>
              </a:path>
              <a:path w="7145" h="3843">
                <a:moveTo>
                  <a:pt x="17526" y="13906"/>
                </a:moveTo>
                <a:cubicBezTo>
                  <a:pt x="17526" y="13987"/>
                  <a:pt x="17507" y="14024"/>
                  <a:pt x="17494" y="14097"/>
                </a:cubicBezTo>
                <a:cubicBezTo>
                  <a:pt x="17480" y="14175"/>
                  <a:pt x="17494" y="14271"/>
                  <a:pt x="17494" y="14351"/>
                </a:cubicBezTo>
                <a:cubicBezTo>
                  <a:pt x="17515" y="14324"/>
                  <a:pt x="17546" y="14262"/>
                  <a:pt x="17558" y="14256"/>
                </a:cubicBezTo>
                <a:cubicBezTo>
                  <a:pt x="17605" y="14232"/>
                  <a:pt x="17635" y="14207"/>
                  <a:pt x="17685" y="14224"/>
                </a:cubicBezTo>
                <a:cubicBezTo>
                  <a:pt x="17769" y="14253"/>
                  <a:pt x="17708" y="14248"/>
                  <a:pt x="17780" y="14224"/>
                </a:cubicBezTo>
              </a:path>
              <a:path w="7145" h="3843">
                <a:moveTo>
                  <a:pt x="17748" y="13716"/>
                </a:moveTo>
                <a:cubicBezTo>
                  <a:pt x="17798" y="13799"/>
                  <a:pt x="17780" y="13899"/>
                  <a:pt x="17780" y="14002"/>
                </a:cubicBezTo>
                <a:cubicBezTo>
                  <a:pt x="17780" y="14187"/>
                  <a:pt x="17797" y="14361"/>
                  <a:pt x="17812" y="14542"/>
                </a:cubicBezTo>
                <a:cubicBezTo>
                  <a:pt x="17812" y="14658"/>
                  <a:pt x="17812" y="14690"/>
                  <a:pt x="17812" y="14764"/>
                </a:cubicBezTo>
              </a:path>
              <a:path w="7145" h="3843">
                <a:moveTo>
                  <a:pt x="17970" y="15208"/>
                </a:moveTo>
                <a:cubicBezTo>
                  <a:pt x="17915" y="15246"/>
                  <a:pt x="17957" y="15208"/>
                  <a:pt x="17875" y="15208"/>
                </a:cubicBezTo>
                <a:cubicBezTo>
                  <a:pt x="17831" y="15208"/>
                  <a:pt x="17814" y="15196"/>
                  <a:pt x="17812" y="15145"/>
                </a:cubicBezTo>
                <a:cubicBezTo>
                  <a:pt x="17768" y="15167"/>
                  <a:pt x="17728" y="15202"/>
                  <a:pt x="17685" y="15240"/>
                </a:cubicBezTo>
                <a:cubicBezTo>
                  <a:pt x="17635" y="15285"/>
                  <a:pt x="17626" y="15364"/>
                  <a:pt x="17621" y="15430"/>
                </a:cubicBezTo>
                <a:cubicBezTo>
                  <a:pt x="17619" y="15461"/>
                  <a:pt x="17621" y="15494"/>
                  <a:pt x="17621" y="15526"/>
                </a:cubicBezTo>
                <a:cubicBezTo>
                  <a:pt x="17695" y="15526"/>
                  <a:pt x="17753" y="15546"/>
                  <a:pt x="17812" y="15558"/>
                </a:cubicBezTo>
                <a:cubicBezTo>
                  <a:pt x="17887" y="15573"/>
                  <a:pt x="17946" y="15544"/>
                  <a:pt x="18002" y="15621"/>
                </a:cubicBezTo>
                <a:cubicBezTo>
                  <a:pt x="18047" y="15683"/>
                  <a:pt x="18062" y="15801"/>
                  <a:pt x="18066" y="15875"/>
                </a:cubicBezTo>
                <a:cubicBezTo>
                  <a:pt x="18070" y="15944"/>
                  <a:pt x="18046" y="16017"/>
                  <a:pt x="18002" y="16066"/>
                </a:cubicBezTo>
                <a:cubicBezTo>
                  <a:pt x="17945" y="16129"/>
                  <a:pt x="17909" y="16044"/>
                  <a:pt x="17875" y="16002"/>
                </a:cubicBezTo>
                <a:cubicBezTo>
                  <a:pt x="17817" y="15930"/>
                  <a:pt x="17791" y="15836"/>
                  <a:pt x="17780" y="15748"/>
                </a:cubicBezTo>
                <a:cubicBezTo>
                  <a:pt x="17769" y="15662"/>
                  <a:pt x="17781" y="15571"/>
                  <a:pt x="17812" y="15494"/>
                </a:cubicBezTo>
                <a:cubicBezTo>
                  <a:pt x="17832" y="15445"/>
                  <a:pt x="17893" y="15330"/>
                  <a:pt x="17939" y="15304"/>
                </a:cubicBezTo>
                <a:cubicBezTo>
                  <a:pt x="17949" y="15304"/>
                  <a:pt x="17960" y="15304"/>
                  <a:pt x="17970" y="15304"/>
                </a:cubicBezTo>
              </a:path>
              <a:path w="7145" h="3843">
                <a:moveTo>
                  <a:pt x="18320" y="15081"/>
                </a:moveTo>
                <a:cubicBezTo>
                  <a:pt x="18305" y="15141"/>
                  <a:pt x="18306" y="15208"/>
                  <a:pt x="18288" y="15272"/>
                </a:cubicBezTo>
                <a:cubicBezTo>
                  <a:pt x="18260" y="15373"/>
                  <a:pt x="18228" y="15449"/>
                  <a:pt x="18224" y="15558"/>
                </a:cubicBezTo>
                <a:cubicBezTo>
                  <a:pt x="18220" y="15654"/>
                  <a:pt x="18222" y="15754"/>
                  <a:pt x="18256" y="15843"/>
                </a:cubicBezTo>
                <a:cubicBezTo>
                  <a:pt x="18301" y="15963"/>
                  <a:pt x="18278" y="15896"/>
                  <a:pt x="18352" y="15938"/>
                </a:cubicBezTo>
                <a:cubicBezTo>
                  <a:pt x="18366" y="15946"/>
                  <a:pt x="18455" y="15966"/>
                  <a:pt x="18478" y="15938"/>
                </a:cubicBezTo>
                <a:cubicBezTo>
                  <a:pt x="18504" y="15905"/>
                  <a:pt x="18534" y="15793"/>
                  <a:pt x="18542" y="15748"/>
                </a:cubicBezTo>
                <a:cubicBezTo>
                  <a:pt x="18562" y="15629"/>
                  <a:pt x="18515" y="15516"/>
                  <a:pt x="18510" y="15399"/>
                </a:cubicBezTo>
                <a:cubicBezTo>
                  <a:pt x="18507" y="15323"/>
                  <a:pt x="18472" y="15181"/>
                  <a:pt x="18447" y="15113"/>
                </a:cubicBezTo>
                <a:cubicBezTo>
                  <a:pt x="18417" y="15033"/>
                  <a:pt x="18369" y="15069"/>
                  <a:pt x="18320" y="15081"/>
                </a:cubicBezTo>
              </a:path>
              <a:path w="7145" h="3843">
                <a:moveTo>
                  <a:pt x="18764" y="15081"/>
                </a:moveTo>
                <a:cubicBezTo>
                  <a:pt x="18849" y="15081"/>
                  <a:pt x="18933" y="15081"/>
                  <a:pt x="19018" y="15081"/>
                </a:cubicBezTo>
              </a:path>
              <a:path w="7145" h="3843">
                <a:moveTo>
                  <a:pt x="18891" y="15494"/>
                </a:moveTo>
                <a:cubicBezTo>
                  <a:pt x="18941" y="15482"/>
                  <a:pt x="18961" y="15462"/>
                  <a:pt x="19018" y="15462"/>
                </a:cubicBezTo>
                <a:cubicBezTo>
                  <a:pt x="19039" y="15462"/>
                  <a:pt x="19061" y="15462"/>
                  <a:pt x="19082" y="15462"/>
                </a:cubicBezTo>
              </a:path>
              <a:path w="7145" h="3843">
                <a:moveTo>
                  <a:pt x="19526" y="14605"/>
                </a:moveTo>
                <a:cubicBezTo>
                  <a:pt x="19526" y="14680"/>
                  <a:pt x="19504" y="14727"/>
                  <a:pt x="19494" y="14796"/>
                </a:cubicBezTo>
                <a:cubicBezTo>
                  <a:pt x="19462" y="15030"/>
                  <a:pt x="19490" y="15303"/>
                  <a:pt x="19526" y="15526"/>
                </a:cubicBezTo>
                <a:cubicBezTo>
                  <a:pt x="19536" y="15586"/>
                  <a:pt x="19526" y="15655"/>
                  <a:pt x="19526" y="15716"/>
                </a:cubicBezTo>
              </a:path>
              <a:path w="7145" h="3843">
                <a:moveTo>
                  <a:pt x="19685" y="14700"/>
                </a:moveTo>
                <a:cubicBezTo>
                  <a:pt x="19685" y="14781"/>
                  <a:pt x="19662" y="14843"/>
                  <a:pt x="19653" y="14922"/>
                </a:cubicBezTo>
                <a:cubicBezTo>
                  <a:pt x="19630" y="15120"/>
                  <a:pt x="19619" y="15402"/>
                  <a:pt x="19685" y="15589"/>
                </a:cubicBezTo>
                <a:cubicBezTo>
                  <a:pt x="19709" y="15657"/>
                  <a:pt x="19714" y="15699"/>
                  <a:pt x="19780" y="15716"/>
                </a:cubicBezTo>
                <a:cubicBezTo>
                  <a:pt x="19797" y="15664"/>
                  <a:pt x="19839" y="15646"/>
                  <a:pt x="19844" y="15558"/>
                </a:cubicBezTo>
                <a:cubicBezTo>
                  <a:pt x="19853" y="15401"/>
                  <a:pt x="19859" y="15308"/>
                  <a:pt x="19844" y="15145"/>
                </a:cubicBezTo>
                <a:cubicBezTo>
                  <a:pt x="19833" y="15023"/>
                  <a:pt x="19805" y="14912"/>
                  <a:pt x="19780" y="14796"/>
                </a:cubicBezTo>
                <a:cubicBezTo>
                  <a:pt x="19768" y="14741"/>
                  <a:pt x="19765" y="14784"/>
                  <a:pt x="19748" y="14732"/>
                </a:cubicBezTo>
              </a:path>
              <a:path w="7145" h="3843">
                <a:moveTo>
                  <a:pt x="20002" y="14891"/>
                </a:moveTo>
                <a:cubicBezTo>
                  <a:pt x="20014" y="14936"/>
                  <a:pt x="20057" y="14976"/>
                  <a:pt x="20066" y="15018"/>
                </a:cubicBezTo>
                <a:cubicBezTo>
                  <a:pt x="20087" y="15114"/>
                  <a:pt x="20109" y="15250"/>
                  <a:pt x="20161" y="15335"/>
                </a:cubicBezTo>
                <a:cubicBezTo>
                  <a:pt x="20189" y="15380"/>
                  <a:pt x="20187" y="15386"/>
                  <a:pt x="20225" y="15399"/>
                </a:cubicBezTo>
                <a:cubicBezTo>
                  <a:pt x="20225" y="15328"/>
                  <a:pt x="20196" y="15280"/>
                  <a:pt x="20193" y="15208"/>
                </a:cubicBezTo>
                <a:cubicBezTo>
                  <a:pt x="20187" y="15063"/>
                  <a:pt x="20196" y="14931"/>
                  <a:pt x="20225" y="14796"/>
                </a:cubicBezTo>
                <a:cubicBezTo>
                  <a:pt x="20239" y="14732"/>
                  <a:pt x="20211" y="14732"/>
                  <a:pt x="20288" y="14732"/>
                </a:cubicBezTo>
                <a:cubicBezTo>
                  <a:pt x="20327" y="14797"/>
                  <a:pt x="20346" y="14877"/>
                  <a:pt x="20384" y="14954"/>
                </a:cubicBezTo>
                <a:cubicBezTo>
                  <a:pt x="20410" y="15006"/>
                  <a:pt x="20465" y="15096"/>
                  <a:pt x="20479" y="15145"/>
                </a:cubicBezTo>
                <a:cubicBezTo>
                  <a:pt x="20479" y="15197"/>
                  <a:pt x="20468" y="15218"/>
                  <a:pt x="20510" y="15208"/>
                </a:cubicBezTo>
                <a:cubicBezTo>
                  <a:pt x="20548" y="15120"/>
                  <a:pt x="20542" y="15086"/>
                  <a:pt x="20542" y="14986"/>
                </a:cubicBezTo>
                <a:cubicBezTo>
                  <a:pt x="20542" y="14830"/>
                  <a:pt x="20540" y="14688"/>
                  <a:pt x="20574" y="14542"/>
                </a:cubicBezTo>
                <a:cubicBezTo>
                  <a:pt x="20574" y="14510"/>
                  <a:pt x="20574" y="14499"/>
                  <a:pt x="20574" y="14478"/>
                </a:cubicBezTo>
              </a:path>
              <a:path w="7145" h="3843">
                <a:moveTo>
                  <a:pt x="19431" y="15907"/>
                </a:moveTo>
                <a:cubicBezTo>
                  <a:pt x="19446" y="15861"/>
                  <a:pt x="19476" y="15864"/>
                  <a:pt x="19526" y="15843"/>
                </a:cubicBezTo>
                <a:cubicBezTo>
                  <a:pt x="19619" y="15804"/>
                  <a:pt x="19687" y="15730"/>
                  <a:pt x="19780" y="15684"/>
                </a:cubicBezTo>
                <a:cubicBezTo>
                  <a:pt x="19885" y="15632"/>
                  <a:pt x="19993" y="15574"/>
                  <a:pt x="20098" y="15526"/>
                </a:cubicBezTo>
                <a:cubicBezTo>
                  <a:pt x="20201" y="15478"/>
                  <a:pt x="20312" y="15448"/>
                  <a:pt x="20415" y="15399"/>
                </a:cubicBezTo>
                <a:cubicBezTo>
                  <a:pt x="20463" y="15376"/>
                  <a:pt x="20570" y="15327"/>
                  <a:pt x="20606" y="15399"/>
                </a:cubicBezTo>
                <a:cubicBezTo>
                  <a:pt x="20606" y="15409"/>
                  <a:pt x="20606" y="15420"/>
                  <a:pt x="20606" y="15430"/>
                </a:cubicBezTo>
              </a:path>
              <a:path w="7145" h="3843">
                <a:moveTo>
                  <a:pt x="19876" y="15938"/>
                </a:moveTo>
                <a:cubicBezTo>
                  <a:pt x="19916" y="16033"/>
                  <a:pt x="19887" y="16091"/>
                  <a:pt x="19907" y="16192"/>
                </a:cubicBezTo>
                <a:cubicBezTo>
                  <a:pt x="19930" y="16313"/>
                  <a:pt x="19939" y="16416"/>
                  <a:pt x="19939" y="16542"/>
                </a:cubicBezTo>
                <a:cubicBezTo>
                  <a:pt x="19939" y="16618"/>
                  <a:pt x="19930" y="16614"/>
                  <a:pt x="19971" y="16669"/>
                </a:cubicBezTo>
              </a:path>
              <a:path w="7145" h="3843">
                <a:moveTo>
                  <a:pt x="20098" y="15875"/>
                </a:moveTo>
                <a:cubicBezTo>
                  <a:pt x="20077" y="15977"/>
                  <a:pt x="20093" y="16018"/>
                  <a:pt x="20098" y="16129"/>
                </a:cubicBezTo>
                <a:cubicBezTo>
                  <a:pt x="20104" y="16245"/>
                  <a:pt x="20106" y="16285"/>
                  <a:pt x="20161" y="16383"/>
                </a:cubicBezTo>
                <a:cubicBezTo>
                  <a:pt x="20228" y="16383"/>
                  <a:pt x="20239" y="16368"/>
                  <a:pt x="20288" y="16320"/>
                </a:cubicBezTo>
                <a:cubicBezTo>
                  <a:pt x="20332" y="16276"/>
                  <a:pt x="20348" y="16190"/>
                  <a:pt x="20352" y="16129"/>
                </a:cubicBezTo>
                <a:cubicBezTo>
                  <a:pt x="20357" y="16049"/>
                  <a:pt x="20335" y="15933"/>
                  <a:pt x="20288" y="15875"/>
                </a:cubicBezTo>
                <a:cubicBezTo>
                  <a:pt x="20235" y="15810"/>
                  <a:pt x="20211" y="15812"/>
                  <a:pt x="20130" y="15812"/>
                </a:cubicBezTo>
              </a:path>
              <a:path w="7145" h="3843">
                <a:moveTo>
                  <a:pt x="17716" y="16415"/>
                </a:moveTo>
                <a:cubicBezTo>
                  <a:pt x="17772" y="16401"/>
                  <a:pt x="17822" y="16334"/>
                  <a:pt x="17875" y="16320"/>
                </a:cubicBezTo>
                <a:cubicBezTo>
                  <a:pt x="17954" y="16299"/>
                  <a:pt x="18017" y="16292"/>
                  <a:pt x="18098" y="16256"/>
                </a:cubicBezTo>
                <a:cubicBezTo>
                  <a:pt x="18186" y="16216"/>
                  <a:pt x="18286" y="16199"/>
                  <a:pt x="18383" y="16192"/>
                </a:cubicBezTo>
                <a:cubicBezTo>
                  <a:pt x="18453" y="16187"/>
                  <a:pt x="18490" y="16185"/>
                  <a:pt x="18542" y="16224"/>
                </a:cubicBezTo>
              </a:path>
              <a:path w="7145" h="3843">
                <a:moveTo>
                  <a:pt x="17970" y="16764"/>
                </a:moveTo>
                <a:cubicBezTo>
                  <a:pt x="17919" y="16782"/>
                  <a:pt x="17951" y="16865"/>
                  <a:pt x="17970" y="16923"/>
                </a:cubicBezTo>
                <a:cubicBezTo>
                  <a:pt x="18001" y="17016"/>
                  <a:pt x="18013" y="17113"/>
                  <a:pt x="18034" y="17208"/>
                </a:cubicBezTo>
                <a:cubicBezTo>
                  <a:pt x="18034" y="17240"/>
                  <a:pt x="18034" y="17251"/>
                  <a:pt x="18034" y="17272"/>
                </a:cubicBezTo>
              </a:path>
              <a:path w="7145" h="3843">
                <a:moveTo>
                  <a:pt x="18161" y="16637"/>
                </a:moveTo>
                <a:cubicBezTo>
                  <a:pt x="18161" y="16761"/>
                  <a:pt x="18179" y="16871"/>
                  <a:pt x="18193" y="16986"/>
                </a:cubicBezTo>
                <a:cubicBezTo>
                  <a:pt x="18201" y="17052"/>
                  <a:pt x="18195" y="17193"/>
                  <a:pt x="18256" y="17208"/>
                </a:cubicBezTo>
                <a:cubicBezTo>
                  <a:pt x="18267" y="17208"/>
                  <a:pt x="18277" y="17208"/>
                  <a:pt x="18288" y="17208"/>
                </a:cubicBezTo>
                <a:cubicBezTo>
                  <a:pt x="18334" y="17148"/>
                  <a:pt x="18329" y="17090"/>
                  <a:pt x="18352" y="17018"/>
                </a:cubicBezTo>
                <a:cubicBezTo>
                  <a:pt x="18381" y="16928"/>
                  <a:pt x="18383" y="16861"/>
                  <a:pt x="18383" y="16764"/>
                </a:cubicBezTo>
                <a:cubicBezTo>
                  <a:pt x="18383" y="16759"/>
                  <a:pt x="18367" y="16526"/>
                  <a:pt x="18320" y="16542"/>
                </a:cubicBezTo>
                <a:cubicBezTo>
                  <a:pt x="18320" y="16553"/>
                  <a:pt x="18320" y="16563"/>
                  <a:pt x="18320" y="16574"/>
                </a:cubicBezTo>
              </a:path>
              <a:path w="7145" h="3843">
                <a:moveTo>
                  <a:pt x="21082" y="15304"/>
                </a:moveTo>
                <a:cubicBezTo>
                  <a:pt x="21098" y="15367"/>
                  <a:pt x="21117" y="15428"/>
                  <a:pt x="21146" y="15494"/>
                </a:cubicBezTo>
                <a:cubicBezTo>
                  <a:pt x="21183" y="15579"/>
                  <a:pt x="21226" y="15717"/>
                  <a:pt x="21241" y="15812"/>
                </a:cubicBezTo>
                <a:cubicBezTo>
                  <a:pt x="21256" y="15912"/>
                  <a:pt x="21296" y="15998"/>
                  <a:pt x="21304" y="16097"/>
                </a:cubicBezTo>
                <a:cubicBezTo>
                  <a:pt x="21304" y="16133"/>
                  <a:pt x="21307" y="16147"/>
                  <a:pt x="21336" y="16161"/>
                </a:cubicBezTo>
                <a:cubicBezTo>
                  <a:pt x="21336" y="15966"/>
                  <a:pt x="21347" y="15779"/>
                  <a:pt x="21368" y="15589"/>
                </a:cubicBezTo>
                <a:cubicBezTo>
                  <a:pt x="21377" y="15508"/>
                  <a:pt x="21388" y="15406"/>
                  <a:pt x="21431" y="15335"/>
                </a:cubicBezTo>
                <a:cubicBezTo>
                  <a:pt x="21460" y="15307"/>
                  <a:pt x="21466" y="15297"/>
                  <a:pt x="21495" y="15304"/>
                </a:cubicBezTo>
                <a:cubicBezTo>
                  <a:pt x="21588" y="15327"/>
                  <a:pt x="21564" y="15385"/>
                  <a:pt x="21590" y="15462"/>
                </a:cubicBezTo>
                <a:cubicBezTo>
                  <a:pt x="21630" y="15581"/>
                  <a:pt x="21750" y="15698"/>
                  <a:pt x="21780" y="15812"/>
                </a:cubicBezTo>
                <a:cubicBezTo>
                  <a:pt x="21804" y="15901"/>
                  <a:pt x="21773" y="15854"/>
                  <a:pt x="21844" y="15907"/>
                </a:cubicBezTo>
                <a:cubicBezTo>
                  <a:pt x="21828" y="15812"/>
                  <a:pt x="21827" y="15716"/>
                  <a:pt x="21812" y="15621"/>
                </a:cubicBezTo>
                <a:cubicBezTo>
                  <a:pt x="21790" y="15487"/>
                  <a:pt x="21758" y="15347"/>
                  <a:pt x="21780" y="15208"/>
                </a:cubicBezTo>
                <a:cubicBezTo>
                  <a:pt x="21795" y="15111"/>
                  <a:pt x="21812" y="15051"/>
                  <a:pt x="21812" y="14954"/>
                </a:cubicBezTo>
              </a:path>
              <a:path w="7145" h="3843">
                <a:moveTo>
                  <a:pt x="21971" y="15399"/>
                </a:moveTo>
                <a:cubicBezTo>
                  <a:pt x="22036" y="15399"/>
                  <a:pt x="22045" y="15397"/>
                  <a:pt x="22098" y="15367"/>
                </a:cubicBezTo>
                <a:cubicBezTo>
                  <a:pt x="22167" y="15328"/>
                  <a:pt x="22224" y="15323"/>
                  <a:pt x="22288" y="15272"/>
                </a:cubicBezTo>
              </a:path>
              <a:path w="7145" h="3843">
                <a:moveTo>
                  <a:pt x="22034" y="15812"/>
                </a:moveTo>
                <a:cubicBezTo>
                  <a:pt x="22084" y="15775"/>
                  <a:pt x="22138" y="15772"/>
                  <a:pt x="22193" y="15748"/>
                </a:cubicBezTo>
                <a:cubicBezTo>
                  <a:pt x="22253" y="15722"/>
                  <a:pt x="22292" y="15710"/>
                  <a:pt x="22352" y="15684"/>
                </a:cubicBezTo>
              </a:path>
              <a:path w="7145" h="3843">
                <a:moveTo>
                  <a:pt x="23050" y="14637"/>
                </a:moveTo>
                <a:cubicBezTo>
                  <a:pt x="23040" y="14626"/>
                  <a:pt x="23029" y="14616"/>
                  <a:pt x="23019" y="14605"/>
                </a:cubicBezTo>
              </a:path>
              <a:path w="7145" h="3843">
                <a:moveTo>
                  <a:pt x="23019" y="14510"/>
                </a:moveTo>
                <a:cubicBezTo>
                  <a:pt x="23007" y="14464"/>
                  <a:pt x="22985" y="14424"/>
                  <a:pt x="22924" y="14446"/>
                </a:cubicBezTo>
                <a:cubicBezTo>
                  <a:pt x="22853" y="14472"/>
                  <a:pt x="22746" y="14546"/>
                  <a:pt x="22701" y="14605"/>
                </a:cubicBezTo>
                <a:cubicBezTo>
                  <a:pt x="22648" y="14674"/>
                  <a:pt x="22562" y="14770"/>
                  <a:pt x="22542" y="14859"/>
                </a:cubicBezTo>
                <a:cubicBezTo>
                  <a:pt x="22522" y="14946"/>
                  <a:pt x="22539" y="15068"/>
                  <a:pt x="22574" y="15145"/>
                </a:cubicBezTo>
                <a:cubicBezTo>
                  <a:pt x="22613" y="15231"/>
                  <a:pt x="22697" y="15278"/>
                  <a:pt x="22765" y="15335"/>
                </a:cubicBezTo>
                <a:cubicBezTo>
                  <a:pt x="22826" y="15386"/>
                  <a:pt x="22886" y="15402"/>
                  <a:pt x="22955" y="15430"/>
                </a:cubicBezTo>
                <a:cubicBezTo>
                  <a:pt x="23049" y="15468"/>
                  <a:pt x="23049" y="15507"/>
                  <a:pt x="23082" y="15589"/>
                </a:cubicBezTo>
                <a:cubicBezTo>
                  <a:pt x="23105" y="15645"/>
                  <a:pt x="23141" y="15763"/>
                  <a:pt x="23082" y="15812"/>
                </a:cubicBezTo>
                <a:cubicBezTo>
                  <a:pt x="23066" y="15825"/>
                  <a:pt x="22985" y="15860"/>
                  <a:pt x="22955" y="15843"/>
                </a:cubicBezTo>
                <a:cubicBezTo>
                  <a:pt x="22899" y="15812"/>
                  <a:pt x="22880" y="15738"/>
                  <a:pt x="22860" y="15684"/>
                </a:cubicBezTo>
                <a:cubicBezTo>
                  <a:pt x="22811" y="15551"/>
                  <a:pt x="22828" y="15412"/>
                  <a:pt x="22828" y="15272"/>
                </a:cubicBezTo>
                <a:cubicBezTo>
                  <a:pt x="22828" y="15071"/>
                  <a:pt x="22876" y="14894"/>
                  <a:pt x="22924" y="14700"/>
                </a:cubicBezTo>
                <a:cubicBezTo>
                  <a:pt x="22955" y="14573"/>
                  <a:pt x="22965" y="14531"/>
                  <a:pt x="22987" y="14446"/>
                </a:cubicBezTo>
              </a:path>
              <a:path w="7145" h="3843">
                <a:moveTo>
                  <a:pt x="21241" y="16574"/>
                </a:moveTo>
                <a:cubicBezTo>
                  <a:pt x="21230" y="16574"/>
                  <a:pt x="21220" y="16574"/>
                  <a:pt x="21209" y="16574"/>
                </a:cubicBezTo>
              </a:path>
              <a:path w="7145" h="3843">
                <a:moveTo>
                  <a:pt x="21241" y="16574"/>
                </a:moveTo>
                <a:cubicBezTo>
                  <a:pt x="21220" y="16584"/>
                  <a:pt x="21198" y="16595"/>
                  <a:pt x="21177" y="16605"/>
                </a:cubicBezTo>
              </a:path>
              <a:path w="7145" h="3843">
                <a:moveTo>
                  <a:pt x="21177" y="16605"/>
                </a:moveTo>
                <a:cubicBezTo>
                  <a:pt x="21252" y="16611"/>
                  <a:pt x="21331" y="16612"/>
                  <a:pt x="21400" y="16637"/>
                </a:cubicBezTo>
                <a:cubicBezTo>
                  <a:pt x="21494" y="16672"/>
                  <a:pt x="21605" y="16745"/>
                  <a:pt x="21685" y="16764"/>
                </a:cubicBezTo>
                <a:cubicBezTo>
                  <a:pt x="21832" y="16799"/>
                  <a:pt x="21935" y="16726"/>
                  <a:pt x="22066" y="16700"/>
                </a:cubicBezTo>
                <a:cubicBezTo>
                  <a:pt x="22201" y="16673"/>
                  <a:pt x="22349" y="16670"/>
                  <a:pt x="22479" y="16605"/>
                </a:cubicBezTo>
                <a:cubicBezTo>
                  <a:pt x="22640" y="16525"/>
                  <a:pt x="22778" y="16414"/>
                  <a:pt x="22924" y="16320"/>
                </a:cubicBezTo>
                <a:cubicBezTo>
                  <a:pt x="23084" y="16218"/>
                  <a:pt x="23225" y="16099"/>
                  <a:pt x="23368" y="15970"/>
                </a:cubicBezTo>
                <a:cubicBezTo>
                  <a:pt x="23503" y="15849"/>
                  <a:pt x="23626" y="15683"/>
                  <a:pt x="23717" y="15526"/>
                </a:cubicBezTo>
                <a:cubicBezTo>
                  <a:pt x="23822" y="15345"/>
                  <a:pt x="23887" y="15156"/>
                  <a:pt x="23940" y="14954"/>
                </a:cubicBezTo>
                <a:cubicBezTo>
                  <a:pt x="23981" y="14796"/>
                  <a:pt x="23980" y="14662"/>
                  <a:pt x="23971" y="14510"/>
                </a:cubicBezTo>
                <a:cubicBezTo>
                  <a:pt x="23962" y="14359"/>
                  <a:pt x="23948" y="14219"/>
                  <a:pt x="23844" y="14097"/>
                </a:cubicBezTo>
                <a:cubicBezTo>
                  <a:pt x="23762" y="14000"/>
                  <a:pt x="23664" y="13912"/>
                  <a:pt x="23558" y="13843"/>
                </a:cubicBezTo>
                <a:cubicBezTo>
                  <a:pt x="23458" y="13777"/>
                  <a:pt x="23331" y="13699"/>
                  <a:pt x="23209" y="13684"/>
                </a:cubicBezTo>
                <a:cubicBezTo>
                  <a:pt x="23060" y="13665"/>
                  <a:pt x="22917" y="13652"/>
                  <a:pt x="22765" y="13652"/>
                </a:cubicBezTo>
                <a:cubicBezTo>
                  <a:pt x="22605" y="13652"/>
                  <a:pt x="22473" y="13706"/>
                  <a:pt x="22320" y="13748"/>
                </a:cubicBezTo>
                <a:cubicBezTo>
                  <a:pt x="22170" y="13789"/>
                  <a:pt x="22013" y="13860"/>
                  <a:pt x="21876" y="13938"/>
                </a:cubicBezTo>
                <a:cubicBezTo>
                  <a:pt x="21757" y="14006"/>
                  <a:pt x="21575" y="14143"/>
                  <a:pt x="21495" y="14256"/>
                </a:cubicBezTo>
                <a:cubicBezTo>
                  <a:pt x="21393" y="14400"/>
                  <a:pt x="21300" y="14546"/>
                  <a:pt x="21209" y="14700"/>
                </a:cubicBezTo>
                <a:cubicBezTo>
                  <a:pt x="21106" y="14873"/>
                  <a:pt x="21058" y="15010"/>
                  <a:pt x="21018" y="15208"/>
                </a:cubicBezTo>
                <a:cubicBezTo>
                  <a:pt x="20977" y="15408"/>
                  <a:pt x="20955" y="15575"/>
                  <a:pt x="20955" y="15780"/>
                </a:cubicBezTo>
                <a:cubicBezTo>
                  <a:pt x="20955" y="15956"/>
                  <a:pt x="21007" y="16118"/>
                  <a:pt x="21050" y="16288"/>
                </a:cubicBezTo>
                <a:cubicBezTo>
                  <a:pt x="21082" y="16416"/>
                  <a:pt x="21163" y="16552"/>
                  <a:pt x="21272" y="16637"/>
                </a:cubicBezTo>
                <a:cubicBezTo>
                  <a:pt x="21356" y="16702"/>
                  <a:pt x="21494" y="16757"/>
                  <a:pt x="21590" y="16764"/>
                </a:cubicBezTo>
                <a:cubicBezTo>
                  <a:pt x="21746" y="16776"/>
                  <a:pt x="21909" y="16764"/>
                  <a:pt x="22066" y="16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5"/>
          <p:cNvSpPr/>
          <p:nvPr/>
        </p:nvSpPr>
        <p:spPr>
          <a:xfrm>
            <a:off x="1714680" y="5807160"/>
            <a:ext cx="1166760" cy="718920"/>
          </a:xfrm>
          <a:custGeom>
            <a:avLst/>
            <a:gdLst/>
            <a:ahLst/>
            <a:rect l="l" t="t" r="r" b="b"/>
            <a:pathLst>
              <a:path w="3240" h="2001">
                <a:moveTo>
                  <a:pt x="5175" y="17113"/>
                </a:moveTo>
                <a:cubicBezTo>
                  <a:pt x="5144" y="17192"/>
                  <a:pt x="5183" y="17199"/>
                  <a:pt x="5207" y="17272"/>
                </a:cubicBezTo>
                <a:cubicBezTo>
                  <a:pt x="5234" y="17352"/>
                  <a:pt x="5243" y="17360"/>
                  <a:pt x="5302" y="17399"/>
                </a:cubicBezTo>
                <a:cubicBezTo>
                  <a:pt x="5373" y="17446"/>
                  <a:pt x="5477" y="17453"/>
                  <a:pt x="5556" y="17399"/>
                </a:cubicBezTo>
                <a:cubicBezTo>
                  <a:pt x="5667" y="17324"/>
                  <a:pt x="5762" y="17219"/>
                  <a:pt x="5842" y="17113"/>
                </a:cubicBezTo>
                <a:cubicBezTo>
                  <a:pt x="5925" y="17003"/>
                  <a:pt x="5995" y="16903"/>
                  <a:pt x="6001" y="16764"/>
                </a:cubicBezTo>
                <a:cubicBezTo>
                  <a:pt x="6005" y="16679"/>
                  <a:pt x="6018" y="16606"/>
                  <a:pt x="5969" y="16542"/>
                </a:cubicBezTo>
                <a:cubicBezTo>
                  <a:pt x="5908" y="16542"/>
                  <a:pt x="5860" y="16564"/>
                  <a:pt x="5810" y="16605"/>
                </a:cubicBezTo>
                <a:cubicBezTo>
                  <a:pt x="5716" y="16683"/>
                  <a:pt x="5662" y="16842"/>
                  <a:pt x="5620" y="16954"/>
                </a:cubicBezTo>
                <a:cubicBezTo>
                  <a:pt x="5574" y="17077"/>
                  <a:pt x="5556" y="17174"/>
                  <a:pt x="5556" y="17304"/>
                </a:cubicBezTo>
                <a:cubicBezTo>
                  <a:pt x="5556" y="17367"/>
                  <a:pt x="5538" y="17497"/>
                  <a:pt x="5620" y="17526"/>
                </a:cubicBezTo>
                <a:cubicBezTo>
                  <a:pt x="5641" y="17526"/>
                  <a:pt x="5662" y="17526"/>
                  <a:pt x="5683" y="17526"/>
                </a:cubicBezTo>
              </a:path>
              <a:path w="3240" h="2001">
                <a:moveTo>
                  <a:pt x="6096" y="17018"/>
                </a:moveTo>
                <a:cubicBezTo>
                  <a:pt x="6165" y="17009"/>
                  <a:pt x="6217" y="16995"/>
                  <a:pt x="6286" y="16986"/>
                </a:cubicBezTo>
              </a:path>
              <a:path w="3240" h="2001">
                <a:moveTo>
                  <a:pt x="6096" y="17240"/>
                </a:moveTo>
                <a:cubicBezTo>
                  <a:pt x="6109" y="17280"/>
                  <a:pt x="6165" y="17289"/>
                  <a:pt x="6223" y="17272"/>
                </a:cubicBezTo>
                <a:cubicBezTo>
                  <a:pt x="6299" y="17249"/>
                  <a:pt x="6332" y="17240"/>
                  <a:pt x="6414" y="17240"/>
                </a:cubicBezTo>
              </a:path>
              <a:path w="3240" h="2001">
                <a:moveTo>
                  <a:pt x="6699" y="16828"/>
                </a:moveTo>
                <a:cubicBezTo>
                  <a:pt x="6724" y="16727"/>
                  <a:pt x="6779" y="16811"/>
                  <a:pt x="6826" y="16764"/>
                </a:cubicBezTo>
                <a:cubicBezTo>
                  <a:pt x="6837" y="16743"/>
                  <a:pt x="6847" y="16721"/>
                  <a:pt x="6858" y="16700"/>
                </a:cubicBezTo>
                <a:cubicBezTo>
                  <a:pt x="6902" y="16722"/>
                  <a:pt x="6942" y="16758"/>
                  <a:pt x="6985" y="16796"/>
                </a:cubicBezTo>
                <a:cubicBezTo>
                  <a:pt x="7019" y="16827"/>
                  <a:pt x="7037" y="16907"/>
                  <a:pt x="7017" y="16954"/>
                </a:cubicBezTo>
                <a:cubicBezTo>
                  <a:pt x="6994" y="17010"/>
                  <a:pt x="6930" y="17050"/>
                  <a:pt x="6890" y="17082"/>
                </a:cubicBezTo>
                <a:cubicBezTo>
                  <a:pt x="6854" y="17111"/>
                  <a:pt x="6716" y="17113"/>
                  <a:pt x="6763" y="17113"/>
                </a:cubicBezTo>
                <a:cubicBezTo>
                  <a:pt x="6831" y="17113"/>
                  <a:pt x="6841" y="17129"/>
                  <a:pt x="6890" y="17177"/>
                </a:cubicBezTo>
                <a:cubicBezTo>
                  <a:pt x="6939" y="17225"/>
                  <a:pt x="6953" y="17236"/>
                  <a:pt x="6953" y="17304"/>
                </a:cubicBezTo>
                <a:cubicBezTo>
                  <a:pt x="6953" y="17374"/>
                  <a:pt x="6906" y="17429"/>
                  <a:pt x="6890" y="17494"/>
                </a:cubicBezTo>
                <a:cubicBezTo>
                  <a:pt x="6873" y="17560"/>
                  <a:pt x="6821" y="17529"/>
                  <a:pt x="6763" y="17558"/>
                </a:cubicBezTo>
                <a:cubicBezTo>
                  <a:pt x="6685" y="17597"/>
                  <a:pt x="6685" y="17582"/>
                  <a:pt x="6604" y="17558"/>
                </a:cubicBezTo>
                <a:cubicBezTo>
                  <a:pt x="6552" y="17542"/>
                  <a:pt x="6516" y="17523"/>
                  <a:pt x="6509" y="17462"/>
                </a:cubicBezTo>
                <a:cubicBezTo>
                  <a:pt x="6503" y="17410"/>
                  <a:pt x="6511" y="17407"/>
                  <a:pt x="6540" y="17367"/>
                </a:cubicBezTo>
              </a:path>
              <a:path w="3240" h="2001">
                <a:moveTo>
                  <a:pt x="7176" y="16828"/>
                </a:moveTo>
                <a:cubicBezTo>
                  <a:pt x="7176" y="16892"/>
                  <a:pt x="7153" y="16932"/>
                  <a:pt x="7112" y="16986"/>
                </a:cubicBezTo>
                <a:cubicBezTo>
                  <a:pt x="7086" y="17020"/>
                  <a:pt x="7047" y="17051"/>
                  <a:pt x="7017" y="17082"/>
                </a:cubicBezTo>
                <a:cubicBezTo>
                  <a:pt x="7059" y="17096"/>
                  <a:pt x="7057" y="17127"/>
                  <a:pt x="7112" y="17145"/>
                </a:cubicBezTo>
                <a:cubicBezTo>
                  <a:pt x="7181" y="17168"/>
                  <a:pt x="7218" y="17186"/>
                  <a:pt x="7271" y="17240"/>
                </a:cubicBezTo>
                <a:cubicBezTo>
                  <a:pt x="7321" y="17291"/>
                  <a:pt x="7347" y="17278"/>
                  <a:pt x="7398" y="17240"/>
                </a:cubicBezTo>
              </a:path>
              <a:path w="3240" h="2001">
                <a:moveTo>
                  <a:pt x="7620" y="16828"/>
                </a:moveTo>
                <a:cubicBezTo>
                  <a:pt x="7609" y="16817"/>
                  <a:pt x="7599" y="16807"/>
                  <a:pt x="7588" y="16796"/>
                </a:cubicBezTo>
                <a:cubicBezTo>
                  <a:pt x="7573" y="16840"/>
                  <a:pt x="7520" y="16885"/>
                  <a:pt x="7493" y="16954"/>
                </a:cubicBezTo>
                <a:cubicBezTo>
                  <a:pt x="7443" y="17082"/>
                  <a:pt x="7382" y="17181"/>
                  <a:pt x="7334" y="17304"/>
                </a:cubicBezTo>
                <a:cubicBezTo>
                  <a:pt x="7295" y="17405"/>
                  <a:pt x="7242" y="17501"/>
                  <a:pt x="7207" y="17590"/>
                </a:cubicBezTo>
              </a:path>
              <a:path w="3240" h="2001">
                <a:moveTo>
                  <a:pt x="6572" y="17939"/>
                </a:moveTo>
                <a:cubicBezTo>
                  <a:pt x="6632" y="17954"/>
                  <a:pt x="6661" y="17967"/>
                  <a:pt x="6763" y="17970"/>
                </a:cubicBezTo>
                <a:cubicBezTo>
                  <a:pt x="6899" y="17974"/>
                  <a:pt x="7017" y="17964"/>
                  <a:pt x="7144" y="17939"/>
                </a:cubicBezTo>
                <a:cubicBezTo>
                  <a:pt x="7241" y="17920"/>
                  <a:pt x="7373" y="17927"/>
                  <a:pt x="7461" y="17875"/>
                </a:cubicBezTo>
                <a:cubicBezTo>
                  <a:pt x="7558" y="17818"/>
                  <a:pt x="7700" y="17739"/>
                  <a:pt x="7779" y="17653"/>
                </a:cubicBezTo>
                <a:cubicBezTo>
                  <a:pt x="7843" y="17582"/>
                  <a:pt x="7952" y="17428"/>
                  <a:pt x="7969" y="17336"/>
                </a:cubicBezTo>
                <a:cubicBezTo>
                  <a:pt x="7993" y="17208"/>
                  <a:pt x="8007" y="17115"/>
                  <a:pt x="7969" y="16986"/>
                </a:cubicBezTo>
                <a:cubicBezTo>
                  <a:pt x="7931" y="16855"/>
                  <a:pt x="7871" y="16737"/>
                  <a:pt x="7779" y="16637"/>
                </a:cubicBezTo>
                <a:cubicBezTo>
                  <a:pt x="7680" y="16529"/>
                  <a:pt x="7532" y="16415"/>
                  <a:pt x="7398" y="16351"/>
                </a:cubicBezTo>
                <a:cubicBezTo>
                  <a:pt x="7267" y="16288"/>
                  <a:pt x="7099" y="16210"/>
                  <a:pt x="6953" y="16192"/>
                </a:cubicBezTo>
                <a:cubicBezTo>
                  <a:pt x="6795" y="16173"/>
                  <a:pt x="6636" y="16145"/>
                  <a:pt x="6477" y="16129"/>
                </a:cubicBezTo>
                <a:cubicBezTo>
                  <a:pt x="6321" y="16114"/>
                  <a:pt x="6182" y="16148"/>
                  <a:pt x="6032" y="16161"/>
                </a:cubicBezTo>
                <a:cubicBezTo>
                  <a:pt x="5867" y="16175"/>
                  <a:pt x="5719" y="16203"/>
                  <a:pt x="5556" y="16224"/>
                </a:cubicBezTo>
                <a:cubicBezTo>
                  <a:pt x="5425" y="16241"/>
                  <a:pt x="5267" y="16287"/>
                  <a:pt x="5144" y="16351"/>
                </a:cubicBezTo>
                <a:cubicBezTo>
                  <a:pt x="5055" y="16397"/>
                  <a:pt x="4878" y="16520"/>
                  <a:pt x="4826" y="16605"/>
                </a:cubicBezTo>
                <a:cubicBezTo>
                  <a:pt x="4756" y="16719"/>
                  <a:pt x="4762" y="16859"/>
                  <a:pt x="4762" y="16986"/>
                </a:cubicBezTo>
                <a:cubicBezTo>
                  <a:pt x="4762" y="17119"/>
                  <a:pt x="4783" y="17208"/>
                  <a:pt x="4826" y="17336"/>
                </a:cubicBezTo>
                <a:cubicBezTo>
                  <a:pt x="4864" y="17449"/>
                  <a:pt x="4937" y="17565"/>
                  <a:pt x="5016" y="17653"/>
                </a:cubicBezTo>
                <a:cubicBezTo>
                  <a:pt x="5107" y="17753"/>
                  <a:pt x="5211" y="17820"/>
                  <a:pt x="5334" y="17875"/>
                </a:cubicBezTo>
                <a:cubicBezTo>
                  <a:pt x="5490" y="17944"/>
                  <a:pt x="5654" y="17973"/>
                  <a:pt x="5810" y="18034"/>
                </a:cubicBezTo>
                <a:cubicBezTo>
                  <a:pt x="5978" y="18100"/>
                  <a:pt x="6134" y="18124"/>
                  <a:pt x="6318" y="18129"/>
                </a:cubicBezTo>
                <a:cubicBezTo>
                  <a:pt x="6452" y="18133"/>
                  <a:pt x="6576" y="18109"/>
                  <a:pt x="6699" y="18098"/>
                </a:cubicBezTo>
                <a:cubicBezTo>
                  <a:pt x="6782" y="18091"/>
                  <a:pt x="6824" y="18082"/>
                  <a:pt x="6890" y="18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6"/>
          <p:cNvSpPr/>
          <p:nvPr/>
        </p:nvSpPr>
        <p:spPr>
          <a:xfrm>
            <a:off x="6892920" y="1839960"/>
            <a:ext cx="811080" cy="92160"/>
          </a:xfrm>
          <a:custGeom>
            <a:avLst/>
            <a:gdLst/>
            <a:ahLst/>
            <a:rect l="l" t="t" r="r" b="b"/>
            <a:pathLst>
              <a:path w="2256" h="255">
                <a:moveTo>
                  <a:pt x="19145" y="5366"/>
                </a:moveTo>
                <a:cubicBezTo>
                  <a:pt x="19222" y="5366"/>
                  <a:pt x="19264" y="5346"/>
                  <a:pt x="19336" y="5334"/>
                </a:cubicBezTo>
                <a:cubicBezTo>
                  <a:pt x="19440" y="5317"/>
                  <a:pt x="19549" y="5293"/>
                  <a:pt x="19653" y="5270"/>
                </a:cubicBezTo>
                <a:cubicBezTo>
                  <a:pt x="19804" y="5237"/>
                  <a:pt x="19947" y="5208"/>
                  <a:pt x="20098" y="5175"/>
                </a:cubicBezTo>
                <a:cubicBezTo>
                  <a:pt x="20284" y="5134"/>
                  <a:pt x="20479" y="5116"/>
                  <a:pt x="20669" y="5112"/>
                </a:cubicBezTo>
                <a:cubicBezTo>
                  <a:pt x="20856" y="5108"/>
                  <a:pt x="21027" y="5126"/>
                  <a:pt x="21209" y="5144"/>
                </a:cubicBezTo>
                <a:cubicBezTo>
                  <a:pt x="21306" y="5144"/>
                  <a:pt x="21339" y="5145"/>
                  <a:pt x="21400" y="5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7"/>
          <p:cNvSpPr/>
          <p:nvPr/>
        </p:nvSpPr>
        <p:spPr>
          <a:xfrm>
            <a:off x="3908520" y="5840280"/>
            <a:ext cx="1245960" cy="412920"/>
          </a:xfrm>
          <a:custGeom>
            <a:avLst/>
            <a:gdLst/>
            <a:ahLst/>
            <a:rect l="l" t="t" r="r" b="b"/>
            <a:pathLst>
              <a:path w="3462" h="1144">
                <a:moveTo>
                  <a:pt x="10858" y="16415"/>
                </a:moveTo>
                <a:cubicBezTo>
                  <a:pt x="11141" y="16415"/>
                  <a:pt x="11407" y="16371"/>
                  <a:pt x="11684" y="16351"/>
                </a:cubicBezTo>
                <a:cubicBezTo>
                  <a:pt x="11928" y="16333"/>
                  <a:pt x="12168" y="16320"/>
                  <a:pt x="12414" y="16320"/>
                </a:cubicBezTo>
                <a:cubicBezTo>
                  <a:pt x="12651" y="16320"/>
                  <a:pt x="12878" y="16293"/>
                  <a:pt x="13113" y="16288"/>
                </a:cubicBezTo>
                <a:cubicBezTo>
                  <a:pt x="13307" y="16284"/>
                  <a:pt x="13492" y="16261"/>
                  <a:pt x="13684" y="16256"/>
                </a:cubicBezTo>
                <a:cubicBezTo>
                  <a:pt x="13836" y="16252"/>
                  <a:pt x="13976" y="16224"/>
                  <a:pt x="14129" y="16224"/>
                </a:cubicBezTo>
                <a:cubicBezTo>
                  <a:pt x="14211" y="16224"/>
                  <a:pt x="14282" y="16245"/>
                  <a:pt x="14319" y="16256"/>
                </a:cubicBezTo>
                <a:cubicBezTo>
                  <a:pt x="14275" y="16278"/>
                  <a:pt x="14266" y="16291"/>
                  <a:pt x="14192" y="16320"/>
                </a:cubicBezTo>
                <a:cubicBezTo>
                  <a:pt x="14131" y="16344"/>
                  <a:pt x="14035" y="16404"/>
                  <a:pt x="13970" y="16415"/>
                </a:cubicBezTo>
                <a:cubicBezTo>
                  <a:pt x="13845" y="16437"/>
                  <a:pt x="13715" y="16426"/>
                  <a:pt x="13589" y="16446"/>
                </a:cubicBezTo>
                <a:cubicBezTo>
                  <a:pt x="13411" y="16474"/>
                  <a:pt x="13226" y="16481"/>
                  <a:pt x="13049" y="16510"/>
                </a:cubicBezTo>
                <a:cubicBezTo>
                  <a:pt x="12869" y="16539"/>
                  <a:pt x="12691" y="16592"/>
                  <a:pt x="12510" y="16605"/>
                </a:cubicBezTo>
                <a:cubicBezTo>
                  <a:pt x="12329" y="16618"/>
                  <a:pt x="12149" y="16607"/>
                  <a:pt x="11970" y="16637"/>
                </a:cubicBezTo>
                <a:cubicBezTo>
                  <a:pt x="11802" y="16665"/>
                  <a:pt x="11681" y="16747"/>
                  <a:pt x="11525" y="16796"/>
                </a:cubicBezTo>
                <a:cubicBezTo>
                  <a:pt x="11458" y="16817"/>
                  <a:pt x="11404" y="16825"/>
                  <a:pt x="11335" y="16859"/>
                </a:cubicBezTo>
                <a:cubicBezTo>
                  <a:pt x="11269" y="16902"/>
                  <a:pt x="11270" y="16868"/>
                  <a:pt x="11303" y="16859"/>
                </a:cubicBezTo>
                <a:cubicBezTo>
                  <a:pt x="11400" y="16834"/>
                  <a:pt x="11519" y="16807"/>
                  <a:pt x="11620" y="16796"/>
                </a:cubicBezTo>
                <a:cubicBezTo>
                  <a:pt x="11790" y="16777"/>
                  <a:pt x="11954" y="16764"/>
                  <a:pt x="12128" y="16764"/>
                </a:cubicBezTo>
                <a:cubicBezTo>
                  <a:pt x="12329" y="16764"/>
                  <a:pt x="12534" y="16793"/>
                  <a:pt x="12732" y="16828"/>
                </a:cubicBezTo>
                <a:cubicBezTo>
                  <a:pt x="12934" y="16864"/>
                  <a:pt x="13135" y="16883"/>
                  <a:pt x="13335" y="16923"/>
                </a:cubicBezTo>
                <a:cubicBezTo>
                  <a:pt x="13497" y="16956"/>
                  <a:pt x="13646" y="17012"/>
                  <a:pt x="13811" y="17018"/>
                </a:cubicBezTo>
                <a:cubicBezTo>
                  <a:pt x="13919" y="17022"/>
                  <a:pt x="14008" y="17008"/>
                  <a:pt x="14097" y="16986"/>
                </a:cubicBezTo>
                <a:cubicBezTo>
                  <a:pt x="14044" y="16986"/>
                  <a:pt x="14118" y="16986"/>
                  <a:pt x="14065" y="16986"/>
                </a:cubicBezTo>
                <a:cubicBezTo>
                  <a:pt x="13681" y="16986"/>
                  <a:pt x="13302" y="16992"/>
                  <a:pt x="12922" y="17018"/>
                </a:cubicBezTo>
                <a:cubicBezTo>
                  <a:pt x="12704" y="17033"/>
                  <a:pt x="12503" y="17074"/>
                  <a:pt x="12287" y="17113"/>
                </a:cubicBezTo>
                <a:cubicBezTo>
                  <a:pt x="12056" y="17155"/>
                  <a:pt x="11844" y="17212"/>
                  <a:pt x="11620" y="17272"/>
                </a:cubicBezTo>
                <a:cubicBezTo>
                  <a:pt x="11475" y="17311"/>
                  <a:pt x="11323" y="17337"/>
                  <a:pt x="11176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52 people attended a ball game.  There were three times as many children as adults.  Set up a system of equations that represents the numbers of adults and children who attended the game and solve the system to find the number of children who were in the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a = c + 3; 39 adults and 25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a = 3c; 39 adults and 13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c = a + 3; 25 adults and 39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c = 3a; 13 adults and 39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4"/>
          <p:cNvSpPr/>
          <p:nvPr/>
        </p:nvSpPr>
        <p:spPr>
          <a:xfrm>
            <a:off x="903240" y="3303720"/>
            <a:ext cx="1851120" cy="549000"/>
          </a:xfrm>
          <a:custGeom>
            <a:avLst/>
            <a:gdLst/>
            <a:ahLst/>
            <a:rect l="l" t="t" r="r" b="b"/>
            <a:pathLst>
              <a:path w="5145" h="1525">
                <a:moveTo>
                  <a:pt x="3016" y="9906"/>
                </a:moveTo>
                <a:cubicBezTo>
                  <a:pt x="3016" y="9827"/>
                  <a:pt x="3003" y="9791"/>
                  <a:pt x="2984" y="9716"/>
                </a:cubicBezTo>
                <a:cubicBezTo>
                  <a:pt x="2978" y="9693"/>
                  <a:pt x="2926" y="9584"/>
                  <a:pt x="2889" y="9588"/>
                </a:cubicBezTo>
                <a:cubicBezTo>
                  <a:pt x="2833" y="9594"/>
                  <a:pt x="2737" y="9669"/>
                  <a:pt x="2699" y="9716"/>
                </a:cubicBezTo>
                <a:cubicBezTo>
                  <a:pt x="2612" y="9825"/>
                  <a:pt x="2576" y="9964"/>
                  <a:pt x="2540" y="10096"/>
                </a:cubicBezTo>
                <a:cubicBezTo>
                  <a:pt x="2500" y="10242"/>
                  <a:pt x="2494" y="10368"/>
                  <a:pt x="2540" y="10509"/>
                </a:cubicBezTo>
                <a:cubicBezTo>
                  <a:pt x="2566" y="10587"/>
                  <a:pt x="2564" y="10605"/>
                  <a:pt x="2604" y="10636"/>
                </a:cubicBezTo>
                <a:cubicBezTo>
                  <a:pt x="2702" y="10636"/>
                  <a:pt x="2772" y="10604"/>
                  <a:pt x="2826" y="10509"/>
                </a:cubicBezTo>
                <a:cubicBezTo>
                  <a:pt x="2885" y="10406"/>
                  <a:pt x="2931" y="10215"/>
                  <a:pt x="2953" y="10096"/>
                </a:cubicBezTo>
                <a:cubicBezTo>
                  <a:pt x="2961" y="10051"/>
                  <a:pt x="2953" y="9788"/>
                  <a:pt x="2953" y="9842"/>
                </a:cubicBezTo>
                <a:cubicBezTo>
                  <a:pt x="2953" y="9955"/>
                  <a:pt x="2933" y="10052"/>
                  <a:pt x="2921" y="10160"/>
                </a:cubicBezTo>
                <a:cubicBezTo>
                  <a:pt x="2908" y="10280"/>
                  <a:pt x="2910" y="10404"/>
                  <a:pt x="2921" y="10509"/>
                </a:cubicBezTo>
                <a:cubicBezTo>
                  <a:pt x="2928" y="10572"/>
                  <a:pt x="2910" y="10635"/>
                  <a:pt x="2984" y="10668"/>
                </a:cubicBezTo>
                <a:cubicBezTo>
                  <a:pt x="3055" y="10700"/>
                  <a:pt x="3163" y="10571"/>
                  <a:pt x="3207" y="10541"/>
                </a:cubicBezTo>
                <a:cubicBezTo>
                  <a:pt x="3228" y="10530"/>
                  <a:pt x="3249" y="10520"/>
                  <a:pt x="3270" y="10509"/>
                </a:cubicBezTo>
              </a:path>
              <a:path w="5145" h="1525">
                <a:moveTo>
                  <a:pt x="3937" y="9779"/>
                </a:moveTo>
                <a:cubicBezTo>
                  <a:pt x="3924" y="9897"/>
                  <a:pt x="3890" y="10011"/>
                  <a:pt x="3874" y="10128"/>
                </a:cubicBezTo>
                <a:cubicBezTo>
                  <a:pt x="3858" y="10251"/>
                  <a:pt x="3874" y="10385"/>
                  <a:pt x="3874" y="10509"/>
                </a:cubicBezTo>
              </a:path>
              <a:path w="5145" h="1525">
                <a:moveTo>
                  <a:pt x="3620" y="10096"/>
                </a:moveTo>
                <a:cubicBezTo>
                  <a:pt x="3768" y="10096"/>
                  <a:pt x="3916" y="10096"/>
                  <a:pt x="4064" y="10096"/>
                </a:cubicBezTo>
              </a:path>
              <a:path w="5145" h="1525">
                <a:moveTo>
                  <a:pt x="4890" y="9620"/>
                </a:moveTo>
                <a:cubicBezTo>
                  <a:pt x="4944" y="9638"/>
                  <a:pt x="4948" y="9711"/>
                  <a:pt x="4953" y="9779"/>
                </a:cubicBezTo>
                <a:cubicBezTo>
                  <a:pt x="4959" y="9852"/>
                  <a:pt x="4943" y="9881"/>
                  <a:pt x="4985" y="9938"/>
                </a:cubicBezTo>
                <a:cubicBezTo>
                  <a:pt x="4985" y="9882"/>
                  <a:pt x="4974" y="9793"/>
                  <a:pt x="4953" y="9747"/>
                </a:cubicBezTo>
                <a:cubicBezTo>
                  <a:pt x="4914" y="9664"/>
                  <a:pt x="4844" y="9677"/>
                  <a:pt x="4794" y="9684"/>
                </a:cubicBezTo>
                <a:cubicBezTo>
                  <a:pt x="4693" y="9698"/>
                  <a:pt x="4596" y="9744"/>
                  <a:pt x="4540" y="9842"/>
                </a:cubicBezTo>
                <a:cubicBezTo>
                  <a:pt x="4476" y="9955"/>
                  <a:pt x="4451" y="10128"/>
                  <a:pt x="4445" y="10255"/>
                </a:cubicBezTo>
                <a:cubicBezTo>
                  <a:pt x="4441" y="10341"/>
                  <a:pt x="4482" y="10451"/>
                  <a:pt x="4572" y="10478"/>
                </a:cubicBezTo>
                <a:cubicBezTo>
                  <a:pt x="4651" y="10501"/>
                  <a:pt x="4795" y="10457"/>
                  <a:pt x="4858" y="10414"/>
                </a:cubicBezTo>
                <a:cubicBezTo>
                  <a:pt x="4949" y="10353"/>
                  <a:pt x="5015" y="10346"/>
                  <a:pt x="5080" y="10255"/>
                </a:cubicBezTo>
              </a:path>
              <a:path w="5145" h="1525">
                <a:moveTo>
                  <a:pt x="5302" y="9779"/>
                </a:moveTo>
                <a:cubicBezTo>
                  <a:pt x="5360" y="9779"/>
                  <a:pt x="5378" y="9751"/>
                  <a:pt x="5429" y="9747"/>
                </a:cubicBezTo>
                <a:cubicBezTo>
                  <a:pt x="5540" y="9739"/>
                  <a:pt x="5646" y="9741"/>
                  <a:pt x="5747" y="9779"/>
                </a:cubicBezTo>
              </a:path>
              <a:path w="5145" h="1525">
                <a:moveTo>
                  <a:pt x="5334" y="10128"/>
                </a:moveTo>
                <a:cubicBezTo>
                  <a:pt x="5488" y="10128"/>
                  <a:pt x="5632" y="10119"/>
                  <a:pt x="5778" y="10096"/>
                </a:cubicBezTo>
                <a:cubicBezTo>
                  <a:pt x="5799" y="10096"/>
                  <a:pt x="5821" y="10096"/>
                  <a:pt x="5842" y="10096"/>
                </a:cubicBezTo>
              </a:path>
              <a:path w="5145" h="1525">
                <a:moveTo>
                  <a:pt x="6922" y="9398"/>
                </a:moveTo>
                <a:cubicBezTo>
                  <a:pt x="6866" y="9356"/>
                  <a:pt x="6837" y="9366"/>
                  <a:pt x="6763" y="9366"/>
                </a:cubicBezTo>
                <a:cubicBezTo>
                  <a:pt x="6636" y="9366"/>
                  <a:pt x="6509" y="9366"/>
                  <a:pt x="6382" y="9366"/>
                </a:cubicBezTo>
                <a:cubicBezTo>
                  <a:pt x="6382" y="9486"/>
                  <a:pt x="6378" y="9573"/>
                  <a:pt x="6350" y="9684"/>
                </a:cubicBezTo>
                <a:cubicBezTo>
                  <a:pt x="6348" y="9694"/>
                  <a:pt x="6322" y="9808"/>
                  <a:pt x="6318" y="9811"/>
                </a:cubicBezTo>
                <a:cubicBezTo>
                  <a:pt x="6286" y="9811"/>
                  <a:pt x="6276" y="9811"/>
                  <a:pt x="6286" y="9842"/>
                </a:cubicBezTo>
                <a:cubicBezTo>
                  <a:pt x="6293" y="9822"/>
                  <a:pt x="6316" y="9764"/>
                  <a:pt x="6350" y="9747"/>
                </a:cubicBezTo>
                <a:cubicBezTo>
                  <a:pt x="6394" y="9725"/>
                  <a:pt x="6453" y="9688"/>
                  <a:pt x="6509" y="9684"/>
                </a:cubicBezTo>
                <a:cubicBezTo>
                  <a:pt x="6602" y="9678"/>
                  <a:pt x="6656" y="9691"/>
                  <a:pt x="6731" y="9747"/>
                </a:cubicBezTo>
                <a:cubicBezTo>
                  <a:pt x="6798" y="9797"/>
                  <a:pt x="6823" y="9894"/>
                  <a:pt x="6826" y="9970"/>
                </a:cubicBezTo>
                <a:cubicBezTo>
                  <a:pt x="6832" y="10106"/>
                  <a:pt x="6824" y="10155"/>
                  <a:pt x="6731" y="10255"/>
                </a:cubicBezTo>
                <a:cubicBezTo>
                  <a:pt x="6672" y="10318"/>
                  <a:pt x="6598" y="10394"/>
                  <a:pt x="6509" y="10414"/>
                </a:cubicBezTo>
                <a:cubicBezTo>
                  <a:pt x="6419" y="10434"/>
                  <a:pt x="6377" y="10408"/>
                  <a:pt x="6318" y="10350"/>
                </a:cubicBezTo>
                <a:cubicBezTo>
                  <a:pt x="6266" y="10299"/>
                  <a:pt x="6286" y="10231"/>
                  <a:pt x="6286" y="10160"/>
                </a:cubicBezTo>
              </a:path>
              <a:path w="5145" h="1525">
                <a:moveTo>
                  <a:pt x="7048" y="9588"/>
                </a:moveTo>
                <a:cubicBezTo>
                  <a:pt x="7048" y="9535"/>
                  <a:pt x="7061" y="9505"/>
                  <a:pt x="7080" y="9462"/>
                </a:cubicBezTo>
                <a:cubicBezTo>
                  <a:pt x="7123" y="9363"/>
                  <a:pt x="7177" y="9366"/>
                  <a:pt x="7271" y="9366"/>
                </a:cubicBezTo>
                <a:cubicBezTo>
                  <a:pt x="7372" y="9366"/>
                  <a:pt x="7376" y="9496"/>
                  <a:pt x="7398" y="9557"/>
                </a:cubicBezTo>
                <a:cubicBezTo>
                  <a:pt x="7427" y="9638"/>
                  <a:pt x="7418" y="9790"/>
                  <a:pt x="7366" y="9874"/>
                </a:cubicBezTo>
                <a:cubicBezTo>
                  <a:pt x="7300" y="9979"/>
                  <a:pt x="7217" y="10058"/>
                  <a:pt x="7144" y="10160"/>
                </a:cubicBezTo>
                <a:cubicBezTo>
                  <a:pt x="7081" y="10248"/>
                  <a:pt x="7034" y="10316"/>
                  <a:pt x="6922" y="10350"/>
                </a:cubicBezTo>
                <a:cubicBezTo>
                  <a:pt x="6890" y="10350"/>
                  <a:pt x="6879" y="10350"/>
                  <a:pt x="6858" y="10350"/>
                </a:cubicBezTo>
                <a:cubicBezTo>
                  <a:pt x="6874" y="10287"/>
                  <a:pt x="6889" y="10287"/>
                  <a:pt x="6953" y="10287"/>
                </a:cubicBezTo>
                <a:cubicBezTo>
                  <a:pt x="7061" y="10287"/>
                  <a:pt x="7028" y="10313"/>
                  <a:pt x="7112" y="10350"/>
                </a:cubicBezTo>
                <a:cubicBezTo>
                  <a:pt x="7170" y="10375"/>
                  <a:pt x="7200" y="10414"/>
                  <a:pt x="7271" y="10414"/>
                </a:cubicBezTo>
                <a:cubicBezTo>
                  <a:pt x="7349" y="10414"/>
                  <a:pt x="7398" y="10418"/>
                  <a:pt x="7461" y="10382"/>
                </a:cubicBezTo>
                <a:cubicBezTo>
                  <a:pt x="7508" y="10355"/>
                  <a:pt x="7595" y="10311"/>
                  <a:pt x="7620" y="10255"/>
                </a:cubicBezTo>
                <a:cubicBezTo>
                  <a:pt x="7644" y="10203"/>
                  <a:pt x="7652" y="10161"/>
                  <a:pt x="7652" y="10096"/>
                </a:cubicBezTo>
              </a:path>
              <a:path w="5145" h="1525">
                <a:moveTo>
                  <a:pt x="4286" y="9239"/>
                </a:moveTo>
                <a:cubicBezTo>
                  <a:pt x="4286" y="9343"/>
                  <a:pt x="4269" y="9429"/>
                  <a:pt x="4254" y="9525"/>
                </a:cubicBezTo>
                <a:cubicBezTo>
                  <a:pt x="4238" y="9627"/>
                  <a:pt x="4243" y="9741"/>
                  <a:pt x="4223" y="9842"/>
                </a:cubicBezTo>
                <a:cubicBezTo>
                  <a:pt x="4202" y="9953"/>
                  <a:pt x="4188" y="10085"/>
                  <a:pt x="4159" y="10192"/>
                </a:cubicBezTo>
                <a:cubicBezTo>
                  <a:pt x="4136" y="10279"/>
                  <a:pt x="4101" y="10354"/>
                  <a:pt x="4096" y="10446"/>
                </a:cubicBezTo>
                <a:cubicBezTo>
                  <a:pt x="4093" y="10493"/>
                  <a:pt x="4055" y="10527"/>
                  <a:pt x="4064" y="10573"/>
                </a:cubicBezTo>
                <a:cubicBezTo>
                  <a:pt x="4074" y="10623"/>
                  <a:pt x="4084" y="10674"/>
                  <a:pt x="4128" y="10700"/>
                </a:cubicBezTo>
                <a:cubicBezTo>
                  <a:pt x="4189" y="10735"/>
                  <a:pt x="4298" y="10677"/>
                  <a:pt x="4350" y="10668"/>
                </a:cubicBezTo>
                <a:cubicBezTo>
                  <a:pt x="4507" y="10642"/>
                  <a:pt x="4689" y="10680"/>
                  <a:pt x="4826" y="10700"/>
                </a:cubicBezTo>
                <a:cubicBezTo>
                  <a:pt x="4900" y="10711"/>
                  <a:pt x="4993" y="10712"/>
                  <a:pt x="5048" y="10668"/>
                </a:cubicBezTo>
                <a:cubicBezTo>
                  <a:pt x="5091" y="10634"/>
                  <a:pt x="5109" y="10528"/>
                  <a:pt x="5112" y="10478"/>
                </a:cubicBezTo>
                <a:cubicBezTo>
                  <a:pt x="5117" y="10386"/>
                  <a:pt x="5139" y="10312"/>
                  <a:pt x="5144" y="10224"/>
                </a:cubicBezTo>
                <a:cubicBezTo>
                  <a:pt x="5150" y="10125"/>
                  <a:pt x="5175" y="10039"/>
                  <a:pt x="5175" y="9938"/>
                </a:cubicBezTo>
                <a:cubicBezTo>
                  <a:pt x="5175" y="9827"/>
                  <a:pt x="5223" y="9728"/>
                  <a:pt x="5239" y="9620"/>
                </a:cubicBezTo>
                <a:cubicBezTo>
                  <a:pt x="5251" y="9536"/>
                  <a:pt x="5260" y="9449"/>
                  <a:pt x="5270" y="9366"/>
                </a:cubicBezTo>
                <a:cubicBezTo>
                  <a:pt x="5279" y="9296"/>
                  <a:pt x="5264" y="9270"/>
                  <a:pt x="5239" y="9239"/>
                </a:cubicBezTo>
                <a:cubicBezTo>
                  <a:pt x="5212" y="9206"/>
                  <a:pt x="5224" y="9190"/>
                  <a:pt x="5175" y="9176"/>
                </a:cubicBezTo>
                <a:cubicBezTo>
                  <a:pt x="5113" y="9158"/>
                  <a:pt x="5061" y="9199"/>
                  <a:pt x="5016" y="9208"/>
                </a:cubicBezTo>
                <a:cubicBezTo>
                  <a:pt x="4921" y="9227"/>
                  <a:pt x="4826" y="9249"/>
                  <a:pt x="4731" y="9271"/>
                </a:cubicBezTo>
                <a:cubicBezTo>
                  <a:pt x="4598" y="9302"/>
                  <a:pt x="4524" y="9334"/>
                  <a:pt x="4382" y="9334"/>
                </a:cubicBezTo>
                <a:cubicBezTo>
                  <a:pt x="4361" y="9334"/>
                  <a:pt x="4339" y="9334"/>
                  <a:pt x="4318" y="9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5"/>
          <p:cNvSpPr/>
          <p:nvPr/>
        </p:nvSpPr>
        <p:spPr>
          <a:xfrm>
            <a:off x="3543480" y="3325680"/>
            <a:ext cx="1496880" cy="457200"/>
          </a:xfrm>
          <a:custGeom>
            <a:avLst/>
            <a:gdLst/>
            <a:ahLst/>
            <a:rect l="l" t="t" r="r" b="b"/>
            <a:pathLst>
              <a:path w="4161" h="1271">
                <a:moveTo>
                  <a:pt x="10287" y="9620"/>
                </a:moveTo>
                <a:lnTo>
                  <a:pt x="10287" y="9620"/>
                </a:lnTo>
              </a:path>
              <a:path w="4161" h="1271">
                <a:moveTo>
                  <a:pt x="10287" y="9620"/>
                </a:moveTo>
                <a:cubicBezTo>
                  <a:pt x="10287" y="9609"/>
                  <a:pt x="10287" y="9599"/>
                  <a:pt x="10287" y="9588"/>
                </a:cubicBezTo>
              </a:path>
              <a:path w="4161" h="1271">
                <a:moveTo>
                  <a:pt x="10287" y="9588"/>
                </a:moveTo>
                <a:cubicBezTo>
                  <a:pt x="10287" y="9508"/>
                  <a:pt x="10261" y="9473"/>
                  <a:pt x="10255" y="9398"/>
                </a:cubicBezTo>
                <a:cubicBezTo>
                  <a:pt x="10252" y="9364"/>
                  <a:pt x="10224" y="9338"/>
                  <a:pt x="10192" y="9303"/>
                </a:cubicBezTo>
                <a:cubicBezTo>
                  <a:pt x="10181" y="9292"/>
                  <a:pt x="10171" y="9282"/>
                  <a:pt x="10160" y="9271"/>
                </a:cubicBezTo>
                <a:cubicBezTo>
                  <a:pt x="10113" y="9306"/>
                  <a:pt x="10079" y="9320"/>
                  <a:pt x="10033" y="9366"/>
                </a:cubicBezTo>
                <a:cubicBezTo>
                  <a:pt x="9977" y="9422"/>
                  <a:pt x="9936" y="9542"/>
                  <a:pt x="9906" y="9620"/>
                </a:cubicBezTo>
                <a:cubicBezTo>
                  <a:pt x="9848" y="9769"/>
                  <a:pt x="9861" y="9951"/>
                  <a:pt x="9874" y="10096"/>
                </a:cubicBezTo>
                <a:cubicBezTo>
                  <a:pt x="9878" y="10140"/>
                  <a:pt x="9889" y="10231"/>
                  <a:pt x="9938" y="10255"/>
                </a:cubicBezTo>
                <a:cubicBezTo>
                  <a:pt x="9949" y="10255"/>
                  <a:pt x="9959" y="10255"/>
                  <a:pt x="9970" y="10255"/>
                </a:cubicBezTo>
                <a:cubicBezTo>
                  <a:pt x="10049" y="10235"/>
                  <a:pt x="10088" y="10168"/>
                  <a:pt x="10128" y="10096"/>
                </a:cubicBezTo>
                <a:cubicBezTo>
                  <a:pt x="10189" y="9988"/>
                  <a:pt x="10239" y="9839"/>
                  <a:pt x="10255" y="9716"/>
                </a:cubicBezTo>
                <a:cubicBezTo>
                  <a:pt x="10270" y="9604"/>
                  <a:pt x="10287" y="9514"/>
                  <a:pt x="10287" y="9398"/>
                </a:cubicBezTo>
                <a:cubicBezTo>
                  <a:pt x="10287" y="9312"/>
                  <a:pt x="10287" y="9506"/>
                  <a:pt x="10287" y="9525"/>
                </a:cubicBezTo>
                <a:cubicBezTo>
                  <a:pt x="10287" y="9665"/>
                  <a:pt x="10255" y="9794"/>
                  <a:pt x="10255" y="9938"/>
                </a:cubicBezTo>
                <a:cubicBezTo>
                  <a:pt x="10255" y="10108"/>
                  <a:pt x="10237" y="10296"/>
                  <a:pt x="10287" y="10446"/>
                </a:cubicBezTo>
                <a:cubicBezTo>
                  <a:pt x="10287" y="10457"/>
                  <a:pt x="10287" y="10467"/>
                  <a:pt x="10287" y="10478"/>
                </a:cubicBezTo>
                <a:cubicBezTo>
                  <a:pt x="10358" y="10460"/>
                  <a:pt x="10376" y="10416"/>
                  <a:pt x="10414" y="10350"/>
                </a:cubicBezTo>
              </a:path>
              <a:path w="4161" h="1271">
                <a:moveTo>
                  <a:pt x="10763" y="9493"/>
                </a:moveTo>
                <a:cubicBezTo>
                  <a:pt x="10748" y="9572"/>
                  <a:pt x="10732" y="9631"/>
                  <a:pt x="10732" y="9716"/>
                </a:cubicBezTo>
                <a:cubicBezTo>
                  <a:pt x="10732" y="9871"/>
                  <a:pt x="10730" y="10014"/>
                  <a:pt x="10763" y="10160"/>
                </a:cubicBezTo>
                <a:cubicBezTo>
                  <a:pt x="10763" y="10192"/>
                  <a:pt x="10763" y="10203"/>
                  <a:pt x="10763" y="10224"/>
                </a:cubicBezTo>
              </a:path>
              <a:path w="4161" h="1271">
                <a:moveTo>
                  <a:pt x="10541" y="9970"/>
                </a:moveTo>
                <a:cubicBezTo>
                  <a:pt x="10582" y="9960"/>
                  <a:pt x="10627" y="9953"/>
                  <a:pt x="10668" y="9938"/>
                </a:cubicBezTo>
                <a:cubicBezTo>
                  <a:pt x="10725" y="9918"/>
                  <a:pt x="10775" y="9872"/>
                  <a:pt x="10827" y="9842"/>
                </a:cubicBezTo>
              </a:path>
              <a:path w="4161" h="1271">
                <a:moveTo>
                  <a:pt x="11017" y="9588"/>
                </a:moveTo>
                <a:cubicBezTo>
                  <a:pt x="11065" y="9525"/>
                  <a:pt x="11039" y="9478"/>
                  <a:pt x="11081" y="9398"/>
                </a:cubicBezTo>
                <a:cubicBezTo>
                  <a:pt x="11111" y="9340"/>
                  <a:pt x="11183" y="9263"/>
                  <a:pt x="11240" y="9239"/>
                </a:cubicBezTo>
                <a:cubicBezTo>
                  <a:pt x="11271" y="9239"/>
                  <a:pt x="11282" y="9239"/>
                  <a:pt x="11303" y="9239"/>
                </a:cubicBezTo>
                <a:cubicBezTo>
                  <a:pt x="11361" y="9335"/>
                  <a:pt x="11346" y="9351"/>
                  <a:pt x="11335" y="9462"/>
                </a:cubicBezTo>
                <a:cubicBezTo>
                  <a:pt x="11322" y="9591"/>
                  <a:pt x="11262" y="9666"/>
                  <a:pt x="11208" y="9779"/>
                </a:cubicBezTo>
                <a:cubicBezTo>
                  <a:pt x="11180" y="9837"/>
                  <a:pt x="11156" y="9862"/>
                  <a:pt x="11112" y="9906"/>
                </a:cubicBezTo>
                <a:cubicBezTo>
                  <a:pt x="11122" y="9866"/>
                  <a:pt x="11161" y="9764"/>
                  <a:pt x="11208" y="9747"/>
                </a:cubicBezTo>
                <a:cubicBezTo>
                  <a:pt x="11274" y="9723"/>
                  <a:pt x="11340" y="9701"/>
                  <a:pt x="11398" y="9747"/>
                </a:cubicBezTo>
                <a:cubicBezTo>
                  <a:pt x="11456" y="9793"/>
                  <a:pt x="11483" y="9902"/>
                  <a:pt x="11494" y="9970"/>
                </a:cubicBezTo>
                <a:cubicBezTo>
                  <a:pt x="11508" y="10056"/>
                  <a:pt x="11501" y="10178"/>
                  <a:pt x="11462" y="10255"/>
                </a:cubicBezTo>
                <a:cubicBezTo>
                  <a:pt x="11441" y="10296"/>
                  <a:pt x="11382" y="10393"/>
                  <a:pt x="11335" y="10414"/>
                </a:cubicBezTo>
                <a:cubicBezTo>
                  <a:pt x="11270" y="10443"/>
                  <a:pt x="11193" y="10398"/>
                  <a:pt x="11144" y="10382"/>
                </a:cubicBezTo>
                <a:cubicBezTo>
                  <a:pt x="11108" y="10382"/>
                  <a:pt x="11094" y="10379"/>
                  <a:pt x="11081" y="10350"/>
                </a:cubicBezTo>
              </a:path>
              <a:path w="4161" h="1271">
                <a:moveTo>
                  <a:pt x="11874" y="9811"/>
                </a:moveTo>
                <a:cubicBezTo>
                  <a:pt x="11862" y="9762"/>
                  <a:pt x="11846" y="9723"/>
                  <a:pt x="11811" y="9684"/>
                </a:cubicBezTo>
                <a:cubicBezTo>
                  <a:pt x="11771" y="9639"/>
                  <a:pt x="11738" y="9602"/>
                  <a:pt x="11684" y="9588"/>
                </a:cubicBezTo>
                <a:cubicBezTo>
                  <a:pt x="11636" y="9652"/>
                  <a:pt x="11623" y="9732"/>
                  <a:pt x="11589" y="9811"/>
                </a:cubicBezTo>
                <a:cubicBezTo>
                  <a:pt x="11538" y="9929"/>
                  <a:pt x="11500" y="10060"/>
                  <a:pt x="11525" y="10192"/>
                </a:cubicBezTo>
                <a:cubicBezTo>
                  <a:pt x="11538" y="10264"/>
                  <a:pt x="11551" y="10301"/>
                  <a:pt x="11589" y="10350"/>
                </a:cubicBezTo>
                <a:cubicBezTo>
                  <a:pt x="11647" y="10350"/>
                  <a:pt x="11681" y="10341"/>
                  <a:pt x="11716" y="10287"/>
                </a:cubicBezTo>
                <a:cubicBezTo>
                  <a:pt x="11809" y="10145"/>
                  <a:pt x="11802" y="9964"/>
                  <a:pt x="11843" y="9811"/>
                </a:cubicBezTo>
                <a:cubicBezTo>
                  <a:pt x="11868" y="9759"/>
                  <a:pt x="11879" y="9751"/>
                  <a:pt x="11874" y="9716"/>
                </a:cubicBezTo>
                <a:cubicBezTo>
                  <a:pt x="11816" y="9735"/>
                  <a:pt x="11843" y="9838"/>
                  <a:pt x="11843" y="9906"/>
                </a:cubicBezTo>
                <a:cubicBezTo>
                  <a:pt x="11843" y="10002"/>
                  <a:pt x="11822" y="10107"/>
                  <a:pt x="11874" y="10192"/>
                </a:cubicBezTo>
                <a:cubicBezTo>
                  <a:pt x="11911" y="10253"/>
                  <a:pt x="11966" y="10232"/>
                  <a:pt x="12002" y="10224"/>
                </a:cubicBezTo>
                <a:cubicBezTo>
                  <a:pt x="12047" y="10224"/>
                  <a:pt x="12069" y="10218"/>
                  <a:pt x="12097" y="10192"/>
                </a:cubicBezTo>
              </a:path>
              <a:path w="4161" h="1271">
                <a:moveTo>
                  <a:pt x="12256" y="9747"/>
                </a:moveTo>
                <a:lnTo>
                  <a:pt x="12256" y="9747"/>
                </a:lnTo>
              </a:path>
              <a:path w="4161" h="1271">
                <a:moveTo>
                  <a:pt x="12256" y="9747"/>
                </a:moveTo>
                <a:lnTo>
                  <a:pt x="12256" y="9747"/>
                </a:lnTo>
              </a:path>
              <a:path w="4161" h="1271">
                <a:moveTo>
                  <a:pt x="12287" y="9747"/>
                </a:moveTo>
                <a:cubicBezTo>
                  <a:pt x="12384" y="9747"/>
                  <a:pt x="12450" y="9738"/>
                  <a:pt x="12541" y="9716"/>
                </a:cubicBezTo>
                <a:cubicBezTo>
                  <a:pt x="12568" y="9709"/>
                  <a:pt x="12608" y="9716"/>
                  <a:pt x="12636" y="9716"/>
                </a:cubicBezTo>
              </a:path>
              <a:path w="4161" h="1271">
                <a:moveTo>
                  <a:pt x="12319" y="10033"/>
                </a:moveTo>
                <a:cubicBezTo>
                  <a:pt x="12380" y="10033"/>
                  <a:pt x="12420" y="10007"/>
                  <a:pt x="12478" y="10001"/>
                </a:cubicBezTo>
                <a:cubicBezTo>
                  <a:pt x="12545" y="9994"/>
                  <a:pt x="12596" y="9970"/>
                  <a:pt x="12668" y="9970"/>
                </a:cubicBezTo>
                <a:cubicBezTo>
                  <a:pt x="12689" y="9970"/>
                  <a:pt x="12711" y="9970"/>
                  <a:pt x="12732" y="9970"/>
                </a:cubicBezTo>
              </a:path>
              <a:path w="4161" h="1271">
                <a:moveTo>
                  <a:pt x="13272" y="9462"/>
                </a:moveTo>
                <a:cubicBezTo>
                  <a:pt x="13231" y="9475"/>
                  <a:pt x="13228" y="9474"/>
                  <a:pt x="13176" y="9493"/>
                </a:cubicBezTo>
                <a:cubicBezTo>
                  <a:pt x="13146" y="9504"/>
                  <a:pt x="13044" y="9511"/>
                  <a:pt x="13018" y="9525"/>
                </a:cubicBezTo>
                <a:cubicBezTo>
                  <a:pt x="12947" y="9565"/>
                  <a:pt x="12966" y="9544"/>
                  <a:pt x="12890" y="9525"/>
                </a:cubicBezTo>
                <a:cubicBezTo>
                  <a:pt x="12890" y="9587"/>
                  <a:pt x="12868" y="9636"/>
                  <a:pt x="12859" y="9684"/>
                </a:cubicBezTo>
                <a:cubicBezTo>
                  <a:pt x="12842" y="9772"/>
                  <a:pt x="12849" y="9852"/>
                  <a:pt x="12827" y="9938"/>
                </a:cubicBezTo>
                <a:cubicBezTo>
                  <a:pt x="12827" y="9970"/>
                  <a:pt x="12827" y="9980"/>
                  <a:pt x="12827" y="10001"/>
                </a:cubicBezTo>
                <a:cubicBezTo>
                  <a:pt x="12878" y="9985"/>
                  <a:pt x="12847" y="9955"/>
                  <a:pt x="12890" y="9906"/>
                </a:cubicBezTo>
                <a:cubicBezTo>
                  <a:pt x="12927" y="9864"/>
                  <a:pt x="12964" y="9817"/>
                  <a:pt x="13018" y="9811"/>
                </a:cubicBezTo>
                <a:cubicBezTo>
                  <a:pt x="13079" y="9804"/>
                  <a:pt x="13096" y="9815"/>
                  <a:pt x="13144" y="9842"/>
                </a:cubicBezTo>
                <a:cubicBezTo>
                  <a:pt x="13208" y="9878"/>
                  <a:pt x="13254" y="9951"/>
                  <a:pt x="13272" y="10033"/>
                </a:cubicBezTo>
                <a:cubicBezTo>
                  <a:pt x="13286" y="10097"/>
                  <a:pt x="13259" y="10200"/>
                  <a:pt x="13240" y="10255"/>
                </a:cubicBezTo>
                <a:cubicBezTo>
                  <a:pt x="13214" y="10334"/>
                  <a:pt x="13123" y="10447"/>
                  <a:pt x="13049" y="10478"/>
                </a:cubicBezTo>
                <a:cubicBezTo>
                  <a:pt x="13012" y="10494"/>
                  <a:pt x="12953" y="10515"/>
                  <a:pt x="12922" y="10478"/>
                </a:cubicBezTo>
                <a:cubicBezTo>
                  <a:pt x="12896" y="10426"/>
                  <a:pt x="12885" y="10418"/>
                  <a:pt x="12890" y="10382"/>
                </a:cubicBezTo>
              </a:path>
              <a:path w="4161" h="1271">
                <a:moveTo>
                  <a:pt x="13367" y="9716"/>
                </a:moveTo>
                <a:cubicBezTo>
                  <a:pt x="13386" y="9638"/>
                  <a:pt x="13438" y="9602"/>
                  <a:pt x="13494" y="9557"/>
                </a:cubicBezTo>
                <a:cubicBezTo>
                  <a:pt x="13556" y="9507"/>
                  <a:pt x="13588" y="9467"/>
                  <a:pt x="13652" y="9525"/>
                </a:cubicBezTo>
                <a:cubicBezTo>
                  <a:pt x="13714" y="9581"/>
                  <a:pt x="13734" y="9665"/>
                  <a:pt x="13716" y="9747"/>
                </a:cubicBezTo>
                <a:cubicBezTo>
                  <a:pt x="13688" y="9875"/>
                  <a:pt x="13601" y="9975"/>
                  <a:pt x="13557" y="10096"/>
                </a:cubicBezTo>
                <a:cubicBezTo>
                  <a:pt x="13522" y="10193"/>
                  <a:pt x="13471" y="10294"/>
                  <a:pt x="13430" y="10382"/>
                </a:cubicBezTo>
                <a:cubicBezTo>
                  <a:pt x="13398" y="10450"/>
                  <a:pt x="13450" y="10379"/>
                  <a:pt x="13494" y="10350"/>
                </a:cubicBezTo>
                <a:cubicBezTo>
                  <a:pt x="13553" y="10312"/>
                  <a:pt x="13577" y="10293"/>
                  <a:pt x="13652" y="10287"/>
                </a:cubicBezTo>
                <a:cubicBezTo>
                  <a:pt x="13712" y="10282"/>
                  <a:pt x="13765" y="10285"/>
                  <a:pt x="13811" y="10255"/>
                </a:cubicBezTo>
                <a:cubicBezTo>
                  <a:pt x="13852" y="10228"/>
                  <a:pt x="13902" y="10216"/>
                  <a:pt x="13938" y="10192"/>
                </a:cubicBezTo>
                <a:cubicBezTo>
                  <a:pt x="13979" y="10165"/>
                  <a:pt x="13992" y="10137"/>
                  <a:pt x="14002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6"/>
          <p:cNvSpPr/>
          <p:nvPr/>
        </p:nvSpPr>
        <p:spPr>
          <a:xfrm>
            <a:off x="1235160" y="3772080"/>
            <a:ext cx="1108080" cy="582480"/>
          </a:xfrm>
          <a:custGeom>
            <a:avLst/>
            <a:gdLst/>
            <a:ahLst/>
            <a:rect l="l" t="t" r="r" b="b"/>
            <a:pathLst>
              <a:path w="3081" h="1620">
                <a:moveTo>
                  <a:pt x="3874" y="10922"/>
                </a:moveTo>
                <a:cubicBezTo>
                  <a:pt x="3874" y="10980"/>
                  <a:pt x="3899" y="10997"/>
                  <a:pt x="3905" y="11049"/>
                </a:cubicBezTo>
                <a:cubicBezTo>
                  <a:pt x="3908" y="11080"/>
                  <a:pt x="3905" y="11113"/>
                  <a:pt x="3905" y="11144"/>
                </a:cubicBezTo>
                <a:cubicBezTo>
                  <a:pt x="3905" y="11066"/>
                  <a:pt x="3922" y="10982"/>
                  <a:pt x="3874" y="10922"/>
                </a:cubicBezTo>
                <a:cubicBezTo>
                  <a:pt x="3825" y="10861"/>
                  <a:pt x="3765" y="10913"/>
                  <a:pt x="3715" y="10954"/>
                </a:cubicBezTo>
                <a:cubicBezTo>
                  <a:pt x="3610" y="11040"/>
                  <a:pt x="3549" y="11111"/>
                  <a:pt x="3492" y="11240"/>
                </a:cubicBezTo>
                <a:cubicBezTo>
                  <a:pt x="3447" y="11343"/>
                  <a:pt x="3405" y="11475"/>
                  <a:pt x="3429" y="11589"/>
                </a:cubicBezTo>
                <a:cubicBezTo>
                  <a:pt x="3453" y="11703"/>
                  <a:pt x="3490" y="11759"/>
                  <a:pt x="3588" y="11811"/>
                </a:cubicBezTo>
                <a:cubicBezTo>
                  <a:pt x="3654" y="11846"/>
                  <a:pt x="3767" y="11864"/>
                  <a:pt x="3842" y="11843"/>
                </a:cubicBezTo>
                <a:cubicBezTo>
                  <a:pt x="3898" y="11827"/>
                  <a:pt x="3930" y="11786"/>
                  <a:pt x="3969" y="11748"/>
                </a:cubicBezTo>
              </a:path>
              <a:path w="3081" h="1620">
                <a:moveTo>
                  <a:pt x="4318" y="11176"/>
                </a:moveTo>
                <a:cubicBezTo>
                  <a:pt x="4318" y="11165"/>
                  <a:pt x="4318" y="11155"/>
                  <a:pt x="4318" y="11144"/>
                </a:cubicBezTo>
                <a:cubicBezTo>
                  <a:pt x="4466" y="11144"/>
                  <a:pt x="4614" y="11144"/>
                  <a:pt x="4762" y="11144"/>
                </a:cubicBezTo>
              </a:path>
              <a:path w="3081" h="1620">
                <a:moveTo>
                  <a:pt x="4350" y="11494"/>
                </a:moveTo>
                <a:cubicBezTo>
                  <a:pt x="4487" y="11494"/>
                  <a:pt x="4625" y="11494"/>
                  <a:pt x="4762" y="11494"/>
                </a:cubicBezTo>
              </a:path>
              <a:path w="3081" h="1620">
                <a:moveTo>
                  <a:pt x="5239" y="10858"/>
                </a:moveTo>
                <a:cubicBezTo>
                  <a:pt x="5210" y="10830"/>
                  <a:pt x="5199" y="10824"/>
                  <a:pt x="5207" y="10795"/>
                </a:cubicBezTo>
                <a:cubicBezTo>
                  <a:pt x="5261" y="10754"/>
                  <a:pt x="5294" y="10736"/>
                  <a:pt x="5366" y="10732"/>
                </a:cubicBezTo>
                <a:cubicBezTo>
                  <a:pt x="5450" y="10727"/>
                  <a:pt x="5523" y="10779"/>
                  <a:pt x="5588" y="10827"/>
                </a:cubicBezTo>
                <a:cubicBezTo>
                  <a:pt x="5667" y="10885"/>
                  <a:pt x="5668" y="10972"/>
                  <a:pt x="5620" y="11049"/>
                </a:cubicBezTo>
                <a:cubicBezTo>
                  <a:pt x="5575" y="11122"/>
                  <a:pt x="5537" y="11167"/>
                  <a:pt x="5461" y="11208"/>
                </a:cubicBezTo>
                <a:cubicBezTo>
                  <a:pt x="5393" y="11244"/>
                  <a:pt x="5343" y="11240"/>
                  <a:pt x="5270" y="11240"/>
                </a:cubicBezTo>
                <a:cubicBezTo>
                  <a:pt x="5260" y="11240"/>
                  <a:pt x="5249" y="11240"/>
                  <a:pt x="5239" y="11240"/>
                </a:cubicBezTo>
                <a:cubicBezTo>
                  <a:pt x="5337" y="11220"/>
                  <a:pt x="5363" y="11196"/>
                  <a:pt x="5461" y="11240"/>
                </a:cubicBezTo>
                <a:cubicBezTo>
                  <a:pt x="5562" y="11285"/>
                  <a:pt x="5622" y="11338"/>
                  <a:pt x="5683" y="11430"/>
                </a:cubicBezTo>
                <a:cubicBezTo>
                  <a:pt x="5741" y="11517"/>
                  <a:pt x="5718" y="11608"/>
                  <a:pt x="5652" y="11684"/>
                </a:cubicBezTo>
                <a:cubicBezTo>
                  <a:pt x="5597" y="11747"/>
                  <a:pt x="5483" y="11824"/>
                  <a:pt x="5398" y="11843"/>
                </a:cubicBezTo>
                <a:cubicBezTo>
                  <a:pt x="5322" y="11860"/>
                  <a:pt x="5210" y="11856"/>
                  <a:pt x="5144" y="11811"/>
                </a:cubicBezTo>
                <a:cubicBezTo>
                  <a:pt x="5114" y="11791"/>
                  <a:pt x="5092" y="11720"/>
                  <a:pt x="5112" y="11684"/>
                </a:cubicBezTo>
                <a:cubicBezTo>
                  <a:pt x="5123" y="11673"/>
                  <a:pt x="5133" y="11663"/>
                  <a:pt x="5144" y="11652"/>
                </a:cubicBezTo>
              </a:path>
              <a:path w="3081" h="1620">
                <a:moveTo>
                  <a:pt x="6191" y="11366"/>
                </a:moveTo>
                <a:cubicBezTo>
                  <a:pt x="6226" y="11285"/>
                  <a:pt x="6223" y="11235"/>
                  <a:pt x="6223" y="11144"/>
                </a:cubicBezTo>
                <a:cubicBezTo>
                  <a:pt x="6223" y="11104"/>
                  <a:pt x="6177" y="11035"/>
                  <a:pt x="6128" y="11049"/>
                </a:cubicBezTo>
                <a:cubicBezTo>
                  <a:pt x="6048" y="11072"/>
                  <a:pt x="5975" y="11142"/>
                  <a:pt x="5937" y="11208"/>
                </a:cubicBezTo>
                <a:cubicBezTo>
                  <a:pt x="5881" y="11304"/>
                  <a:pt x="5830" y="11448"/>
                  <a:pt x="5810" y="11557"/>
                </a:cubicBezTo>
                <a:cubicBezTo>
                  <a:pt x="5798" y="11624"/>
                  <a:pt x="5801" y="11716"/>
                  <a:pt x="5874" y="11748"/>
                </a:cubicBezTo>
                <a:cubicBezTo>
                  <a:pt x="5912" y="11765"/>
                  <a:pt x="6005" y="11677"/>
                  <a:pt x="6032" y="11652"/>
                </a:cubicBezTo>
                <a:cubicBezTo>
                  <a:pt x="6143" y="11549"/>
                  <a:pt x="6115" y="11457"/>
                  <a:pt x="6160" y="11335"/>
                </a:cubicBezTo>
                <a:cubicBezTo>
                  <a:pt x="6182" y="11276"/>
                  <a:pt x="6176" y="11306"/>
                  <a:pt x="6160" y="11240"/>
                </a:cubicBezTo>
                <a:cubicBezTo>
                  <a:pt x="6110" y="11305"/>
                  <a:pt x="6128" y="11375"/>
                  <a:pt x="6128" y="11462"/>
                </a:cubicBezTo>
                <a:cubicBezTo>
                  <a:pt x="6128" y="11521"/>
                  <a:pt x="6144" y="11648"/>
                  <a:pt x="6191" y="11684"/>
                </a:cubicBezTo>
                <a:cubicBezTo>
                  <a:pt x="6268" y="11743"/>
                  <a:pt x="6343" y="11702"/>
                  <a:pt x="6414" y="11652"/>
                </a:cubicBezTo>
                <a:cubicBezTo>
                  <a:pt x="6424" y="11641"/>
                  <a:pt x="6435" y="11631"/>
                  <a:pt x="6445" y="11620"/>
                </a:cubicBezTo>
              </a:path>
              <a:path w="3081" h="1620">
                <a:moveTo>
                  <a:pt x="4985" y="10478"/>
                </a:moveTo>
                <a:cubicBezTo>
                  <a:pt x="4985" y="10629"/>
                  <a:pt x="4996" y="10777"/>
                  <a:pt x="4953" y="10922"/>
                </a:cubicBezTo>
                <a:cubicBezTo>
                  <a:pt x="4917" y="11041"/>
                  <a:pt x="4875" y="11179"/>
                  <a:pt x="4858" y="11303"/>
                </a:cubicBezTo>
                <a:cubicBezTo>
                  <a:pt x="4842" y="11421"/>
                  <a:pt x="4811" y="11535"/>
                  <a:pt x="4794" y="11652"/>
                </a:cubicBezTo>
                <a:cubicBezTo>
                  <a:pt x="4775" y="11787"/>
                  <a:pt x="4801" y="11981"/>
                  <a:pt x="4826" y="12065"/>
                </a:cubicBezTo>
                <a:cubicBezTo>
                  <a:pt x="4826" y="12076"/>
                  <a:pt x="4826" y="12086"/>
                  <a:pt x="4826" y="12097"/>
                </a:cubicBezTo>
                <a:cubicBezTo>
                  <a:pt x="4878" y="12090"/>
                  <a:pt x="4908" y="12085"/>
                  <a:pt x="4953" y="12065"/>
                </a:cubicBezTo>
                <a:cubicBezTo>
                  <a:pt x="5035" y="12028"/>
                  <a:pt x="5115" y="12006"/>
                  <a:pt x="5207" y="12002"/>
                </a:cubicBezTo>
                <a:cubicBezTo>
                  <a:pt x="5319" y="11997"/>
                  <a:pt x="5449" y="11954"/>
                  <a:pt x="5556" y="11970"/>
                </a:cubicBezTo>
                <a:cubicBezTo>
                  <a:pt x="5687" y="11989"/>
                  <a:pt x="5801" y="12002"/>
                  <a:pt x="5937" y="12002"/>
                </a:cubicBezTo>
                <a:cubicBezTo>
                  <a:pt x="6075" y="12002"/>
                  <a:pt x="6191" y="11991"/>
                  <a:pt x="6318" y="11970"/>
                </a:cubicBezTo>
                <a:cubicBezTo>
                  <a:pt x="6373" y="11961"/>
                  <a:pt x="6414" y="11969"/>
                  <a:pt x="6445" y="11906"/>
                </a:cubicBezTo>
                <a:cubicBezTo>
                  <a:pt x="6469" y="11859"/>
                  <a:pt x="6469" y="11704"/>
                  <a:pt x="6477" y="11652"/>
                </a:cubicBezTo>
                <a:cubicBezTo>
                  <a:pt x="6495" y="11540"/>
                  <a:pt x="6496" y="11410"/>
                  <a:pt x="6509" y="11303"/>
                </a:cubicBezTo>
                <a:cubicBezTo>
                  <a:pt x="6531" y="11128"/>
                  <a:pt x="6552" y="10786"/>
                  <a:pt x="6477" y="10636"/>
                </a:cubicBezTo>
                <a:cubicBezTo>
                  <a:pt x="6463" y="10608"/>
                  <a:pt x="6455" y="10571"/>
                  <a:pt x="6414" y="10573"/>
                </a:cubicBezTo>
                <a:cubicBezTo>
                  <a:pt x="6348" y="10576"/>
                  <a:pt x="6305" y="10625"/>
                  <a:pt x="6255" y="10636"/>
                </a:cubicBezTo>
                <a:cubicBezTo>
                  <a:pt x="6153" y="10659"/>
                  <a:pt x="6064" y="10645"/>
                  <a:pt x="5969" y="10636"/>
                </a:cubicBezTo>
                <a:cubicBezTo>
                  <a:pt x="5861" y="10626"/>
                  <a:pt x="5757" y="10616"/>
                  <a:pt x="5652" y="10604"/>
                </a:cubicBezTo>
                <a:cubicBezTo>
                  <a:pt x="5536" y="10591"/>
                  <a:pt x="5412" y="10586"/>
                  <a:pt x="5302" y="10573"/>
                </a:cubicBezTo>
                <a:cubicBezTo>
                  <a:pt x="5193" y="10560"/>
                  <a:pt x="5088" y="10558"/>
                  <a:pt x="4985" y="10541"/>
                </a:cubicBezTo>
                <a:cubicBezTo>
                  <a:pt x="4929" y="10532"/>
                  <a:pt x="4940" y="10532"/>
                  <a:pt x="4890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7"/>
          <p:cNvSpPr/>
          <p:nvPr/>
        </p:nvSpPr>
        <p:spPr>
          <a:xfrm>
            <a:off x="3807000" y="3794040"/>
            <a:ext cx="1085760" cy="709560"/>
          </a:xfrm>
          <a:custGeom>
            <a:avLst/>
            <a:gdLst/>
            <a:ahLst/>
            <a:rect l="l" t="t" r="r" b="b"/>
            <a:pathLst>
              <a:path w="3017" h="1970">
                <a:moveTo>
                  <a:pt x="10763" y="10668"/>
                </a:moveTo>
                <a:cubicBezTo>
                  <a:pt x="10763" y="10788"/>
                  <a:pt x="10775" y="10903"/>
                  <a:pt x="10732" y="11017"/>
                </a:cubicBezTo>
                <a:cubicBezTo>
                  <a:pt x="10696" y="11111"/>
                  <a:pt x="10699" y="11210"/>
                  <a:pt x="10668" y="11303"/>
                </a:cubicBezTo>
                <a:cubicBezTo>
                  <a:pt x="10639" y="11389"/>
                  <a:pt x="10637" y="11426"/>
                  <a:pt x="10668" y="11335"/>
                </a:cubicBezTo>
                <a:cubicBezTo>
                  <a:pt x="10684" y="11289"/>
                  <a:pt x="10712" y="11257"/>
                  <a:pt x="10763" y="11240"/>
                </a:cubicBezTo>
                <a:cubicBezTo>
                  <a:pt x="10816" y="11223"/>
                  <a:pt x="10884" y="11274"/>
                  <a:pt x="10922" y="11303"/>
                </a:cubicBezTo>
                <a:cubicBezTo>
                  <a:pt x="10963" y="11334"/>
                  <a:pt x="10980" y="11361"/>
                  <a:pt x="11017" y="11366"/>
                </a:cubicBezTo>
                <a:cubicBezTo>
                  <a:pt x="11068" y="11372"/>
                  <a:pt x="11049" y="11341"/>
                  <a:pt x="11049" y="11303"/>
                </a:cubicBezTo>
              </a:path>
              <a:path w="3017" h="1970">
                <a:moveTo>
                  <a:pt x="11017" y="10636"/>
                </a:moveTo>
                <a:cubicBezTo>
                  <a:pt x="10984" y="10682"/>
                  <a:pt x="10962" y="10769"/>
                  <a:pt x="10954" y="10827"/>
                </a:cubicBezTo>
                <a:cubicBezTo>
                  <a:pt x="10914" y="11133"/>
                  <a:pt x="10954" y="11469"/>
                  <a:pt x="10954" y="11779"/>
                </a:cubicBezTo>
              </a:path>
              <a:path w="3017" h="1970">
                <a:moveTo>
                  <a:pt x="11462" y="11112"/>
                </a:moveTo>
                <a:cubicBezTo>
                  <a:pt x="11502" y="11060"/>
                  <a:pt x="11500" y="11040"/>
                  <a:pt x="11430" y="11017"/>
                </a:cubicBezTo>
                <a:cubicBezTo>
                  <a:pt x="11370" y="10997"/>
                  <a:pt x="11358" y="10968"/>
                  <a:pt x="11303" y="11017"/>
                </a:cubicBezTo>
                <a:cubicBezTo>
                  <a:pt x="11245" y="11068"/>
                  <a:pt x="11204" y="11169"/>
                  <a:pt x="11176" y="11240"/>
                </a:cubicBezTo>
                <a:cubicBezTo>
                  <a:pt x="11136" y="11342"/>
                  <a:pt x="11119" y="11511"/>
                  <a:pt x="11144" y="11620"/>
                </a:cubicBezTo>
                <a:cubicBezTo>
                  <a:pt x="11159" y="11687"/>
                  <a:pt x="11188" y="11703"/>
                  <a:pt x="11240" y="11716"/>
                </a:cubicBezTo>
                <a:cubicBezTo>
                  <a:pt x="11301" y="11637"/>
                  <a:pt x="11351" y="11531"/>
                  <a:pt x="11366" y="11430"/>
                </a:cubicBezTo>
                <a:cubicBezTo>
                  <a:pt x="11383" y="11314"/>
                  <a:pt x="11384" y="11157"/>
                  <a:pt x="11430" y="11049"/>
                </a:cubicBezTo>
                <a:cubicBezTo>
                  <a:pt x="11441" y="11038"/>
                  <a:pt x="11451" y="11028"/>
                  <a:pt x="11462" y="11017"/>
                </a:cubicBezTo>
                <a:cubicBezTo>
                  <a:pt x="11462" y="11212"/>
                  <a:pt x="11451" y="11405"/>
                  <a:pt x="11494" y="11589"/>
                </a:cubicBezTo>
                <a:cubicBezTo>
                  <a:pt x="11511" y="11660"/>
                  <a:pt x="11553" y="11593"/>
                  <a:pt x="11589" y="11557"/>
                </a:cubicBezTo>
              </a:path>
              <a:path w="3017" h="1970">
                <a:moveTo>
                  <a:pt x="11684" y="11144"/>
                </a:moveTo>
                <a:cubicBezTo>
                  <a:pt x="11735" y="11073"/>
                  <a:pt x="11793" y="11033"/>
                  <a:pt x="11874" y="11017"/>
                </a:cubicBezTo>
                <a:cubicBezTo>
                  <a:pt x="11961" y="11000"/>
                  <a:pt x="12037" y="10986"/>
                  <a:pt x="12128" y="10986"/>
                </a:cubicBezTo>
                <a:cubicBezTo>
                  <a:pt x="12139" y="10986"/>
                  <a:pt x="12149" y="10986"/>
                  <a:pt x="12160" y="10986"/>
                </a:cubicBezTo>
              </a:path>
              <a:path w="3017" h="1970">
                <a:moveTo>
                  <a:pt x="11779" y="11430"/>
                </a:moveTo>
                <a:cubicBezTo>
                  <a:pt x="11832" y="11417"/>
                  <a:pt x="11859" y="11393"/>
                  <a:pt x="11906" y="11366"/>
                </a:cubicBezTo>
                <a:cubicBezTo>
                  <a:pt x="11968" y="11331"/>
                  <a:pt x="12034" y="11303"/>
                  <a:pt x="12097" y="11271"/>
                </a:cubicBezTo>
              </a:path>
              <a:path w="3017" h="1970">
                <a:moveTo>
                  <a:pt x="12700" y="10573"/>
                </a:moveTo>
                <a:cubicBezTo>
                  <a:pt x="12711" y="10562"/>
                  <a:pt x="12721" y="10552"/>
                  <a:pt x="12732" y="10541"/>
                </a:cubicBezTo>
                <a:cubicBezTo>
                  <a:pt x="12719" y="10580"/>
                  <a:pt x="12678" y="10594"/>
                  <a:pt x="12636" y="10636"/>
                </a:cubicBezTo>
                <a:cubicBezTo>
                  <a:pt x="12604" y="10668"/>
                  <a:pt x="12554" y="10695"/>
                  <a:pt x="12510" y="10700"/>
                </a:cubicBezTo>
                <a:cubicBezTo>
                  <a:pt x="12457" y="10706"/>
                  <a:pt x="12406" y="10620"/>
                  <a:pt x="12382" y="10668"/>
                </a:cubicBezTo>
                <a:cubicBezTo>
                  <a:pt x="12351" y="10731"/>
                  <a:pt x="12368" y="10883"/>
                  <a:pt x="12351" y="10954"/>
                </a:cubicBezTo>
                <a:cubicBezTo>
                  <a:pt x="12338" y="11009"/>
                  <a:pt x="12319" y="11053"/>
                  <a:pt x="12319" y="11112"/>
                </a:cubicBezTo>
                <a:cubicBezTo>
                  <a:pt x="12354" y="11066"/>
                  <a:pt x="12369" y="11031"/>
                  <a:pt x="12414" y="10986"/>
                </a:cubicBezTo>
                <a:cubicBezTo>
                  <a:pt x="12446" y="10954"/>
                  <a:pt x="12520" y="10893"/>
                  <a:pt x="12573" y="10922"/>
                </a:cubicBezTo>
                <a:cubicBezTo>
                  <a:pt x="12643" y="10961"/>
                  <a:pt x="12686" y="11073"/>
                  <a:pt x="12700" y="11144"/>
                </a:cubicBezTo>
                <a:cubicBezTo>
                  <a:pt x="12718" y="11238"/>
                  <a:pt x="12706" y="11345"/>
                  <a:pt x="12668" y="11430"/>
                </a:cubicBezTo>
                <a:cubicBezTo>
                  <a:pt x="12642" y="11487"/>
                  <a:pt x="12606" y="11591"/>
                  <a:pt x="12541" y="11620"/>
                </a:cubicBezTo>
                <a:cubicBezTo>
                  <a:pt x="12485" y="11645"/>
                  <a:pt x="12447" y="11590"/>
                  <a:pt x="12414" y="11557"/>
                </a:cubicBezTo>
              </a:path>
              <a:path w="3017" h="1970">
                <a:moveTo>
                  <a:pt x="12795" y="10858"/>
                </a:moveTo>
                <a:cubicBezTo>
                  <a:pt x="12808" y="10806"/>
                  <a:pt x="12871" y="10730"/>
                  <a:pt x="12922" y="10700"/>
                </a:cubicBezTo>
                <a:cubicBezTo>
                  <a:pt x="12981" y="10666"/>
                  <a:pt x="13064" y="10670"/>
                  <a:pt x="13113" y="10732"/>
                </a:cubicBezTo>
                <a:cubicBezTo>
                  <a:pt x="13150" y="10779"/>
                  <a:pt x="13094" y="10945"/>
                  <a:pt x="13081" y="10986"/>
                </a:cubicBezTo>
                <a:cubicBezTo>
                  <a:pt x="13044" y="11106"/>
                  <a:pt x="12977" y="11221"/>
                  <a:pt x="12922" y="11335"/>
                </a:cubicBezTo>
                <a:cubicBezTo>
                  <a:pt x="12891" y="11400"/>
                  <a:pt x="12890" y="11425"/>
                  <a:pt x="12890" y="11494"/>
                </a:cubicBezTo>
                <a:cubicBezTo>
                  <a:pt x="12953" y="11494"/>
                  <a:pt x="12992" y="11500"/>
                  <a:pt x="13049" y="11462"/>
                </a:cubicBezTo>
                <a:cubicBezTo>
                  <a:pt x="13092" y="11433"/>
                  <a:pt x="13183" y="11380"/>
                  <a:pt x="13240" y="11366"/>
                </a:cubicBezTo>
                <a:cubicBezTo>
                  <a:pt x="13293" y="11353"/>
                  <a:pt x="13319" y="11347"/>
                  <a:pt x="13367" y="11335"/>
                </a:cubicBezTo>
              </a:path>
              <a:path w="3017" h="1970">
                <a:moveTo>
                  <a:pt x="10604" y="11970"/>
                </a:moveTo>
                <a:cubicBezTo>
                  <a:pt x="10594" y="11970"/>
                  <a:pt x="10583" y="11970"/>
                  <a:pt x="10573" y="11970"/>
                </a:cubicBezTo>
              </a:path>
              <a:path w="3017" h="1970">
                <a:moveTo>
                  <a:pt x="10604" y="11970"/>
                </a:moveTo>
                <a:cubicBezTo>
                  <a:pt x="10615" y="11959"/>
                  <a:pt x="10625" y="11949"/>
                  <a:pt x="10636" y="11938"/>
                </a:cubicBezTo>
              </a:path>
              <a:path w="3017" h="1970">
                <a:moveTo>
                  <a:pt x="10636" y="11938"/>
                </a:moveTo>
                <a:cubicBezTo>
                  <a:pt x="10723" y="11901"/>
                  <a:pt x="10774" y="11858"/>
                  <a:pt x="10858" y="11811"/>
                </a:cubicBezTo>
                <a:cubicBezTo>
                  <a:pt x="10976" y="11745"/>
                  <a:pt x="11080" y="11695"/>
                  <a:pt x="11208" y="11652"/>
                </a:cubicBezTo>
                <a:cubicBezTo>
                  <a:pt x="11297" y="11622"/>
                  <a:pt x="11404" y="11577"/>
                  <a:pt x="11494" y="11557"/>
                </a:cubicBezTo>
                <a:cubicBezTo>
                  <a:pt x="11547" y="11557"/>
                  <a:pt x="11557" y="11557"/>
                  <a:pt x="11589" y="11557"/>
                </a:cubicBezTo>
              </a:path>
              <a:path w="3017" h="1970">
                <a:moveTo>
                  <a:pt x="11176" y="12033"/>
                </a:moveTo>
                <a:cubicBezTo>
                  <a:pt x="11187" y="12033"/>
                  <a:pt x="11197" y="12033"/>
                  <a:pt x="11208" y="12033"/>
                </a:cubicBezTo>
                <a:cubicBezTo>
                  <a:pt x="11208" y="12101"/>
                  <a:pt x="11234" y="12122"/>
                  <a:pt x="11240" y="12192"/>
                </a:cubicBezTo>
                <a:cubicBezTo>
                  <a:pt x="11240" y="12203"/>
                  <a:pt x="11240" y="12213"/>
                  <a:pt x="11240" y="12224"/>
                </a:cubicBezTo>
                <a:cubicBezTo>
                  <a:pt x="11287" y="12208"/>
                  <a:pt x="11266" y="12192"/>
                  <a:pt x="11335" y="12192"/>
                </a:cubicBezTo>
                <a:cubicBezTo>
                  <a:pt x="11351" y="12144"/>
                  <a:pt x="11373" y="12160"/>
                  <a:pt x="11430" y="12160"/>
                </a:cubicBezTo>
                <a:cubicBezTo>
                  <a:pt x="11486" y="12160"/>
                  <a:pt x="11481" y="12162"/>
                  <a:pt x="11525" y="12128"/>
                </a:cubicBezTo>
              </a:path>
              <a:path w="3017" h="1970">
                <a:moveTo>
                  <a:pt x="11462" y="11748"/>
                </a:moveTo>
                <a:cubicBezTo>
                  <a:pt x="11462" y="11812"/>
                  <a:pt x="11478" y="11877"/>
                  <a:pt x="11494" y="11938"/>
                </a:cubicBezTo>
                <a:cubicBezTo>
                  <a:pt x="11530" y="12079"/>
                  <a:pt x="11533" y="12212"/>
                  <a:pt x="11589" y="12351"/>
                </a:cubicBezTo>
                <a:cubicBezTo>
                  <a:pt x="11599" y="12372"/>
                  <a:pt x="11610" y="12393"/>
                  <a:pt x="11620" y="12414"/>
                </a:cubicBezTo>
              </a:path>
              <a:path w="3017" h="1970">
                <a:moveTo>
                  <a:pt x="12732" y="11779"/>
                </a:moveTo>
                <a:cubicBezTo>
                  <a:pt x="12836" y="11677"/>
                  <a:pt x="12929" y="11577"/>
                  <a:pt x="13049" y="11494"/>
                </a:cubicBezTo>
                <a:cubicBezTo>
                  <a:pt x="13175" y="11406"/>
                  <a:pt x="13256" y="11361"/>
                  <a:pt x="13398" y="11303"/>
                </a:cubicBezTo>
                <a:cubicBezTo>
                  <a:pt x="13463" y="11276"/>
                  <a:pt x="13521" y="11253"/>
                  <a:pt x="13589" y="11240"/>
                </a:cubicBezTo>
              </a:path>
              <a:path w="3017" h="1970">
                <a:moveTo>
                  <a:pt x="13018" y="11874"/>
                </a:moveTo>
                <a:cubicBezTo>
                  <a:pt x="13005" y="11874"/>
                  <a:pt x="12983" y="11909"/>
                  <a:pt x="13018" y="11938"/>
                </a:cubicBezTo>
                <a:cubicBezTo>
                  <a:pt x="13053" y="11967"/>
                  <a:pt x="13049" y="11967"/>
                  <a:pt x="13049" y="12033"/>
                </a:cubicBezTo>
                <a:cubicBezTo>
                  <a:pt x="13049" y="12085"/>
                  <a:pt x="13034" y="12049"/>
                  <a:pt x="13018" y="12097"/>
                </a:cubicBezTo>
                <a:cubicBezTo>
                  <a:pt x="13050" y="12053"/>
                  <a:pt x="13058" y="12020"/>
                  <a:pt x="13113" y="12002"/>
                </a:cubicBezTo>
                <a:cubicBezTo>
                  <a:pt x="13157" y="11987"/>
                  <a:pt x="13211" y="11997"/>
                  <a:pt x="13240" y="12033"/>
                </a:cubicBezTo>
                <a:cubicBezTo>
                  <a:pt x="13240" y="12065"/>
                  <a:pt x="13240" y="12076"/>
                  <a:pt x="13272" y="12065"/>
                </a:cubicBezTo>
                <a:cubicBezTo>
                  <a:pt x="13306" y="12053"/>
                  <a:pt x="13322" y="11990"/>
                  <a:pt x="13335" y="11938"/>
                </a:cubicBezTo>
                <a:cubicBezTo>
                  <a:pt x="13335" y="11927"/>
                  <a:pt x="13335" y="11917"/>
                  <a:pt x="13335" y="11906"/>
                </a:cubicBezTo>
              </a:path>
              <a:path w="3017" h="1970">
                <a:moveTo>
                  <a:pt x="13240" y="11652"/>
                </a:moveTo>
                <a:cubicBezTo>
                  <a:pt x="13240" y="11764"/>
                  <a:pt x="13259" y="11866"/>
                  <a:pt x="13272" y="11970"/>
                </a:cubicBezTo>
                <a:cubicBezTo>
                  <a:pt x="13288" y="12097"/>
                  <a:pt x="13320" y="12226"/>
                  <a:pt x="13335" y="12351"/>
                </a:cubicBezTo>
                <a:cubicBezTo>
                  <a:pt x="13335" y="12436"/>
                  <a:pt x="13335" y="12457"/>
                  <a:pt x="13335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8"/>
          <p:cNvSpPr/>
          <p:nvPr/>
        </p:nvSpPr>
        <p:spPr>
          <a:xfrm>
            <a:off x="5222880" y="3406680"/>
            <a:ext cx="687240" cy="433440"/>
          </a:xfrm>
          <a:custGeom>
            <a:avLst/>
            <a:gdLst/>
            <a:ahLst/>
            <a:rect l="l" t="t" r="r" b="b"/>
            <a:pathLst>
              <a:path w="1906" h="1207">
                <a:moveTo>
                  <a:pt x="14954" y="9970"/>
                </a:moveTo>
                <a:cubicBezTo>
                  <a:pt x="14954" y="9980"/>
                  <a:pt x="14954" y="9991"/>
                  <a:pt x="14954" y="10001"/>
                </a:cubicBezTo>
              </a:path>
              <a:path w="1906" h="1207">
                <a:moveTo>
                  <a:pt x="14954" y="9970"/>
                </a:moveTo>
                <a:cubicBezTo>
                  <a:pt x="14943" y="9980"/>
                  <a:pt x="14933" y="9991"/>
                  <a:pt x="14922" y="10001"/>
                </a:cubicBezTo>
              </a:path>
              <a:path w="1906" h="1207">
                <a:moveTo>
                  <a:pt x="14922" y="10001"/>
                </a:moveTo>
                <a:cubicBezTo>
                  <a:pt x="14873" y="9985"/>
                  <a:pt x="14888" y="9950"/>
                  <a:pt x="14859" y="9906"/>
                </a:cubicBezTo>
                <a:cubicBezTo>
                  <a:pt x="14827" y="9859"/>
                  <a:pt x="14786" y="9856"/>
                  <a:pt x="14764" y="9811"/>
                </a:cubicBezTo>
                <a:cubicBezTo>
                  <a:pt x="14764" y="9779"/>
                  <a:pt x="14764" y="9768"/>
                  <a:pt x="14732" y="9779"/>
                </a:cubicBezTo>
                <a:cubicBezTo>
                  <a:pt x="14663" y="9847"/>
                  <a:pt x="14660" y="9881"/>
                  <a:pt x="14637" y="9970"/>
                </a:cubicBezTo>
                <a:cubicBezTo>
                  <a:pt x="14603" y="10102"/>
                  <a:pt x="14566" y="10216"/>
                  <a:pt x="14542" y="10350"/>
                </a:cubicBezTo>
                <a:cubicBezTo>
                  <a:pt x="14519" y="10475"/>
                  <a:pt x="14511" y="10563"/>
                  <a:pt x="14573" y="10668"/>
                </a:cubicBezTo>
                <a:cubicBezTo>
                  <a:pt x="14669" y="10654"/>
                  <a:pt x="14684" y="10630"/>
                  <a:pt x="14732" y="10541"/>
                </a:cubicBezTo>
                <a:cubicBezTo>
                  <a:pt x="14776" y="10458"/>
                  <a:pt x="14844" y="10346"/>
                  <a:pt x="14859" y="10255"/>
                </a:cubicBezTo>
                <a:cubicBezTo>
                  <a:pt x="14874" y="10162"/>
                  <a:pt x="14880" y="10073"/>
                  <a:pt x="14859" y="10001"/>
                </a:cubicBezTo>
                <a:cubicBezTo>
                  <a:pt x="14859" y="10145"/>
                  <a:pt x="14871" y="10275"/>
                  <a:pt x="14891" y="10414"/>
                </a:cubicBezTo>
                <a:cubicBezTo>
                  <a:pt x="14906" y="10515"/>
                  <a:pt x="14914" y="10519"/>
                  <a:pt x="14986" y="10573"/>
                </a:cubicBezTo>
                <a:cubicBezTo>
                  <a:pt x="15049" y="10526"/>
                  <a:pt x="15070" y="10527"/>
                  <a:pt x="15113" y="10446"/>
                </a:cubicBezTo>
                <a:cubicBezTo>
                  <a:pt x="15124" y="10425"/>
                  <a:pt x="15134" y="10403"/>
                  <a:pt x="15145" y="10382"/>
                </a:cubicBezTo>
              </a:path>
              <a:path w="1906" h="1207">
                <a:moveTo>
                  <a:pt x="15176" y="10065"/>
                </a:moveTo>
                <a:cubicBezTo>
                  <a:pt x="15246" y="10065"/>
                  <a:pt x="15267" y="10050"/>
                  <a:pt x="15335" y="10033"/>
                </a:cubicBezTo>
                <a:cubicBezTo>
                  <a:pt x="15398" y="10017"/>
                  <a:pt x="15406" y="10043"/>
                  <a:pt x="15462" y="10001"/>
                </a:cubicBezTo>
              </a:path>
              <a:path w="1906" h="1207">
                <a:moveTo>
                  <a:pt x="15208" y="10350"/>
                </a:moveTo>
                <a:cubicBezTo>
                  <a:pt x="15262" y="10319"/>
                  <a:pt x="15313" y="10311"/>
                  <a:pt x="15367" y="10287"/>
                </a:cubicBezTo>
                <a:cubicBezTo>
                  <a:pt x="15388" y="10276"/>
                  <a:pt x="15409" y="10266"/>
                  <a:pt x="15430" y="10255"/>
                </a:cubicBezTo>
              </a:path>
              <a:path w="1906" h="1207">
                <a:moveTo>
                  <a:pt x="15812" y="9588"/>
                </a:moveTo>
                <a:cubicBezTo>
                  <a:pt x="15804" y="9588"/>
                  <a:pt x="15791" y="9601"/>
                  <a:pt x="15780" y="9684"/>
                </a:cubicBezTo>
                <a:cubicBezTo>
                  <a:pt x="15738" y="9990"/>
                  <a:pt x="15780" y="10327"/>
                  <a:pt x="15780" y="10636"/>
                </a:cubicBezTo>
              </a:path>
              <a:path w="1906" h="1207">
                <a:moveTo>
                  <a:pt x="15970" y="9842"/>
                </a:moveTo>
                <a:cubicBezTo>
                  <a:pt x="15970" y="9777"/>
                  <a:pt x="15979" y="9737"/>
                  <a:pt x="16002" y="9684"/>
                </a:cubicBezTo>
                <a:cubicBezTo>
                  <a:pt x="16032" y="9614"/>
                  <a:pt x="16044" y="9551"/>
                  <a:pt x="16097" y="9493"/>
                </a:cubicBezTo>
                <a:cubicBezTo>
                  <a:pt x="16133" y="9453"/>
                  <a:pt x="16189" y="9443"/>
                  <a:pt x="16224" y="9493"/>
                </a:cubicBezTo>
                <a:cubicBezTo>
                  <a:pt x="16283" y="9577"/>
                  <a:pt x="16247" y="9689"/>
                  <a:pt x="16224" y="9779"/>
                </a:cubicBezTo>
                <a:cubicBezTo>
                  <a:pt x="16201" y="9871"/>
                  <a:pt x="16159" y="9963"/>
                  <a:pt x="16097" y="10033"/>
                </a:cubicBezTo>
                <a:cubicBezTo>
                  <a:pt x="16069" y="10062"/>
                  <a:pt x="16063" y="10073"/>
                  <a:pt x="16034" y="10065"/>
                </a:cubicBezTo>
                <a:cubicBezTo>
                  <a:pt x="16072" y="9978"/>
                  <a:pt x="16065" y="9980"/>
                  <a:pt x="16129" y="9938"/>
                </a:cubicBezTo>
                <a:cubicBezTo>
                  <a:pt x="16184" y="9901"/>
                  <a:pt x="16200" y="9889"/>
                  <a:pt x="16256" y="9938"/>
                </a:cubicBezTo>
                <a:cubicBezTo>
                  <a:pt x="16306" y="9982"/>
                  <a:pt x="16361" y="10031"/>
                  <a:pt x="16383" y="10096"/>
                </a:cubicBezTo>
                <a:cubicBezTo>
                  <a:pt x="16420" y="10207"/>
                  <a:pt x="16400" y="10234"/>
                  <a:pt x="16383" y="10350"/>
                </a:cubicBezTo>
                <a:cubicBezTo>
                  <a:pt x="16375" y="10402"/>
                  <a:pt x="16347" y="10544"/>
                  <a:pt x="16288" y="10573"/>
                </a:cubicBezTo>
                <a:cubicBezTo>
                  <a:pt x="16235" y="10599"/>
                  <a:pt x="16173" y="10612"/>
                  <a:pt x="16129" y="10573"/>
                </a:cubicBezTo>
                <a:cubicBezTo>
                  <a:pt x="16079" y="10529"/>
                  <a:pt x="16066" y="10511"/>
                  <a:pt x="16066" y="10446"/>
                </a:cubicBezTo>
                <a:cubicBezTo>
                  <a:pt x="16066" y="10410"/>
                  <a:pt x="16069" y="10396"/>
                  <a:pt x="16097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9"/>
          <p:cNvSpPr/>
          <p:nvPr/>
        </p:nvSpPr>
        <p:spPr>
          <a:xfrm>
            <a:off x="6607080" y="3121200"/>
            <a:ext cx="1360440" cy="628560"/>
          </a:xfrm>
          <a:custGeom>
            <a:avLst/>
            <a:gdLst/>
            <a:ahLst/>
            <a:rect l="l" t="t" r="r" b="b"/>
            <a:pathLst>
              <a:path w="3779" h="1747">
                <a:moveTo>
                  <a:pt x="18764" y="9017"/>
                </a:moveTo>
                <a:cubicBezTo>
                  <a:pt x="18764" y="8932"/>
                  <a:pt x="18764" y="9065"/>
                  <a:pt x="18764" y="9080"/>
                </a:cubicBezTo>
                <a:cubicBezTo>
                  <a:pt x="18764" y="9161"/>
                  <a:pt x="18776" y="9204"/>
                  <a:pt x="18796" y="9271"/>
                </a:cubicBezTo>
                <a:cubicBezTo>
                  <a:pt x="18796" y="9303"/>
                  <a:pt x="18796" y="9313"/>
                  <a:pt x="18796" y="9334"/>
                </a:cubicBezTo>
                <a:cubicBezTo>
                  <a:pt x="18782" y="9294"/>
                  <a:pt x="18784" y="9267"/>
                  <a:pt x="18764" y="9208"/>
                </a:cubicBezTo>
                <a:cubicBezTo>
                  <a:pt x="18745" y="9150"/>
                  <a:pt x="18745" y="8958"/>
                  <a:pt x="18701" y="8922"/>
                </a:cubicBezTo>
                <a:cubicBezTo>
                  <a:pt x="18671" y="8897"/>
                  <a:pt x="18591" y="8930"/>
                  <a:pt x="18574" y="8954"/>
                </a:cubicBezTo>
                <a:cubicBezTo>
                  <a:pt x="18503" y="9056"/>
                  <a:pt x="18468" y="9192"/>
                  <a:pt x="18415" y="9303"/>
                </a:cubicBezTo>
                <a:cubicBezTo>
                  <a:pt x="18357" y="9424"/>
                  <a:pt x="18356" y="9610"/>
                  <a:pt x="18352" y="9747"/>
                </a:cubicBezTo>
                <a:cubicBezTo>
                  <a:pt x="18350" y="9803"/>
                  <a:pt x="18372" y="9962"/>
                  <a:pt x="18415" y="10001"/>
                </a:cubicBezTo>
                <a:cubicBezTo>
                  <a:pt x="18462" y="10043"/>
                  <a:pt x="18540" y="10085"/>
                  <a:pt x="18606" y="10065"/>
                </a:cubicBezTo>
                <a:cubicBezTo>
                  <a:pt x="18685" y="10042"/>
                  <a:pt x="18771" y="9960"/>
                  <a:pt x="18828" y="9906"/>
                </a:cubicBezTo>
                <a:cubicBezTo>
                  <a:pt x="18849" y="9885"/>
                  <a:pt x="18870" y="9863"/>
                  <a:pt x="18891" y="9842"/>
                </a:cubicBezTo>
              </a:path>
              <a:path w="3779" h="1747">
                <a:moveTo>
                  <a:pt x="18986" y="9525"/>
                </a:moveTo>
                <a:cubicBezTo>
                  <a:pt x="19056" y="9525"/>
                  <a:pt x="19077" y="9510"/>
                  <a:pt x="19145" y="9493"/>
                </a:cubicBezTo>
                <a:cubicBezTo>
                  <a:pt x="19214" y="9476"/>
                  <a:pt x="19297" y="9467"/>
                  <a:pt x="19368" y="9462"/>
                </a:cubicBezTo>
                <a:cubicBezTo>
                  <a:pt x="19399" y="9462"/>
                  <a:pt x="19410" y="9462"/>
                  <a:pt x="19431" y="9462"/>
                </a:cubicBezTo>
              </a:path>
              <a:path w="3779" h="1747">
                <a:moveTo>
                  <a:pt x="19082" y="9874"/>
                </a:moveTo>
                <a:cubicBezTo>
                  <a:pt x="19018" y="9842"/>
                  <a:pt x="19104" y="9842"/>
                  <a:pt x="19145" y="9842"/>
                </a:cubicBezTo>
                <a:cubicBezTo>
                  <a:pt x="19230" y="9842"/>
                  <a:pt x="19322" y="9813"/>
                  <a:pt x="19399" y="9779"/>
                </a:cubicBezTo>
                <a:cubicBezTo>
                  <a:pt x="19420" y="9768"/>
                  <a:pt x="19442" y="9758"/>
                  <a:pt x="19463" y="9747"/>
                </a:cubicBezTo>
              </a:path>
              <a:path w="3779" h="1747">
                <a:moveTo>
                  <a:pt x="19748" y="9334"/>
                </a:moveTo>
                <a:cubicBezTo>
                  <a:pt x="19748" y="9256"/>
                  <a:pt x="19748" y="9148"/>
                  <a:pt x="19780" y="9080"/>
                </a:cubicBezTo>
                <a:cubicBezTo>
                  <a:pt x="19802" y="9032"/>
                  <a:pt x="19835" y="8995"/>
                  <a:pt x="19876" y="8954"/>
                </a:cubicBezTo>
                <a:cubicBezTo>
                  <a:pt x="19922" y="8907"/>
                  <a:pt x="19972" y="8922"/>
                  <a:pt x="20034" y="8922"/>
                </a:cubicBezTo>
                <a:cubicBezTo>
                  <a:pt x="20139" y="8922"/>
                  <a:pt x="20130" y="8956"/>
                  <a:pt x="20130" y="9049"/>
                </a:cubicBezTo>
                <a:cubicBezTo>
                  <a:pt x="20130" y="9118"/>
                  <a:pt x="20104" y="9242"/>
                  <a:pt x="20066" y="9303"/>
                </a:cubicBezTo>
                <a:cubicBezTo>
                  <a:pt x="20038" y="9348"/>
                  <a:pt x="19944" y="9366"/>
                  <a:pt x="20002" y="9366"/>
                </a:cubicBezTo>
                <a:cubicBezTo>
                  <a:pt x="20057" y="9366"/>
                  <a:pt x="20126" y="9347"/>
                  <a:pt x="20161" y="9398"/>
                </a:cubicBezTo>
                <a:cubicBezTo>
                  <a:pt x="20207" y="9465"/>
                  <a:pt x="20246" y="9575"/>
                  <a:pt x="20256" y="9652"/>
                </a:cubicBezTo>
                <a:cubicBezTo>
                  <a:pt x="20265" y="9726"/>
                  <a:pt x="20233" y="9905"/>
                  <a:pt x="20193" y="9970"/>
                </a:cubicBezTo>
                <a:cubicBezTo>
                  <a:pt x="20140" y="10056"/>
                  <a:pt x="20025" y="10144"/>
                  <a:pt x="19939" y="10192"/>
                </a:cubicBezTo>
                <a:cubicBezTo>
                  <a:pt x="19886" y="10222"/>
                  <a:pt x="19789" y="10243"/>
                  <a:pt x="19748" y="10192"/>
                </a:cubicBezTo>
                <a:cubicBezTo>
                  <a:pt x="19723" y="10140"/>
                  <a:pt x="19712" y="10131"/>
                  <a:pt x="19717" y="10096"/>
                </a:cubicBezTo>
              </a:path>
              <a:path w="3779" h="1747">
                <a:moveTo>
                  <a:pt x="20701" y="8763"/>
                </a:moveTo>
                <a:cubicBezTo>
                  <a:pt x="20733" y="8700"/>
                  <a:pt x="20744" y="8679"/>
                  <a:pt x="20796" y="8668"/>
                </a:cubicBezTo>
                <a:cubicBezTo>
                  <a:pt x="20771" y="8767"/>
                  <a:pt x="20693" y="8859"/>
                  <a:pt x="20638" y="8954"/>
                </a:cubicBezTo>
                <a:cubicBezTo>
                  <a:pt x="20520" y="9159"/>
                  <a:pt x="20381" y="9350"/>
                  <a:pt x="20352" y="9588"/>
                </a:cubicBezTo>
                <a:cubicBezTo>
                  <a:pt x="20333" y="9744"/>
                  <a:pt x="20331" y="9850"/>
                  <a:pt x="20352" y="10001"/>
                </a:cubicBezTo>
                <a:cubicBezTo>
                  <a:pt x="20364" y="10090"/>
                  <a:pt x="20393" y="10177"/>
                  <a:pt x="20447" y="10255"/>
                </a:cubicBezTo>
                <a:cubicBezTo>
                  <a:pt x="20489" y="10316"/>
                  <a:pt x="20559" y="10347"/>
                  <a:pt x="20606" y="10382"/>
                </a:cubicBezTo>
                <a:cubicBezTo>
                  <a:pt x="20673" y="10432"/>
                  <a:pt x="20622" y="10398"/>
                  <a:pt x="20606" y="10382"/>
                </a:cubicBezTo>
              </a:path>
              <a:path w="3779" h="1747">
                <a:moveTo>
                  <a:pt x="20892" y="9017"/>
                </a:moveTo>
                <a:cubicBezTo>
                  <a:pt x="20892" y="9105"/>
                  <a:pt x="20863" y="9181"/>
                  <a:pt x="20860" y="9271"/>
                </a:cubicBezTo>
                <a:cubicBezTo>
                  <a:pt x="20854" y="9422"/>
                  <a:pt x="20828" y="9562"/>
                  <a:pt x="20828" y="9716"/>
                </a:cubicBezTo>
                <a:cubicBezTo>
                  <a:pt x="20828" y="9811"/>
                  <a:pt x="20828" y="9906"/>
                  <a:pt x="20828" y="10001"/>
                </a:cubicBezTo>
              </a:path>
              <a:path w="3779" h="1747">
                <a:moveTo>
                  <a:pt x="21114" y="9176"/>
                </a:moveTo>
                <a:cubicBezTo>
                  <a:pt x="21128" y="9108"/>
                  <a:pt x="21141" y="9076"/>
                  <a:pt x="21177" y="9049"/>
                </a:cubicBezTo>
                <a:cubicBezTo>
                  <a:pt x="21233" y="9007"/>
                  <a:pt x="21231" y="8985"/>
                  <a:pt x="21304" y="8985"/>
                </a:cubicBezTo>
                <a:cubicBezTo>
                  <a:pt x="21357" y="8985"/>
                  <a:pt x="21396" y="9030"/>
                  <a:pt x="21400" y="9080"/>
                </a:cubicBezTo>
                <a:cubicBezTo>
                  <a:pt x="21406" y="9163"/>
                  <a:pt x="21402" y="9227"/>
                  <a:pt x="21368" y="9303"/>
                </a:cubicBezTo>
                <a:cubicBezTo>
                  <a:pt x="21338" y="9369"/>
                  <a:pt x="21289" y="9440"/>
                  <a:pt x="21241" y="9493"/>
                </a:cubicBezTo>
                <a:cubicBezTo>
                  <a:pt x="21212" y="9522"/>
                  <a:pt x="21206" y="9533"/>
                  <a:pt x="21177" y="9525"/>
                </a:cubicBezTo>
                <a:cubicBezTo>
                  <a:pt x="21218" y="9464"/>
                  <a:pt x="21223" y="9375"/>
                  <a:pt x="21304" y="9366"/>
                </a:cubicBezTo>
                <a:cubicBezTo>
                  <a:pt x="21342" y="9362"/>
                  <a:pt x="21447" y="9345"/>
                  <a:pt x="21463" y="9398"/>
                </a:cubicBezTo>
                <a:cubicBezTo>
                  <a:pt x="21488" y="9479"/>
                  <a:pt x="21495" y="9564"/>
                  <a:pt x="21495" y="9652"/>
                </a:cubicBezTo>
                <a:cubicBezTo>
                  <a:pt x="21495" y="9758"/>
                  <a:pt x="21482" y="9787"/>
                  <a:pt x="21431" y="9874"/>
                </a:cubicBezTo>
                <a:cubicBezTo>
                  <a:pt x="21403" y="9921"/>
                  <a:pt x="21353" y="10033"/>
                  <a:pt x="21272" y="10001"/>
                </a:cubicBezTo>
                <a:cubicBezTo>
                  <a:pt x="21241" y="9970"/>
                  <a:pt x="21230" y="9959"/>
                  <a:pt x="21209" y="9938"/>
                </a:cubicBezTo>
              </a:path>
              <a:path w="3779" h="1747">
                <a:moveTo>
                  <a:pt x="21526" y="8668"/>
                </a:moveTo>
                <a:cubicBezTo>
                  <a:pt x="21582" y="8676"/>
                  <a:pt x="21643" y="8682"/>
                  <a:pt x="21685" y="8731"/>
                </a:cubicBezTo>
                <a:cubicBezTo>
                  <a:pt x="21761" y="8820"/>
                  <a:pt x="21830" y="8926"/>
                  <a:pt x="21908" y="9017"/>
                </a:cubicBezTo>
                <a:cubicBezTo>
                  <a:pt x="22003" y="9128"/>
                  <a:pt x="22103" y="9312"/>
                  <a:pt x="22130" y="9462"/>
                </a:cubicBezTo>
                <a:cubicBezTo>
                  <a:pt x="22154" y="9596"/>
                  <a:pt x="22074" y="9768"/>
                  <a:pt x="22003" y="9874"/>
                </a:cubicBezTo>
                <a:cubicBezTo>
                  <a:pt x="21918" y="10001"/>
                  <a:pt x="21820" y="10112"/>
                  <a:pt x="21717" y="10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10"/>
          <p:cNvSpPr/>
          <p:nvPr/>
        </p:nvSpPr>
        <p:spPr>
          <a:xfrm>
            <a:off x="6846840" y="3828960"/>
            <a:ext cx="343080" cy="424080"/>
          </a:xfrm>
          <a:custGeom>
            <a:avLst/>
            <a:gdLst/>
            <a:ahLst/>
            <a:rect l="l" t="t" r="r" b="b"/>
            <a:pathLst>
              <a:path w="954" h="1176">
                <a:moveTo>
                  <a:pt x="19399" y="10795"/>
                </a:moveTo>
                <a:cubicBezTo>
                  <a:pt x="19413" y="10863"/>
                  <a:pt x="19431" y="10913"/>
                  <a:pt x="19431" y="10986"/>
                </a:cubicBezTo>
                <a:cubicBezTo>
                  <a:pt x="19431" y="11017"/>
                  <a:pt x="19431" y="11028"/>
                  <a:pt x="19399" y="11017"/>
                </a:cubicBezTo>
                <a:cubicBezTo>
                  <a:pt x="19384" y="10955"/>
                  <a:pt x="19383" y="10895"/>
                  <a:pt x="19368" y="10827"/>
                </a:cubicBezTo>
                <a:cubicBezTo>
                  <a:pt x="19351" y="10749"/>
                  <a:pt x="19336" y="10713"/>
                  <a:pt x="19336" y="10636"/>
                </a:cubicBezTo>
                <a:cubicBezTo>
                  <a:pt x="19296" y="10649"/>
                  <a:pt x="19235" y="10741"/>
                  <a:pt x="19209" y="10795"/>
                </a:cubicBezTo>
                <a:cubicBezTo>
                  <a:pt x="19138" y="10942"/>
                  <a:pt x="19091" y="11079"/>
                  <a:pt x="19050" y="11240"/>
                </a:cubicBezTo>
                <a:cubicBezTo>
                  <a:pt x="19010" y="11398"/>
                  <a:pt x="18995" y="11560"/>
                  <a:pt x="19050" y="11716"/>
                </a:cubicBezTo>
                <a:cubicBezTo>
                  <a:pt x="19092" y="11834"/>
                  <a:pt x="19179" y="11820"/>
                  <a:pt x="19272" y="11779"/>
                </a:cubicBezTo>
                <a:cubicBezTo>
                  <a:pt x="19392" y="11726"/>
                  <a:pt x="19444" y="11651"/>
                  <a:pt x="19526" y="11557"/>
                </a:cubicBezTo>
              </a:path>
              <a:path w="954" h="1176">
                <a:moveTo>
                  <a:pt x="19558" y="11144"/>
                </a:moveTo>
                <a:cubicBezTo>
                  <a:pt x="19614" y="11130"/>
                  <a:pt x="19652" y="11085"/>
                  <a:pt x="19717" y="11081"/>
                </a:cubicBezTo>
                <a:cubicBezTo>
                  <a:pt x="19805" y="11075"/>
                  <a:pt x="19859" y="11056"/>
                  <a:pt x="19939" y="11049"/>
                </a:cubicBezTo>
                <a:cubicBezTo>
                  <a:pt x="19950" y="11049"/>
                  <a:pt x="19960" y="11049"/>
                  <a:pt x="19971" y="11049"/>
                </a:cubicBezTo>
              </a:path>
              <a:path w="954" h="1176">
                <a:moveTo>
                  <a:pt x="19685" y="11366"/>
                </a:moveTo>
                <a:cubicBezTo>
                  <a:pt x="19745" y="11366"/>
                  <a:pt x="19786" y="11341"/>
                  <a:pt x="19844" y="11335"/>
                </a:cubicBezTo>
                <a:cubicBezTo>
                  <a:pt x="19886" y="11335"/>
                  <a:pt x="19907" y="11335"/>
                  <a:pt x="1993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11"/>
          <p:cNvSpPr/>
          <p:nvPr/>
        </p:nvSpPr>
        <p:spPr>
          <a:xfrm>
            <a:off x="7315200" y="3886200"/>
            <a:ext cx="378000" cy="434880"/>
          </a:xfrm>
          <a:custGeom>
            <a:avLst/>
            <a:gdLst/>
            <a:ahLst/>
            <a:rect l="l" t="t" r="r" b="b"/>
            <a:pathLst>
              <a:path w="1049" h="1208">
                <a:moveTo>
                  <a:pt x="20320" y="11112"/>
                </a:moveTo>
                <a:cubicBezTo>
                  <a:pt x="20395" y="11094"/>
                  <a:pt x="20382" y="11048"/>
                  <a:pt x="20415" y="10986"/>
                </a:cubicBezTo>
                <a:cubicBezTo>
                  <a:pt x="20451" y="10919"/>
                  <a:pt x="20489" y="10880"/>
                  <a:pt x="20542" y="10827"/>
                </a:cubicBezTo>
                <a:cubicBezTo>
                  <a:pt x="20571" y="10798"/>
                  <a:pt x="20577" y="10787"/>
                  <a:pt x="20606" y="10795"/>
                </a:cubicBezTo>
                <a:cubicBezTo>
                  <a:pt x="20648" y="10851"/>
                  <a:pt x="20656" y="10943"/>
                  <a:pt x="20638" y="11017"/>
                </a:cubicBezTo>
                <a:cubicBezTo>
                  <a:pt x="20611" y="11130"/>
                  <a:pt x="20553" y="11250"/>
                  <a:pt x="20479" y="11335"/>
                </a:cubicBezTo>
                <a:cubicBezTo>
                  <a:pt x="20439" y="11381"/>
                  <a:pt x="20461" y="11383"/>
                  <a:pt x="20415" y="11398"/>
                </a:cubicBezTo>
                <a:cubicBezTo>
                  <a:pt x="20456" y="11344"/>
                  <a:pt x="20440" y="11335"/>
                  <a:pt x="20510" y="11335"/>
                </a:cubicBezTo>
                <a:cubicBezTo>
                  <a:pt x="20584" y="11335"/>
                  <a:pt x="20625" y="11329"/>
                  <a:pt x="20669" y="11398"/>
                </a:cubicBezTo>
                <a:cubicBezTo>
                  <a:pt x="20727" y="11488"/>
                  <a:pt x="20700" y="11562"/>
                  <a:pt x="20669" y="11652"/>
                </a:cubicBezTo>
                <a:cubicBezTo>
                  <a:pt x="20634" y="11754"/>
                  <a:pt x="20574" y="11906"/>
                  <a:pt x="20479" y="11970"/>
                </a:cubicBezTo>
                <a:cubicBezTo>
                  <a:pt x="20443" y="11970"/>
                  <a:pt x="20429" y="11973"/>
                  <a:pt x="20415" y="12002"/>
                </a:cubicBezTo>
                <a:cubicBezTo>
                  <a:pt x="20375" y="11947"/>
                  <a:pt x="20384" y="11950"/>
                  <a:pt x="20384" y="11874"/>
                </a:cubicBezTo>
              </a:path>
              <a:path w="1049" h="1208">
                <a:moveTo>
                  <a:pt x="21146" y="11176"/>
                </a:moveTo>
                <a:cubicBezTo>
                  <a:pt x="21156" y="11135"/>
                  <a:pt x="21194" y="11098"/>
                  <a:pt x="21177" y="11049"/>
                </a:cubicBezTo>
                <a:cubicBezTo>
                  <a:pt x="21152" y="10977"/>
                  <a:pt x="21091" y="10914"/>
                  <a:pt x="21018" y="10890"/>
                </a:cubicBezTo>
                <a:cubicBezTo>
                  <a:pt x="20981" y="10877"/>
                  <a:pt x="20871" y="10924"/>
                  <a:pt x="20860" y="10954"/>
                </a:cubicBezTo>
                <a:cubicBezTo>
                  <a:pt x="20826" y="11047"/>
                  <a:pt x="20801" y="11202"/>
                  <a:pt x="20796" y="11303"/>
                </a:cubicBezTo>
                <a:cubicBezTo>
                  <a:pt x="20793" y="11370"/>
                  <a:pt x="20821" y="11425"/>
                  <a:pt x="20892" y="11430"/>
                </a:cubicBezTo>
                <a:cubicBezTo>
                  <a:pt x="20959" y="11435"/>
                  <a:pt x="21051" y="11354"/>
                  <a:pt x="21082" y="11303"/>
                </a:cubicBezTo>
                <a:cubicBezTo>
                  <a:pt x="21145" y="11199"/>
                  <a:pt x="21152" y="11061"/>
                  <a:pt x="21209" y="10954"/>
                </a:cubicBezTo>
                <a:cubicBezTo>
                  <a:pt x="21232" y="10911"/>
                  <a:pt x="21238" y="10902"/>
                  <a:pt x="21272" y="10890"/>
                </a:cubicBezTo>
                <a:cubicBezTo>
                  <a:pt x="21272" y="11054"/>
                  <a:pt x="21286" y="11208"/>
                  <a:pt x="21304" y="11366"/>
                </a:cubicBezTo>
                <a:cubicBezTo>
                  <a:pt x="21319" y="11504"/>
                  <a:pt x="21311" y="11643"/>
                  <a:pt x="21336" y="11779"/>
                </a:cubicBezTo>
                <a:cubicBezTo>
                  <a:pt x="21347" y="11821"/>
                  <a:pt x="21357" y="11864"/>
                  <a:pt x="21368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12"/>
          <p:cNvSpPr/>
          <p:nvPr/>
        </p:nvSpPr>
        <p:spPr>
          <a:xfrm>
            <a:off x="0" y="5749920"/>
            <a:ext cx="434880" cy="617400"/>
          </a:xfrm>
          <a:custGeom>
            <a:avLst/>
            <a:gdLst/>
            <a:ahLst/>
            <a:rect l="l" t="t" r="r" b="b"/>
            <a:pathLst>
              <a:path w="1207" h="1716">
                <a:moveTo>
                  <a:pt x="32" y="17050"/>
                </a:moveTo>
                <a:cubicBezTo>
                  <a:pt x="40" y="17115"/>
                  <a:pt x="34" y="17121"/>
                  <a:pt x="64" y="17177"/>
                </a:cubicBezTo>
                <a:cubicBezTo>
                  <a:pt x="90" y="17226"/>
                  <a:pt x="128" y="17283"/>
                  <a:pt x="159" y="17336"/>
                </a:cubicBezTo>
                <a:cubicBezTo>
                  <a:pt x="211" y="17423"/>
                  <a:pt x="277" y="17485"/>
                  <a:pt x="349" y="17558"/>
                </a:cubicBezTo>
                <a:cubicBezTo>
                  <a:pt x="405" y="17615"/>
                  <a:pt x="474" y="17624"/>
                  <a:pt x="540" y="17653"/>
                </a:cubicBezTo>
                <a:cubicBezTo>
                  <a:pt x="636" y="17695"/>
                  <a:pt x="697" y="17696"/>
                  <a:pt x="794" y="17653"/>
                </a:cubicBezTo>
                <a:cubicBezTo>
                  <a:pt x="868" y="17620"/>
                  <a:pt x="897" y="17592"/>
                  <a:pt x="952" y="17526"/>
                </a:cubicBezTo>
                <a:cubicBezTo>
                  <a:pt x="1017" y="17448"/>
                  <a:pt x="1065" y="17396"/>
                  <a:pt x="1111" y="17304"/>
                </a:cubicBezTo>
                <a:cubicBezTo>
                  <a:pt x="1152" y="17221"/>
                  <a:pt x="1148" y="17134"/>
                  <a:pt x="1175" y="17050"/>
                </a:cubicBezTo>
                <a:cubicBezTo>
                  <a:pt x="1204" y="16961"/>
                  <a:pt x="1226" y="16862"/>
                  <a:pt x="1206" y="16764"/>
                </a:cubicBezTo>
                <a:cubicBezTo>
                  <a:pt x="1188" y="16673"/>
                  <a:pt x="1171" y="16562"/>
                  <a:pt x="1143" y="16478"/>
                </a:cubicBezTo>
                <a:cubicBezTo>
                  <a:pt x="1102" y="16356"/>
                  <a:pt x="1019" y="16263"/>
                  <a:pt x="952" y="16161"/>
                </a:cubicBezTo>
                <a:cubicBezTo>
                  <a:pt x="889" y="16066"/>
                  <a:pt x="855" y="16066"/>
                  <a:pt x="762" y="16002"/>
                </a:cubicBezTo>
                <a:cubicBezTo>
                  <a:pt x="715" y="15969"/>
                  <a:pt x="636" y="15953"/>
                  <a:pt x="572" y="15970"/>
                </a:cubicBezTo>
                <a:cubicBezTo>
                  <a:pt x="482" y="15994"/>
                  <a:pt x="353" y="16067"/>
                  <a:pt x="286" y="16129"/>
                </a:cubicBezTo>
                <a:cubicBezTo>
                  <a:pt x="196" y="16212"/>
                  <a:pt x="163" y="16252"/>
                  <a:pt x="95" y="16351"/>
                </a:cubicBezTo>
                <a:cubicBezTo>
                  <a:pt x="29" y="16447"/>
                  <a:pt x="55" y="16497"/>
                  <a:pt x="32" y="16605"/>
                </a:cubicBezTo>
                <a:cubicBezTo>
                  <a:pt x="5" y="16733"/>
                  <a:pt x="-25" y="16884"/>
                  <a:pt x="0" y="17018"/>
                </a:cubicBezTo>
                <a:cubicBezTo>
                  <a:pt x="23" y="17139"/>
                  <a:pt x="46" y="17252"/>
                  <a:pt x="95" y="17367"/>
                </a:cubicBezTo>
                <a:cubicBezTo>
                  <a:pt x="127" y="17442"/>
                  <a:pt x="193" y="17472"/>
                  <a:pt x="254" y="17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13"/>
          <p:cNvSpPr/>
          <p:nvPr/>
        </p:nvSpPr>
        <p:spPr>
          <a:xfrm>
            <a:off x="3611520" y="3314880"/>
            <a:ext cx="160560" cy="125280"/>
          </a:xfrm>
          <a:custGeom>
            <a:avLst/>
            <a:gdLst/>
            <a:ahLst/>
            <a:rect l="l" t="t" r="r" b="b"/>
            <a:pathLst>
              <a:path w="446" h="350">
                <a:moveTo>
                  <a:pt x="10065" y="9462"/>
                </a:moveTo>
                <a:lnTo>
                  <a:pt x="10065" y="9462"/>
                </a:lnTo>
              </a:path>
              <a:path w="446" h="350">
                <a:moveTo>
                  <a:pt x="10065" y="9462"/>
                </a:moveTo>
                <a:cubicBezTo>
                  <a:pt x="10054" y="9441"/>
                  <a:pt x="10044" y="9419"/>
                  <a:pt x="10033" y="9398"/>
                </a:cubicBezTo>
              </a:path>
              <a:path w="446" h="350">
                <a:moveTo>
                  <a:pt x="10033" y="9398"/>
                </a:moveTo>
                <a:cubicBezTo>
                  <a:pt x="10110" y="9379"/>
                  <a:pt x="10110" y="9364"/>
                  <a:pt x="10160" y="9303"/>
                </a:cubicBezTo>
                <a:cubicBezTo>
                  <a:pt x="10210" y="9243"/>
                  <a:pt x="10280" y="9214"/>
                  <a:pt x="10350" y="9208"/>
                </a:cubicBezTo>
                <a:cubicBezTo>
                  <a:pt x="10383" y="9205"/>
                  <a:pt x="10482" y="9220"/>
                  <a:pt x="10478" y="9271"/>
                </a:cubicBezTo>
                <a:cubicBezTo>
                  <a:pt x="10471" y="9363"/>
                  <a:pt x="10408" y="9372"/>
                  <a:pt x="10382" y="9462"/>
                </a:cubicBezTo>
                <a:cubicBezTo>
                  <a:pt x="10366" y="9519"/>
                  <a:pt x="10345" y="9542"/>
                  <a:pt x="10287" y="9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has a pet-care job that pays $5 per hour.  She also does child care and charges $8 per hour.   She wants to earn at least $125 each week but does not want to work more than 20 hours.  Which situation would satisfy both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2 hours and child care for 8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4 hours and child care for 6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8 hours and child care for 12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0 hours and child care for 9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4"/>
          <p:cNvSpPr/>
          <p:nvPr/>
        </p:nvSpPr>
        <p:spPr>
          <a:xfrm>
            <a:off x="228600" y="2879640"/>
            <a:ext cx="2492280" cy="766800"/>
          </a:xfrm>
          <a:custGeom>
            <a:avLst/>
            <a:gdLst/>
            <a:ahLst/>
            <a:rect l="l" t="t" r="r" b="b"/>
            <a:pathLst>
              <a:path w="6922" h="2128">
                <a:moveTo>
                  <a:pt x="1873" y="8223"/>
                </a:moveTo>
                <a:cubicBezTo>
                  <a:pt x="1873" y="8429"/>
                  <a:pt x="1872" y="8631"/>
                  <a:pt x="1905" y="8826"/>
                </a:cubicBezTo>
                <a:cubicBezTo>
                  <a:pt x="1918" y="8901"/>
                  <a:pt x="1896" y="8904"/>
                  <a:pt x="1968" y="8922"/>
                </a:cubicBezTo>
                <a:cubicBezTo>
                  <a:pt x="1984" y="8857"/>
                  <a:pt x="2037" y="8800"/>
                  <a:pt x="2064" y="8731"/>
                </a:cubicBezTo>
                <a:cubicBezTo>
                  <a:pt x="2109" y="8617"/>
                  <a:pt x="2124" y="8493"/>
                  <a:pt x="2159" y="8382"/>
                </a:cubicBezTo>
                <a:cubicBezTo>
                  <a:pt x="2178" y="8322"/>
                  <a:pt x="2190" y="8277"/>
                  <a:pt x="2222" y="8255"/>
                </a:cubicBezTo>
                <a:cubicBezTo>
                  <a:pt x="2203" y="8334"/>
                  <a:pt x="2191" y="8381"/>
                  <a:pt x="2191" y="8477"/>
                </a:cubicBezTo>
                <a:cubicBezTo>
                  <a:pt x="2191" y="8610"/>
                  <a:pt x="2240" y="8729"/>
                  <a:pt x="2254" y="8858"/>
                </a:cubicBezTo>
                <a:cubicBezTo>
                  <a:pt x="2269" y="8997"/>
                  <a:pt x="2271" y="9172"/>
                  <a:pt x="2222" y="9303"/>
                </a:cubicBezTo>
                <a:cubicBezTo>
                  <a:pt x="2202" y="9357"/>
                  <a:pt x="2143" y="9460"/>
                  <a:pt x="2096" y="9493"/>
                </a:cubicBezTo>
                <a:cubicBezTo>
                  <a:pt x="2028" y="9542"/>
                  <a:pt x="1981" y="9531"/>
                  <a:pt x="1937" y="9462"/>
                </a:cubicBezTo>
                <a:cubicBezTo>
                  <a:pt x="1885" y="9380"/>
                  <a:pt x="1882" y="9333"/>
                  <a:pt x="1873" y="9239"/>
                </a:cubicBezTo>
              </a:path>
              <a:path w="6922" h="2128">
                <a:moveTo>
                  <a:pt x="2540" y="8477"/>
                </a:moveTo>
                <a:cubicBezTo>
                  <a:pt x="2540" y="8488"/>
                  <a:pt x="2540" y="8498"/>
                  <a:pt x="2540" y="8509"/>
                </a:cubicBezTo>
              </a:path>
              <a:path w="6922" h="2128">
                <a:moveTo>
                  <a:pt x="2572" y="8890"/>
                </a:moveTo>
                <a:lnTo>
                  <a:pt x="2572" y="8890"/>
                </a:lnTo>
              </a:path>
              <a:path w="6922" h="2128">
                <a:moveTo>
                  <a:pt x="3524" y="8414"/>
                </a:moveTo>
                <a:cubicBezTo>
                  <a:pt x="3514" y="8366"/>
                  <a:pt x="3512" y="8264"/>
                  <a:pt x="3492" y="8223"/>
                </a:cubicBezTo>
                <a:cubicBezTo>
                  <a:pt x="3474" y="8186"/>
                  <a:pt x="3454" y="8161"/>
                  <a:pt x="3429" y="8128"/>
                </a:cubicBezTo>
                <a:cubicBezTo>
                  <a:pt x="3356" y="8146"/>
                  <a:pt x="3311" y="8187"/>
                  <a:pt x="3270" y="8255"/>
                </a:cubicBezTo>
                <a:cubicBezTo>
                  <a:pt x="3215" y="8347"/>
                  <a:pt x="3159" y="8498"/>
                  <a:pt x="3143" y="8604"/>
                </a:cubicBezTo>
                <a:cubicBezTo>
                  <a:pt x="3129" y="8700"/>
                  <a:pt x="3158" y="8864"/>
                  <a:pt x="3238" y="8922"/>
                </a:cubicBezTo>
                <a:cubicBezTo>
                  <a:pt x="3304" y="8970"/>
                  <a:pt x="3357" y="8927"/>
                  <a:pt x="3429" y="8890"/>
                </a:cubicBezTo>
                <a:cubicBezTo>
                  <a:pt x="3450" y="8879"/>
                  <a:pt x="3471" y="8869"/>
                  <a:pt x="3492" y="8858"/>
                </a:cubicBezTo>
              </a:path>
              <a:path w="6922" h="2128">
                <a:moveTo>
                  <a:pt x="3746" y="8128"/>
                </a:moveTo>
                <a:cubicBezTo>
                  <a:pt x="3746" y="8393"/>
                  <a:pt x="3746" y="8657"/>
                  <a:pt x="3746" y="8922"/>
                </a:cubicBezTo>
                <a:cubicBezTo>
                  <a:pt x="3746" y="8788"/>
                  <a:pt x="3760" y="8670"/>
                  <a:pt x="3778" y="8541"/>
                </a:cubicBezTo>
                <a:cubicBezTo>
                  <a:pt x="3789" y="8461"/>
                  <a:pt x="3844" y="8318"/>
                  <a:pt x="3937" y="8287"/>
                </a:cubicBezTo>
                <a:cubicBezTo>
                  <a:pt x="4037" y="8254"/>
                  <a:pt x="4042" y="8293"/>
                  <a:pt x="4064" y="8350"/>
                </a:cubicBezTo>
                <a:cubicBezTo>
                  <a:pt x="4109" y="8469"/>
                  <a:pt x="4069" y="8541"/>
                  <a:pt x="4064" y="8668"/>
                </a:cubicBezTo>
                <a:cubicBezTo>
                  <a:pt x="4062" y="8728"/>
                  <a:pt x="4009" y="8876"/>
                  <a:pt x="4064" y="8922"/>
                </a:cubicBezTo>
                <a:cubicBezTo>
                  <a:pt x="4075" y="8922"/>
                  <a:pt x="4085" y="8922"/>
                  <a:pt x="4096" y="8922"/>
                </a:cubicBezTo>
              </a:path>
              <a:path w="6922" h="2128">
                <a:moveTo>
                  <a:pt x="4286" y="8350"/>
                </a:moveTo>
                <a:cubicBezTo>
                  <a:pt x="4298" y="8432"/>
                  <a:pt x="4318" y="8481"/>
                  <a:pt x="4318" y="8572"/>
                </a:cubicBezTo>
                <a:cubicBezTo>
                  <a:pt x="4318" y="8699"/>
                  <a:pt x="4318" y="8827"/>
                  <a:pt x="4318" y="8954"/>
                </a:cubicBezTo>
              </a:path>
              <a:path w="6922" h="2128">
                <a:moveTo>
                  <a:pt x="4699" y="8033"/>
                </a:moveTo>
                <a:cubicBezTo>
                  <a:pt x="4699" y="8290"/>
                  <a:pt x="4692" y="8549"/>
                  <a:pt x="4731" y="8795"/>
                </a:cubicBezTo>
                <a:cubicBezTo>
                  <a:pt x="4743" y="8869"/>
                  <a:pt x="4745" y="8919"/>
                  <a:pt x="4762" y="8954"/>
                </a:cubicBezTo>
                <a:cubicBezTo>
                  <a:pt x="4762" y="8964"/>
                  <a:pt x="4762" y="8975"/>
                  <a:pt x="4762" y="8985"/>
                </a:cubicBezTo>
              </a:path>
              <a:path w="6922" h="2128">
                <a:moveTo>
                  <a:pt x="5207" y="8001"/>
                </a:moveTo>
                <a:cubicBezTo>
                  <a:pt x="5258" y="8086"/>
                  <a:pt x="5212" y="8126"/>
                  <a:pt x="5207" y="8223"/>
                </a:cubicBezTo>
                <a:cubicBezTo>
                  <a:pt x="5194" y="8456"/>
                  <a:pt x="5343" y="9098"/>
                  <a:pt x="5239" y="8890"/>
                </a:cubicBezTo>
                <a:cubicBezTo>
                  <a:pt x="5211" y="8835"/>
                  <a:pt x="5186" y="8766"/>
                  <a:pt x="5175" y="8700"/>
                </a:cubicBezTo>
                <a:cubicBezTo>
                  <a:pt x="5160" y="8613"/>
                  <a:pt x="5196" y="8510"/>
                  <a:pt x="5112" y="8446"/>
                </a:cubicBezTo>
                <a:cubicBezTo>
                  <a:pt x="5073" y="8416"/>
                  <a:pt x="5025" y="8420"/>
                  <a:pt x="4985" y="8446"/>
                </a:cubicBezTo>
                <a:cubicBezTo>
                  <a:pt x="4925" y="8485"/>
                  <a:pt x="4900" y="8605"/>
                  <a:pt x="4890" y="8668"/>
                </a:cubicBezTo>
                <a:cubicBezTo>
                  <a:pt x="4878" y="8743"/>
                  <a:pt x="4923" y="8818"/>
                  <a:pt x="4985" y="8858"/>
                </a:cubicBezTo>
                <a:cubicBezTo>
                  <a:pt x="5087" y="8924"/>
                  <a:pt x="5168" y="8864"/>
                  <a:pt x="5270" y="8826"/>
                </a:cubicBezTo>
              </a:path>
              <a:path w="6922" h="2128">
                <a:moveTo>
                  <a:pt x="6128" y="8414"/>
                </a:moveTo>
                <a:cubicBezTo>
                  <a:pt x="6162" y="8357"/>
                  <a:pt x="6180" y="8292"/>
                  <a:pt x="6096" y="8255"/>
                </a:cubicBezTo>
                <a:cubicBezTo>
                  <a:pt x="6036" y="8229"/>
                  <a:pt x="5942" y="8268"/>
                  <a:pt x="5906" y="8318"/>
                </a:cubicBezTo>
                <a:cubicBezTo>
                  <a:pt x="5844" y="8406"/>
                  <a:pt x="5814" y="8500"/>
                  <a:pt x="5810" y="8604"/>
                </a:cubicBezTo>
                <a:cubicBezTo>
                  <a:pt x="5806" y="8712"/>
                  <a:pt x="5801" y="8777"/>
                  <a:pt x="5874" y="8858"/>
                </a:cubicBezTo>
                <a:cubicBezTo>
                  <a:pt x="5903" y="8887"/>
                  <a:pt x="5909" y="8897"/>
                  <a:pt x="5937" y="8890"/>
                </a:cubicBezTo>
              </a:path>
              <a:path w="6922" h="2128">
                <a:moveTo>
                  <a:pt x="6445" y="8509"/>
                </a:moveTo>
                <a:cubicBezTo>
                  <a:pt x="6454" y="8471"/>
                  <a:pt x="6488" y="8411"/>
                  <a:pt x="6445" y="8382"/>
                </a:cubicBezTo>
                <a:cubicBezTo>
                  <a:pt x="6377" y="8336"/>
                  <a:pt x="6316" y="8413"/>
                  <a:pt x="6286" y="8446"/>
                </a:cubicBezTo>
                <a:cubicBezTo>
                  <a:pt x="6219" y="8520"/>
                  <a:pt x="6196" y="8602"/>
                  <a:pt x="6191" y="8700"/>
                </a:cubicBezTo>
                <a:cubicBezTo>
                  <a:pt x="6186" y="8793"/>
                  <a:pt x="6177" y="8824"/>
                  <a:pt x="6255" y="8858"/>
                </a:cubicBezTo>
                <a:cubicBezTo>
                  <a:pt x="6339" y="8894"/>
                  <a:pt x="6373" y="8860"/>
                  <a:pt x="6445" y="8795"/>
                </a:cubicBezTo>
                <a:cubicBezTo>
                  <a:pt x="6511" y="8736"/>
                  <a:pt x="6534" y="8656"/>
                  <a:pt x="6540" y="8572"/>
                </a:cubicBezTo>
                <a:cubicBezTo>
                  <a:pt x="6544" y="8525"/>
                  <a:pt x="6523" y="8553"/>
                  <a:pt x="6509" y="8509"/>
                </a:cubicBezTo>
                <a:cubicBezTo>
                  <a:pt x="6470" y="8573"/>
                  <a:pt x="6477" y="8621"/>
                  <a:pt x="6477" y="8700"/>
                </a:cubicBezTo>
                <a:cubicBezTo>
                  <a:pt x="6477" y="8769"/>
                  <a:pt x="6499" y="8818"/>
                  <a:pt x="6572" y="8826"/>
                </a:cubicBezTo>
                <a:cubicBezTo>
                  <a:pt x="6583" y="8826"/>
                  <a:pt x="6593" y="8826"/>
                  <a:pt x="6604" y="8826"/>
                </a:cubicBezTo>
              </a:path>
              <a:path w="6922" h="2128">
                <a:moveTo>
                  <a:pt x="6826" y="8318"/>
                </a:moveTo>
                <a:cubicBezTo>
                  <a:pt x="6812" y="8372"/>
                  <a:pt x="6774" y="8409"/>
                  <a:pt x="6794" y="8477"/>
                </a:cubicBezTo>
                <a:cubicBezTo>
                  <a:pt x="6824" y="8578"/>
                  <a:pt x="6852" y="8689"/>
                  <a:pt x="6858" y="8795"/>
                </a:cubicBezTo>
                <a:cubicBezTo>
                  <a:pt x="6858" y="8852"/>
                  <a:pt x="6854" y="8869"/>
                  <a:pt x="6890" y="8890"/>
                </a:cubicBezTo>
                <a:cubicBezTo>
                  <a:pt x="6873" y="8838"/>
                  <a:pt x="6858" y="8819"/>
                  <a:pt x="6858" y="8731"/>
                </a:cubicBezTo>
                <a:cubicBezTo>
                  <a:pt x="6858" y="8644"/>
                  <a:pt x="6836" y="8543"/>
                  <a:pt x="6890" y="8477"/>
                </a:cubicBezTo>
                <a:cubicBezTo>
                  <a:pt x="6917" y="8444"/>
                  <a:pt x="6979" y="8390"/>
                  <a:pt x="7017" y="8382"/>
                </a:cubicBezTo>
                <a:cubicBezTo>
                  <a:pt x="7080" y="8382"/>
                  <a:pt x="7102" y="8382"/>
                  <a:pt x="7144" y="8382"/>
                </a:cubicBezTo>
              </a:path>
              <a:path w="6922" h="2128">
                <a:moveTo>
                  <a:pt x="7176" y="8636"/>
                </a:moveTo>
                <a:cubicBezTo>
                  <a:pt x="7258" y="8657"/>
                  <a:pt x="7230" y="8652"/>
                  <a:pt x="7302" y="8636"/>
                </a:cubicBezTo>
                <a:cubicBezTo>
                  <a:pt x="7400" y="8615"/>
                  <a:pt x="7460" y="8601"/>
                  <a:pt x="7525" y="8509"/>
                </a:cubicBezTo>
                <a:cubicBezTo>
                  <a:pt x="7553" y="8469"/>
                  <a:pt x="7579" y="8365"/>
                  <a:pt x="7556" y="8318"/>
                </a:cubicBezTo>
                <a:cubicBezTo>
                  <a:pt x="7546" y="8308"/>
                  <a:pt x="7535" y="8297"/>
                  <a:pt x="7525" y="8287"/>
                </a:cubicBezTo>
                <a:cubicBezTo>
                  <a:pt x="7405" y="8302"/>
                  <a:pt x="7377" y="8329"/>
                  <a:pt x="7302" y="8414"/>
                </a:cubicBezTo>
                <a:cubicBezTo>
                  <a:pt x="7233" y="8492"/>
                  <a:pt x="7186" y="8650"/>
                  <a:pt x="7207" y="8763"/>
                </a:cubicBezTo>
                <a:cubicBezTo>
                  <a:pt x="7224" y="8855"/>
                  <a:pt x="7308" y="8934"/>
                  <a:pt x="7398" y="8954"/>
                </a:cubicBezTo>
                <a:cubicBezTo>
                  <a:pt x="7464" y="8954"/>
                  <a:pt x="7487" y="8953"/>
                  <a:pt x="7525" y="8922"/>
                </a:cubicBezTo>
              </a:path>
              <a:path w="6922" h="2128">
                <a:moveTo>
                  <a:pt x="698" y="10128"/>
                </a:moveTo>
                <a:cubicBezTo>
                  <a:pt x="677" y="10128"/>
                  <a:pt x="656" y="10128"/>
                  <a:pt x="635" y="10128"/>
                </a:cubicBezTo>
                <a:cubicBezTo>
                  <a:pt x="746" y="10106"/>
                  <a:pt x="838" y="10033"/>
                  <a:pt x="952" y="10001"/>
                </a:cubicBezTo>
                <a:cubicBezTo>
                  <a:pt x="1175" y="9938"/>
                  <a:pt x="1393" y="9861"/>
                  <a:pt x="1619" y="9811"/>
                </a:cubicBezTo>
                <a:cubicBezTo>
                  <a:pt x="1829" y="9764"/>
                  <a:pt x="2041" y="9779"/>
                  <a:pt x="2254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5"/>
          <p:cNvSpPr/>
          <p:nvPr/>
        </p:nvSpPr>
        <p:spPr>
          <a:xfrm>
            <a:off x="4172040" y="2217600"/>
            <a:ext cx="2171520" cy="777960"/>
          </a:xfrm>
          <a:custGeom>
            <a:avLst/>
            <a:gdLst/>
            <a:ahLst/>
            <a:rect l="l" t="t" r="r" b="b"/>
            <a:pathLst>
              <a:path w="6033" h="2159">
                <a:moveTo>
                  <a:pt x="11684" y="6414"/>
                </a:moveTo>
                <a:cubicBezTo>
                  <a:pt x="11730" y="6448"/>
                  <a:pt x="11754" y="6512"/>
                  <a:pt x="11779" y="6572"/>
                </a:cubicBezTo>
                <a:cubicBezTo>
                  <a:pt x="11816" y="6660"/>
                  <a:pt x="11892" y="6711"/>
                  <a:pt x="11938" y="6794"/>
                </a:cubicBezTo>
                <a:cubicBezTo>
                  <a:pt x="11996" y="6898"/>
                  <a:pt x="12038" y="7007"/>
                  <a:pt x="12097" y="7112"/>
                </a:cubicBezTo>
                <a:cubicBezTo>
                  <a:pt x="12139" y="7187"/>
                  <a:pt x="12181" y="7262"/>
                  <a:pt x="12224" y="7334"/>
                </a:cubicBezTo>
                <a:cubicBezTo>
                  <a:pt x="12274" y="7417"/>
                  <a:pt x="12290" y="7406"/>
                  <a:pt x="12351" y="7461"/>
                </a:cubicBezTo>
                <a:cubicBezTo>
                  <a:pt x="12379" y="7490"/>
                  <a:pt x="12389" y="7505"/>
                  <a:pt x="12382" y="7461"/>
                </a:cubicBezTo>
              </a:path>
              <a:path w="6033" h="2159">
                <a:moveTo>
                  <a:pt x="12256" y="6350"/>
                </a:moveTo>
                <a:cubicBezTo>
                  <a:pt x="12238" y="6422"/>
                  <a:pt x="12189" y="6496"/>
                  <a:pt x="12160" y="6572"/>
                </a:cubicBezTo>
                <a:cubicBezTo>
                  <a:pt x="12098" y="6737"/>
                  <a:pt x="12050" y="6888"/>
                  <a:pt x="11970" y="7048"/>
                </a:cubicBezTo>
                <a:cubicBezTo>
                  <a:pt x="11892" y="7203"/>
                  <a:pt x="11779" y="7366"/>
                  <a:pt x="11716" y="7525"/>
                </a:cubicBezTo>
                <a:cubicBezTo>
                  <a:pt x="11673" y="7635"/>
                  <a:pt x="11649" y="7682"/>
                  <a:pt x="11589" y="7779"/>
                </a:cubicBezTo>
              </a:path>
              <a:path w="6033" h="2159">
                <a:moveTo>
                  <a:pt x="13081" y="6318"/>
                </a:moveTo>
                <a:cubicBezTo>
                  <a:pt x="13056" y="6418"/>
                  <a:pt x="13081" y="6518"/>
                  <a:pt x="13081" y="6636"/>
                </a:cubicBezTo>
                <a:cubicBezTo>
                  <a:pt x="13081" y="6792"/>
                  <a:pt x="13092" y="6929"/>
                  <a:pt x="13113" y="7080"/>
                </a:cubicBezTo>
                <a:cubicBezTo>
                  <a:pt x="13127" y="7183"/>
                  <a:pt x="13107" y="7281"/>
                  <a:pt x="13081" y="7366"/>
                </a:cubicBezTo>
                <a:cubicBezTo>
                  <a:pt x="13081" y="7377"/>
                  <a:pt x="13081" y="7387"/>
                  <a:pt x="13081" y="7398"/>
                </a:cubicBezTo>
              </a:path>
              <a:path w="6033" h="2159">
                <a:moveTo>
                  <a:pt x="12795" y="7080"/>
                </a:moveTo>
                <a:cubicBezTo>
                  <a:pt x="12851" y="7080"/>
                  <a:pt x="12903" y="7065"/>
                  <a:pt x="12954" y="7048"/>
                </a:cubicBezTo>
                <a:cubicBezTo>
                  <a:pt x="13044" y="7017"/>
                  <a:pt x="13148" y="7000"/>
                  <a:pt x="13240" y="6985"/>
                </a:cubicBezTo>
                <a:cubicBezTo>
                  <a:pt x="13303" y="6985"/>
                  <a:pt x="13325" y="6985"/>
                  <a:pt x="13367" y="6985"/>
                </a:cubicBezTo>
              </a:path>
              <a:path w="6033" h="2159">
                <a:moveTo>
                  <a:pt x="13748" y="6445"/>
                </a:moveTo>
                <a:cubicBezTo>
                  <a:pt x="13763" y="6503"/>
                  <a:pt x="13791" y="6576"/>
                  <a:pt x="13811" y="6636"/>
                </a:cubicBezTo>
                <a:cubicBezTo>
                  <a:pt x="13848" y="6746"/>
                  <a:pt x="13929" y="6815"/>
                  <a:pt x="13970" y="6922"/>
                </a:cubicBezTo>
                <a:cubicBezTo>
                  <a:pt x="14011" y="7029"/>
                  <a:pt x="14048" y="7136"/>
                  <a:pt x="14097" y="7239"/>
                </a:cubicBezTo>
                <a:cubicBezTo>
                  <a:pt x="14129" y="7307"/>
                  <a:pt x="14172" y="7346"/>
                  <a:pt x="14224" y="7398"/>
                </a:cubicBezTo>
              </a:path>
              <a:path w="6033" h="2159">
                <a:moveTo>
                  <a:pt x="14414" y="6382"/>
                </a:moveTo>
                <a:cubicBezTo>
                  <a:pt x="14389" y="6486"/>
                  <a:pt x="14376" y="6590"/>
                  <a:pt x="14351" y="6699"/>
                </a:cubicBezTo>
                <a:cubicBezTo>
                  <a:pt x="14283" y="6994"/>
                  <a:pt x="14214" y="7292"/>
                  <a:pt x="14160" y="7588"/>
                </a:cubicBezTo>
                <a:cubicBezTo>
                  <a:pt x="14114" y="7837"/>
                  <a:pt x="14044" y="8076"/>
                  <a:pt x="13970" y="8318"/>
                </a:cubicBezTo>
              </a:path>
              <a:path w="6033" h="2159">
                <a:moveTo>
                  <a:pt x="15462" y="6160"/>
                </a:moveTo>
                <a:cubicBezTo>
                  <a:pt x="15423" y="6228"/>
                  <a:pt x="15410" y="6296"/>
                  <a:pt x="15367" y="6350"/>
                </a:cubicBezTo>
                <a:cubicBezTo>
                  <a:pt x="15324" y="6403"/>
                  <a:pt x="15285" y="6459"/>
                  <a:pt x="15240" y="6509"/>
                </a:cubicBezTo>
                <a:cubicBezTo>
                  <a:pt x="15184" y="6570"/>
                  <a:pt x="15142" y="6617"/>
                  <a:pt x="15081" y="6668"/>
                </a:cubicBezTo>
                <a:cubicBezTo>
                  <a:pt x="15029" y="6711"/>
                  <a:pt x="14886" y="6818"/>
                  <a:pt x="14859" y="6858"/>
                </a:cubicBezTo>
                <a:cubicBezTo>
                  <a:pt x="14859" y="6869"/>
                  <a:pt x="14859" y="6879"/>
                  <a:pt x="14859" y="6890"/>
                </a:cubicBezTo>
                <a:cubicBezTo>
                  <a:pt x="14909" y="6877"/>
                  <a:pt x="14929" y="6858"/>
                  <a:pt x="14986" y="6858"/>
                </a:cubicBezTo>
                <a:cubicBezTo>
                  <a:pt x="15222" y="6858"/>
                  <a:pt x="15459" y="6852"/>
                  <a:pt x="15684" y="6890"/>
                </a:cubicBezTo>
                <a:cubicBezTo>
                  <a:pt x="15743" y="6900"/>
                  <a:pt x="15815" y="6890"/>
                  <a:pt x="15875" y="6890"/>
                </a:cubicBezTo>
              </a:path>
              <a:path w="6033" h="2159">
                <a:moveTo>
                  <a:pt x="14700" y="7302"/>
                </a:moveTo>
                <a:cubicBezTo>
                  <a:pt x="14750" y="7315"/>
                  <a:pt x="14806" y="7318"/>
                  <a:pt x="14859" y="7334"/>
                </a:cubicBezTo>
                <a:cubicBezTo>
                  <a:pt x="14934" y="7356"/>
                  <a:pt x="14995" y="7385"/>
                  <a:pt x="15081" y="7366"/>
                </a:cubicBezTo>
                <a:cubicBezTo>
                  <a:pt x="15176" y="7345"/>
                  <a:pt x="15275" y="7318"/>
                  <a:pt x="15367" y="7302"/>
                </a:cubicBezTo>
                <a:cubicBezTo>
                  <a:pt x="15446" y="7289"/>
                  <a:pt x="15560" y="7288"/>
                  <a:pt x="15621" y="7334"/>
                </a:cubicBezTo>
              </a:path>
              <a:path w="6033" h="2159">
                <a:moveTo>
                  <a:pt x="16256" y="6509"/>
                </a:moveTo>
                <a:cubicBezTo>
                  <a:pt x="16203" y="6491"/>
                  <a:pt x="16225" y="6433"/>
                  <a:pt x="16256" y="6382"/>
                </a:cubicBezTo>
                <a:cubicBezTo>
                  <a:pt x="16291" y="6325"/>
                  <a:pt x="16384" y="6244"/>
                  <a:pt x="16446" y="6223"/>
                </a:cubicBezTo>
                <a:cubicBezTo>
                  <a:pt x="16485" y="6210"/>
                  <a:pt x="16555" y="6288"/>
                  <a:pt x="16574" y="6318"/>
                </a:cubicBezTo>
                <a:cubicBezTo>
                  <a:pt x="16618" y="6388"/>
                  <a:pt x="16620" y="6524"/>
                  <a:pt x="16605" y="6604"/>
                </a:cubicBezTo>
                <a:cubicBezTo>
                  <a:pt x="16581" y="6733"/>
                  <a:pt x="16508" y="6873"/>
                  <a:pt x="16446" y="6985"/>
                </a:cubicBezTo>
                <a:cubicBezTo>
                  <a:pt x="16384" y="7096"/>
                  <a:pt x="16310" y="7210"/>
                  <a:pt x="16224" y="7302"/>
                </a:cubicBezTo>
                <a:cubicBezTo>
                  <a:pt x="16183" y="7346"/>
                  <a:pt x="16139" y="7387"/>
                  <a:pt x="16097" y="7430"/>
                </a:cubicBezTo>
                <a:cubicBezTo>
                  <a:pt x="16105" y="7407"/>
                  <a:pt x="16153" y="7351"/>
                  <a:pt x="16192" y="7334"/>
                </a:cubicBezTo>
                <a:cubicBezTo>
                  <a:pt x="16244" y="7310"/>
                  <a:pt x="16286" y="7326"/>
                  <a:pt x="16320" y="7334"/>
                </a:cubicBezTo>
                <a:cubicBezTo>
                  <a:pt x="16376" y="7347"/>
                  <a:pt x="16403" y="7387"/>
                  <a:pt x="16446" y="7430"/>
                </a:cubicBezTo>
                <a:cubicBezTo>
                  <a:pt x="16512" y="7495"/>
                  <a:pt x="16545" y="7548"/>
                  <a:pt x="16637" y="7556"/>
                </a:cubicBezTo>
                <a:cubicBezTo>
                  <a:pt x="16689" y="7560"/>
                  <a:pt x="16761" y="7533"/>
                  <a:pt x="16796" y="7493"/>
                </a:cubicBezTo>
                <a:cubicBezTo>
                  <a:pt x="16807" y="7472"/>
                  <a:pt x="16817" y="7451"/>
                  <a:pt x="16828" y="7430"/>
                </a:cubicBezTo>
              </a:path>
              <a:path w="6033" h="2159">
                <a:moveTo>
                  <a:pt x="17113" y="6414"/>
                </a:moveTo>
                <a:cubicBezTo>
                  <a:pt x="17065" y="6426"/>
                  <a:pt x="17016" y="6463"/>
                  <a:pt x="16986" y="6509"/>
                </a:cubicBezTo>
                <a:cubicBezTo>
                  <a:pt x="16925" y="6603"/>
                  <a:pt x="16903" y="6750"/>
                  <a:pt x="16891" y="6858"/>
                </a:cubicBezTo>
                <a:cubicBezTo>
                  <a:pt x="16873" y="7018"/>
                  <a:pt x="16876" y="7217"/>
                  <a:pt x="16923" y="7366"/>
                </a:cubicBezTo>
                <a:cubicBezTo>
                  <a:pt x="16963" y="7492"/>
                  <a:pt x="17013" y="7549"/>
                  <a:pt x="17145" y="7556"/>
                </a:cubicBezTo>
                <a:cubicBezTo>
                  <a:pt x="17265" y="7563"/>
                  <a:pt x="17349" y="7509"/>
                  <a:pt x="17431" y="7430"/>
                </a:cubicBezTo>
                <a:cubicBezTo>
                  <a:pt x="17555" y="7311"/>
                  <a:pt x="17610" y="7183"/>
                  <a:pt x="17621" y="7017"/>
                </a:cubicBezTo>
                <a:cubicBezTo>
                  <a:pt x="17630" y="6880"/>
                  <a:pt x="17582" y="6766"/>
                  <a:pt x="17494" y="6668"/>
                </a:cubicBezTo>
                <a:cubicBezTo>
                  <a:pt x="17362" y="6520"/>
                  <a:pt x="17236" y="6509"/>
                  <a:pt x="17050" y="6509"/>
                </a:cubicBezTo>
                <a:cubicBezTo>
                  <a:pt x="16986" y="6509"/>
                  <a:pt x="16965" y="6509"/>
                  <a:pt x="16923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6"/>
          <p:cNvSpPr/>
          <p:nvPr/>
        </p:nvSpPr>
        <p:spPr>
          <a:xfrm>
            <a:off x="650880" y="2492280"/>
            <a:ext cx="298440" cy="365400"/>
          </a:xfrm>
          <a:custGeom>
            <a:avLst/>
            <a:gdLst/>
            <a:ahLst/>
            <a:rect l="l" t="t" r="r" b="b"/>
            <a:pathLst>
              <a:path w="826" h="1017">
                <a:moveTo>
                  <a:pt x="1842" y="6985"/>
                </a:moveTo>
                <a:cubicBezTo>
                  <a:pt x="1856" y="7043"/>
                  <a:pt x="1877" y="7091"/>
                  <a:pt x="1905" y="7144"/>
                </a:cubicBezTo>
                <a:cubicBezTo>
                  <a:pt x="1950" y="7227"/>
                  <a:pt x="1989" y="7314"/>
                  <a:pt x="2032" y="7398"/>
                </a:cubicBezTo>
                <a:cubicBezTo>
                  <a:pt x="2077" y="7487"/>
                  <a:pt x="2139" y="7540"/>
                  <a:pt x="2191" y="7620"/>
                </a:cubicBezTo>
                <a:cubicBezTo>
                  <a:pt x="2213" y="7653"/>
                  <a:pt x="2267" y="7794"/>
                  <a:pt x="2286" y="7810"/>
                </a:cubicBezTo>
                <a:cubicBezTo>
                  <a:pt x="2318" y="7810"/>
                  <a:pt x="2329" y="7810"/>
                  <a:pt x="2318" y="7842"/>
                </a:cubicBezTo>
              </a:path>
              <a:path w="826" h="1017">
                <a:moveTo>
                  <a:pt x="2286" y="6922"/>
                </a:moveTo>
                <a:cubicBezTo>
                  <a:pt x="2270" y="6999"/>
                  <a:pt x="2248" y="7069"/>
                  <a:pt x="2222" y="7144"/>
                </a:cubicBezTo>
                <a:cubicBezTo>
                  <a:pt x="2178" y="7271"/>
                  <a:pt x="2115" y="7372"/>
                  <a:pt x="2064" y="7493"/>
                </a:cubicBezTo>
                <a:cubicBezTo>
                  <a:pt x="2020" y="7598"/>
                  <a:pt x="1968" y="7713"/>
                  <a:pt x="1905" y="7810"/>
                </a:cubicBezTo>
                <a:cubicBezTo>
                  <a:pt x="1871" y="7863"/>
                  <a:pt x="1825" y="7877"/>
                  <a:pt x="1810" y="7938"/>
                </a:cubicBezTo>
              </a:path>
              <a:path w="826" h="1017">
                <a:moveTo>
                  <a:pt x="2604" y="7176"/>
                </a:moveTo>
                <a:cubicBezTo>
                  <a:pt x="2635" y="7176"/>
                  <a:pt x="2645" y="7176"/>
                  <a:pt x="2635" y="7207"/>
                </a:cubicBezTo>
              </a:path>
              <a:path w="826" h="1017">
                <a:moveTo>
                  <a:pt x="2540" y="7588"/>
                </a:moveTo>
                <a:cubicBezTo>
                  <a:pt x="2540" y="7620"/>
                  <a:pt x="2540" y="7631"/>
                  <a:pt x="2572" y="7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7"/>
          <p:cNvSpPr/>
          <p:nvPr/>
        </p:nvSpPr>
        <p:spPr>
          <a:xfrm>
            <a:off x="1120680" y="2468520"/>
            <a:ext cx="1290600" cy="434880"/>
          </a:xfrm>
          <a:custGeom>
            <a:avLst/>
            <a:gdLst/>
            <a:ahLst/>
            <a:rect l="l" t="t" r="r" b="b"/>
            <a:pathLst>
              <a:path w="3588" h="1207">
                <a:moveTo>
                  <a:pt x="3175" y="7048"/>
                </a:moveTo>
                <a:cubicBezTo>
                  <a:pt x="3218" y="7164"/>
                  <a:pt x="3180" y="7212"/>
                  <a:pt x="3175" y="7334"/>
                </a:cubicBezTo>
                <a:cubicBezTo>
                  <a:pt x="3166" y="7577"/>
                  <a:pt x="3175" y="7821"/>
                  <a:pt x="3175" y="8064"/>
                </a:cubicBezTo>
                <a:cubicBezTo>
                  <a:pt x="3127" y="8002"/>
                  <a:pt x="3143" y="8003"/>
                  <a:pt x="3143" y="7906"/>
                </a:cubicBezTo>
              </a:path>
              <a:path w="3588" h="1207">
                <a:moveTo>
                  <a:pt x="3143" y="7207"/>
                </a:moveTo>
                <a:cubicBezTo>
                  <a:pt x="3150" y="7150"/>
                  <a:pt x="3167" y="7010"/>
                  <a:pt x="3238" y="6985"/>
                </a:cubicBezTo>
                <a:cubicBezTo>
                  <a:pt x="3310" y="6959"/>
                  <a:pt x="3380" y="7004"/>
                  <a:pt x="3429" y="7048"/>
                </a:cubicBezTo>
                <a:cubicBezTo>
                  <a:pt x="3475" y="7089"/>
                  <a:pt x="3478" y="7211"/>
                  <a:pt x="3461" y="7271"/>
                </a:cubicBezTo>
                <a:cubicBezTo>
                  <a:pt x="3429" y="7385"/>
                  <a:pt x="3400" y="7410"/>
                  <a:pt x="3334" y="7493"/>
                </a:cubicBezTo>
                <a:cubicBezTo>
                  <a:pt x="3289" y="7549"/>
                  <a:pt x="3252" y="7611"/>
                  <a:pt x="3175" y="7620"/>
                </a:cubicBezTo>
                <a:cubicBezTo>
                  <a:pt x="3108" y="7627"/>
                  <a:pt x="3112" y="7617"/>
                  <a:pt x="3112" y="7556"/>
                </a:cubicBezTo>
              </a:path>
              <a:path w="3588" h="1207">
                <a:moveTo>
                  <a:pt x="3620" y="7334"/>
                </a:moveTo>
                <a:cubicBezTo>
                  <a:pt x="3684" y="7334"/>
                  <a:pt x="3695" y="7319"/>
                  <a:pt x="3746" y="7302"/>
                </a:cubicBezTo>
                <a:cubicBezTo>
                  <a:pt x="3784" y="7289"/>
                  <a:pt x="3837" y="7275"/>
                  <a:pt x="3874" y="7271"/>
                </a:cubicBezTo>
                <a:cubicBezTo>
                  <a:pt x="3911" y="7267"/>
                  <a:pt x="3932" y="7221"/>
                  <a:pt x="3937" y="7176"/>
                </a:cubicBezTo>
                <a:cubicBezTo>
                  <a:pt x="3940" y="7145"/>
                  <a:pt x="3937" y="7111"/>
                  <a:pt x="3937" y="7080"/>
                </a:cubicBezTo>
                <a:cubicBezTo>
                  <a:pt x="3870" y="7080"/>
                  <a:pt x="3827" y="7066"/>
                  <a:pt x="3778" y="7112"/>
                </a:cubicBezTo>
                <a:cubicBezTo>
                  <a:pt x="3704" y="7182"/>
                  <a:pt x="3667" y="7269"/>
                  <a:pt x="3651" y="7366"/>
                </a:cubicBezTo>
                <a:cubicBezTo>
                  <a:pt x="3638" y="7445"/>
                  <a:pt x="3641" y="7552"/>
                  <a:pt x="3683" y="7620"/>
                </a:cubicBezTo>
                <a:cubicBezTo>
                  <a:pt x="3705" y="7656"/>
                  <a:pt x="3771" y="7666"/>
                  <a:pt x="3810" y="7652"/>
                </a:cubicBezTo>
                <a:cubicBezTo>
                  <a:pt x="3874" y="7620"/>
                  <a:pt x="3895" y="7610"/>
                  <a:pt x="3937" y="7588"/>
                </a:cubicBezTo>
              </a:path>
              <a:path w="3588" h="1207">
                <a:moveTo>
                  <a:pt x="4318" y="6890"/>
                </a:moveTo>
                <a:cubicBezTo>
                  <a:pt x="4318" y="6803"/>
                  <a:pt x="4318" y="6999"/>
                  <a:pt x="4318" y="7017"/>
                </a:cubicBezTo>
                <a:cubicBezTo>
                  <a:pt x="4318" y="7229"/>
                  <a:pt x="4318" y="7440"/>
                  <a:pt x="4318" y="7652"/>
                </a:cubicBezTo>
              </a:path>
              <a:path w="3588" h="1207">
                <a:moveTo>
                  <a:pt x="4064" y="7334"/>
                </a:moveTo>
                <a:cubicBezTo>
                  <a:pt x="4110" y="7300"/>
                  <a:pt x="4195" y="7278"/>
                  <a:pt x="4254" y="7271"/>
                </a:cubicBezTo>
                <a:cubicBezTo>
                  <a:pt x="4339" y="7271"/>
                  <a:pt x="4360" y="7271"/>
                  <a:pt x="4413" y="7271"/>
                </a:cubicBezTo>
              </a:path>
              <a:path w="3588" h="1207">
                <a:moveTo>
                  <a:pt x="5366" y="7207"/>
                </a:moveTo>
                <a:cubicBezTo>
                  <a:pt x="5361" y="7172"/>
                  <a:pt x="5350" y="7063"/>
                  <a:pt x="5302" y="7048"/>
                </a:cubicBezTo>
                <a:cubicBezTo>
                  <a:pt x="5206" y="7018"/>
                  <a:pt x="5176" y="7032"/>
                  <a:pt x="5080" y="7080"/>
                </a:cubicBezTo>
                <a:cubicBezTo>
                  <a:pt x="4976" y="7132"/>
                  <a:pt x="4914" y="7219"/>
                  <a:pt x="4890" y="7334"/>
                </a:cubicBezTo>
                <a:cubicBezTo>
                  <a:pt x="4876" y="7403"/>
                  <a:pt x="4928" y="7515"/>
                  <a:pt x="4985" y="7556"/>
                </a:cubicBezTo>
                <a:cubicBezTo>
                  <a:pt x="5046" y="7587"/>
                  <a:pt x="5065" y="7598"/>
                  <a:pt x="5112" y="7588"/>
                </a:cubicBezTo>
              </a:path>
              <a:path w="3588" h="1207">
                <a:moveTo>
                  <a:pt x="5620" y="7144"/>
                </a:moveTo>
                <a:cubicBezTo>
                  <a:pt x="5585" y="7132"/>
                  <a:pt x="5580" y="7092"/>
                  <a:pt x="5524" y="7112"/>
                </a:cubicBezTo>
                <a:cubicBezTo>
                  <a:pt x="5425" y="7148"/>
                  <a:pt x="5405" y="7248"/>
                  <a:pt x="5366" y="7334"/>
                </a:cubicBezTo>
                <a:cubicBezTo>
                  <a:pt x="5328" y="7418"/>
                  <a:pt x="5307" y="7514"/>
                  <a:pt x="5366" y="7588"/>
                </a:cubicBezTo>
                <a:cubicBezTo>
                  <a:pt x="5418" y="7653"/>
                  <a:pt x="5456" y="7675"/>
                  <a:pt x="5524" y="7620"/>
                </a:cubicBezTo>
                <a:cubicBezTo>
                  <a:pt x="5598" y="7560"/>
                  <a:pt x="5617" y="7448"/>
                  <a:pt x="5652" y="7366"/>
                </a:cubicBezTo>
                <a:cubicBezTo>
                  <a:pt x="5679" y="7302"/>
                  <a:pt x="5683" y="7275"/>
                  <a:pt x="5683" y="7207"/>
                </a:cubicBezTo>
                <a:cubicBezTo>
                  <a:pt x="5683" y="7283"/>
                  <a:pt x="5636" y="7359"/>
                  <a:pt x="5652" y="7430"/>
                </a:cubicBezTo>
                <a:cubicBezTo>
                  <a:pt x="5667" y="7498"/>
                  <a:pt x="5686" y="7541"/>
                  <a:pt x="5747" y="7556"/>
                </a:cubicBezTo>
              </a:path>
              <a:path w="3588" h="1207">
                <a:moveTo>
                  <a:pt x="5937" y="7112"/>
                </a:moveTo>
                <a:cubicBezTo>
                  <a:pt x="5937" y="7274"/>
                  <a:pt x="5926" y="7445"/>
                  <a:pt x="5969" y="7588"/>
                </a:cubicBezTo>
                <a:cubicBezTo>
                  <a:pt x="5991" y="7661"/>
                  <a:pt x="5969" y="7492"/>
                  <a:pt x="5969" y="7461"/>
                </a:cubicBezTo>
                <a:cubicBezTo>
                  <a:pt x="5969" y="7376"/>
                  <a:pt x="5987" y="7249"/>
                  <a:pt x="6032" y="7176"/>
                </a:cubicBezTo>
                <a:cubicBezTo>
                  <a:pt x="6060" y="7131"/>
                  <a:pt x="6104" y="7098"/>
                  <a:pt x="6128" y="7080"/>
                </a:cubicBezTo>
                <a:cubicBezTo>
                  <a:pt x="6164" y="7044"/>
                  <a:pt x="6181" y="7033"/>
                  <a:pt x="6223" y="7048"/>
                </a:cubicBezTo>
              </a:path>
              <a:path w="3588" h="1207">
                <a:moveTo>
                  <a:pt x="6414" y="7302"/>
                </a:moveTo>
                <a:cubicBezTo>
                  <a:pt x="6462" y="7290"/>
                  <a:pt x="6502" y="7274"/>
                  <a:pt x="6540" y="7239"/>
                </a:cubicBezTo>
                <a:cubicBezTo>
                  <a:pt x="6594" y="7189"/>
                  <a:pt x="6672" y="7116"/>
                  <a:pt x="6699" y="7048"/>
                </a:cubicBezTo>
                <a:cubicBezTo>
                  <a:pt x="6699" y="7017"/>
                  <a:pt x="6699" y="7006"/>
                  <a:pt x="6699" y="6985"/>
                </a:cubicBezTo>
                <a:cubicBezTo>
                  <a:pt x="6647" y="6964"/>
                  <a:pt x="6571" y="6970"/>
                  <a:pt x="6509" y="7017"/>
                </a:cubicBezTo>
                <a:cubicBezTo>
                  <a:pt x="6415" y="7089"/>
                  <a:pt x="6360" y="7195"/>
                  <a:pt x="6350" y="7302"/>
                </a:cubicBezTo>
                <a:cubicBezTo>
                  <a:pt x="6343" y="7373"/>
                  <a:pt x="6384" y="7482"/>
                  <a:pt x="6445" y="7525"/>
                </a:cubicBezTo>
                <a:cubicBezTo>
                  <a:pt x="6506" y="7568"/>
                  <a:pt x="6566" y="7556"/>
                  <a:pt x="6636" y="7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8"/>
          <p:cNvSpPr/>
          <p:nvPr/>
        </p:nvSpPr>
        <p:spPr>
          <a:xfrm>
            <a:off x="3772080" y="2789280"/>
            <a:ext cx="1314360" cy="674640"/>
          </a:xfrm>
          <a:custGeom>
            <a:avLst/>
            <a:gdLst/>
            <a:ahLst/>
            <a:rect l="l" t="t" r="r" b="b"/>
            <a:pathLst>
              <a:path w="3652" h="1874">
                <a:moveTo>
                  <a:pt x="11112" y="7747"/>
                </a:moveTo>
                <a:lnTo>
                  <a:pt x="11112" y="7747"/>
                </a:lnTo>
              </a:path>
              <a:path w="3652" h="1874">
                <a:moveTo>
                  <a:pt x="11112" y="7747"/>
                </a:moveTo>
                <a:cubicBezTo>
                  <a:pt x="11112" y="7758"/>
                  <a:pt x="11112" y="7768"/>
                  <a:pt x="11112" y="7779"/>
                </a:cubicBezTo>
              </a:path>
              <a:path w="3652" h="1874">
                <a:moveTo>
                  <a:pt x="11112" y="7779"/>
                </a:moveTo>
                <a:cubicBezTo>
                  <a:pt x="11092" y="7799"/>
                  <a:pt x="11060" y="7846"/>
                  <a:pt x="11017" y="7874"/>
                </a:cubicBezTo>
                <a:cubicBezTo>
                  <a:pt x="10952" y="7916"/>
                  <a:pt x="10888" y="7908"/>
                  <a:pt x="10827" y="7938"/>
                </a:cubicBezTo>
                <a:cubicBezTo>
                  <a:pt x="10756" y="7973"/>
                  <a:pt x="10744" y="7978"/>
                  <a:pt x="10668" y="7938"/>
                </a:cubicBezTo>
                <a:cubicBezTo>
                  <a:pt x="10620" y="7912"/>
                  <a:pt x="10600" y="7901"/>
                  <a:pt x="10573" y="7874"/>
                </a:cubicBezTo>
                <a:cubicBezTo>
                  <a:pt x="10558" y="7896"/>
                  <a:pt x="10517" y="7940"/>
                  <a:pt x="10509" y="8001"/>
                </a:cubicBezTo>
                <a:cubicBezTo>
                  <a:pt x="10496" y="8098"/>
                  <a:pt x="10493" y="8194"/>
                  <a:pt x="10478" y="8287"/>
                </a:cubicBezTo>
                <a:cubicBezTo>
                  <a:pt x="10463" y="8377"/>
                  <a:pt x="10478" y="8480"/>
                  <a:pt x="10478" y="8572"/>
                </a:cubicBezTo>
                <a:cubicBezTo>
                  <a:pt x="10491" y="8559"/>
                  <a:pt x="10562" y="8517"/>
                  <a:pt x="10573" y="8477"/>
                </a:cubicBezTo>
                <a:cubicBezTo>
                  <a:pt x="10597" y="8396"/>
                  <a:pt x="10603" y="8382"/>
                  <a:pt x="10668" y="8318"/>
                </a:cubicBezTo>
                <a:cubicBezTo>
                  <a:pt x="10704" y="8283"/>
                  <a:pt x="10744" y="8278"/>
                  <a:pt x="10795" y="8287"/>
                </a:cubicBezTo>
                <a:cubicBezTo>
                  <a:pt x="10898" y="8304"/>
                  <a:pt x="10897" y="8338"/>
                  <a:pt x="10954" y="8414"/>
                </a:cubicBezTo>
                <a:cubicBezTo>
                  <a:pt x="11017" y="8498"/>
                  <a:pt x="11050" y="8514"/>
                  <a:pt x="11081" y="8604"/>
                </a:cubicBezTo>
                <a:cubicBezTo>
                  <a:pt x="11116" y="8706"/>
                  <a:pt x="11172" y="8772"/>
                  <a:pt x="11144" y="8890"/>
                </a:cubicBezTo>
                <a:cubicBezTo>
                  <a:pt x="11123" y="8979"/>
                  <a:pt x="11104" y="9097"/>
                  <a:pt x="11049" y="9176"/>
                </a:cubicBezTo>
                <a:cubicBezTo>
                  <a:pt x="10995" y="9253"/>
                  <a:pt x="10926" y="9344"/>
                  <a:pt x="10827" y="9366"/>
                </a:cubicBezTo>
                <a:cubicBezTo>
                  <a:pt x="10708" y="9392"/>
                  <a:pt x="10610" y="9372"/>
                  <a:pt x="10541" y="9303"/>
                </a:cubicBezTo>
                <a:cubicBezTo>
                  <a:pt x="10503" y="9265"/>
                  <a:pt x="10489" y="9247"/>
                  <a:pt x="10478" y="9208"/>
                </a:cubicBezTo>
              </a:path>
              <a:path w="3652" h="1874">
                <a:moveTo>
                  <a:pt x="11303" y="8192"/>
                </a:moveTo>
                <a:cubicBezTo>
                  <a:pt x="11335" y="8233"/>
                  <a:pt x="11368" y="8272"/>
                  <a:pt x="11398" y="8318"/>
                </a:cubicBezTo>
                <a:cubicBezTo>
                  <a:pt x="11450" y="8398"/>
                  <a:pt x="11490" y="8470"/>
                  <a:pt x="11557" y="8541"/>
                </a:cubicBezTo>
                <a:cubicBezTo>
                  <a:pt x="11639" y="8628"/>
                  <a:pt x="11727" y="8753"/>
                  <a:pt x="11811" y="8826"/>
                </a:cubicBezTo>
                <a:cubicBezTo>
                  <a:pt x="11870" y="8877"/>
                  <a:pt x="11912" y="8927"/>
                  <a:pt x="11970" y="8985"/>
                </a:cubicBezTo>
                <a:cubicBezTo>
                  <a:pt x="12002" y="9017"/>
                  <a:pt x="12033" y="9049"/>
                  <a:pt x="12065" y="9080"/>
                </a:cubicBezTo>
              </a:path>
              <a:path w="3652" h="1874">
                <a:moveTo>
                  <a:pt x="11970" y="8128"/>
                </a:moveTo>
                <a:cubicBezTo>
                  <a:pt x="11875" y="8080"/>
                  <a:pt x="11873" y="8229"/>
                  <a:pt x="11843" y="8318"/>
                </a:cubicBezTo>
                <a:cubicBezTo>
                  <a:pt x="11795" y="8463"/>
                  <a:pt x="11733" y="8603"/>
                  <a:pt x="11652" y="8731"/>
                </a:cubicBezTo>
                <a:cubicBezTo>
                  <a:pt x="11561" y="8876"/>
                  <a:pt x="11486" y="9029"/>
                  <a:pt x="11398" y="9176"/>
                </a:cubicBezTo>
                <a:cubicBezTo>
                  <a:pt x="11377" y="9208"/>
                  <a:pt x="11356" y="9239"/>
                  <a:pt x="11335" y="9271"/>
                </a:cubicBezTo>
              </a:path>
              <a:path w="3652" h="1874">
                <a:moveTo>
                  <a:pt x="12636" y="8192"/>
                </a:moveTo>
                <a:cubicBezTo>
                  <a:pt x="12636" y="8356"/>
                  <a:pt x="12650" y="8509"/>
                  <a:pt x="12668" y="8668"/>
                </a:cubicBezTo>
                <a:cubicBezTo>
                  <a:pt x="12682" y="8791"/>
                  <a:pt x="12677" y="8897"/>
                  <a:pt x="12700" y="9017"/>
                </a:cubicBezTo>
                <a:cubicBezTo>
                  <a:pt x="12710" y="9069"/>
                  <a:pt x="12705" y="9068"/>
                  <a:pt x="12668" y="9080"/>
                </a:cubicBezTo>
              </a:path>
              <a:path w="3652" h="1874">
                <a:moveTo>
                  <a:pt x="12446" y="8763"/>
                </a:moveTo>
                <a:cubicBezTo>
                  <a:pt x="12355" y="8763"/>
                  <a:pt x="12502" y="8768"/>
                  <a:pt x="12510" y="8763"/>
                </a:cubicBezTo>
                <a:cubicBezTo>
                  <a:pt x="12580" y="8724"/>
                  <a:pt x="12649" y="8679"/>
                  <a:pt x="12732" y="8668"/>
                </a:cubicBezTo>
                <a:cubicBezTo>
                  <a:pt x="12802" y="8659"/>
                  <a:pt x="12883" y="8668"/>
                  <a:pt x="12954" y="8668"/>
                </a:cubicBezTo>
              </a:path>
              <a:path w="3652" h="1874">
                <a:moveTo>
                  <a:pt x="13557" y="8192"/>
                </a:moveTo>
                <a:cubicBezTo>
                  <a:pt x="13557" y="8119"/>
                  <a:pt x="13546" y="8107"/>
                  <a:pt x="13526" y="8064"/>
                </a:cubicBezTo>
                <a:cubicBezTo>
                  <a:pt x="13502" y="8013"/>
                  <a:pt x="13489" y="7932"/>
                  <a:pt x="13430" y="7906"/>
                </a:cubicBezTo>
                <a:cubicBezTo>
                  <a:pt x="13357" y="7874"/>
                  <a:pt x="13343" y="7885"/>
                  <a:pt x="13272" y="7906"/>
                </a:cubicBezTo>
                <a:cubicBezTo>
                  <a:pt x="13214" y="7924"/>
                  <a:pt x="13169" y="7950"/>
                  <a:pt x="13144" y="8001"/>
                </a:cubicBezTo>
                <a:cubicBezTo>
                  <a:pt x="13106" y="8078"/>
                  <a:pt x="13091" y="8201"/>
                  <a:pt x="13113" y="8287"/>
                </a:cubicBezTo>
                <a:cubicBezTo>
                  <a:pt x="13145" y="8411"/>
                  <a:pt x="13168" y="8394"/>
                  <a:pt x="13240" y="8477"/>
                </a:cubicBezTo>
                <a:cubicBezTo>
                  <a:pt x="13286" y="8530"/>
                  <a:pt x="13356" y="8586"/>
                  <a:pt x="13398" y="8636"/>
                </a:cubicBezTo>
                <a:cubicBezTo>
                  <a:pt x="13429" y="8673"/>
                  <a:pt x="13484" y="8813"/>
                  <a:pt x="13494" y="8858"/>
                </a:cubicBezTo>
                <a:cubicBezTo>
                  <a:pt x="13511" y="8934"/>
                  <a:pt x="13454" y="9021"/>
                  <a:pt x="13430" y="9080"/>
                </a:cubicBezTo>
                <a:cubicBezTo>
                  <a:pt x="13394" y="9170"/>
                  <a:pt x="13414" y="9188"/>
                  <a:pt x="13335" y="9208"/>
                </a:cubicBezTo>
                <a:cubicBezTo>
                  <a:pt x="13271" y="9208"/>
                  <a:pt x="13272" y="9200"/>
                  <a:pt x="13240" y="9144"/>
                </a:cubicBezTo>
                <a:cubicBezTo>
                  <a:pt x="13186" y="9049"/>
                  <a:pt x="13208" y="8933"/>
                  <a:pt x="13208" y="8826"/>
                </a:cubicBezTo>
                <a:cubicBezTo>
                  <a:pt x="13208" y="8681"/>
                  <a:pt x="13227" y="8583"/>
                  <a:pt x="13272" y="8446"/>
                </a:cubicBezTo>
                <a:cubicBezTo>
                  <a:pt x="13307" y="8341"/>
                  <a:pt x="13334" y="8221"/>
                  <a:pt x="13398" y="8128"/>
                </a:cubicBezTo>
                <a:cubicBezTo>
                  <a:pt x="13428" y="8085"/>
                  <a:pt x="13449" y="8082"/>
                  <a:pt x="13462" y="8033"/>
                </a:cubicBezTo>
              </a:path>
              <a:path w="3652" h="1874">
                <a:moveTo>
                  <a:pt x="13652" y="8350"/>
                </a:moveTo>
                <a:cubicBezTo>
                  <a:pt x="13689" y="8447"/>
                  <a:pt x="13688" y="8539"/>
                  <a:pt x="13716" y="8636"/>
                </a:cubicBezTo>
                <a:cubicBezTo>
                  <a:pt x="13739" y="8716"/>
                  <a:pt x="13751" y="8812"/>
                  <a:pt x="13780" y="8890"/>
                </a:cubicBezTo>
                <a:cubicBezTo>
                  <a:pt x="13811" y="8975"/>
                  <a:pt x="13842" y="9001"/>
                  <a:pt x="13875" y="9049"/>
                </a:cubicBezTo>
                <a:cubicBezTo>
                  <a:pt x="13875" y="9059"/>
                  <a:pt x="13875" y="9070"/>
                  <a:pt x="13875" y="9080"/>
                </a:cubicBezTo>
                <a:cubicBezTo>
                  <a:pt x="13944" y="9057"/>
                  <a:pt x="13902" y="9051"/>
                  <a:pt x="13938" y="8985"/>
                </a:cubicBezTo>
                <a:cubicBezTo>
                  <a:pt x="13949" y="8975"/>
                  <a:pt x="13959" y="8964"/>
                  <a:pt x="13970" y="8954"/>
                </a:cubicBezTo>
              </a:path>
              <a:path w="3652" h="1874">
                <a:moveTo>
                  <a:pt x="14097" y="8223"/>
                </a:moveTo>
                <a:cubicBezTo>
                  <a:pt x="14051" y="8300"/>
                  <a:pt x="14065" y="8382"/>
                  <a:pt x="14065" y="8477"/>
                </a:cubicBezTo>
                <a:cubicBezTo>
                  <a:pt x="14065" y="8603"/>
                  <a:pt x="14074" y="8766"/>
                  <a:pt x="14097" y="8890"/>
                </a:cubicBezTo>
                <a:cubicBezTo>
                  <a:pt x="14125" y="9041"/>
                  <a:pt x="14114" y="9122"/>
                  <a:pt x="14097" y="9271"/>
                </a:cubicBezTo>
                <a:cubicBezTo>
                  <a:pt x="14084" y="9383"/>
                  <a:pt x="14082" y="9469"/>
                  <a:pt x="14002" y="9557"/>
                </a:cubicBezTo>
                <a:cubicBezTo>
                  <a:pt x="13961" y="9602"/>
                  <a:pt x="13875" y="9647"/>
                  <a:pt x="13811" y="9620"/>
                </a:cubicBezTo>
                <a:cubicBezTo>
                  <a:pt x="13752" y="9595"/>
                  <a:pt x="13711" y="9451"/>
                  <a:pt x="13684" y="9398"/>
                </a:cubicBezTo>
                <a:cubicBezTo>
                  <a:pt x="13630" y="9290"/>
                  <a:pt x="13665" y="9246"/>
                  <a:pt x="13716" y="9144"/>
                </a:cubicBezTo>
                <a:cubicBezTo>
                  <a:pt x="13758" y="9060"/>
                  <a:pt x="13769" y="9038"/>
                  <a:pt x="13843" y="8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9"/>
          <p:cNvSpPr/>
          <p:nvPr/>
        </p:nvSpPr>
        <p:spPr>
          <a:xfrm>
            <a:off x="5280120" y="2822400"/>
            <a:ext cx="344520" cy="446400"/>
          </a:xfrm>
          <a:custGeom>
            <a:avLst/>
            <a:gdLst/>
            <a:ahLst/>
            <a:rect l="l" t="t" r="r" b="b"/>
            <a:pathLst>
              <a:path w="954" h="1239">
                <a:moveTo>
                  <a:pt x="14827" y="7842"/>
                </a:moveTo>
                <a:lnTo>
                  <a:pt x="14827" y="7842"/>
                </a:lnTo>
              </a:path>
              <a:path w="954" h="1239">
                <a:moveTo>
                  <a:pt x="14827" y="7842"/>
                </a:moveTo>
                <a:cubicBezTo>
                  <a:pt x="14827" y="7853"/>
                  <a:pt x="14827" y="7863"/>
                  <a:pt x="14827" y="7874"/>
                </a:cubicBezTo>
              </a:path>
              <a:path w="954" h="1239">
                <a:moveTo>
                  <a:pt x="14827" y="7874"/>
                </a:moveTo>
                <a:cubicBezTo>
                  <a:pt x="14878" y="7887"/>
                  <a:pt x="14907" y="7922"/>
                  <a:pt x="14954" y="7938"/>
                </a:cubicBezTo>
                <a:cubicBezTo>
                  <a:pt x="15008" y="7956"/>
                  <a:pt x="15069" y="7994"/>
                  <a:pt x="15113" y="8033"/>
                </a:cubicBezTo>
                <a:cubicBezTo>
                  <a:pt x="15138" y="8055"/>
                  <a:pt x="15238" y="8118"/>
                  <a:pt x="15272" y="8128"/>
                </a:cubicBezTo>
                <a:cubicBezTo>
                  <a:pt x="15338" y="8147"/>
                  <a:pt x="15392" y="8174"/>
                  <a:pt x="15462" y="8192"/>
                </a:cubicBezTo>
                <a:cubicBezTo>
                  <a:pt x="15544" y="8213"/>
                  <a:pt x="15488" y="8220"/>
                  <a:pt x="15558" y="8255"/>
                </a:cubicBezTo>
                <a:cubicBezTo>
                  <a:pt x="15596" y="8274"/>
                  <a:pt x="15606" y="8275"/>
                  <a:pt x="15621" y="8318"/>
                </a:cubicBezTo>
                <a:cubicBezTo>
                  <a:pt x="15549" y="8318"/>
                  <a:pt x="15579" y="8343"/>
                  <a:pt x="15526" y="8350"/>
                </a:cubicBezTo>
                <a:cubicBezTo>
                  <a:pt x="15473" y="8357"/>
                  <a:pt x="15445" y="8404"/>
                  <a:pt x="15399" y="8414"/>
                </a:cubicBezTo>
                <a:cubicBezTo>
                  <a:pt x="15326" y="8430"/>
                  <a:pt x="15276" y="8422"/>
                  <a:pt x="15208" y="8446"/>
                </a:cubicBezTo>
                <a:cubicBezTo>
                  <a:pt x="15135" y="8471"/>
                  <a:pt x="15051" y="8496"/>
                  <a:pt x="14986" y="8541"/>
                </a:cubicBezTo>
                <a:cubicBezTo>
                  <a:pt x="14925" y="8583"/>
                  <a:pt x="14859" y="8617"/>
                  <a:pt x="14796" y="8636"/>
                </a:cubicBezTo>
                <a:cubicBezTo>
                  <a:pt x="14760" y="8636"/>
                  <a:pt x="14746" y="8639"/>
                  <a:pt x="14732" y="8668"/>
                </a:cubicBezTo>
              </a:path>
              <a:path w="954" h="1239">
                <a:moveTo>
                  <a:pt x="14668" y="9049"/>
                </a:moveTo>
                <a:cubicBezTo>
                  <a:pt x="14668" y="9038"/>
                  <a:pt x="14668" y="9028"/>
                  <a:pt x="14668" y="9017"/>
                </a:cubicBezTo>
                <a:cubicBezTo>
                  <a:pt x="14684" y="9065"/>
                  <a:pt x="14707" y="9049"/>
                  <a:pt x="14764" y="9049"/>
                </a:cubicBezTo>
                <a:cubicBezTo>
                  <a:pt x="14879" y="9049"/>
                  <a:pt x="14974" y="9063"/>
                  <a:pt x="15081" y="9080"/>
                </a:cubicBezTo>
                <a:cubicBezTo>
                  <a:pt x="15221" y="9103"/>
                  <a:pt x="15383" y="9080"/>
                  <a:pt x="15526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10"/>
          <p:cNvSpPr/>
          <p:nvPr/>
        </p:nvSpPr>
        <p:spPr>
          <a:xfrm>
            <a:off x="5829480" y="2846520"/>
            <a:ext cx="514080" cy="468360"/>
          </a:xfrm>
          <a:custGeom>
            <a:avLst/>
            <a:gdLst/>
            <a:ahLst/>
            <a:rect l="l" t="t" r="r" b="b"/>
            <a:pathLst>
              <a:path w="1430" h="1303">
                <a:moveTo>
                  <a:pt x="16224" y="7938"/>
                </a:moveTo>
                <a:cubicBezTo>
                  <a:pt x="16224" y="8317"/>
                  <a:pt x="16250" y="8714"/>
                  <a:pt x="16192" y="9080"/>
                </a:cubicBezTo>
                <a:cubicBezTo>
                  <a:pt x="16192" y="9144"/>
                  <a:pt x="16192" y="9165"/>
                  <a:pt x="16192" y="9208"/>
                </a:cubicBezTo>
              </a:path>
              <a:path w="1430" h="1303">
                <a:moveTo>
                  <a:pt x="16383" y="8318"/>
                </a:moveTo>
                <a:cubicBezTo>
                  <a:pt x="16420" y="8254"/>
                  <a:pt x="16438" y="8188"/>
                  <a:pt x="16478" y="8128"/>
                </a:cubicBezTo>
                <a:cubicBezTo>
                  <a:pt x="16499" y="8097"/>
                  <a:pt x="16600" y="8017"/>
                  <a:pt x="16637" y="8001"/>
                </a:cubicBezTo>
                <a:cubicBezTo>
                  <a:pt x="16698" y="7974"/>
                  <a:pt x="16754" y="8043"/>
                  <a:pt x="16764" y="8096"/>
                </a:cubicBezTo>
                <a:cubicBezTo>
                  <a:pt x="16784" y="8206"/>
                  <a:pt x="16740" y="8408"/>
                  <a:pt x="16700" y="8509"/>
                </a:cubicBezTo>
                <a:cubicBezTo>
                  <a:pt x="16649" y="8639"/>
                  <a:pt x="16617" y="8836"/>
                  <a:pt x="16542" y="8954"/>
                </a:cubicBezTo>
                <a:cubicBezTo>
                  <a:pt x="16509" y="9006"/>
                  <a:pt x="16480" y="9036"/>
                  <a:pt x="16446" y="9080"/>
                </a:cubicBezTo>
                <a:cubicBezTo>
                  <a:pt x="16462" y="9017"/>
                  <a:pt x="16478" y="9017"/>
                  <a:pt x="16542" y="9017"/>
                </a:cubicBezTo>
                <a:cubicBezTo>
                  <a:pt x="16601" y="9017"/>
                  <a:pt x="16624" y="9009"/>
                  <a:pt x="16669" y="9049"/>
                </a:cubicBezTo>
                <a:cubicBezTo>
                  <a:pt x="16710" y="9086"/>
                  <a:pt x="16747" y="9149"/>
                  <a:pt x="16796" y="9176"/>
                </a:cubicBezTo>
                <a:cubicBezTo>
                  <a:pt x="16828" y="9176"/>
                  <a:pt x="16838" y="9176"/>
                  <a:pt x="16859" y="9176"/>
                </a:cubicBezTo>
              </a:path>
              <a:path w="1430" h="1303">
                <a:moveTo>
                  <a:pt x="17462" y="7906"/>
                </a:moveTo>
                <a:cubicBezTo>
                  <a:pt x="17413" y="7919"/>
                  <a:pt x="17354" y="7949"/>
                  <a:pt x="17304" y="7969"/>
                </a:cubicBezTo>
                <a:cubicBezTo>
                  <a:pt x="17217" y="8004"/>
                  <a:pt x="17177" y="8033"/>
                  <a:pt x="17082" y="8033"/>
                </a:cubicBezTo>
                <a:cubicBezTo>
                  <a:pt x="17050" y="8033"/>
                  <a:pt x="17039" y="8033"/>
                  <a:pt x="17018" y="8033"/>
                </a:cubicBezTo>
                <a:cubicBezTo>
                  <a:pt x="17018" y="8128"/>
                  <a:pt x="17007" y="8198"/>
                  <a:pt x="16986" y="8287"/>
                </a:cubicBezTo>
                <a:cubicBezTo>
                  <a:pt x="16970" y="8354"/>
                  <a:pt x="16972" y="8419"/>
                  <a:pt x="16954" y="8477"/>
                </a:cubicBezTo>
                <a:cubicBezTo>
                  <a:pt x="16954" y="8509"/>
                  <a:pt x="16954" y="8520"/>
                  <a:pt x="16954" y="8541"/>
                </a:cubicBezTo>
                <a:cubicBezTo>
                  <a:pt x="17015" y="8526"/>
                  <a:pt x="17029" y="8480"/>
                  <a:pt x="17082" y="8446"/>
                </a:cubicBezTo>
                <a:cubicBezTo>
                  <a:pt x="17146" y="8405"/>
                  <a:pt x="17229" y="8335"/>
                  <a:pt x="17304" y="8318"/>
                </a:cubicBezTo>
                <a:cubicBezTo>
                  <a:pt x="17379" y="8301"/>
                  <a:pt x="17484" y="8391"/>
                  <a:pt x="17526" y="8446"/>
                </a:cubicBezTo>
                <a:cubicBezTo>
                  <a:pt x="17591" y="8530"/>
                  <a:pt x="17616" y="8630"/>
                  <a:pt x="17621" y="8731"/>
                </a:cubicBezTo>
                <a:cubicBezTo>
                  <a:pt x="17627" y="8866"/>
                  <a:pt x="17561" y="8918"/>
                  <a:pt x="17494" y="9017"/>
                </a:cubicBezTo>
                <a:cubicBezTo>
                  <a:pt x="17439" y="9098"/>
                  <a:pt x="17350" y="9128"/>
                  <a:pt x="17272" y="9176"/>
                </a:cubicBezTo>
                <a:cubicBezTo>
                  <a:pt x="17216" y="9211"/>
                  <a:pt x="17211" y="9189"/>
                  <a:pt x="17145" y="9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11"/>
          <p:cNvSpPr/>
          <p:nvPr/>
        </p:nvSpPr>
        <p:spPr>
          <a:xfrm>
            <a:off x="2766960" y="3646440"/>
            <a:ext cx="1816200" cy="560520"/>
          </a:xfrm>
          <a:custGeom>
            <a:avLst/>
            <a:gdLst/>
            <a:ahLst/>
            <a:rect l="l" t="t" r="r" b="b"/>
            <a:pathLst>
              <a:path w="5049" h="1557">
                <a:moveTo>
                  <a:pt x="7874" y="10128"/>
                </a:moveTo>
                <a:lnTo>
                  <a:pt x="7874" y="10128"/>
                </a:lnTo>
              </a:path>
              <a:path w="5049" h="1557">
                <a:moveTo>
                  <a:pt x="7874" y="10128"/>
                </a:moveTo>
                <a:lnTo>
                  <a:pt x="7874" y="10128"/>
                </a:lnTo>
              </a:path>
              <a:path w="5049" h="1557">
                <a:moveTo>
                  <a:pt x="7874" y="10319"/>
                </a:moveTo>
                <a:cubicBezTo>
                  <a:pt x="7839" y="10456"/>
                  <a:pt x="7835" y="10594"/>
                  <a:pt x="7810" y="10732"/>
                </a:cubicBezTo>
                <a:cubicBezTo>
                  <a:pt x="7784" y="10879"/>
                  <a:pt x="7806" y="11032"/>
                  <a:pt x="7779" y="11176"/>
                </a:cubicBezTo>
                <a:cubicBezTo>
                  <a:pt x="7759" y="11285"/>
                  <a:pt x="7775" y="11420"/>
                  <a:pt x="7747" y="11525"/>
                </a:cubicBezTo>
                <a:cubicBezTo>
                  <a:pt x="7731" y="11584"/>
                  <a:pt x="7712" y="11636"/>
                  <a:pt x="7684" y="11684"/>
                </a:cubicBezTo>
              </a:path>
              <a:path w="5049" h="1557">
                <a:moveTo>
                  <a:pt x="8001" y="10763"/>
                </a:moveTo>
                <a:cubicBezTo>
                  <a:pt x="8001" y="10705"/>
                  <a:pt x="8027" y="10688"/>
                  <a:pt x="8033" y="10636"/>
                </a:cubicBezTo>
                <a:cubicBezTo>
                  <a:pt x="8041" y="10564"/>
                  <a:pt x="8079" y="10500"/>
                  <a:pt x="8128" y="10446"/>
                </a:cubicBezTo>
                <a:cubicBezTo>
                  <a:pt x="8167" y="10402"/>
                  <a:pt x="8200" y="10414"/>
                  <a:pt x="8255" y="10414"/>
                </a:cubicBezTo>
                <a:cubicBezTo>
                  <a:pt x="8294" y="10414"/>
                  <a:pt x="8313" y="10466"/>
                  <a:pt x="8318" y="10509"/>
                </a:cubicBezTo>
                <a:cubicBezTo>
                  <a:pt x="8330" y="10623"/>
                  <a:pt x="8302" y="10718"/>
                  <a:pt x="8287" y="10827"/>
                </a:cubicBezTo>
                <a:cubicBezTo>
                  <a:pt x="8272" y="10937"/>
                  <a:pt x="8232" y="11010"/>
                  <a:pt x="8192" y="11112"/>
                </a:cubicBezTo>
                <a:cubicBezTo>
                  <a:pt x="8158" y="11200"/>
                  <a:pt x="8136" y="11292"/>
                  <a:pt x="8096" y="11366"/>
                </a:cubicBezTo>
                <a:cubicBezTo>
                  <a:pt x="8064" y="11425"/>
                  <a:pt x="8064" y="11435"/>
                  <a:pt x="8064" y="11494"/>
                </a:cubicBezTo>
                <a:cubicBezTo>
                  <a:pt x="8031" y="11477"/>
                  <a:pt x="8057" y="11442"/>
                  <a:pt x="8096" y="11398"/>
                </a:cubicBezTo>
                <a:cubicBezTo>
                  <a:pt x="8127" y="11364"/>
                  <a:pt x="8208" y="11346"/>
                  <a:pt x="8255" y="11366"/>
                </a:cubicBezTo>
                <a:cubicBezTo>
                  <a:pt x="8288" y="11380"/>
                  <a:pt x="8355" y="11444"/>
                  <a:pt x="8382" y="11462"/>
                </a:cubicBezTo>
                <a:cubicBezTo>
                  <a:pt x="8429" y="11493"/>
                  <a:pt x="8420" y="11494"/>
                  <a:pt x="8477" y="11494"/>
                </a:cubicBezTo>
              </a:path>
              <a:path w="5049" h="1557">
                <a:moveTo>
                  <a:pt x="8795" y="10732"/>
                </a:moveTo>
                <a:cubicBezTo>
                  <a:pt x="8795" y="10846"/>
                  <a:pt x="8814" y="10940"/>
                  <a:pt x="8826" y="11049"/>
                </a:cubicBezTo>
                <a:cubicBezTo>
                  <a:pt x="8834" y="11123"/>
                  <a:pt x="8859" y="11408"/>
                  <a:pt x="8795" y="11430"/>
                </a:cubicBezTo>
              </a:path>
              <a:path w="5049" h="1557">
                <a:moveTo>
                  <a:pt x="8572" y="11144"/>
                </a:moveTo>
                <a:cubicBezTo>
                  <a:pt x="8607" y="11118"/>
                  <a:pt x="8659" y="11067"/>
                  <a:pt x="8700" y="11049"/>
                </a:cubicBezTo>
                <a:cubicBezTo>
                  <a:pt x="8759" y="11023"/>
                  <a:pt x="8861" y="11044"/>
                  <a:pt x="8922" y="11017"/>
                </a:cubicBezTo>
                <a:cubicBezTo>
                  <a:pt x="8933" y="11007"/>
                  <a:pt x="8943" y="10996"/>
                  <a:pt x="8954" y="10986"/>
                </a:cubicBezTo>
              </a:path>
              <a:path w="5049" h="1557">
                <a:moveTo>
                  <a:pt x="9652" y="10509"/>
                </a:moveTo>
                <a:cubicBezTo>
                  <a:pt x="9669" y="10444"/>
                  <a:pt x="9705" y="10442"/>
                  <a:pt x="9652" y="10382"/>
                </a:cubicBezTo>
                <a:cubicBezTo>
                  <a:pt x="9607" y="10332"/>
                  <a:pt x="9567" y="10298"/>
                  <a:pt x="9493" y="10319"/>
                </a:cubicBezTo>
                <a:cubicBezTo>
                  <a:pt x="9412" y="10342"/>
                  <a:pt x="9318" y="10419"/>
                  <a:pt x="9271" y="10478"/>
                </a:cubicBezTo>
                <a:cubicBezTo>
                  <a:pt x="9238" y="10520"/>
                  <a:pt x="9157" y="10612"/>
                  <a:pt x="9176" y="10668"/>
                </a:cubicBezTo>
                <a:cubicBezTo>
                  <a:pt x="9193" y="10719"/>
                  <a:pt x="9241" y="10749"/>
                  <a:pt x="9271" y="10795"/>
                </a:cubicBezTo>
                <a:cubicBezTo>
                  <a:pt x="9323" y="10875"/>
                  <a:pt x="9383" y="10907"/>
                  <a:pt x="9430" y="10986"/>
                </a:cubicBezTo>
                <a:cubicBezTo>
                  <a:pt x="9487" y="11083"/>
                  <a:pt x="9521" y="11160"/>
                  <a:pt x="9525" y="11271"/>
                </a:cubicBezTo>
                <a:cubicBezTo>
                  <a:pt x="9528" y="11356"/>
                  <a:pt x="9542" y="11451"/>
                  <a:pt x="9493" y="11525"/>
                </a:cubicBezTo>
                <a:cubicBezTo>
                  <a:pt x="9462" y="11557"/>
                  <a:pt x="9451" y="11568"/>
                  <a:pt x="9430" y="11589"/>
                </a:cubicBezTo>
                <a:cubicBezTo>
                  <a:pt x="9373" y="11575"/>
                  <a:pt x="9319" y="11529"/>
                  <a:pt x="9303" y="11462"/>
                </a:cubicBezTo>
                <a:cubicBezTo>
                  <a:pt x="9272" y="11326"/>
                  <a:pt x="9264" y="11214"/>
                  <a:pt x="9303" y="11081"/>
                </a:cubicBezTo>
                <a:cubicBezTo>
                  <a:pt x="9333" y="10980"/>
                  <a:pt x="9364" y="10848"/>
                  <a:pt x="9430" y="10763"/>
                </a:cubicBezTo>
                <a:cubicBezTo>
                  <a:pt x="9493" y="10700"/>
                  <a:pt x="9515" y="10678"/>
                  <a:pt x="9557" y="10636"/>
                </a:cubicBezTo>
              </a:path>
              <a:path w="5049" h="1557">
                <a:moveTo>
                  <a:pt x="10382" y="10382"/>
                </a:moveTo>
                <a:cubicBezTo>
                  <a:pt x="10355" y="10391"/>
                  <a:pt x="10313" y="10409"/>
                  <a:pt x="10287" y="10446"/>
                </a:cubicBezTo>
                <a:cubicBezTo>
                  <a:pt x="10230" y="10527"/>
                  <a:pt x="10199" y="10572"/>
                  <a:pt x="10128" y="10636"/>
                </a:cubicBezTo>
                <a:cubicBezTo>
                  <a:pt x="10055" y="10700"/>
                  <a:pt x="10010" y="10764"/>
                  <a:pt x="9938" y="10827"/>
                </a:cubicBezTo>
                <a:cubicBezTo>
                  <a:pt x="9886" y="10873"/>
                  <a:pt x="9854" y="10858"/>
                  <a:pt x="9938" y="10858"/>
                </a:cubicBezTo>
                <a:cubicBezTo>
                  <a:pt x="10017" y="10858"/>
                  <a:pt x="10054" y="10871"/>
                  <a:pt x="10128" y="10890"/>
                </a:cubicBezTo>
                <a:cubicBezTo>
                  <a:pt x="10177" y="10902"/>
                  <a:pt x="10238" y="10919"/>
                  <a:pt x="10287" y="10922"/>
                </a:cubicBezTo>
                <a:cubicBezTo>
                  <a:pt x="10361" y="10927"/>
                  <a:pt x="10422" y="10932"/>
                  <a:pt x="10478" y="10890"/>
                </a:cubicBezTo>
              </a:path>
              <a:path w="5049" h="1557">
                <a:moveTo>
                  <a:pt x="9874" y="11208"/>
                </a:moveTo>
                <a:cubicBezTo>
                  <a:pt x="9885" y="11219"/>
                  <a:pt x="9895" y="11229"/>
                  <a:pt x="9906" y="11240"/>
                </a:cubicBezTo>
                <a:cubicBezTo>
                  <a:pt x="9978" y="11197"/>
                  <a:pt x="10018" y="11231"/>
                  <a:pt x="10096" y="11208"/>
                </a:cubicBezTo>
                <a:cubicBezTo>
                  <a:pt x="10197" y="11178"/>
                  <a:pt x="10274" y="11149"/>
                  <a:pt x="10382" y="11144"/>
                </a:cubicBezTo>
                <a:cubicBezTo>
                  <a:pt x="10403" y="11144"/>
                  <a:pt x="10425" y="11144"/>
                  <a:pt x="10446" y="11144"/>
                </a:cubicBezTo>
              </a:path>
              <a:path w="5049" h="1557">
                <a:moveTo>
                  <a:pt x="10763" y="10636"/>
                </a:moveTo>
                <a:cubicBezTo>
                  <a:pt x="10757" y="10633"/>
                  <a:pt x="10740" y="10562"/>
                  <a:pt x="10763" y="10509"/>
                </a:cubicBezTo>
                <a:cubicBezTo>
                  <a:pt x="10776" y="10478"/>
                  <a:pt x="10863" y="10420"/>
                  <a:pt x="10890" y="10414"/>
                </a:cubicBezTo>
                <a:cubicBezTo>
                  <a:pt x="11012" y="10388"/>
                  <a:pt x="10981" y="10437"/>
                  <a:pt x="11017" y="10509"/>
                </a:cubicBezTo>
                <a:cubicBezTo>
                  <a:pt x="11068" y="10610"/>
                  <a:pt x="11024" y="10682"/>
                  <a:pt x="10986" y="10795"/>
                </a:cubicBezTo>
                <a:cubicBezTo>
                  <a:pt x="10941" y="10931"/>
                  <a:pt x="10863" y="11051"/>
                  <a:pt x="10795" y="11176"/>
                </a:cubicBezTo>
                <a:cubicBezTo>
                  <a:pt x="10756" y="11248"/>
                  <a:pt x="10781" y="11401"/>
                  <a:pt x="10700" y="11398"/>
                </a:cubicBezTo>
                <a:cubicBezTo>
                  <a:pt x="10698" y="11398"/>
                  <a:pt x="10782" y="11255"/>
                  <a:pt x="10795" y="11240"/>
                </a:cubicBezTo>
                <a:cubicBezTo>
                  <a:pt x="10843" y="11186"/>
                  <a:pt x="10902" y="11199"/>
                  <a:pt x="10954" y="11240"/>
                </a:cubicBezTo>
                <a:cubicBezTo>
                  <a:pt x="10997" y="11274"/>
                  <a:pt x="11063" y="11344"/>
                  <a:pt x="11112" y="11366"/>
                </a:cubicBezTo>
                <a:cubicBezTo>
                  <a:pt x="11152" y="11384"/>
                  <a:pt x="11157" y="11424"/>
                  <a:pt x="11176" y="11366"/>
                </a:cubicBezTo>
              </a:path>
              <a:path w="5049" h="1557">
                <a:moveTo>
                  <a:pt x="11366" y="10604"/>
                </a:moveTo>
                <a:cubicBezTo>
                  <a:pt x="11330" y="10533"/>
                  <a:pt x="11313" y="10664"/>
                  <a:pt x="11303" y="10700"/>
                </a:cubicBezTo>
                <a:cubicBezTo>
                  <a:pt x="11265" y="10840"/>
                  <a:pt x="11261" y="10941"/>
                  <a:pt x="11303" y="11081"/>
                </a:cubicBezTo>
                <a:cubicBezTo>
                  <a:pt x="11319" y="11134"/>
                  <a:pt x="11365" y="11312"/>
                  <a:pt x="11430" y="11335"/>
                </a:cubicBezTo>
                <a:cubicBezTo>
                  <a:pt x="11479" y="11352"/>
                  <a:pt x="11611" y="11373"/>
                  <a:pt x="11652" y="11335"/>
                </a:cubicBezTo>
                <a:cubicBezTo>
                  <a:pt x="11714" y="11277"/>
                  <a:pt x="11768" y="11095"/>
                  <a:pt x="11779" y="11017"/>
                </a:cubicBezTo>
                <a:cubicBezTo>
                  <a:pt x="11798" y="10890"/>
                  <a:pt x="11770" y="10781"/>
                  <a:pt x="11716" y="10668"/>
                </a:cubicBezTo>
                <a:cubicBezTo>
                  <a:pt x="11654" y="10536"/>
                  <a:pt x="11579" y="10562"/>
                  <a:pt x="11462" y="10573"/>
                </a:cubicBezTo>
                <a:cubicBezTo>
                  <a:pt x="11390" y="10573"/>
                  <a:pt x="11362" y="10579"/>
                  <a:pt x="11335" y="10636"/>
                </a:cubicBezTo>
              </a:path>
              <a:path w="5049" h="1557">
                <a:moveTo>
                  <a:pt x="12256" y="10858"/>
                </a:moveTo>
                <a:cubicBezTo>
                  <a:pt x="12240" y="10863"/>
                  <a:pt x="12186" y="10924"/>
                  <a:pt x="12224" y="10954"/>
                </a:cubicBezTo>
                <a:cubicBezTo>
                  <a:pt x="12255" y="10979"/>
                  <a:pt x="12252" y="10970"/>
                  <a:pt x="12287" y="11017"/>
                </a:cubicBezTo>
                <a:cubicBezTo>
                  <a:pt x="12374" y="10996"/>
                  <a:pt x="12383" y="10944"/>
                  <a:pt x="12414" y="10858"/>
                </a:cubicBezTo>
                <a:cubicBezTo>
                  <a:pt x="12469" y="10705"/>
                  <a:pt x="12522" y="10556"/>
                  <a:pt x="12605" y="10414"/>
                </a:cubicBezTo>
                <a:cubicBezTo>
                  <a:pt x="12673" y="10311"/>
                  <a:pt x="12698" y="10271"/>
                  <a:pt x="12732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12"/>
          <p:cNvSpPr/>
          <p:nvPr/>
        </p:nvSpPr>
        <p:spPr>
          <a:xfrm>
            <a:off x="5211720" y="3589200"/>
            <a:ext cx="3624480" cy="617760"/>
          </a:xfrm>
          <a:custGeom>
            <a:avLst/>
            <a:gdLst/>
            <a:ahLst/>
            <a:rect l="l" t="t" r="r" b="b"/>
            <a:pathLst>
              <a:path w="10066" h="1715">
                <a:moveTo>
                  <a:pt x="15145" y="10287"/>
                </a:moveTo>
                <a:cubicBezTo>
                  <a:pt x="15133" y="10322"/>
                  <a:pt x="15122" y="10345"/>
                  <a:pt x="15081" y="10350"/>
                </a:cubicBezTo>
                <a:cubicBezTo>
                  <a:pt x="15023" y="10357"/>
                  <a:pt x="14984" y="10398"/>
                  <a:pt x="14922" y="10414"/>
                </a:cubicBezTo>
                <a:cubicBezTo>
                  <a:pt x="14859" y="10430"/>
                  <a:pt x="14812" y="10396"/>
                  <a:pt x="14764" y="10382"/>
                </a:cubicBezTo>
                <a:cubicBezTo>
                  <a:pt x="14738" y="10374"/>
                  <a:pt x="14695" y="10382"/>
                  <a:pt x="14668" y="10382"/>
                </a:cubicBezTo>
                <a:cubicBezTo>
                  <a:pt x="14668" y="10497"/>
                  <a:pt x="14661" y="10592"/>
                  <a:pt x="14637" y="10700"/>
                </a:cubicBezTo>
                <a:cubicBezTo>
                  <a:pt x="14622" y="10767"/>
                  <a:pt x="14610" y="10825"/>
                  <a:pt x="14605" y="10890"/>
                </a:cubicBezTo>
                <a:cubicBezTo>
                  <a:pt x="14599" y="10962"/>
                  <a:pt x="14631" y="10843"/>
                  <a:pt x="14637" y="10827"/>
                </a:cubicBezTo>
                <a:cubicBezTo>
                  <a:pt x="14651" y="10786"/>
                  <a:pt x="14683" y="10722"/>
                  <a:pt x="14732" y="10700"/>
                </a:cubicBezTo>
                <a:cubicBezTo>
                  <a:pt x="14758" y="10688"/>
                  <a:pt x="14823" y="10648"/>
                  <a:pt x="14859" y="10668"/>
                </a:cubicBezTo>
                <a:cubicBezTo>
                  <a:pt x="14907" y="10695"/>
                  <a:pt x="14943" y="10721"/>
                  <a:pt x="14986" y="10763"/>
                </a:cubicBezTo>
                <a:cubicBezTo>
                  <a:pt x="15027" y="10803"/>
                  <a:pt x="15075" y="10834"/>
                  <a:pt x="15081" y="10890"/>
                </a:cubicBezTo>
                <a:cubicBezTo>
                  <a:pt x="15088" y="10957"/>
                  <a:pt x="15086" y="11022"/>
                  <a:pt x="15050" y="11081"/>
                </a:cubicBezTo>
                <a:cubicBezTo>
                  <a:pt x="15002" y="11158"/>
                  <a:pt x="14935" y="11248"/>
                  <a:pt x="14859" y="11303"/>
                </a:cubicBezTo>
                <a:cubicBezTo>
                  <a:pt x="14767" y="11370"/>
                  <a:pt x="14700" y="11339"/>
                  <a:pt x="14605" y="11366"/>
                </a:cubicBezTo>
                <a:cubicBezTo>
                  <a:pt x="14514" y="11392"/>
                  <a:pt x="14545" y="11400"/>
                  <a:pt x="14478" y="11335"/>
                </a:cubicBezTo>
              </a:path>
              <a:path w="10066" h="1715">
                <a:moveTo>
                  <a:pt x="15621" y="10096"/>
                </a:moveTo>
                <a:cubicBezTo>
                  <a:pt x="15545" y="10115"/>
                  <a:pt x="15583" y="10152"/>
                  <a:pt x="15526" y="10192"/>
                </a:cubicBezTo>
                <a:cubicBezTo>
                  <a:pt x="15436" y="10254"/>
                  <a:pt x="15366" y="10321"/>
                  <a:pt x="15304" y="10414"/>
                </a:cubicBezTo>
                <a:cubicBezTo>
                  <a:pt x="15222" y="10538"/>
                  <a:pt x="15206" y="10626"/>
                  <a:pt x="15176" y="10763"/>
                </a:cubicBezTo>
                <a:cubicBezTo>
                  <a:pt x="15143" y="10914"/>
                  <a:pt x="15145" y="11052"/>
                  <a:pt x="15145" y="11208"/>
                </a:cubicBezTo>
                <a:cubicBezTo>
                  <a:pt x="15145" y="11328"/>
                  <a:pt x="15137" y="11422"/>
                  <a:pt x="15208" y="11525"/>
                </a:cubicBezTo>
                <a:cubicBezTo>
                  <a:pt x="15240" y="11571"/>
                  <a:pt x="15286" y="11608"/>
                  <a:pt x="15335" y="11620"/>
                </a:cubicBezTo>
              </a:path>
              <a:path w="10066" h="1715">
                <a:moveTo>
                  <a:pt x="15462" y="10668"/>
                </a:moveTo>
                <a:cubicBezTo>
                  <a:pt x="15462" y="10770"/>
                  <a:pt x="15441" y="10856"/>
                  <a:pt x="15430" y="10954"/>
                </a:cubicBezTo>
                <a:cubicBezTo>
                  <a:pt x="15409" y="11140"/>
                  <a:pt x="15430" y="11338"/>
                  <a:pt x="15430" y="11525"/>
                </a:cubicBezTo>
              </a:path>
              <a:path w="10066" h="1715">
                <a:moveTo>
                  <a:pt x="15621" y="10827"/>
                </a:moveTo>
                <a:cubicBezTo>
                  <a:pt x="15629" y="10795"/>
                  <a:pt x="15648" y="10718"/>
                  <a:pt x="15684" y="10700"/>
                </a:cubicBezTo>
                <a:cubicBezTo>
                  <a:pt x="15705" y="10689"/>
                  <a:pt x="15737" y="10644"/>
                  <a:pt x="15780" y="10668"/>
                </a:cubicBezTo>
                <a:cubicBezTo>
                  <a:pt x="15822" y="10691"/>
                  <a:pt x="15824" y="10786"/>
                  <a:pt x="15812" y="10827"/>
                </a:cubicBezTo>
                <a:cubicBezTo>
                  <a:pt x="15781" y="10931"/>
                  <a:pt x="15727" y="11043"/>
                  <a:pt x="15684" y="11144"/>
                </a:cubicBezTo>
                <a:cubicBezTo>
                  <a:pt x="15652" y="11218"/>
                  <a:pt x="15631" y="11256"/>
                  <a:pt x="15621" y="11335"/>
                </a:cubicBezTo>
                <a:cubicBezTo>
                  <a:pt x="15586" y="11318"/>
                  <a:pt x="15614" y="11284"/>
                  <a:pt x="15653" y="11240"/>
                </a:cubicBezTo>
                <a:cubicBezTo>
                  <a:pt x="15690" y="11198"/>
                  <a:pt x="15725" y="11150"/>
                  <a:pt x="15780" y="11144"/>
                </a:cubicBezTo>
                <a:cubicBezTo>
                  <a:pt x="15871" y="11134"/>
                  <a:pt x="15809" y="11175"/>
                  <a:pt x="15875" y="11208"/>
                </a:cubicBezTo>
                <a:cubicBezTo>
                  <a:pt x="15904" y="11223"/>
                  <a:pt x="15921" y="11243"/>
                  <a:pt x="15938" y="11208"/>
                </a:cubicBezTo>
                <a:cubicBezTo>
                  <a:pt x="15938" y="11172"/>
                  <a:pt x="15941" y="11158"/>
                  <a:pt x="15970" y="11144"/>
                </a:cubicBezTo>
              </a:path>
              <a:path w="10066" h="1715">
                <a:moveTo>
                  <a:pt x="15843" y="10224"/>
                </a:moveTo>
                <a:cubicBezTo>
                  <a:pt x="15863" y="10323"/>
                  <a:pt x="15928" y="10386"/>
                  <a:pt x="15970" y="10478"/>
                </a:cubicBezTo>
                <a:cubicBezTo>
                  <a:pt x="16040" y="10629"/>
                  <a:pt x="16183" y="10794"/>
                  <a:pt x="16224" y="10954"/>
                </a:cubicBezTo>
                <a:cubicBezTo>
                  <a:pt x="16260" y="11095"/>
                  <a:pt x="16250" y="11256"/>
                  <a:pt x="16224" y="11398"/>
                </a:cubicBezTo>
                <a:cubicBezTo>
                  <a:pt x="16213" y="11440"/>
                  <a:pt x="16203" y="11483"/>
                  <a:pt x="16192" y="11525"/>
                </a:cubicBezTo>
              </a:path>
              <a:path w="10066" h="1715">
                <a:moveTo>
                  <a:pt x="16605" y="10668"/>
                </a:moveTo>
                <a:cubicBezTo>
                  <a:pt x="16605" y="10859"/>
                  <a:pt x="16605" y="11049"/>
                  <a:pt x="16605" y="11240"/>
                </a:cubicBezTo>
              </a:path>
              <a:path w="10066" h="1715">
                <a:moveTo>
                  <a:pt x="16351" y="11049"/>
                </a:moveTo>
                <a:cubicBezTo>
                  <a:pt x="16398" y="11049"/>
                  <a:pt x="16443" y="11040"/>
                  <a:pt x="16478" y="11017"/>
                </a:cubicBezTo>
                <a:cubicBezTo>
                  <a:pt x="16529" y="10984"/>
                  <a:pt x="16575" y="10977"/>
                  <a:pt x="16637" y="10954"/>
                </a:cubicBezTo>
              </a:path>
              <a:path w="10066" h="1715">
                <a:moveTo>
                  <a:pt x="17367" y="10541"/>
                </a:moveTo>
                <a:cubicBezTo>
                  <a:pt x="17367" y="10478"/>
                  <a:pt x="17348" y="10472"/>
                  <a:pt x="17336" y="10446"/>
                </a:cubicBezTo>
                <a:cubicBezTo>
                  <a:pt x="17321" y="10415"/>
                  <a:pt x="17232" y="10391"/>
                  <a:pt x="17177" y="10414"/>
                </a:cubicBezTo>
                <a:cubicBezTo>
                  <a:pt x="17123" y="10437"/>
                  <a:pt x="17035" y="10504"/>
                  <a:pt x="16986" y="10541"/>
                </a:cubicBezTo>
                <a:cubicBezTo>
                  <a:pt x="16938" y="10577"/>
                  <a:pt x="16927" y="10645"/>
                  <a:pt x="16923" y="10700"/>
                </a:cubicBezTo>
                <a:cubicBezTo>
                  <a:pt x="16917" y="10772"/>
                  <a:pt x="16973" y="10813"/>
                  <a:pt x="17018" y="10858"/>
                </a:cubicBezTo>
                <a:cubicBezTo>
                  <a:pt x="17077" y="10916"/>
                  <a:pt x="17126" y="10956"/>
                  <a:pt x="17177" y="11017"/>
                </a:cubicBezTo>
                <a:cubicBezTo>
                  <a:pt x="17229" y="11080"/>
                  <a:pt x="17264" y="11153"/>
                  <a:pt x="17240" y="11240"/>
                </a:cubicBezTo>
                <a:cubicBezTo>
                  <a:pt x="17222" y="11306"/>
                  <a:pt x="17219" y="11390"/>
                  <a:pt x="17145" y="11398"/>
                </a:cubicBezTo>
                <a:cubicBezTo>
                  <a:pt x="17109" y="11402"/>
                  <a:pt x="17054" y="11382"/>
                  <a:pt x="17050" y="11366"/>
                </a:cubicBezTo>
                <a:cubicBezTo>
                  <a:pt x="17019" y="11254"/>
                  <a:pt x="17067" y="11123"/>
                  <a:pt x="17082" y="11017"/>
                </a:cubicBezTo>
                <a:cubicBezTo>
                  <a:pt x="17096" y="10920"/>
                  <a:pt x="17133" y="10853"/>
                  <a:pt x="17177" y="10763"/>
                </a:cubicBezTo>
                <a:cubicBezTo>
                  <a:pt x="17211" y="10694"/>
                  <a:pt x="17247" y="10682"/>
                  <a:pt x="17304" y="10636"/>
                </a:cubicBezTo>
              </a:path>
              <a:path w="10066" h="1715">
                <a:moveTo>
                  <a:pt x="17970" y="9970"/>
                </a:moveTo>
                <a:cubicBezTo>
                  <a:pt x="17922" y="10004"/>
                  <a:pt x="17918" y="10017"/>
                  <a:pt x="17875" y="10065"/>
                </a:cubicBezTo>
                <a:cubicBezTo>
                  <a:pt x="17829" y="10116"/>
                  <a:pt x="17745" y="10196"/>
                  <a:pt x="17716" y="10255"/>
                </a:cubicBezTo>
                <a:cubicBezTo>
                  <a:pt x="17651" y="10386"/>
                  <a:pt x="17614" y="10533"/>
                  <a:pt x="17558" y="10668"/>
                </a:cubicBezTo>
                <a:cubicBezTo>
                  <a:pt x="17514" y="10775"/>
                  <a:pt x="17498" y="10900"/>
                  <a:pt x="17494" y="11017"/>
                </a:cubicBezTo>
                <a:cubicBezTo>
                  <a:pt x="17489" y="11155"/>
                  <a:pt x="17505" y="11271"/>
                  <a:pt x="17526" y="11398"/>
                </a:cubicBezTo>
                <a:cubicBezTo>
                  <a:pt x="17538" y="11468"/>
                  <a:pt x="17545" y="11533"/>
                  <a:pt x="17590" y="11589"/>
                </a:cubicBezTo>
                <a:cubicBezTo>
                  <a:pt x="17626" y="11634"/>
                  <a:pt x="17628" y="11653"/>
                  <a:pt x="17653" y="11684"/>
                </a:cubicBezTo>
              </a:path>
              <a:path w="10066" h="1715">
                <a:moveTo>
                  <a:pt x="18098" y="10668"/>
                </a:moveTo>
                <a:cubicBezTo>
                  <a:pt x="18098" y="10596"/>
                  <a:pt x="18072" y="10624"/>
                  <a:pt x="18066" y="10573"/>
                </a:cubicBezTo>
                <a:cubicBezTo>
                  <a:pt x="18059" y="10518"/>
                  <a:pt x="18051" y="10560"/>
                  <a:pt x="18034" y="10509"/>
                </a:cubicBezTo>
                <a:cubicBezTo>
                  <a:pt x="17987" y="10544"/>
                  <a:pt x="17953" y="10559"/>
                  <a:pt x="17907" y="10604"/>
                </a:cubicBezTo>
                <a:cubicBezTo>
                  <a:pt x="17831" y="10679"/>
                  <a:pt x="17871" y="10701"/>
                  <a:pt x="17844" y="10795"/>
                </a:cubicBezTo>
                <a:cubicBezTo>
                  <a:pt x="17830" y="10844"/>
                  <a:pt x="17815" y="10901"/>
                  <a:pt x="17844" y="10954"/>
                </a:cubicBezTo>
                <a:cubicBezTo>
                  <a:pt x="17864" y="10991"/>
                  <a:pt x="17936" y="11038"/>
                  <a:pt x="17970" y="11049"/>
                </a:cubicBezTo>
                <a:cubicBezTo>
                  <a:pt x="18017" y="11065"/>
                  <a:pt x="18058" y="11077"/>
                  <a:pt x="18098" y="11112"/>
                </a:cubicBezTo>
                <a:cubicBezTo>
                  <a:pt x="18129" y="11140"/>
                  <a:pt x="18152" y="11229"/>
                  <a:pt x="18129" y="11271"/>
                </a:cubicBezTo>
                <a:cubicBezTo>
                  <a:pt x="18098" y="11327"/>
                  <a:pt x="18058" y="11335"/>
                  <a:pt x="18002" y="11335"/>
                </a:cubicBezTo>
                <a:cubicBezTo>
                  <a:pt x="17918" y="11335"/>
                  <a:pt x="17910" y="11242"/>
                  <a:pt x="17907" y="11176"/>
                </a:cubicBezTo>
                <a:cubicBezTo>
                  <a:pt x="17902" y="11053"/>
                  <a:pt x="17954" y="10939"/>
                  <a:pt x="18002" y="10827"/>
                </a:cubicBezTo>
                <a:cubicBezTo>
                  <a:pt x="18035" y="10750"/>
                  <a:pt x="18073" y="10665"/>
                  <a:pt x="18129" y="10604"/>
                </a:cubicBezTo>
                <a:cubicBezTo>
                  <a:pt x="18140" y="10594"/>
                  <a:pt x="18150" y="10583"/>
                  <a:pt x="18161" y="10573"/>
                </a:cubicBezTo>
              </a:path>
              <a:path w="10066" h="1715">
                <a:moveTo>
                  <a:pt x="18161" y="10224"/>
                </a:moveTo>
                <a:cubicBezTo>
                  <a:pt x="18213" y="10184"/>
                  <a:pt x="18268" y="10195"/>
                  <a:pt x="18320" y="10255"/>
                </a:cubicBezTo>
                <a:cubicBezTo>
                  <a:pt x="18380" y="10324"/>
                  <a:pt x="18443" y="10457"/>
                  <a:pt x="18478" y="10541"/>
                </a:cubicBezTo>
                <a:cubicBezTo>
                  <a:pt x="18532" y="10670"/>
                  <a:pt x="18510" y="10816"/>
                  <a:pt x="18510" y="10954"/>
                </a:cubicBezTo>
                <a:cubicBezTo>
                  <a:pt x="18510" y="11096"/>
                  <a:pt x="18469" y="11235"/>
                  <a:pt x="18415" y="11366"/>
                </a:cubicBezTo>
                <a:cubicBezTo>
                  <a:pt x="18404" y="11394"/>
                  <a:pt x="18377" y="11564"/>
                  <a:pt x="18320" y="11557"/>
                </a:cubicBezTo>
                <a:cubicBezTo>
                  <a:pt x="18309" y="11546"/>
                  <a:pt x="18299" y="11536"/>
                  <a:pt x="18288" y="11525"/>
                </a:cubicBezTo>
              </a:path>
              <a:path w="10066" h="1715">
                <a:moveTo>
                  <a:pt x="18764" y="10478"/>
                </a:moveTo>
                <a:cubicBezTo>
                  <a:pt x="18709" y="10478"/>
                  <a:pt x="18778" y="10488"/>
                  <a:pt x="18796" y="10541"/>
                </a:cubicBezTo>
                <a:cubicBezTo>
                  <a:pt x="18809" y="10580"/>
                  <a:pt x="18844" y="10647"/>
                  <a:pt x="18891" y="10668"/>
                </a:cubicBezTo>
                <a:cubicBezTo>
                  <a:pt x="18953" y="10696"/>
                  <a:pt x="19015" y="10726"/>
                  <a:pt x="19082" y="10732"/>
                </a:cubicBezTo>
                <a:cubicBezTo>
                  <a:pt x="19096" y="10733"/>
                  <a:pt x="19233" y="10754"/>
                  <a:pt x="19240" y="10763"/>
                </a:cubicBezTo>
                <a:cubicBezTo>
                  <a:pt x="19261" y="10789"/>
                  <a:pt x="19261" y="10793"/>
                  <a:pt x="19272" y="10827"/>
                </a:cubicBezTo>
                <a:cubicBezTo>
                  <a:pt x="19233" y="10840"/>
                  <a:pt x="19229" y="10879"/>
                  <a:pt x="19177" y="10890"/>
                </a:cubicBezTo>
                <a:cubicBezTo>
                  <a:pt x="19105" y="10906"/>
                  <a:pt x="19052" y="10934"/>
                  <a:pt x="18986" y="10954"/>
                </a:cubicBezTo>
                <a:cubicBezTo>
                  <a:pt x="18926" y="10972"/>
                  <a:pt x="18858" y="11002"/>
                  <a:pt x="18796" y="11017"/>
                </a:cubicBezTo>
                <a:cubicBezTo>
                  <a:pt x="18758" y="11026"/>
                  <a:pt x="18739" y="11039"/>
                  <a:pt x="18701" y="11049"/>
                </a:cubicBezTo>
              </a:path>
              <a:path w="10066" h="1715">
                <a:moveTo>
                  <a:pt x="18796" y="11335"/>
                </a:moveTo>
                <a:cubicBezTo>
                  <a:pt x="18869" y="11335"/>
                  <a:pt x="18928" y="11315"/>
                  <a:pt x="18986" y="11303"/>
                </a:cubicBezTo>
                <a:cubicBezTo>
                  <a:pt x="19062" y="11288"/>
                  <a:pt x="19162" y="11303"/>
                  <a:pt x="19240" y="11303"/>
                </a:cubicBezTo>
              </a:path>
              <a:path w="10066" h="1715">
                <a:moveTo>
                  <a:pt x="19463" y="10604"/>
                </a:moveTo>
                <a:cubicBezTo>
                  <a:pt x="19463" y="10747"/>
                  <a:pt x="19479" y="10879"/>
                  <a:pt x="19494" y="11017"/>
                </a:cubicBezTo>
                <a:cubicBezTo>
                  <a:pt x="19515" y="11213"/>
                  <a:pt x="19494" y="11423"/>
                  <a:pt x="19494" y="11620"/>
                </a:cubicBezTo>
              </a:path>
              <a:path w="10066" h="1715">
                <a:moveTo>
                  <a:pt x="19653" y="10795"/>
                </a:moveTo>
                <a:cubicBezTo>
                  <a:pt x="19661" y="10764"/>
                  <a:pt x="19670" y="10696"/>
                  <a:pt x="19685" y="10668"/>
                </a:cubicBezTo>
                <a:cubicBezTo>
                  <a:pt x="19706" y="10630"/>
                  <a:pt x="19776" y="10585"/>
                  <a:pt x="19812" y="10573"/>
                </a:cubicBezTo>
                <a:cubicBezTo>
                  <a:pt x="19886" y="10549"/>
                  <a:pt x="19905" y="10659"/>
                  <a:pt x="19907" y="10700"/>
                </a:cubicBezTo>
                <a:cubicBezTo>
                  <a:pt x="19912" y="10791"/>
                  <a:pt x="19903" y="10902"/>
                  <a:pt x="19876" y="10986"/>
                </a:cubicBezTo>
                <a:cubicBezTo>
                  <a:pt x="19846" y="11080"/>
                  <a:pt x="19819" y="11183"/>
                  <a:pt x="19780" y="11271"/>
                </a:cubicBezTo>
                <a:cubicBezTo>
                  <a:pt x="19771" y="11291"/>
                  <a:pt x="19731" y="11421"/>
                  <a:pt x="19717" y="11430"/>
                </a:cubicBezTo>
                <a:cubicBezTo>
                  <a:pt x="19662" y="11467"/>
                  <a:pt x="19740" y="11404"/>
                  <a:pt x="19748" y="11398"/>
                </a:cubicBezTo>
                <a:cubicBezTo>
                  <a:pt x="19797" y="11360"/>
                  <a:pt x="19825" y="11363"/>
                  <a:pt x="19876" y="11398"/>
                </a:cubicBezTo>
                <a:cubicBezTo>
                  <a:pt x="19924" y="11431"/>
                  <a:pt x="19982" y="11502"/>
                  <a:pt x="20034" y="11525"/>
                </a:cubicBezTo>
                <a:cubicBezTo>
                  <a:pt x="20066" y="11525"/>
                  <a:pt x="20077" y="11525"/>
                  <a:pt x="20098" y="11525"/>
                </a:cubicBezTo>
              </a:path>
              <a:path w="10066" h="1715">
                <a:moveTo>
                  <a:pt x="20384" y="10604"/>
                </a:moveTo>
                <a:cubicBezTo>
                  <a:pt x="20384" y="10573"/>
                  <a:pt x="20384" y="10563"/>
                  <a:pt x="20415" y="10573"/>
                </a:cubicBezTo>
                <a:cubicBezTo>
                  <a:pt x="20374" y="10587"/>
                  <a:pt x="20377" y="10623"/>
                  <a:pt x="20352" y="10636"/>
                </a:cubicBezTo>
                <a:cubicBezTo>
                  <a:pt x="20307" y="10658"/>
                  <a:pt x="20246" y="10668"/>
                  <a:pt x="20193" y="10668"/>
                </a:cubicBezTo>
                <a:cubicBezTo>
                  <a:pt x="20163" y="10668"/>
                  <a:pt x="20082" y="10701"/>
                  <a:pt x="20066" y="10732"/>
                </a:cubicBezTo>
                <a:cubicBezTo>
                  <a:pt x="20038" y="10788"/>
                  <a:pt x="20085" y="10850"/>
                  <a:pt x="20098" y="10890"/>
                </a:cubicBezTo>
                <a:cubicBezTo>
                  <a:pt x="20121" y="10957"/>
                  <a:pt x="20083" y="10987"/>
                  <a:pt x="20130" y="11049"/>
                </a:cubicBezTo>
                <a:cubicBezTo>
                  <a:pt x="20166" y="11037"/>
                  <a:pt x="20184" y="11022"/>
                  <a:pt x="20225" y="10986"/>
                </a:cubicBezTo>
                <a:cubicBezTo>
                  <a:pt x="20277" y="10939"/>
                  <a:pt x="20281" y="10922"/>
                  <a:pt x="20352" y="10922"/>
                </a:cubicBezTo>
                <a:cubicBezTo>
                  <a:pt x="20420" y="10922"/>
                  <a:pt x="20460" y="10937"/>
                  <a:pt x="20479" y="11017"/>
                </a:cubicBezTo>
                <a:cubicBezTo>
                  <a:pt x="20499" y="11102"/>
                  <a:pt x="20510" y="11181"/>
                  <a:pt x="20510" y="11271"/>
                </a:cubicBezTo>
                <a:cubicBezTo>
                  <a:pt x="20510" y="11353"/>
                  <a:pt x="20497" y="11394"/>
                  <a:pt x="20447" y="11462"/>
                </a:cubicBezTo>
                <a:cubicBezTo>
                  <a:pt x="20399" y="11527"/>
                  <a:pt x="20364" y="11525"/>
                  <a:pt x="20288" y="11525"/>
                </a:cubicBezTo>
                <a:cubicBezTo>
                  <a:pt x="20252" y="11525"/>
                  <a:pt x="20239" y="11522"/>
                  <a:pt x="20225" y="11494"/>
                </a:cubicBezTo>
              </a:path>
              <a:path w="10066" h="1715">
                <a:moveTo>
                  <a:pt x="21463" y="10414"/>
                </a:moveTo>
                <a:cubicBezTo>
                  <a:pt x="21463" y="10588"/>
                  <a:pt x="21444" y="10752"/>
                  <a:pt x="21431" y="10922"/>
                </a:cubicBezTo>
                <a:cubicBezTo>
                  <a:pt x="21417" y="11105"/>
                  <a:pt x="21421" y="11281"/>
                  <a:pt x="21400" y="11462"/>
                </a:cubicBezTo>
                <a:cubicBezTo>
                  <a:pt x="21393" y="11524"/>
                  <a:pt x="21400" y="11590"/>
                  <a:pt x="21400" y="11652"/>
                </a:cubicBezTo>
              </a:path>
              <a:path w="10066" h="1715">
                <a:moveTo>
                  <a:pt x="21622" y="10732"/>
                </a:moveTo>
                <a:cubicBezTo>
                  <a:pt x="21648" y="10697"/>
                  <a:pt x="21699" y="10645"/>
                  <a:pt x="21717" y="10604"/>
                </a:cubicBezTo>
                <a:cubicBezTo>
                  <a:pt x="21727" y="10582"/>
                  <a:pt x="21772" y="10527"/>
                  <a:pt x="21812" y="10509"/>
                </a:cubicBezTo>
                <a:cubicBezTo>
                  <a:pt x="21823" y="10509"/>
                  <a:pt x="21833" y="10509"/>
                  <a:pt x="21844" y="10509"/>
                </a:cubicBezTo>
                <a:cubicBezTo>
                  <a:pt x="21903" y="10607"/>
                  <a:pt x="21857" y="10652"/>
                  <a:pt x="21844" y="10763"/>
                </a:cubicBezTo>
                <a:cubicBezTo>
                  <a:pt x="21829" y="10887"/>
                  <a:pt x="21790" y="10989"/>
                  <a:pt x="21749" y="11112"/>
                </a:cubicBezTo>
                <a:cubicBezTo>
                  <a:pt x="21714" y="11217"/>
                  <a:pt x="21686" y="11338"/>
                  <a:pt x="21622" y="11430"/>
                </a:cubicBezTo>
                <a:cubicBezTo>
                  <a:pt x="21593" y="11459"/>
                  <a:pt x="21582" y="11465"/>
                  <a:pt x="21590" y="11494"/>
                </a:cubicBezTo>
                <a:cubicBezTo>
                  <a:pt x="21604" y="11437"/>
                  <a:pt x="21642" y="11382"/>
                  <a:pt x="21685" y="11335"/>
                </a:cubicBezTo>
                <a:cubicBezTo>
                  <a:pt x="21732" y="11282"/>
                  <a:pt x="21778" y="11271"/>
                  <a:pt x="21844" y="11271"/>
                </a:cubicBezTo>
                <a:cubicBezTo>
                  <a:pt x="21907" y="11271"/>
                  <a:pt x="21946" y="11354"/>
                  <a:pt x="21971" y="11366"/>
                </a:cubicBezTo>
                <a:cubicBezTo>
                  <a:pt x="22003" y="11366"/>
                  <a:pt x="22013" y="11366"/>
                  <a:pt x="22003" y="11335"/>
                </a:cubicBezTo>
              </a:path>
              <a:path w="10066" h="1715">
                <a:moveTo>
                  <a:pt x="22098" y="10478"/>
                </a:moveTo>
                <a:cubicBezTo>
                  <a:pt x="22098" y="10623"/>
                  <a:pt x="22086" y="10751"/>
                  <a:pt x="22066" y="10890"/>
                </a:cubicBezTo>
                <a:cubicBezTo>
                  <a:pt x="22057" y="10953"/>
                  <a:pt x="21977" y="11021"/>
                  <a:pt x="22034" y="11049"/>
                </a:cubicBezTo>
                <a:cubicBezTo>
                  <a:pt x="22059" y="11061"/>
                  <a:pt x="22122" y="11017"/>
                  <a:pt x="22162" y="11017"/>
                </a:cubicBezTo>
                <a:cubicBezTo>
                  <a:pt x="22239" y="11017"/>
                  <a:pt x="22256" y="11042"/>
                  <a:pt x="22320" y="11049"/>
                </a:cubicBezTo>
                <a:cubicBezTo>
                  <a:pt x="22385" y="11056"/>
                  <a:pt x="22391" y="11051"/>
                  <a:pt x="22416" y="11017"/>
                </a:cubicBezTo>
                <a:cubicBezTo>
                  <a:pt x="22426" y="11007"/>
                  <a:pt x="22437" y="10996"/>
                  <a:pt x="22447" y="10986"/>
                </a:cubicBezTo>
              </a:path>
              <a:path w="10066" h="1715">
                <a:moveTo>
                  <a:pt x="22384" y="10350"/>
                </a:moveTo>
                <a:cubicBezTo>
                  <a:pt x="22370" y="10463"/>
                  <a:pt x="22352" y="10546"/>
                  <a:pt x="22352" y="10668"/>
                </a:cubicBezTo>
                <a:cubicBezTo>
                  <a:pt x="22352" y="10957"/>
                  <a:pt x="22345" y="11243"/>
                  <a:pt x="22384" y="11525"/>
                </a:cubicBezTo>
                <a:cubicBezTo>
                  <a:pt x="22384" y="11546"/>
                  <a:pt x="22384" y="11568"/>
                  <a:pt x="22384" y="11589"/>
                </a:cubicBezTo>
              </a:path>
              <a:path w="10066" h="1715">
                <a:moveTo>
                  <a:pt x="22670" y="10509"/>
                </a:moveTo>
                <a:cubicBezTo>
                  <a:pt x="22713" y="10542"/>
                  <a:pt x="22748" y="10553"/>
                  <a:pt x="22796" y="10573"/>
                </a:cubicBezTo>
                <a:cubicBezTo>
                  <a:pt x="22861" y="10600"/>
                  <a:pt x="22926" y="10644"/>
                  <a:pt x="22987" y="10668"/>
                </a:cubicBezTo>
                <a:cubicBezTo>
                  <a:pt x="23032" y="10686"/>
                  <a:pt x="23065" y="10712"/>
                  <a:pt x="23082" y="10763"/>
                </a:cubicBezTo>
                <a:cubicBezTo>
                  <a:pt x="23098" y="10809"/>
                  <a:pt x="23015" y="10862"/>
                  <a:pt x="22987" y="10890"/>
                </a:cubicBezTo>
                <a:cubicBezTo>
                  <a:pt x="22938" y="10939"/>
                  <a:pt x="22886" y="10982"/>
                  <a:pt x="22828" y="11017"/>
                </a:cubicBezTo>
                <a:cubicBezTo>
                  <a:pt x="22768" y="11053"/>
                  <a:pt x="22735" y="11049"/>
                  <a:pt x="22670" y="11049"/>
                </a:cubicBezTo>
              </a:path>
              <a:path w="10066" h="1715">
                <a:moveTo>
                  <a:pt x="22638" y="11303"/>
                </a:moveTo>
                <a:cubicBezTo>
                  <a:pt x="22638" y="11314"/>
                  <a:pt x="22638" y="11324"/>
                  <a:pt x="22638" y="11335"/>
                </a:cubicBezTo>
                <a:cubicBezTo>
                  <a:pt x="22699" y="11320"/>
                  <a:pt x="22760" y="11282"/>
                  <a:pt x="22828" y="11271"/>
                </a:cubicBezTo>
                <a:cubicBezTo>
                  <a:pt x="22942" y="11252"/>
                  <a:pt x="23026" y="11208"/>
                  <a:pt x="23146" y="11208"/>
                </a:cubicBezTo>
                <a:cubicBezTo>
                  <a:pt x="23188" y="11208"/>
                  <a:pt x="23209" y="11208"/>
                  <a:pt x="23241" y="11208"/>
                </a:cubicBezTo>
              </a:path>
              <a:path w="10066" h="1715">
                <a:moveTo>
                  <a:pt x="23527" y="10319"/>
                </a:moveTo>
                <a:cubicBezTo>
                  <a:pt x="23509" y="10406"/>
                  <a:pt x="23495" y="10478"/>
                  <a:pt x="23495" y="10573"/>
                </a:cubicBezTo>
                <a:cubicBezTo>
                  <a:pt x="23495" y="10848"/>
                  <a:pt x="23495" y="11123"/>
                  <a:pt x="23495" y="11398"/>
                </a:cubicBezTo>
              </a:path>
              <a:path w="10066" h="1715">
                <a:moveTo>
                  <a:pt x="23717" y="10636"/>
                </a:moveTo>
                <a:cubicBezTo>
                  <a:pt x="23717" y="10568"/>
                  <a:pt x="23718" y="10543"/>
                  <a:pt x="23749" y="10478"/>
                </a:cubicBezTo>
                <a:cubicBezTo>
                  <a:pt x="23780" y="10412"/>
                  <a:pt x="23798" y="10327"/>
                  <a:pt x="23876" y="10319"/>
                </a:cubicBezTo>
                <a:cubicBezTo>
                  <a:pt x="23948" y="10311"/>
                  <a:pt x="23975" y="10459"/>
                  <a:pt x="23971" y="10509"/>
                </a:cubicBezTo>
                <a:cubicBezTo>
                  <a:pt x="23962" y="10629"/>
                  <a:pt x="23930" y="10772"/>
                  <a:pt x="23908" y="10890"/>
                </a:cubicBezTo>
                <a:cubicBezTo>
                  <a:pt x="23883" y="11022"/>
                  <a:pt x="23807" y="11144"/>
                  <a:pt x="23781" y="11271"/>
                </a:cubicBezTo>
                <a:cubicBezTo>
                  <a:pt x="23769" y="11329"/>
                  <a:pt x="23762" y="11347"/>
                  <a:pt x="23749" y="11398"/>
                </a:cubicBezTo>
                <a:cubicBezTo>
                  <a:pt x="23813" y="11334"/>
                  <a:pt x="23838" y="11338"/>
                  <a:pt x="23908" y="11303"/>
                </a:cubicBezTo>
                <a:cubicBezTo>
                  <a:pt x="23967" y="11273"/>
                  <a:pt x="23989" y="11271"/>
                  <a:pt x="24066" y="11271"/>
                </a:cubicBezTo>
                <a:cubicBezTo>
                  <a:pt x="24098" y="11271"/>
                  <a:pt x="24109" y="11271"/>
                  <a:pt x="24130" y="11271"/>
                </a:cubicBezTo>
              </a:path>
              <a:path w="10066" h="1715">
                <a:moveTo>
                  <a:pt x="24448" y="10350"/>
                </a:moveTo>
                <a:cubicBezTo>
                  <a:pt x="24430" y="10297"/>
                  <a:pt x="24402" y="10329"/>
                  <a:pt x="24352" y="10350"/>
                </a:cubicBezTo>
                <a:cubicBezTo>
                  <a:pt x="24296" y="10374"/>
                  <a:pt x="24236" y="10409"/>
                  <a:pt x="24194" y="10446"/>
                </a:cubicBezTo>
                <a:cubicBezTo>
                  <a:pt x="24141" y="10494"/>
                  <a:pt x="24130" y="10465"/>
                  <a:pt x="24130" y="10541"/>
                </a:cubicBezTo>
                <a:cubicBezTo>
                  <a:pt x="24130" y="10627"/>
                  <a:pt x="24139" y="10688"/>
                  <a:pt x="24162" y="10732"/>
                </a:cubicBezTo>
                <a:cubicBezTo>
                  <a:pt x="24162" y="10763"/>
                  <a:pt x="24162" y="10774"/>
                  <a:pt x="24194" y="10763"/>
                </a:cubicBezTo>
                <a:cubicBezTo>
                  <a:pt x="24242" y="10715"/>
                  <a:pt x="24253" y="10700"/>
                  <a:pt x="24320" y="10700"/>
                </a:cubicBezTo>
                <a:cubicBezTo>
                  <a:pt x="24404" y="10700"/>
                  <a:pt x="24458" y="10679"/>
                  <a:pt x="24511" y="10763"/>
                </a:cubicBezTo>
                <a:cubicBezTo>
                  <a:pt x="24546" y="10818"/>
                  <a:pt x="24559" y="10952"/>
                  <a:pt x="24543" y="11017"/>
                </a:cubicBezTo>
                <a:cubicBezTo>
                  <a:pt x="24529" y="11077"/>
                  <a:pt x="24467" y="11204"/>
                  <a:pt x="24416" y="11240"/>
                </a:cubicBezTo>
                <a:cubicBezTo>
                  <a:pt x="24355" y="11283"/>
                  <a:pt x="24295" y="11271"/>
                  <a:pt x="24225" y="11271"/>
                </a:cubicBezTo>
              </a:path>
              <a:path w="10066" h="1715">
                <a:moveTo>
                  <a:pt x="21209" y="10446"/>
                </a:moveTo>
                <a:cubicBezTo>
                  <a:pt x="21344" y="10446"/>
                  <a:pt x="21458" y="10453"/>
                  <a:pt x="21590" y="10478"/>
                </a:cubicBezTo>
                <a:cubicBezTo>
                  <a:pt x="22065" y="10570"/>
                  <a:pt x="22549" y="10621"/>
                  <a:pt x="23019" y="10732"/>
                </a:cubicBezTo>
                <a:cubicBezTo>
                  <a:pt x="23331" y="10805"/>
                  <a:pt x="23661" y="10921"/>
                  <a:pt x="23940" y="11081"/>
                </a:cubicBezTo>
                <a:cubicBezTo>
                  <a:pt x="24112" y="11179"/>
                  <a:pt x="24277" y="11296"/>
                  <a:pt x="24448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13"/>
          <p:cNvSpPr/>
          <p:nvPr/>
        </p:nvSpPr>
        <p:spPr>
          <a:xfrm>
            <a:off x="217440" y="4000680"/>
            <a:ext cx="708120" cy="1966680"/>
          </a:xfrm>
          <a:custGeom>
            <a:avLst/>
            <a:gdLst/>
            <a:ahLst/>
            <a:rect l="l" t="t" r="r" b="b"/>
            <a:pathLst>
              <a:path w="1970" h="5463">
                <a:moveTo>
                  <a:pt x="667" y="12351"/>
                </a:moveTo>
                <a:cubicBezTo>
                  <a:pt x="741" y="12291"/>
                  <a:pt x="819" y="12259"/>
                  <a:pt x="889" y="12192"/>
                </a:cubicBezTo>
                <a:cubicBezTo>
                  <a:pt x="1041" y="12046"/>
                  <a:pt x="1207" y="11944"/>
                  <a:pt x="1365" y="11811"/>
                </a:cubicBezTo>
                <a:cubicBezTo>
                  <a:pt x="1664" y="11559"/>
                  <a:pt x="1976" y="11348"/>
                  <a:pt x="2286" y="11112"/>
                </a:cubicBezTo>
              </a:path>
              <a:path w="1970" h="5463">
                <a:moveTo>
                  <a:pt x="1016" y="14668"/>
                </a:moveTo>
                <a:cubicBezTo>
                  <a:pt x="957" y="14728"/>
                  <a:pt x="955" y="14715"/>
                  <a:pt x="921" y="14764"/>
                </a:cubicBezTo>
                <a:cubicBezTo>
                  <a:pt x="935" y="14775"/>
                  <a:pt x="983" y="14850"/>
                  <a:pt x="1016" y="14859"/>
                </a:cubicBezTo>
                <a:cubicBezTo>
                  <a:pt x="1097" y="14880"/>
                  <a:pt x="1254" y="14903"/>
                  <a:pt x="1334" y="14891"/>
                </a:cubicBezTo>
                <a:cubicBezTo>
                  <a:pt x="1476" y="14870"/>
                  <a:pt x="1591" y="14842"/>
                  <a:pt x="1714" y="14764"/>
                </a:cubicBezTo>
                <a:cubicBezTo>
                  <a:pt x="1895" y="14650"/>
                  <a:pt x="1983" y="14529"/>
                  <a:pt x="2096" y="14351"/>
                </a:cubicBezTo>
                <a:cubicBezTo>
                  <a:pt x="2243" y="14119"/>
                  <a:pt x="2327" y="13880"/>
                  <a:pt x="2413" y="13621"/>
                </a:cubicBezTo>
                <a:cubicBezTo>
                  <a:pt x="2518" y="13304"/>
                  <a:pt x="2572" y="13033"/>
                  <a:pt x="2572" y="12700"/>
                </a:cubicBezTo>
                <a:cubicBezTo>
                  <a:pt x="2572" y="12414"/>
                  <a:pt x="2430" y="12202"/>
                  <a:pt x="2127" y="12192"/>
                </a:cubicBezTo>
                <a:cubicBezTo>
                  <a:pt x="1970" y="12187"/>
                  <a:pt x="1796" y="12225"/>
                  <a:pt x="1651" y="12287"/>
                </a:cubicBezTo>
                <a:cubicBezTo>
                  <a:pt x="1358" y="12411"/>
                  <a:pt x="1142" y="12701"/>
                  <a:pt x="1016" y="12986"/>
                </a:cubicBezTo>
                <a:cubicBezTo>
                  <a:pt x="854" y="13353"/>
                  <a:pt x="766" y="13889"/>
                  <a:pt x="794" y="14288"/>
                </a:cubicBezTo>
                <a:cubicBezTo>
                  <a:pt x="811" y="14529"/>
                  <a:pt x="823" y="14765"/>
                  <a:pt x="921" y="14986"/>
                </a:cubicBezTo>
                <a:cubicBezTo>
                  <a:pt x="983" y="15126"/>
                  <a:pt x="1030" y="15179"/>
                  <a:pt x="1143" y="15272"/>
                </a:cubicBezTo>
              </a:path>
              <a:path w="1970" h="5463">
                <a:moveTo>
                  <a:pt x="603" y="16574"/>
                </a:moveTo>
                <a:cubicBezTo>
                  <a:pt x="636" y="16474"/>
                  <a:pt x="662" y="16376"/>
                  <a:pt x="730" y="16288"/>
                </a:cubicBezTo>
                <a:cubicBezTo>
                  <a:pt x="822" y="16169"/>
                  <a:pt x="921" y="16055"/>
                  <a:pt x="1016" y="15938"/>
                </a:cubicBezTo>
                <a:cubicBezTo>
                  <a:pt x="1137" y="15790"/>
                  <a:pt x="1299" y="15633"/>
                  <a:pt x="1460" y="15526"/>
                </a:cubicBezTo>
                <a:cubicBezTo>
                  <a:pt x="1574" y="15450"/>
                  <a:pt x="1719" y="15397"/>
                  <a:pt x="1842" y="15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14"/>
          <p:cNvSpPr/>
          <p:nvPr/>
        </p:nvSpPr>
        <p:spPr>
          <a:xfrm>
            <a:off x="2274840" y="4400640"/>
            <a:ext cx="1714680" cy="377640"/>
          </a:xfrm>
          <a:custGeom>
            <a:avLst/>
            <a:gdLst/>
            <a:ahLst/>
            <a:rect l="l" t="t" r="r" b="b"/>
            <a:pathLst>
              <a:path w="4764" h="1049">
                <a:moveTo>
                  <a:pt x="6477" y="12224"/>
                </a:moveTo>
                <a:cubicBezTo>
                  <a:pt x="6492" y="12329"/>
                  <a:pt x="6482" y="12360"/>
                  <a:pt x="6477" y="12478"/>
                </a:cubicBezTo>
                <a:cubicBezTo>
                  <a:pt x="6472" y="12614"/>
                  <a:pt x="6425" y="12730"/>
                  <a:pt x="6382" y="12859"/>
                </a:cubicBezTo>
                <a:cubicBezTo>
                  <a:pt x="6352" y="12948"/>
                  <a:pt x="6327" y="13054"/>
                  <a:pt x="6318" y="13144"/>
                </a:cubicBezTo>
                <a:cubicBezTo>
                  <a:pt x="6318" y="13176"/>
                  <a:pt x="6318" y="13187"/>
                  <a:pt x="6350" y="13176"/>
                </a:cubicBezTo>
              </a:path>
              <a:path w="4764" h="1049">
                <a:moveTo>
                  <a:pt x="6699" y="12351"/>
                </a:moveTo>
                <a:cubicBezTo>
                  <a:pt x="6699" y="12436"/>
                  <a:pt x="6681" y="12495"/>
                  <a:pt x="6668" y="12573"/>
                </a:cubicBezTo>
                <a:cubicBezTo>
                  <a:pt x="6655" y="12650"/>
                  <a:pt x="6636" y="12715"/>
                  <a:pt x="6636" y="12795"/>
                </a:cubicBezTo>
                <a:cubicBezTo>
                  <a:pt x="6636" y="12850"/>
                  <a:pt x="6623" y="12844"/>
                  <a:pt x="6668" y="12859"/>
                </a:cubicBezTo>
                <a:cubicBezTo>
                  <a:pt x="6710" y="12844"/>
                  <a:pt x="6707" y="12814"/>
                  <a:pt x="6763" y="12795"/>
                </a:cubicBezTo>
                <a:cubicBezTo>
                  <a:pt x="6830" y="12772"/>
                  <a:pt x="6895" y="12812"/>
                  <a:pt x="6953" y="12827"/>
                </a:cubicBezTo>
                <a:cubicBezTo>
                  <a:pt x="7026" y="12845"/>
                  <a:pt x="7120" y="12828"/>
                  <a:pt x="7176" y="12795"/>
                </a:cubicBezTo>
              </a:path>
              <a:path w="4764" h="1049">
                <a:moveTo>
                  <a:pt x="7144" y="12256"/>
                </a:moveTo>
                <a:cubicBezTo>
                  <a:pt x="7105" y="12359"/>
                  <a:pt x="7133" y="12434"/>
                  <a:pt x="7112" y="12541"/>
                </a:cubicBezTo>
                <a:cubicBezTo>
                  <a:pt x="7086" y="12676"/>
                  <a:pt x="7036" y="12817"/>
                  <a:pt x="7017" y="12954"/>
                </a:cubicBezTo>
                <a:cubicBezTo>
                  <a:pt x="7002" y="13057"/>
                  <a:pt x="6980" y="13151"/>
                  <a:pt x="6953" y="13240"/>
                </a:cubicBezTo>
                <a:cubicBezTo>
                  <a:pt x="6953" y="13251"/>
                  <a:pt x="6953" y="13261"/>
                  <a:pt x="6953" y="13272"/>
                </a:cubicBezTo>
              </a:path>
              <a:path w="4764" h="1049">
                <a:moveTo>
                  <a:pt x="7652" y="12256"/>
                </a:moveTo>
                <a:cubicBezTo>
                  <a:pt x="7652" y="12520"/>
                  <a:pt x="7652" y="12785"/>
                  <a:pt x="7652" y="13049"/>
                </a:cubicBezTo>
              </a:path>
              <a:path w="4764" h="1049">
                <a:moveTo>
                  <a:pt x="7430" y="12605"/>
                </a:moveTo>
                <a:cubicBezTo>
                  <a:pt x="7419" y="12605"/>
                  <a:pt x="7409" y="12605"/>
                  <a:pt x="7398" y="12605"/>
                </a:cubicBezTo>
                <a:cubicBezTo>
                  <a:pt x="7414" y="12669"/>
                  <a:pt x="7485" y="12716"/>
                  <a:pt x="7556" y="12732"/>
                </a:cubicBezTo>
                <a:cubicBezTo>
                  <a:pt x="7658" y="12755"/>
                  <a:pt x="7776" y="12767"/>
                  <a:pt x="7874" y="12795"/>
                </a:cubicBezTo>
                <a:cubicBezTo>
                  <a:pt x="7938" y="12827"/>
                  <a:pt x="7959" y="12838"/>
                  <a:pt x="8001" y="12795"/>
                </a:cubicBezTo>
              </a:path>
              <a:path w="4764" h="1049">
                <a:moveTo>
                  <a:pt x="8255" y="12287"/>
                </a:moveTo>
                <a:cubicBezTo>
                  <a:pt x="8200" y="12305"/>
                  <a:pt x="8205" y="12388"/>
                  <a:pt x="8160" y="12446"/>
                </a:cubicBezTo>
                <a:cubicBezTo>
                  <a:pt x="8066" y="12567"/>
                  <a:pt x="8039" y="12669"/>
                  <a:pt x="8033" y="12827"/>
                </a:cubicBezTo>
                <a:cubicBezTo>
                  <a:pt x="8029" y="12936"/>
                  <a:pt x="8027" y="13051"/>
                  <a:pt x="8096" y="13144"/>
                </a:cubicBezTo>
                <a:cubicBezTo>
                  <a:pt x="8169" y="13243"/>
                  <a:pt x="8257" y="13218"/>
                  <a:pt x="8350" y="13208"/>
                </a:cubicBezTo>
                <a:cubicBezTo>
                  <a:pt x="8449" y="13197"/>
                  <a:pt x="8534" y="13118"/>
                  <a:pt x="8572" y="13018"/>
                </a:cubicBezTo>
                <a:cubicBezTo>
                  <a:pt x="8594" y="12960"/>
                  <a:pt x="8575" y="12870"/>
                  <a:pt x="8541" y="12827"/>
                </a:cubicBezTo>
                <a:cubicBezTo>
                  <a:pt x="8488" y="12760"/>
                  <a:pt x="8434" y="12798"/>
                  <a:pt x="8382" y="12827"/>
                </a:cubicBezTo>
                <a:cubicBezTo>
                  <a:pt x="8292" y="12879"/>
                  <a:pt x="8269" y="12955"/>
                  <a:pt x="8223" y="13049"/>
                </a:cubicBezTo>
                <a:cubicBezTo>
                  <a:pt x="8189" y="13117"/>
                  <a:pt x="8160" y="13165"/>
                  <a:pt x="8160" y="13240"/>
                </a:cubicBezTo>
              </a:path>
              <a:path w="4764" h="1049">
                <a:moveTo>
                  <a:pt x="9239" y="12382"/>
                </a:moveTo>
                <a:cubicBezTo>
                  <a:pt x="9239" y="12436"/>
                  <a:pt x="9220" y="12503"/>
                  <a:pt x="9176" y="12541"/>
                </a:cubicBezTo>
                <a:cubicBezTo>
                  <a:pt x="9110" y="12597"/>
                  <a:pt x="9012" y="12666"/>
                  <a:pt x="8954" y="12732"/>
                </a:cubicBezTo>
                <a:cubicBezTo>
                  <a:pt x="8909" y="12784"/>
                  <a:pt x="8878" y="12839"/>
                  <a:pt x="8826" y="12890"/>
                </a:cubicBezTo>
                <a:cubicBezTo>
                  <a:pt x="8875" y="12855"/>
                  <a:pt x="8893" y="12859"/>
                  <a:pt x="8954" y="12859"/>
                </a:cubicBezTo>
                <a:cubicBezTo>
                  <a:pt x="9070" y="12859"/>
                  <a:pt x="9163" y="12866"/>
                  <a:pt x="9271" y="12890"/>
                </a:cubicBezTo>
                <a:cubicBezTo>
                  <a:pt x="9310" y="12899"/>
                  <a:pt x="9358" y="12890"/>
                  <a:pt x="9398" y="12890"/>
                </a:cubicBezTo>
              </a:path>
              <a:path w="4764" h="1049">
                <a:moveTo>
                  <a:pt x="8795" y="13176"/>
                </a:moveTo>
                <a:cubicBezTo>
                  <a:pt x="8813" y="13233"/>
                  <a:pt x="8886" y="13208"/>
                  <a:pt x="8954" y="13208"/>
                </a:cubicBezTo>
                <a:cubicBezTo>
                  <a:pt x="9069" y="13208"/>
                  <a:pt x="9164" y="13223"/>
                  <a:pt x="9271" y="13240"/>
                </a:cubicBezTo>
                <a:cubicBezTo>
                  <a:pt x="9292" y="13240"/>
                  <a:pt x="9313" y="13240"/>
                  <a:pt x="9334" y="13240"/>
                </a:cubicBezTo>
              </a:path>
              <a:path w="4764" h="1049">
                <a:moveTo>
                  <a:pt x="9747" y="12382"/>
                </a:moveTo>
                <a:cubicBezTo>
                  <a:pt x="9763" y="12334"/>
                  <a:pt x="9799" y="12354"/>
                  <a:pt x="9842" y="12382"/>
                </a:cubicBezTo>
                <a:cubicBezTo>
                  <a:pt x="9912" y="12429"/>
                  <a:pt x="9934" y="12494"/>
                  <a:pt x="9938" y="12573"/>
                </a:cubicBezTo>
                <a:cubicBezTo>
                  <a:pt x="9944" y="12672"/>
                  <a:pt x="9872" y="12785"/>
                  <a:pt x="9811" y="12859"/>
                </a:cubicBezTo>
                <a:cubicBezTo>
                  <a:pt x="9744" y="12941"/>
                  <a:pt x="9684" y="13005"/>
                  <a:pt x="9620" y="13081"/>
                </a:cubicBezTo>
                <a:cubicBezTo>
                  <a:pt x="9580" y="13128"/>
                  <a:pt x="9538" y="13170"/>
                  <a:pt x="9525" y="13208"/>
                </a:cubicBezTo>
                <a:cubicBezTo>
                  <a:pt x="9542" y="13260"/>
                  <a:pt x="9585" y="13266"/>
                  <a:pt x="9652" y="13272"/>
                </a:cubicBezTo>
                <a:cubicBezTo>
                  <a:pt x="9731" y="13279"/>
                  <a:pt x="9814" y="13285"/>
                  <a:pt x="9874" y="13240"/>
                </a:cubicBezTo>
              </a:path>
              <a:path w="4764" h="1049">
                <a:moveTo>
                  <a:pt x="10319" y="12510"/>
                </a:moveTo>
                <a:cubicBezTo>
                  <a:pt x="10244" y="12528"/>
                  <a:pt x="10192" y="12593"/>
                  <a:pt x="10160" y="12668"/>
                </a:cubicBezTo>
                <a:cubicBezTo>
                  <a:pt x="10104" y="12796"/>
                  <a:pt x="10019" y="12987"/>
                  <a:pt x="10065" y="13113"/>
                </a:cubicBezTo>
                <a:cubicBezTo>
                  <a:pt x="10096" y="13197"/>
                  <a:pt x="10127" y="13267"/>
                  <a:pt x="10224" y="13272"/>
                </a:cubicBezTo>
                <a:cubicBezTo>
                  <a:pt x="10391" y="13280"/>
                  <a:pt x="10425" y="13193"/>
                  <a:pt x="10478" y="13049"/>
                </a:cubicBezTo>
                <a:cubicBezTo>
                  <a:pt x="10527" y="12916"/>
                  <a:pt x="10560" y="12835"/>
                  <a:pt x="10509" y="12700"/>
                </a:cubicBezTo>
                <a:cubicBezTo>
                  <a:pt x="10480" y="12624"/>
                  <a:pt x="10423" y="12559"/>
                  <a:pt x="10350" y="12541"/>
                </a:cubicBezTo>
              </a:path>
              <a:path w="4764" h="1049">
                <a:moveTo>
                  <a:pt x="10509" y="12764"/>
                </a:moveTo>
                <a:cubicBezTo>
                  <a:pt x="10525" y="12826"/>
                  <a:pt x="10550" y="12836"/>
                  <a:pt x="10604" y="12859"/>
                </a:cubicBezTo>
                <a:cubicBezTo>
                  <a:pt x="10688" y="12894"/>
                  <a:pt x="10700" y="12922"/>
                  <a:pt x="10795" y="12922"/>
                </a:cubicBezTo>
                <a:cubicBezTo>
                  <a:pt x="10887" y="12922"/>
                  <a:pt x="10865" y="12895"/>
                  <a:pt x="10922" y="12827"/>
                </a:cubicBezTo>
                <a:cubicBezTo>
                  <a:pt x="11025" y="12704"/>
                  <a:pt x="11007" y="12635"/>
                  <a:pt x="11049" y="12478"/>
                </a:cubicBezTo>
                <a:cubicBezTo>
                  <a:pt x="11060" y="12446"/>
                  <a:pt x="11070" y="12414"/>
                  <a:pt x="11081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15"/>
          <p:cNvSpPr/>
          <p:nvPr/>
        </p:nvSpPr>
        <p:spPr>
          <a:xfrm>
            <a:off x="4754520" y="4332240"/>
            <a:ext cx="3692520" cy="593640"/>
          </a:xfrm>
          <a:custGeom>
            <a:avLst/>
            <a:gdLst/>
            <a:ahLst/>
            <a:rect l="l" t="t" r="r" b="b"/>
            <a:pathLst>
              <a:path w="10256" h="1652">
                <a:moveTo>
                  <a:pt x="13906" y="12192"/>
                </a:moveTo>
                <a:cubicBezTo>
                  <a:pt x="13859" y="12204"/>
                  <a:pt x="13793" y="12226"/>
                  <a:pt x="13748" y="12256"/>
                </a:cubicBezTo>
                <a:cubicBezTo>
                  <a:pt x="13688" y="12295"/>
                  <a:pt x="13627" y="12314"/>
                  <a:pt x="13557" y="12351"/>
                </a:cubicBezTo>
                <a:cubicBezTo>
                  <a:pt x="13488" y="12388"/>
                  <a:pt x="13444" y="12382"/>
                  <a:pt x="13367" y="12382"/>
                </a:cubicBezTo>
                <a:cubicBezTo>
                  <a:pt x="13315" y="12382"/>
                  <a:pt x="13351" y="12367"/>
                  <a:pt x="13303" y="12351"/>
                </a:cubicBezTo>
                <a:cubicBezTo>
                  <a:pt x="13331" y="12433"/>
                  <a:pt x="13325" y="12355"/>
                  <a:pt x="13303" y="12478"/>
                </a:cubicBezTo>
                <a:cubicBezTo>
                  <a:pt x="13289" y="12554"/>
                  <a:pt x="13305" y="12634"/>
                  <a:pt x="13272" y="12700"/>
                </a:cubicBezTo>
                <a:cubicBezTo>
                  <a:pt x="13254" y="12737"/>
                  <a:pt x="13233" y="12762"/>
                  <a:pt x="13208" y="12795"/>
                </a:cubicBezTo>
                <a:cubicBezTo>
                  <a:pt x="13236" y="12758"/>
                  <a:pt x="13253" y="12690"/>
                  <a:pt x="13303" y="12668"/>
                </a:cubicBezTo>
                <a:cubicBezTo>
                  <a:pt x="13346" y="12649"/>
                  <a:pt x="13407" y="12617"/>
                  <a:pt x="13462" y="12636"/>
                </a:cubicBezTo>
                <a:cubicBezTo>
                  <a:pt x="13527" y="12658"/>
                  <a:pt x="13613" y="12740"/>
                  <a:pt x="13652" y="12795"/>
                </a:cubicBezTo>
                <a:cubicBezTo>
                  <a:pt x="13690" y="12849"/>
                  <a:pt x="13745" y="12920"/>
                  <a:pt x="13748" y="12986"/>
                </a:cubicBezTo>
                <a:cubicBezTo>
                  <a:pt x="13755" y="13126"/>
                  <a:pt x="13692" y="13166"/>
                  <a:pt x="13621" y="13272"/>
                </a:cubicBezTo>
                <a:cubicBezTo>
                  <a:pt x="13597" y="13308"/>
                  <a:pt x="13475" y="13462"/>
                  <a:pt x="13430" y="13462"/>
                </a:cubicBezTo>
                <a:cubicBezTo>
                  <a:pt x="13321" y="13462"/>
                  <a:pt x="13307" y="13351"/>
                  <a:pt x="13272" y="13272"/>
                </a:cubicBezTo>
              </a:path>
              <a:path w="10256" h="1652">
                <a:moveTo>
                  <a:pt x="14351" y="12128"/>
                </a:moveTo>
                <a:cubicBezTo>
                  <a:pt x="14351" y="12118"/>
                  <a:pt x="14351" y="12107"/>
                  <a:pt x="14351" y="12097"/>
                </a:cubicBezTo>
              </a:path>
              <a:path w="10256" h="1652">
                <a:moveTo>
                  <a:pt x="14351" y="12128"/>
                </a:moveTo>
                <a:lnTo>
                  <a:pt x="14351" y="12128"/>
                </a:lnTo>
              </a:path>
              <a:path w="10256" h="1652">
                <a:moveTo>
                  <a:pt x="14351" y="12033"/>
                </a:moveTo>
                <a:cubicBezTo>
                  <a:pt x="14337" y="12076"/>
                  <a:pt x="14305" y="12065"/>
                  <a:pt x="14351" y="12065"/>
                </a:cubicBezTo>
              </a:path>
              <a:path w="10256" h="1652">
                <a:moveTo>
                  <a:pt x="14351" y="12097"/>
                </a:moveTo>
                <a:cubicBezTo>
                  <a:pt x="14288" y="12159"/>
                  <a:pt x="14244" y="12218"/>
                  <a:pt x="14192" y="12287"/>
                </a:cubicBezTo>
                <a:cubicBezTo>
                  <a:pt x="14132" y="12367"/>
                  <a:pt x="14098" y="12445"/>
                  <a:pt x="14065" y="12541"/>
                </a:cubicBezTo>
                <a:cubicBezTo>
                  <a:pt x="14021" y="12669"/>
                  <a:pt x="13975" y="12787"/>
                  <a:pt x="13970" y="12922"/>
                </a:cubicBezTo>
                <a:cubicBezTo>
                  <a:pt x="13965" y="13051"/>
                  <a:pt x="13957" y="13181"/>
                  <a:pt x="14002" y="13303"/>
                </a:cubicBezTo>
                <a:cubicBezTo>
                  <a:pt x="14037" y="13399"/>
                  <a:pt x="14099" y="13492"/>
                  <a:pt x="14129" y="13589"/>
                </a:cubicBezTo>
                <a:cubicBezTo>
                  <a:pt x="14147" y="13646"/>
                  <a:pt x="14164" y="13669"/>
                  <a:pt x="14224" y="13684"/>
                </a:cubicBezTo>
              </a:path>
              <a:path w="10256" h="1652">
                <a:moveTo>
                  <a:pt x="14383" y="12573"/>
                </a:moveTo>
                <a:cubicBezTo>
                  <a:pt x="14383" y="12768"/>
                  <a:pt x="14465" y="13184"/>
                  <a:pt x="14351" y="13335"/>
                </a:cubicBezTo>
              </a:path>
              <a:path w="10256" h="1652">
                <a:moveTo>
                  <a:pt x="14637" y="12478"/>
                </a:moveTo>
                <a:cubicBezTo>
                  <a:pt x="14637" y="12557"/>
                  <a:pt x="14626" y="12658"/>
                  <a:pt x="14605" y="12732"/>
                </a:cubicBezTo>
                <a:cubicBezTo>
                  <a:pt x="14587" y="12793"/>
                  <a:pt x="14574" y="12901"/>
                  <a:pt x="14542" y="12954"/>
                </a:cubicBezTo>
                <a:cubicBezTo>
                  <a:pt x="14531" y="12965"/>
                  <a:pt x="14521" y="12975"/>
                  <a:pt x="14510" y="12986"/>
                </a:cubicBezTo>
                <a:cubicBezTo>
                  <a:pt x="14518" y="12953"/>
                  <a:pt x="14537" y="12877"/>
                  <a:pt x="14573" y="12859"/>
                </a:cubicBezTo>
                <a:cubicBezTo>
                  <a:pt x="14634" y="12829"/>
                  <a:pt x="14719" y="12875"/>
                  <a:pt x="14764" y="12890"/>
                </a:cubicBezTo>
                <a:cubicBezTo>
                  <a:pt x="14814" y="12906"/>
                  <a:pt x="14847" y="12893"/>
                  <a:pt x="14859" y="12859"/>
                </a:cubicBezTo>
              </a:path>
              <a:path w="10256" h="1652">
                <a:moveTo>
                  <a:pt x="14827" y="12382"/>
                </a:moveTo>
                <a:cubicBezTo>
                  <a:pt x="14827" y="12475"/>
                  <a:pt x="14800" y="12543"/>
                  <a:pt x="14796" y="12636"/>
                </a:cubicBezTo>
                <a:cubicBezTo>
                  <a:pt x="14789" y="12780"/>
                  <a:pt x="14814" y="12909"/>
                  <a:pt x="14827" y="13049"/>
                </a:cubicBezTo>
                <a:cubicBezTo>
                  <a:pt x="14840" y="13185"/>
                  <a:pt x="14823" y="13298"/>
                  <a:pt x="14859" y="13430"/>
                </a:cubicBezTo>
              </a:path>
              <a:path w="10256" h="1652">
                <a:moveTo>
                  <a:pt x="14764" y="12065"/>
                </a:moveTo>
                <a:cubicBezTo>
                  <a:pt x="14851" y="12082"/>
                  <a:pt x="14847" y="12085"/>
                  <a:pt x="14922" y="12160"/>
                </a:cubicBezTo>
                <a:cubicBezTo>
                  <a:pt x="15015" y="12253"/>
                  <a:pt x="15126" y="12354"/>
                  <a:pt x="15176" y="12478"/>
                </a:cubicBezTo>
                <a:cubicBezTo>
                  <a:pt x="15255" y="12673"/>
                  <a:pt x="15249" y="12850"/>
                  <a:pt x="15240" y="13049"/>
                </a:cubicBezTo>
                <a:cubicBezTo>
                  <a:pt x="15230" y="13267"/>
                  <a:pt x="15192" y="13470"/>
                  <a:pt x="15145" y="13684"/>
                </a:cubicBezTo>
              </a:path>
              <a:path w="10256" h="1652">
                <a:moveTo>
                  <a:pt x="15780" y="12668"/>
                </a:moveTo>
                <a:cubicBezTo>
                  <a:pt x="15780" y="12749"/>
                  <a:pt x="15809" y="12783"/>
                  <a:pt x="15812" y="12859"/>
                </a:cubicBezTo>
                <a:cubicBezTo>
                  <a:pt x="15817" y="12957"/>
                  <a:pt x="15852" y="13311"/>
                  <a:pt x="15780" y="13335"/>
                </a:cubicBezTo>
              </a:path>
              <a:path w="10256" h="1652">
                <a:moveTo>
                  <a:pt x="15589" y="13049"/>
                </a:moveTo>
                <a:cubicBezTo>
                  <a:pt x="15643" y="13010"/>
                  <a:pt x="15677" y="13018"/>
                  <a:pt x="15748" y="13018"/>
                </a:cubicBezTo>
                <a:cubicBezTo>
                  <a:pt x="15817" y="13018"/>
                  <a:pt x="15842" y="13011"/>
                  <a:pt x="15907" y="12986"/>
                </a:cubicBezTo>
              </a:path>
              <a:path w="10256" h="1652">
                <a:moveTo>
                  <a:pt x="16764" y="12446"/>
                </a:moveTo>
                <a:cubicBezTo>
                  <a:pt x="16764" y="12379"/>
                  <a:pt x="16770" y="12379"/>
                  <a:pt x="16732" y="12351"/>
                </a:cubicBezTo>
                <a:cubicBezTo>
                  <a:pt x="16674" y="12308"/>
                  <a:pt x="16667" y="12325"/>
                  <a:pt x="16605" y="12351"/>
                </a:cubicBezTo>
                <a:cubicBezTo>
                  <a:pt x="16538" y="12379"/>
                  <a:pt x="16468" y="12430"/>
                  <a:pt x="16415" y="12478"/>
                </a:cubicBezTo>
                <a:cubicBezTo>
                  <a:pt x="16359" y="12529"/>
                  <a:pt x="16372" y="12557"/>
                  <a:pt x="16383" y="12605"/>
                </a:cubicBezTo>
                <a:cubicBezTo>
                  <a:pt x="16388" y="12627"/>
                  <a:pt x="16441" y="12684"/>
                  <a:pt x="16478" y="12700"/>
                </a:cubicBezTo>
                <a:cubicBezTo>
                  <a:pt x="16565" y="12739"/>
                  <a:pt x="16596" y="12754"/>
                  <a:pt x="16669" y="12827"/>
                </a:cubicBezTo>
                <a:cubicBezTo>
                  <a:pt x="16746" y="12905"/>
                  <a:pt x="16732" y="12978"/>
                  <a:pt x="16732" y="13081"/>
                </a:cubicBezTo>
                <a:cubicBezTo>
                  <a:pt x="16732" y="13188"/>
                  <a:pt x="16733" y="13249"/>
                  <a:pt x="16669" y="13335"/>
                </a:cubicBezTo>
                <a:cubicBezTo>
                  <a:pt x="16658" y="13346"/>
                  <a:pt x="16648" y="13356"/>
                  <a:pt x="16637" y="13367"/>
                </a:cubicBezTo>
                <a:cubicBezTo>
                  <a:pt x="16604" y="13356"/>
                  <a:pt x="16555" y="13294"/>
                  <a:pt x="16542" y="13240"/>
                </a:cubicBezTo>
                <a:cubicBezTo>
                  <a:pt x="16509" y="13099"/>
                  <a:pt x="16553" y="12927"/>
                  <a:pt x="16574" y="12795"/>
                </a:cubicBezTo>
                <a:cubicBezTo>
                  <a:pt x="16589" y="12703"/>
                  <a:pt x="16609" y="12648"/>
                  <a:pt x="16669" y="12573"/>
                </a:cubicBezTo>
              </a:path>
              <a:path w="10256" h="1652">
                <a:moveTo>
                  <a:pt x="17399" y="12097"/>
                </a:moveTo>
                <a:cubicBezTo>
                  <a:pt x="17416" y="12046"/>
                  <a:pt x="17414" y="12084"/>
                  <a:pt x="17431" y="12033"/>
                </a:cubicBezTo>
                <a:cubicBezTo>
                  <a:pt x="17392" y="12046"/>
                  <a:pt x="17378" y="12060"/>
                  <a:pt x="17336" y="12097"/>
                </a:cubicBezTo>
                <a:cubicBezTo>
                  <a:pt x="17263" y="12161"/>
                  <a:pt x="17202" y="12242"/>
                  <a:pt x="17145" y="12319"/>
                </a:cubicBezTo>
                <a:cubicBezTo>
                  <a:pt x="17067" y="12425"/>
                  <a:pt x="17000" y="12511"/>
                  <a:pt x="16954" y="12636"/>
                </a:cubicBezTo>
                <a:cubicBezTo>
                  <a:pt x="16922" y="12722"/>
                  <a:pt x="16850" y="12894"/>
                  <a:pt x="16859" y="12986"/>
                </a:cubicBezTo>
                <a:cubicBezTo>
                  <a:pt x="16866" y="13063"/>
                  <a:pt x="16905" y="13174"/>
                  <a:pt x="16923" y="13240"/>
                </a:cubicBezTo>
                <a:cubicBezTo>
                  <a:pt x="16937" y="13291"/>
                  <a:pt x="16933" y="13290"/>
                  <a:pt x="16986" y="13303"/>
                </a:cubicBezTo>
              </a:path>
              <a:path w="10256" h="1652">
                <a:moveTo>
                  <a:pt x="17367" y="12668"/>
                </a:moveTo>
                <a:cubicBezTo>
                  <a:pt x="17325" y="12683"/>
                  <a:pt x="17302" y="12739"/>
                  <a:pt x="17272" y="12795"/>
                </a:cubicBezTo>
                <a:cubicBezTo>
                  <a:pt x="17230" y="12874"/>
                  <a:pt x="17191" y="12963"/>
                  <a:pt x="17177" y="13049"/>
                </a:cubicBezTo>
                <a:cubicBezTo>
                  <a:pt x="17166" y="13116"/>
                  <a:pt x="17165" y="13191"/>
                  <a:pt x="17208" y="13240"/>
                </a:cubicBezTo>
                <a:cubicBezTo>
                  <a:pt x="17252" y="13290"/>
                  <a:pt x="17291" y="13281"/>
                  <a:pt x="17336" y="13240"/>
                </a:cubicBezTo>
                <a:cubicBezTo>
                  <a:pt x="17411" y="13172"/>
                  <a:pt x="17450" y="13106"/>
                  <a:pt x="17494" y="13018"/>
                </a:cubicBezTo>
                <a:cubicBezTo>
                  <a:pt x="17530" y="12946"/>
                  <a:pt x="17526" y="12906"/>
                  <a:pt x="17526" y="12827"/>
                </a:cubicBezTo>
                <a:cubicBezTo>
                  <a:pt x="17448" y="12847"/>
                  <a:pt x="17435" y="12914"/>
                  <a:pt x="17399" y="12986"/>
                </a:cubicBezTo>
                <a:cubicBezTo>
                  <a:pt x="17385" y="13014"/>
                  <a:pt x="17327" y="13216"/>
                  <a:pt x="17367" y="13240"/>
                </a:cubicBezTo>
                <a:cubicBezTo>
                  <a:pt x="17399" y="13208"/>
                  <a:pt x="17410" y="13197"/>
                  <a:pt x="17431" y="13176"/>
                </a:cubicBezTo>
              </a:path>
              <a:path w="10256" h="1652">
                <a:moveTo>
                  <a:pt x="17462" y="12351"/>
                </a:moveTo>
                <a:cubicBezTo>
                  <a:pt x="17452" y="12351"/>
                  <a:pt x="17441" y="12351"/>
                  <a:pt x="17431" y="12351"/>
                </a:cubicBezTo>
                <a:cubicBezTo>
                  <a:pt x="17505" y="12294"/>
                  <a:pt x="17490" y="12338"/>
                  <a:pt x="17558" y="12382"/>
                </a:cubicBezTo>
                <a:cubicBezTo>
                  <a:pt x="17646" y="12439"/>
                  <a:pt x="17756" y="12474"/>
                  <a:pt x="17812" y="12573"/>
                </a:cubicBezTo>
                <a:cubicBezTo>
                  <a:pt x="17870" y="12674"/>
                  <a:pt x="17893" y="12807"/>
                  <a:pt x="17875" y="12922"/>
                </a:cubicBezTo>
                <a:cubicBezTo>
                  <a:pt x="17857" y="13041"/>
                  <a:pt x="17826" y="13195"/>
                  <a:pt x="17780" y="13303"/>
                </a:cubicBezTo>
                <a:cubicBezTo>
                  <a:pt x="17769" y="13324"/>
                  <a:pt x="17759" y="13346"/>
                  <a:pt x="17748" y="13367"/>
                </a:cubicBezTo>
              </a:path>
              <a:path w="10256" h="1652">
                <a:moveTo>
                  <a:pt x="18161" y="12446"/>
                </a:moveTo>
                <a:cubicBezTo>
                  <a:pt x="18168" y="12466"/>
                  <a:pt x="18190" y="12524"/>
                  <a:pt x="18224" y="12541"/>
                </a:cubicBezTo>
                <a:cubicBezTo>
                  <a:pt x="18275" y="12566"/>
                  <a:pt x="18319" y="12573"/>
                  <a:pt x="18383" y="12573"/>
                </a:cubicBezTo>
                <a:cubicBezTo>
                  <a:pt x="18450" y="12573"/>
                  <a:pt x="18489" y="12619"/>
                  <a:pt x="18542" y="12636"/>
                </a:cubicBezTo>
                <a:cubicBezTo>
                  <a:pt x="18570" y="12645"/>
                  <a:pt x="18599" y="12686"/>
                  <a:pt x="18574" y="12732"/>
                </a:cubicBezTo>
                <a:cubicBezTo>
                  <a:pt x="18538" y="12797"/>
                  <a:pt x="18465" y="12797"/>
                  <a:pt x="18415" y="12827"/>
                </a:cubicBezTo>
                <a:cubicBezTo>
                  <a:pt x="18358" y="12861"/>
                  <a:pt x="18276" y="12891"/>
                  <a:pt x="18224" y="12922"/>
                </a:cubicBezTo>
                <a:cubicBezTo>
                  <a:pt x="18172" y="12953"/>
                  <a:pt x="18162" y="12954"/>
                  <a:pt x="18098" y="12954"/>
                </a:cubicBezTo>
              </a:path>
              <a:path w="10256" h="1652">
                <a:moveTo>
                  <a:pt x="18129" y="13113"/>
                </a:moveTo>
                <a:cubicBezTo>
                  <a:pt x="18293" y="13113"/>
                  <a:pt x="18460" y="13115"/>
                  <a:pt x="18606" y="13144"/>
                </a:cubicBezTo>
                <a:cubicBezTo>
                  <a:pt x="18663" y="13144"/>
                  <a:pt x="18680" y="13140"/>
                  <a:pt x="18701" y="13176"/>
                </a:cubicBezTo>
              </a:path>
              <a:path w="10256" h="1652">
                <a:moveTo>
                  <a:pt x="18891" y="12446"/>
                </a:moveTo>
                <a:cubicBezTo>
                  <a:pt x="18891" y="12527"/>
                  <a:pt x="18869" y="12589"/>
                  <a:pt x="18860" y="12668"/>
                </a:cubicBezTo>
                <a:cubicBezTo>
                  <a:pt x="18845" y="12805"/>
                  <a:pt x="18842" y="12947"/>
                  <a:pt x="18828" y="13081"/>
                </a:cubicBezTo>
                <a:cubicBezTo>
                  <a:pt x="18816" y="13194"/>
                  <a:pt x="18828" y="13316"/>
                  <a:pt x="18828" y="13430"/>
                </a:cubicBezTo>
              </a:path>
              <a:path w="10256" h="1652">
                <a:moveTo>
                  <a:pt x="19050" y="12668"/>
                </a:moveTo>
                <a:cubicBezTo>
                  <a:pt x="19065" y="12609"/>
                  <a:pt x="19081" y="12598"/>
                  <a:pt x="19114" y="12573"/>
                </a:cubicBezTo>
                <a:cubicBezTo>
                  <a:pt x="19172" y="12528"/>
                  <a:pt x="19173" y="12482"/>
                  <a:pt x="19240" y="12541"/>
                </a:cubicBezTo>
                <a:cubicBezTo>
                  <a:pt x="19289" y="12585"/>
                  <a:pt x="19286" y="12704"/>
                  <a:pt x="19272" y="12764"/>
                </a:cubicBezTo>
                <a:cubicBezTo>
                  <a:pt x="19247" y="12869"/>
                  <a:pt x="19181" y="12977"/>
                  <a:pt x="19145" y="13081"/>
                </a:cubicBezTo>
                <a:cubicBezTo>
                  <a:pt x="19113" y="13174"/>
                  <a:pt x="19053" y="13225"/>
                  <a:pt x="19018" y="13303"/>
                </a:cubicBezTo>
                <a:cubicBezTo>
                  <a:pt x="19018" y="13314"/>
                  <a:pt x="19018" y="13324"/>
                  <a:pt x="19018" y="13335"/>
                </a:cubicBezTo>
                <a:cubicBezTo>
                  <a:pt x="19066" y="13271"/>
                  <a:pt x="19074" y="13261"/>
                  <a:pt x="19145" y="13208"/>
                </a:cubicBezTo>
                <a:cubicBezTo>
                  <a:pt x="19209" y="13160"/>
                  <a:pt x="19240" y="13163"/>
                  <a:pt x="19304" y="13176"/>
                </a:cubicBezTo>
                <a:cubicBezTo>
                  <a:pt x="19362" y="13188"/>
                  <a:pt x="19348" y="13169"/>
                  <a:pt x="19399" y="13208"/>
                </a:cubicBezTo>
              </a:path>
              <a:path w="10256" h="1652">
                <a:moveTo>
                  <a:pt x="19812" y="12414"/>
                </a:moveTo>
                <a:cubicBezTo>
                  <a:pt x="19844" y="12414"/>
                  <a:pt x="19855" y="12414"/>
                  <a:pt x="19844" y="12382"/>
                </a:cubicBezTo>
                <a:cubicBezTo>
                  <a:pt x="19827" y="12432"/>
                  <a:pt x="19793" y="12416"/>
                  <a:pt x="19748" y="12446"/>
                </a:cubicBezTo>
                <a:cubicBezTo>
                  <a:pt x="19700" y="12478"/>
                  <a:pt x="19642" y="12524"/>
                  <a:pt x="19590" y="12541"/>
                </a:cubicBezTo>
                <a:cubicBezTo>
                  <a:pt x="19556" y="12552"/>
                  <a:pt x="19499" y="12541"/>
                  <a:pt x="19463" y="12541"/>
                </a:cubicBezTo>
                <a:cubicBezTo>
                  <a:pt x="19463" y="12570"/>
                  <a:pt x="19495" y="12662"/>
                  <a:pt x="19494" y="12668"/>
                </a:cubicBezTo>
                <a:cubicBezTo>
                  <a:pt x="19483" y="12746"/>
                  <a:pt x="19463" y="12806"/>
                  <a:pt x="19463" y="12890"/>
                </a:cubicBezTo>
                <a:cubicBezTo>
                  <a:pt x="19463" y="12922"/>
                  <a:pt x="19463" y="12933"/>
                  <a:pt x="19463" y="12954"/>
                </a:cubicBezTo>
                <a:cubicBezTo>
                  <a:pt x="19475" y="12916"/>
                  <a:pt x="19517" y="12872"/>
                  <a:pt x="19558" y="12827"/>
                </a:cubicBezTo>
                <a:cubicBezTo>
                  <a:pt x="19595" y="12786"/>
                  <a:pt x="19665" y="12736"/>
                  <a:pt x="19717" y="12732"/>
                </a:cubicBezTo>
                <a:cubicBezTo>
                  <a:pt x="19792" y="12727"/>
                  <a:pt x="19857" y="12781"/>
                  <a:pt x="19876" y="12859"/>
                </a:cubicBezTo>
                <a:cubicBezTo>
                  <a:pt x="19898" y="12953"/>
                  <a:pt x="19910" y="12984"/>
                  <a:pt x="19876" y="13081"/>
                </a:cubicBezTo>
                <a:cubicBezTo>
                  <a:pt x="19835" y="13199"/>
                  <a:pt x="19804" y="13248"/>
                  <a:pt x="19717" y="13335"/>
                </a:cubicBezTo>
                <a:cubicBezTo>
                  <a:pt x="19643" y="13409"/>
                  <a:pt x="19623" y="13418"/>
                  <a:pt x="19558" y="13367"/>
                </a:cubicBezTo>
              </a:path>
              <a:path w="10256" h="1652">
                <a:moveTo>
                  <a:pt x="20955" y="12446"/>
                </a:moveTo>
                <a:cubicBezTo>
                  <a:pt x="20955" y="12374"/>
                  <a:pt x="20986" y="12486"/>
                  <a:pt x="20987" y="12510"/>
                </a:cubicBezTo>
                <a:cubicBezTo>
                  <a:pt x="20994" y="12645"/>
                  <a:pt x="20967" y="12762"/>
                  <a:pt x="20955" y="12890"/>
                </a:cubicBezTo>
                <a:cubicBezTo>
                  <a:pt x="20941" y="13038"/>
                  <a:pt x="20928" y="13189"/>
                  <a:pt x="20923" y="13335"/>
                </a:cubicBezTo>
                <a:cubicBezTo>
                  <a:pt x="20923" y="13409"/>
                  <a:pt x="20944" y="13440"/>
                  <a:pt x="20892" y="13430"/>
                </a:cubicBezTo>
              </a:path>
              <a:path w="10256" h="1652">
                <a:moveTo>
                  <a:pt x="21241" y="12573"/>
                </a:moveTo>
                <a:cubicBezTo>
                  <a:pt x="21264" y="12573"/>
                  <a:pt x="21261" y="12580"/>
                  <a:pt x="21241" y="12636"/>
                </a:cubicBezTo>
                <a:cubicBezTo>
                  <a:pt x="21202" y="12745"/>
                  <a:pt x="21202" y="12812"/>
                  <a:pt x="21177" y="12922"/>
                </a:cubicBezTo>
                <a:cubicBezTo>
                  <a:pt x="21155" y="13018"/>
                  <a:pt x="21122" y="13136"/>
                  <a:pt x="21146" y="13240"/>
                </a:cubicBezTo>
                <a:cubicBezTo>
                  <a:pt x="21166" y="13324"/>
                  <a:pt x="21194" y="13406"/>
                  <a:pt x="21209" y="13494"/>
                </a:cubicBezTo>
                <a:cubicBezTo>
                  <a:pt x="21292" y="13431"/>
                  <a:pt x="21254" y="13458"/>
                  <a:pt x="21304" y="13335"/>
                </a:cubicBezTo>
                <a:cubicBezTo>
                  <a:pt x="21315" y="13314"/>
                  <a:pt x="21325" y="13293"/>
                  <a:pt x="21336" y="13272"/>
                </a:cubicBezTo>
              </a:path>
              <a:path w="10256" h="1652">
                <a:moveTo>
                  <a:pt x="21272" y="12700"/>
                </a:moveTo>
                <a:cubicBezTo>
                  <a:pt x="21241" y="12700"/>
                  <a:pt x="21230" y="12700"/>
                  <a:pt x="21241" y="12668"/>
                </a:cubicBezTo>
                <a:cubicBezTo>
                  <a:pt x="21306" y="12668"/>
                  <a:pt x="21315" y="12670"/>
                  <a:pt x="21368" y="12700"/>
                </a:cubicBezTo>
                <a:cubicBezTo>
                  <a:pt x="21446" y="12745"/>
                  <a:pt x="21472" y="12769"/>
                  <a:pt x="21495" y="12859"/>
                </a:cubicBezTo>
                <a:cubicBezTo>
                  <a:pt x="21512" y="12927"/>
                  <a:pt x="21546" y="13006"/>
                  <a:pt x="21526" y="13081"/>
                </a:cubicBezTo>
                <a:cubicBezTo>
                  <a:pt x="21502" y="13169"/>
                  <a:pt x="21494" y="13257"/>
                  <a:pt x="21463" y="13335"/>
                </a:cubicBezTo>
                <a:cubicBezTo>
                  <a:pt x="21429" y="13419"/>
                  <a:pt x="21455" y="13443"/>
                  <a:pt x="21400" y="13462"/>
                </a:cubicBezTo>
              </a:path>
              <a:path w="10256" h="1652">
                <a:moveTo>
                  <a:pt x="20606" y="12510"/>
                </a:moveTo>
                <a:cubicBezTo>
                  <a:pt x="20606" y="12589"/>
                  <a:pt x="20634" y="12611"/>
                  <a:pt x="20638" y="12700"/>
                </a:cubicBezTo>
                <a:cubicBezTo>
                  <a:pt x="20645" y="12874"/>
                  <a:pt x="20610" y="13035"/>
                  <a:pt x="20606" y="13208"/>
                </a:cubicBezTo>
                <a:cubicBezTo>
                  <a:pt x="20602" y="13369"/>
                  <a:pt x="20574" y="13522"/>
                  <a:pt x="20574" y="13684"/>
                </a:cubicBezTo>
              </a:path>
              <a:path w="10256" h="1652">
                <a:moveTo>
                  <a:pt x="21717" y="12700"/>
                </a:moveTo>
                <a:cubicBezTo>
                  <a:pt x="21762" y="12746"/>
                  <a:pt x="21791" y="12773"/>
                  <a:pt x="21844" y="12795"/>
                </a:cubicBezTo>
                <a:cubicBezTo>
                  <a:pt x="21882" y="12811"/>
                  <a:pt x="21972" y="12809"/>
                  <a:pt x="22003" y="12827"/>
                </a:cubicBezTo>
                <a:cubicBezTo>
                  <a:pt x="22052" y="12855"/>
                  <a:pt x="22039" y="12859"/>
                  <a:pt x="22098" y="12859"/>
                </a:cubicBezTo>
                <a:cubicBezTo>
                  <a:pt x="22098" y="12903"/>
                  <a:pt x="22115" y="12962"/>
                  <a:pt x="22066" y="12986"/>
                </a:cubicBezTo>
                <a:cubicBezTo>
                  <a:pt x="22018" y="13010"/>
                  <a:pt x="21957" y="13044"/>
                  <a:pt x="21908" y="13081"/>
                </a:cubicBezTo>
                <a:cubicBezTo>
                  <a:pt x="21872" y="13108"/>
                  <a:pt x="21769" y="13113"/>
                  <a:pt x="21749" y="13144"/>
                </a:cubicBezTo>
                <a:cubicBezTo>
                  <a:pt x="21749" y="13155"/>
                  <a:pt x="21749" y="13165"/>
                  <a:pt x="21749" y="13176"/>
                </a:cubicBezTo>
              </a:path>
              <a:path w="10256" h="1652">
                <a:moveTo>
                  <a:pt x="21749" y="13367"/>
                </a:moveTo>
                <a:cubicBezTo>
                  <a:pt x="21788" y="13357"/>
                  <a:pt x="21870" y="13351"/>
                  <a:pt x="21908" y="13335"/>
                </a:cubicBezTo>
                <a:cubicBezTo>
                  <a:pt x="21973" y="13308"/>
                  <a:pt x="22018" y="13303"/>
                  <a:pt x="22098" y="13303"/>
                </a:cubicBezTo>
                <a:cubicBezTo>
                  <a:pt x="22145" y="13303"/>
                  <a:pt x="22189" y="13339"/>
                  <a:pt x="22225" y="13367"/>
                </a:cubicBezTo>
              </a:path>
              <a:path w="10256" h="1652">
                <a:moveTo>
                  <a:pt x="22479" y="12414"/>
                </a:moveTo>
                <a:cubicBezTo>
                  <a:pt x="22479" y="12774"/>
                  <a:pt x="22479" y="13134"/>
                  <a:pt x="22479" y="13494"/>
                </a:cubicBezTo>
              </a:path>
              <a:path w="10256" h="1652">
                <a:moveTo>
                  <a:pt x="22670" y="12605"/>
                </a:moveTo>
                <a:cubicBezTo>
                  <a:pt x="22682" y="12554"/>
                  <a:pt x="22723" y="12529"/>
                  <a:pt x="22733" y="12510"/>
                </a:cubicBezTo>
                <a:cubicBezTo>
                  <a:pt x="22761" y="12453"/>
                  <a:pt x="22755" y="12446"/>
                  <a:pt x="22828" y="12446"/>
                </a:cubicBezTo>
                <a:cubicBezTo>
                  <a:pt x="22945" y="12446"/>
                  <a:pt x="22867" y="12549"/>
                  <a:pt x="22860" y="12605"/>
                </a:cubicBezTo>
                <a:cubicBezTo>
                  <a:pt x="22843" y="12737"/>
                  <a:pt x="22817" y="12859"/>
                  <a:pt x="22765" y="12986"/>
                </a:cubicBezTo>
                <a:cubicBezTo>
                  <a:pt x="22739" y="13050"/>
                  <a:pt x="22677" y="13112"/>
                  <a:pt x="22670" y="13176"/>
                </a:cubicBezTo>
                <a:cubicBezTo>
                  <a:pt x="22663" y="13241"/>
                  <a:pt x="22690" y="13159"/>
                  <a:pt x="22701" y="13144"/>
                </a:cubicBezTo>
                <a:cubicBezTo>
                  <a:pt x="22742" y="13090"/>
                  <a:pt x="22726" y="13081"/>
                  <a:pt x="22796" y="13081"/>
                </a:cubicBezTo>
                <a:cubicBezTo>
                  <a:pt x="22863" y="13081"/>
                  <a:pt x="22876" y="13096"/>
                  <a:pt x="22924" y="13144"/>
                </a:cubicBezTo>
                <a:cubicBezTo>
                  <a:pt x="22967" y="13188"/>
                  <a:pt x="22996" y="13254"/>
                  <a:pt x="23019" y="13208"/>
                </a:cubicBezTo>
              </a:path>
              <a:path w="10256" h="1652">
                <a:moveTo>
                  <a:pt x="23304" y="12478"/>
                </a:moveTo>
                <a:cubicBezTo>
                  <a:pt x="23273" y="12478"/>
                  <a:pt x="23262" y="12478"/>
                  <a:pt x="23273" y="12510"/>
                </a:cubicBezTo>
              </a:path>
              <a:path w="10256" h="1652">
                <a:moveTo>
                  <a:pt x="23432" y="12382"/>
                </a:moveTo>
                <a:cubicBezTo>
                  <a:pt x="23379" y="12382"/>
                  <a:pt x="23348" y="12395"/>
                  <a:pt x="23304" y="12414"/>
                </a:cubicBezTo>
                <a:cubicBezTo>
                  <a:pt x="23252" y="12436"/>
                  <a:pt x="23193" y="12462"/>
                  <a:pt x="23146" y="12478"/>
                </a:cubicBezTo>
                <a:cubicBezTo>
                  <a:pt x="23135" y="12478"/>
                  <a:pt x="23125" y="12478"/>
                  <a:pt x="23114" y="12478"/>
                </a:cubicBezTo>
                <a:cubicBezTo>
                  <a:pt x="23156" y="12534"/>
                  <a:pt x="23146" y="12562"/>
                  <a:pt x="23146" y="12636"/>
                </a:cubicBezTo>
                <a:cubicBezTo>
                  <a:pt x="23146" y="12703"/>
                  <a:pt x="23114" y="12754"/>
                  <a:pt x="23114" y="12827"/>
                </a:cubicBezTo>
                <a:cubicBezTo>
                  <a:pt x="23114" y="12885"/>
                  <a:pt x="23116" y="12797"/>
                  <a:pt x="23146" y="12764"/>
                </a:cubicBezTo>
                <a:cubicBezTo>
                  <a:pt x="23198" y="12706"/>
                  <a:pt x="23260" y="12630"/>
                  <a:pt x="23336" y="12605"/>
                </a:cubicBezTo>
                <a:cubicBezTo>
                  <a:pt x="23396" y="12585"/>
                  <a:pt x="23419" y="12668"/>
                  <a:pt x="23432" y="12700"/>
                </a:cubicBezTo>
                <a:cubicBezTo>
                  <a:pt x="23469" y="12789"/>
                  <a:pt x="23482" y="12919"/>
                  <a:pt x="23463" y="13018"/>
                </a:cubicBezTo>
                <a:cubicBezTo>
                  <a:pt x="23442" y="13131"/>
                  <a:pt x="23347" y="13235"/>
                  <a:pt x="23273" y="13303"/>
                </a:cubicBezTo>
                <a:cubicBezTo>
                  <a:pt x="23201" y="13369"/>
                  <a:pt x="23161" y="13383"/>
                  <a:pt x="23082" y="13335"/>
                </a:cubicBezTo>
              </a:path>
              <a:path w="10256" h="1652">
                <a:moveTo>
                  <a:pt x="20892" y="13430"/>
                </a:moveTo>
                <a:cubicBezTo>
                  <a:pt x="20956" y="13301"/>
                  <a:pt x="21022" y="13253"/>
                  <a:pt x="21146" y="13176"/>
                </a:cubicBezTo>
                <a:cubicBezTo>
                  <a:pt x="21402" y="13016"/>
                  <a:pt x="21625" y="12849"/>
                  <a:pt x="21908" y="12732"/>
                </a:cubicBezTo>
                <a:cubicBezTo>
                  <a:pt x="22249" y="12591"/>
                  <a:pt x="22585" y="12500"/>
                  <a:pt x="22955" y="12478"/>
                </a:cubicBezTo>
                <a:cubicBezTo>
                  <a:pt x="23157" y="12478"/>
                  <a:pt x="23212" y="12474"/>
                  <a:pt x="23336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16"/>
          <p:cNvSpPr/>
          <p:nvPr/>
        </p:nvSpPr>
        <p:spPr>
          <a:xfrm>
            <a:off x="2389320" y="5165640"/>
            <a:ext cx="1589040" cy="378000"/>
          </a:xfrm>
          <a:custGeom>
            <a:avLst/>
            <a:gdLst/>
            <a:ahLst/>
            <a:rect l="l" t="t" r="r" b="b"/>
            <a:pathLst>
              <a:path w="4414" h="1049">
                <a:moveTo>
                  <a:pt x="6985" y="14605"/>
                </a:moveTo>
                <a:cubicBezTo>
                  <a:pt x="7000" y="14560"/>
                  <a:pt x="7054" y="14568"/>
                  <a:pt x="7080" y="14510"/>
                </a:cubicBezTo>
                <a:cubicBezTo>
                  <a:pt x="7104" y="14455"/>
                  <a:pt x="7070" y="14430"/>
                  <a:pt x="7048" y="14414"/>
                </a:cubicBezTo>
                <a:cubicBezTo>
                  <a:pt x="7010" y="14386"/>
                  <a:pt x="6944" y="14361"/>
                  <a:pt x="6890" y="14383"/>
                </a:cubicBezTo>
                <a:cubicBezTo>
                  <a:pt x="6810" y="14415"/>
                  <a:pt x="6697" y="14485"/>
                  <a:pt x="6668" y="14573"/>
                </a:cubicBezTo>
                <a:cubicBezTo>
                  <a:pt x="6652" y="14621"/>
                  <a:pt x="6682" y="14715"/>
                  <a:pt x="6731" y="14732"/>
                </a:cubicBezTo>
                <a:cubicBezTo>
                  <a:pt x="6791" y="14753"/>
                  <a:pt x="6865" y="14767"/>
                  <a:pt x="6922" y="14732"/>
                </a:cubicBezTo>
                <a:cubicBezTo>
                  <a:pt x="6983" y="14695"/>
                  <a:pt x="7012" y="14603"/>
                  <a:pt x="7017" y="14542"/>
                </a:cubicBezTo>
                <a:cubicBezTo>
                  <a:pt x="7023" y="14474"/>
                  <a:pt x="6972" y="14478"/>
                  <a:pt x="6922" y="14478"/>
                </a:cubicBezTo>
              </a:path>
              <a:path w="4414" h="1049">
                <a:moveTo>
                  <a:pt x="6985" y="14732"/>
                </a:moveTo>
                <a:cubicBezTo>
                  <a:pt x="6942" y="14718"/>
                  <a:pt x="6946" y="14695"/>
                  <a:pt x="6890" y="14732"/>
                </a:cubicBezTo>
                <a:cubicBezTo>
                  <a:pt x="6841" y="14764"/>
                  <a:pt x="6736" y="14816"/>
                  <a:pt x="6699" y="14859"/>
                </a:cubicBezTo>
                <a:cubicBezTo>
                  <a:pt x="6640" y="14928"/>
                  <a:pt x="6618" y="15005"/>
                  <a:pt x="6668" y="15081"/>
                </a:cubicBezTo>
                <a:cubicBezTo>
                  <a:pt x="6715" y="15153"/>
                  <a:pt x="6778" y="15199"/>
                  <a:pt x="6858" y="15208"/>
                </a:cubicBezTo>
                <a:cubicBezTo>
                  <a:pt x="6926" y="15215"/>
                  <a:pt x="7019" y="15147"/>
                  <a:pt x="7048" y="15081"/>
                </a:cubicBezTo>
                <a:cubicBezTo>
                  <a:pt x="7071" y="15030"/>
                  <a:pt x="7050" y="14959"/>
                  <a:pt x="7017" y="14922"/>
                </a:cubicBezTo>
                <a:cubicBezTo>
                  <a:pt x="6987" y="14889"/>
                  <a:pt x="6953" y="14859"/>
                  <a:pt x="6922" y="14827"/>
                </a:cubicBezTo>
              </a:path>
              <a:path w="4414" h="1049">
                <a:moveTo>
                  <a:pt x="7556" y="14478"/>
                </a:moveTo>
                <a:cubicBezTo>
                  <a:pt x="7556" y="14571"/>
                  <a:pt x="7539" y="14646"/>
                  <a:pt x="7525" y="14732"/>
                </a:cubicBezTo>
                <a:cubicBezTo>
                  <a:pt x="7512" y="14812"/>
                  <a:pt x="7522" y="14944"/>
                  <a:pt x="7493" y="15018"/>
                </a:cubicBezTo>
                <a:cubicBezTo>
                  <a:pt x="7457" y="15054"/>
                  <a:pt x="7446" y="15071"/>
                  <a:pt x="7461" y="15113"/>
                </a:cubicBezTo>
              </a:path>
              <a:path w="4414" h="1049">
                <a:moveTo>
                  <a:pt x="7366" y="14700"/>
                </a:moveTo>
                <a:cubicBezTo>
                  <a:pt x="7355" y="14700"/>
                  <a:pt x="7345" y="14700"/>
                  <a:pt x="7334" y="14700"/>
                </a:cubicBezTo>
                <a:cubicBezTo>
                  <a:pt x="7387" y="14753"/>
                  <a:pt x="7449" y="14810"/>
                  <a:pt x="7525" y="14827"/>
                </a:cubicBezTo>
                <a:cubicBezTo>
                  <a:pt x="7591" y="14827"/>
                  <a:pt x="7614" y="14828"/>
                  <a:pt x="7652" y="14859"/>
                </a:cubicBezTo>
              </a:path>
              <a:path w="4414" h="1049">
                <a:moveTo>
                  <a:pt x="8033" y="14351"/>
                </a:moveTo>
                <a:cubicBezTo>
                  <a:pt x="8033" y="14434"/>
                  <a:pt x="8029" y="14466"/>
                  <a:pt x="8001" y="14542"/>
                </a:cubicBezTo>
                <a:cubicBezTo>
                  <a:pt x="7958" y="14659"/>
                  <a:pt x="7914" y="14773"/>
                  <a:pt x="7874" y="14891"/>
                </a:cubicBezTo>
                <a:cubicBezTo>
                  <a:pt x="7847" y="14970"/>
                  <a:pt x="7810" y="15031"/>
                  <a:pt x="7810" y="15113"/>
                </a:cubicBezTo>
                <a:cubicBezTo>
                  <a:pt x="7810" y="15184"/>
                  <a:pt x="7851" y="15104"/>
                  <a:pt x="7874" y="15081"/>
                </a:cubicBezTo>
              </a:path>
              <a:path w="4414" h="1049">
                <a:moveTo>
                  <a:pt x="8096" y="14637"/>
                </a:moveTo>
                <a:cubicBezTo>
                  <a:pt x="8128" y="14563"/>
                  <a:pt x="8136" y="14535"/>
                  <a:pt x="8192" y="14478"/>
                </a:cubicBezTo>
                <a:cubicBezTo>
                  <a:pt x="8219" y="14450"/>
                  <a:pt x="8309" y="14397"/>
                  <a:pt x="8350" y="14414"/>
                </a:cubicBezTo>
                <a:cubicBezTo>
                  <a:pt x="8390" y="14430"/>
                  <a:pt x="8432" y="14468"/>
                  <a:pt x="8446" y="14510"/>
                </a:cubicBezTo>
                <a:cubicBezTo>
                  <a:pt x="8464" y="14563"/>
                  <a:pt x="8411" y="14630"/>
                  <a:pt x="8382" y="14668"/>
                </a:cubicBezTo>
                <a:cubicBezTo>
                  <a:pt x="8330" y="14736"/>
                  <a:pt x="8271" y="14799"/>
                  <a:pt x="8223" y="14859"/>
                </a:cubicBezTo>
                <a:cubicBezTo>
                  <a:pt x="8186" y="14905"/>
                  <a:pt x="8156" y="14976"/>
                  <a:pt x="8128" y="15018"/>
                </a:cubicBezTo>
                <a:cubicBezTo>
                  <a:pt x="8099" y="15047"/>
                  <a:pt x="8089" y="15053"/>
                  <a:pt x="8096" y="15081"/>
                </a:cubicBezTo>
                <a:cubicBezTo>
                  <a:pt x="8155" y="15129"/>
                  <a:pt x="8204" y="15168"/>
                  <a:pt x="8255" y="15208"/>
                </a:cubicBezTo>
                <a:cubicBezTo>
                  <a:pt x="8300" y="15243"/>
                  <a:pt x="8362" y="15262"/>
                  <a:pt x="8414" y="15272"/>
                </a:cubicBezTo>
              </a:path>
              <a:path w="4414" h="1049">
                <a:moveTo>
                  <a:pt x="9112" y="14573"/>
                </a:moveTo>
                <a:cubicBezTo>
                  <a:pt x="9112" y="14648"/>
                  <a:pt x="9087" y="14641"/>
                  <a:pt x="9049" y="14700"/>
                </a:cubicBezTo>
                <a:cubicBezTo>
                  <a:pt x="9016" y="14752"/>
                  <a:pt x="8977" y="14860"/>
                  <a:pt x="8922" y="14891"/>
                </a:cubicBezTo>
                <a:cubicBezTo>
                  <a:pt x="8864" y="14923"/>
                  <a:pt x="8852" y="14937"/>
                  <a:pt x="8858" y="14922"/>
                </a:cubicBezTo>
                <a:cubicBezTo>
                  <a:pt x="8879" y="14872"/>
                  <a:pt x="8918" y="14891"/>
                  <a:pt x="8985" y="14891"/>
                </a:cubicBezTo>
                <a:cubicBezTo>
                  <a:pt x="9051" y="14891"/>
                  <a:pt x="9154" y="14921"/>
                  <a:pt x="9208" y="14954"/>
                </a:cubicBezTo>
                <a:cubicBezTo>
                  <a:pt x="9256" y="14983"/>
                  <a:pt x="9244" y="14986"/>
                  <a:pt x="9303" y="14986"/>
                </a:cubicBezTo>
              </a:path>
              <a:path w="4414" h="1049">
                <a:moveTo>
                  <a:pt x="8763" y="15240"/>
                </a:moveTo>
                <a:cubicBezTo>
                  <a:pt x="8785" y="15305"/>
                  <a:pt x="8821" y="15252"/>
                  <a:pt x="8890" y="15272"/>
                </a:cubicBezTo>
                <a:cubicBezTo>
                  <a:pt x="8989" y="15301"/>
                  <a:pt x="9071" y="15304"/>
                  <a:pt x="9176" y="15304"/>
                </a:cubicBezTo>
              </a:path>
              <a:path w="4414" h="1049">
                <a:moveTo>
                  <a:pt x="9462" y="14668"/>
                </a:moveTo>
                <a:cubicBezTo>
                  <a:pt x="9478" y="14605"/>
                  <a:pt x="9493" y="14605"/>
                  <a:pt x="9557" y="14605"/>
                </a:cubicBezTo>
                <a:cubicBezTo>
                  <a:pt x="9612" y="14605"/>
                  <a:pt x="9682" y="14583"/>
                  <a:pt x="9716" y="14637"/>
                </a:cubicBezTo>
                <a:cubicBezTo>
                  <a:pt x="9747" y="14685"/>
                  <a:pt x="9701" y="14795"/>
                  <a:pt x="9684" y="14827"/>
                </a:cubicBezTo>
                <a:cubicBezTo>
                  <a:pt x="9634" y="14920"/>
                  <a:pt x="9569" y="14946"/>
                  <a:pt x="9493" y="15018"/>
                </a:cubicBezTo>
                <a:cubicBezTo>
                  <a:pt x="9453" y="15055"/>
                  <a:pt x="9402" y="15091"/>
                  <a:pt x="9398" y="15145"/>
                </a:cubicBezTo>
                <a:cubicBezTo>
                  <a:pt x="9398" y="15198"/>
                  <a:pt x="9398" y="15208"/>
                  <a:pt x="9398" y="15240"/>
                </a:cubicBezTo>
                <a:cubicBezTo>
                  <a:pt x="9454" y="15240"/>
                  <a:pt x="9542" y="15251"/>
                  <a:pt x="9588" y="15272"/>
                </a:cubicBezTo>
                <a:cubicBezTo>
                  <a:pt x="9642" y="15297"/>
                  <a:pt x="9650" y="15304"/>
                  <a:pt x="9716" y="15304"/>
                </a:cubicBezTo>
                <a:cubicBezTo>
                  <a:pt x="9737" y="15304"/>
                  <a:pt x="9758" y="15304"/>
                  <a:pt x="9779" y="15304"/>
                </a:cubicBezTo>
              </a:path>
              <a:path w="4414" h="1049">
                <a:moveTo>
                  <a:pt x="10033" y="14732"/>
                </a:moveTo>
                <a:cubicBezTo>
                  <a:pt x="10033" y="14700"/>
                  <a:pt x="10033" y="14689"/>
                  <a:pt x="10033" y="14668"/>
                </a:cubicBezTo>
                <a:cubicBezTo>
                  <a:pt x="9976" y="14682"/>
                  <a:pt x="9911" y="14744"/>
                  <a:pt x="9874" y="14796"/>
                </a:cubicBezTo>
                <a:cubicBezTo>
                  <a:pt x="9808" y="14888"/>
                  <a:pt x="9811" y="14973"/>
                  <a:pt x="9811" y="15081"/>
                </a:cubicBezTo>
                <a:cubicBezTo>
                  <a:pt x="9811" y="15148"/>
                  <a:pt x="9842" y="15310"/>
                  <a:pt x="9938" y="15304"/>
                </a:cubicBezTo>
                <a:cubicBezTo>
                  <a:pt x="10046" y="15297"/>
                  <a:pt x="10097" y="15127"/>
                  <a:pt x="10128" y="15050"/>
                </a:cubicBezTo>
                <a:cubicBezTo>
                  <a:pt x="10185" y="14907"/>
                  <a:pt x="10136" y="14892"/>
                  <a:pt x="10096" y="14764"/>
                </a:cubicBezTo>
                <a:cubicBezTo>
                  <a:pt x="10082" y="14718"/>
                  <a:pt x="10071" y="14706"/>
                  <a:pt x="10033" y="14668"/>
                </a:cubicBezTo>
              </a:path>
              <a:path w="4414" h="1049">
                <a:moveTo>
                  <a:pt x="10350" y="14954"/>
                </a:moveTo>
                <a:cubicBezTo>
                  <a:pt x="10350" y="14922"/>
                  <a:pt x="10350" y="14911"/>
                  <a:pt x="10382" y="14922"/>
                </a:cubicBezTo>
                <a:cubicBezTo>
                  <a:pt x="10382" y="14985"/>
                  <a:pt x="10376" y="15024"/>
                  <a:pt x="10414" y="15081"/>
                </a:cubicBezTo>
                <a:cubicBezTo>
                  <a:pt x="10458" y="15146"/>
                  <a:pt x="10448" y="15228"/>
                  <a:pt x="10478" y="15304"/>
                </a:cubicBezTo>
                <a:cubicBezTo>
                  <a:pt x="10505" y="15373"/>
                  <a:pt x="10560" y="15449"/>
                  <a:pt x="10636" y="15367"/>
                </a:cubicBezTo>
                <a:cubicBezTo>
                  <a:pt x="10725" y="15271"/>
                  <a:pt x="10795" y="15134"/>
                  <a:pt x="10858" y="15018"/>
                </a:cubicBezTo>
                <a:cubicBezTo>
                  <a:pt x="10944" y="14860"/>
                  <a:pt x="10996" y="14680"/>
                  <a:pt x="11049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17"/>
          <p:cNvSpPr/>
          <p:nvPr/>
        </p:nvSpPr>
        <p:spPr>
          <a:xfrm>
            <a:off x="4446720" y="5121360"/>
            <a:ext cx="857160" cy="457200"/>
          </a:xfrm>
          <a:custGeom>
            <a:avLst/>
            <a:gdLst/>
            <a:ahLst/>
            <a:rect l="l" t="t" r="r" b="b"/>
            <a:pathLst>
              <a:path w="2382" h="1271">
                <a:moveTo>
                  <a:pt x="12859" y="14446"/>
                </a:moveTo>
                <a:cubicBezTo>
                  <a:pt x="12836" y="14539"/>
                  <a:pt x="12801" y="14508"/>
                  <a:pt x="12732" y="14542"/>
                </a:cubicBezTo>
                <a:cubicBezTo>
                  <a:pt x="12667" y="14574"/>
                  <a:pt x="12620" y="14573"/>
                  <a:pt x="12541" y="14573"/>
                </a:cubicBezTo>
                <a:cubicBezTo>
                  <a:pt x="12499" y="14573"/>
                  <a:pt x="12456" y="14573"/>
                  <a:pt x="12414" y="14573"/>
                </a:cubicBezTo>
                <a:cubicBezTo>
                  <a:pt x="12414" y="14620"/>
                  <a:pt x="12405" y="14665"/>
                  <a:pt x="12382" y="14700"/>
                </a:cubicBezTo>
                <a:cubicBezTo>
                  <a:pt x="12354" y="14729"/>
                  <a:pt x="12344" y="14735"/>
                  <a:pt x="12351" y="14764"/>
                </a:cubicBezTo>
                <a:cubicBezTo>
                  <a:pt x="12374" y="14811"/>
                  <a:pt x="12417" y="14744"/>
                  <a:pt x="12478" y="14732"/>
                </a:cubicBezTo>
                <a:cubicBezTo>
                  <a:pt x="12550" y="14717"/>
                  <a:pt x="12667" y="14767"/>
                  <a:pt x="12732" y="14796"/>
                </a:cubicBezTo>
                <a:cubicBezTo>
                  <a:pt x="12811" y="14831"/>
                  <a:pt x="12838" y="14871"/>
                  <a:pt x="12859" y="14954"/>
                </a:cubicBezTo>
                <a:cubicBezTo>
                  <a:pt x="12872" y="15005"/>
                  <a:pt x="12812" y="15097"/>
                  <a:pt x="12795" y="15145"/>
                </a:cubicBezTo>
                <a:cubicBezTo>
                  <a:pt x="12748" y="15275"/>
                  <a:pt x="12731" y="15279"/>
                  <a:pt x="12636" y="15335"/>
                </a:cubicBezTo>
                <a:cubicBezTo>
                  <a:pt x="12621" y="15344"/>
                  <a:pt x="12535" y="15363"/>
                  <a:pt x="12510" y="15335"/>
                </a:cubicBezTo>
                <a:cubicBezTo>
                  <a:pt x="12463" y="15283"/>
                  <a:pt x="12404" y="15173"/>
                  <a:pt x="12382" y="15113"/>
                </a:cubicBezTo>
                <a:cubicBezTo>
                  <a:pt x="12382" y="15102"/>
                  <a:pt x="12382" y="15092"/>
                  <a:pt x="12382" y="15081"/>
                </a:cubicBezTo>
              </a:path>
              <a:path w="2382" h="1271">
                <a:moveTo>
                  <a:pt x="13462" y="14383"/>
                </a:moveTo>
                <a:cubicBezTo>
                  <a:pt x="13462" y="14351"/>
                  <a:pt x="13462" y="14340"/>
                  <a:pt x="13462" y="14319"/>
                </a:cubicBezTo>
                <a:cubicBezTo>
                  <a:pt x="13414" y="14319"/>
                  <a:pt x="13331" y="14339"/>
                  <a:pt x="13303" y="14383"/>
                </a:cubicBezTo>
                <a:cubicBezTo>
                  <a:pt x="13235" y="14491"/>
                  <a:pt x="13159" y="14608"/>
                  <a:pt x="13113" y="14732"/>
                </a:cubicBezTo>
                <a:cubicBezTo>
                  <a:pt x="13067" y="14855"/>
                  <a:pt x="13049" y="14951"/>
                  <a:pt x="13049" y="15081"/>
                </a:cubicBezTo>
                <a:cubicBezTo>
                  <a:pt x="13049" y="15203"/>
                  <a:pt x="13077" y="15247"/>
                  <a:pt x="13176" y="15304"/>
                </a:cubicBezTo>
              </a:path>
              <a:path w="2382" h="1271">
                <a:moveTo>
                  <a:pt x="13589" y="14764"/>
                </a:moveTo>
                <a:cubicBezTo>
                  <a:pt x="13589" y="14697"/>
                  <a:pt x="13593" y="14669"/>
                  <a:pt x="13557" y="14637"/>
                </a:cubicBezTo>
                <a:cubicBezTo>
                  <a:pt x="13484" y="14572"/>
                  <a:pt x="13508" y="14582"/>
                  <a:pt x="13462" y="14605"/>
                </a:cubicBezTo>
                <a:cubicBezTo>
                  <a:pt x="13405" y="14633"/>
                  <a:pt x="13398" y="14627"/>
                  <a:pt x="13398" y="14700"/>
                </a:cubicBezTo>
                <a:cubicBezTo>
                  <a:pt x="13398" y="14810"/>
                  <a:pt x="13440" y="14854"/>
                  <a:pt x="13462" y="14954"/>
                </a:cubicBezTo>
                <a:cubicBezTo>
                  <a:pt x="13483" y="15049"/>
                  <a:pt x="13462" y="15174"/>
                  <a:pt x="13462" y="15272"/>
                </a:cubicBezTo>
                <a:cubicBezTo>
                  <a:pt x="13386" y="15253"/>
                  <a:pt x="13373" y="15223"/>
                  <a:pt x="13367" y="15145"/>
                </a:cubicBezTo>
                <a:cubicBezTo>
                  <a:pt x="13362" y="15081"/>
                  <a:pt x="13382" y="15069"/>
                  <a:pt x="13398" y="15018"/>
                </a:cubicBezTo>
                <a:cubicBezTo>
                  <a:pt x="13414" y="14968"/>
                  <a:pt x="13435" y="14899"/>
                  <a:pt x="13462" y="14859"/>
                </a:cubicBezTo>
                <a:cubicBezTo>
                  <a:pt x="13492" y="14814"/>
                  <a:pt x="13524" y="14770"/>
                  <a:pt x="13557" y="14732"/>
                </a:cubicBezTo>
                <a:cubicBezTo>
                  <a:pt x="13591" y="14694"/>
                  <a:pt x="13607" y="14679"/>
                  <a:pt x="13652" y="14668"/>
                </a:cubicBezTo>
              </a:path>
              <a:path w="2382" h="1271">
                <a:moveTo>
                  <a:pt x="13811" y="14224"/>
                </a:moveTo>
                <a:cubicBezTo>
                  <a:pt x="13874" y="14255"/>
                  <a:pt x="13925" y="14363"/>
                  <a:pt x="13938" y="14446"/>
                </a:cubicBezTo>
                <a:cubicBezTo>
                  <a:pt x="13961" y="14595"/>
                  <a:pt x="13970" y="14737"/>
                  <a:pt x="13970" y="14891"/>
                </a:cubicBezTo>
                <a:cubicBezTo>
                  <a:pt x="13970" y="15078"/>
                  <a:pt x="13959" y="15199"/>
                  <a:pt x="13875" y="15367"/>
                </a:cubicBezTo>
                <a:cubicBezTo>
                  <a:pt x="13840" y="15436"/>
                  <a:pt x="13825" y="15461"/>
                  <a:pt x="13780" y="15494"/>
                </a:cubicBezTo>
              </a:path>
              <a:path w="2382" h="1271">
                <a:moveTo>
                  <a:pt x="14637" y="14700"/>
                </a:moveTo>
                <a:cubicBezTo>
                  <a:pt x="14637" y="14748"/>
                  <a:pt x="14624" y="14821"/>
                  <a:pt x="14605" y="14859"/>
                </a:cubicBezTo>
                <a:cubicBezTo>
                  <a:pt x="14574" y="14920"/>
                  <a:pt x="14523" y="14988"/>
                  <a:pt x="14510" y="15050"/>
                </a:cubicBezTo>
                <a:cubicBezTo>
                  <a:pt x="14510" y="15103"/>
                  <a:pt x="14510" y="15113"/>
                  <a:pt x="14510" y="15145"/>
                </a:cubicBezTo>
              </a:path>
              <a:path w="2382" h="1271">
                <a:moveTo>
                  <a:pt x="14319" y="14796"/>
                </a:moveTo>
                <a:cubicBezTo>
                  <a:pt x="14413" y="14814"/>
                  <a:pt x="14509" y="14841"/>
                  <a:pt x="14605" y="14859"/>
                </a:cubicBezTo>
                <a:cubicBezTo>
                  <a:pt x="14647" y="14870"/>
                  <a:pt x="14690" y="14880"/>
                  <a:pt x="14732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nk 18"/>
          <p:cNvSpPr/>
          <p:nvPr/>
        </p:nvSpPr>
        <p:spPr>
          <a:xfrm>
            <a:off x="5462640" y="5165640"/>
            <a:ext cx="1430280" cy="366840"/>
          </a:xfrm>
          <a:custGeom>
            <a:avLst/>
            <a:gdLst/>
            <a:ahLst/>
            <a:rect l="l" t="t" r="r" b="b"/>
            <a:pathLst>
              <a:path w="3970" h="1017">
                <a:moveTo>
                  <a:pt x="15494" y="14732"/>
                </a:moveTo>
                <a:cubicBezTo>
                  <a:pt x="15494" y="14721"/>
                  <a:pt x="15494" y="14711"/>
                  <a:pt x="15494" y="14700"/>
                </a:cubicBezTo>
              </a:path>
              <a:path w="3970" h="1017">
                <a:moveTo>
                  <a:pt x="15494" y="14732"/>
                </a:moveTo>
                <a:cubicBezTo>
                  <a:pt x="15505" y="14700"/>
                  <a:pt x="15515" y="14669"/>
                  <a:pt x="15526" y="14637"/>
                </a:cubicBezTo>
              </a:path>
              <a:path w="3970" h="1017">
                <a:moveTo>
                  <a:pt x="15526" y="14637"/>
                </a:moveTo>
                <a:cubicBezTo>
                  <a:pt x="15481" y="14622"/>
                  <a:pt x="15487" y="14575"/>
                  <a:pt x="15462" y="14542"/>
                </a:cubicBezTo>
                <a:cubicBezTo>
                  <a:pt x="15408" y="14471"/>
                  <a:pt x="15430" y="14513"/>
                  <a:pt x="15367" y="14478"/>
                </a:cubicBezTo>
                <a:cubicBezTo>
                  <a:pt x="15331" y="14458"/>
                  <a:pt x="15272" y="14430"/>
                  <a:pt x="15240" y="14478"/>
                </a:cubicBezTo>
                <a:cubicBezTo>
                  <a:pt x="15217" y="14512"/>
                  <a:pt x="15208" y="14559"/>
                  <a:pt x="15208" y="14605"/>
                </a:cubicBezTo>
                <a:cubicBezTo>
                  <a:pt x="15208" y="14648"/>
                  <a:pt x="15149" y="14683"/>
                  <a:pt x="15176" y="14732"/>
                </a:cubicBezTo>
                <a:cubicBezTo>
                  <a:pt x="15203" y="14781"/>
                  <a:pt x="15229" y="14816"/>
                  <a:pt x="15272" y="14859"/>
                </a:cubicBezTo>
                <a:cubicBezTo>
                  <a:pt x="15316" y="14903"/>
                  <a:pt x="15377" y="14962"/>
                  <a:pt x="15399" y="15018"/>
                </a:cubicBezTo>
                <a:cubicBezTo>
                  <a:pt x="15417" y="15063"/>
                  <a:pt x="15430" y="15092"/>
                  <a:pt x="15430" y="15145"/>
                </a:cubicBezTo>
                <a:cubicBezTo>
                  <a:pt x="15430" y="15202"/>
                  <a:pt x="15416" y="15234"/>
                  <a:pt x="15367" y="15240"/>
                </a:cubicBezTo>
                <a:cubicBezTo>
                  <a:pt x="15290" y="15250"/>
                  <a:pt x="15242" y="15225"/>
                  <a:pt x="15208" y="15208"/>
                </a:cubicBezTo>
                <a:cubicBezTo>
                  <a:pt x="15182" y="15195"/>
                  <a:pt x="15149" y="15128"/>
                  <a:pt x="15176" y="15081"/>
                </a:cubicBezTo>
                <a:cubicBezTo>
                  <a:pt x="15207" y="15026"/>
                  <a:pt x="15245" y="14990"/>
                  <a:pt x="15304" y="14954"/>
                </a:cubicBezTo>
                <a:cubicBezTo>
                  <a:pt x="15370" y="14914"/>
                  <a:pt x="15436" y="14878"/>
                  <a:pt x="15494" y="14827"/>
                </a:cubicBezTo>
                <a:cubicBezTo>
                  <a:pt x="15554" y="14774"/>
                  <a:pt x="15566" y="14773"/>
                  <a:pt x="15621" y="14700"/>
                </a:cubicBezTo>
                <a:cubicBezTo>
                  <a:pt x="15632" y="14689"/>
                  <a:pt x="15642" y="14679"/>
                  <a:pt x="15653" y="14668"/>
                </a:cubicBezTo>
              </a:path>
              <a:path w="3970" h="1017">
                <a:moveTo>
                  <a:pt x="16256" y="14478"/>
                </a:moveTo>
                <a:cubicBezTo>
                  <a:pt x="16242" y="14423"/>
                  <a:pt x="16200" y="14384"/>
                  <a:pt x="16129" y="14414"/>
                </a:cubicBezTo>
                <a:cubicBezTo>
                  <a:pt x="16039" y="14452"/>
                  <a:pt x="15964" y="14600"/>
                  <a:pt x="15907" y="14668"/>
                </a:cubicBezTo>
                <a:cubicBezTo>
                  <a:pt x="15854" y="14732"/>
                  <a:pt x="15770" y="14865"/>
                  <a:pt x="15780" y="14954"/>
                </a:cubicBezTo>
                <a:cubicBezTo>
                  <a:pt x="15785" y="14997"/>
                  <a:pt x="15857" y="15130"/>
                  <a:pt x="15907" y="15145"/>
                </a:cubicBezTo>
                <a:cubicBezTo>
                  <a:pt x="15928" y="15145"/>
                  <a:pt x="15949" y="15145"/>
                  <a:pt x="15970" y="15145"/>
                </a:cubicBezTo>
              </a:path>
              <a:path w="3970" h="1017">
                <a:moveTo>
                  <a:pt x="16288" y="14637"/>
                </a:moveTo>
                <a:cubicBezTo>
                  <a:pt x="16288" y="14707"/>
                  <a:pt x="16260" y="14756"/>
                  <a:pt x="16256" y="14827"/>
                </a:cubicBezTo>
                <a:cubicBezTo>
                  <a:pt x="16252" y="14897"/>
                  <a:pt x="16285" y="15030"/>
                  <a:pt x="16224" y="15050"/>
                </a:cubicBezTo>
              </a:path>
              <a:path w="3970" h="1017">
                <a:moveTo>
                  <a:pt x="16415" y="14700"/>
                </a:moveTo>
                <a:cubicBezTo>
                  <a:pt x="16455" y="14690"/>
                  <a:pt x="16493" y="14650"/>
                  <a:pt x="16542" y="14668"/>
                </a:cubicBezTo>
                <a:cubicBezTo>
                  <a:pt x="16610" y="14693"/>
                  <a:pt x="16630" y="14700"/>
                  <a:pt x="16700" y="14700"/>
                </a:cubicBezTo>
                <a:cubicBezTo>
                  <a:pt x="16658" y="14743"/>
                  <a:pt x="16622" y="14769"/>
                  <a:pt x="16574" y="14796"/>
                </a:cubicBezTo>
                <a:cubicBezTo>
                  <a:pt x="16516" y="14829"/>
                  <a:pt x="16454" y="14851"/>
                  <a:pt x="16446" y="14922"/>
                </a:cubicBezTo>
                <a:cubicBezTo>
                  <a:pt x="16443" y="14953"/>
                  <a:pt x="16446" y="14987"/>
                  <a:pt x="16446" y="15018"/>
                </a:cubicBezTo>
                <a:cubicBezTo>
                  <a:pt x="16536" y="15018"/>
                  <a:pt x="16595" y="15025"/>
                  <a:pt x="16669" y="15050"/>
                </a:cubicBezTo>
                <a:cubicBezTo>
                  <a:pt x="16700" y="15050"/>
                  <a:pt x="16711" y="15050"/>
                  <a:pt x="16732" y="15050"/>
                </a:cubicBezTo>
              </a:path>
              <a:path w="3970" h="1017">
                <a:moveTo>
                  <a:pt x="16859" y="14351"/>
                </a:moveTo>
                <a:cubicBezTo>
                  <a:pt x="16922" y="14429"/>
                  <a:pt x="16953" y="14510"/>
                  <a:pt x="16986" y="14605"/>
                </a:cubicBezTo>
                <a:cubicBezTo>
                  <a:pt x="17035" y="14746"/>
                  <a:pt x="17006" y="14818"/>
                  <a:pt x="16986" y="14954"/>
                </a:cubicBezTo>
                <a:cubicBezTo>
                  <a:pt x="16973" y="15041"/>
                  <a:pt x="16961" y="15179"/>
                  <a:pt x="16891" y="15240"/>
                </a:cubicBezTo>
                <a:cubicBezTo>
                  <a:pt x="16835" y="15289"/>
                  <a:pt x="16759" y="15320"/>
                  <a:pt x="16700" y="15367"/>
                </a:cubicBezTo>
              </a:path>
              <a:path w="3970" h="1017">
                <a:moveTo>
                  <a:pt x="17336" y="14510"/>
                </a:moveTo>
                <a:cubicBezTo>
                  <a:pt x="17358" y="14518"/>
                  <a:pt x="17414" y="14567"/>
                  <a:pt x="17431" y="14605"/>
                </a:cubicBezTo>
                <a:cubicBezTo>
                  <a:pt x="17454" y="14656"/>
                  <a:pt x="17481" y="14687"/>
                  <a:pt x="17526" y="14732"/>
                </a:cubicBezTo>
                <a:cubicBezTo>
                  <a:pt x="17565" y="14771"/>
                  <a:pt x="17637" y="14811"/>
                  <a:pt x="17685" y="14827"/>
                </a:cubicBezTo>
                <a:cubicBezTo>
                  <a:pt x="17751" y="14849"/>
                  <a:pt x="17649" y="14827"/>
                  <a:pt x="17621" y="14827"/>
                </a:cubicBezTo>
                <a:cubicBezTo>
                  <a:pt x="17565" y="14827"/>
                  <a:pt x="17541" y="14875"/>
                  <a:pt x="17494" y="14891"/>
                </a:cubicBezTo>
                <a:cubicBezTo>
                  <a:pt x="17459" y="14903"/>
                  <a:pt x="17436" y="14913"/>
                  <a:pt x="17399" y="14922"/>
                </a:cubicBezTo>
              </a:path>
              <a:path w="3970" h="1017">
                <a:moveTo>
                  <a:pt x="17367" y="15050"/>
                </a:moveTo>
                <a:cubicBezTo>
                  <a:pt x="17384" y="15100"/>
                  <a:pt x="17430" y="15081"/>
                  <a:pt x="17494" y="15081"/>
                </a:cubicBezTo>
                <a:cubicBezTo>
                  <a:pt x="17616" y="15081"/>
                  <a:pt x="17732" y="15097"/>
                  <a:pt x="17844" y="15050"/>
                </a:cubicBezTo>
              </a:path>
              <a:path w="3970" h="1017">
                <a:moveTo>
                  <a:pt x="18161" y="14414"/>
                </a:moveTo>
                <a:cubicBezTo>
                  <a:pt x="18161" y="14495"/>
                  <a:pt x="18146" y="14590"/>
                  <a:pt x="18129" y="14668"/>
                </a:cubicBezTo>
                <a:cubicBezTo>
                  <a:pt x="18101" y="14796"/>
                  <a:pt x="18071" y="14926"/>
                  <a:pt x="18034" y="15050"/>
                </a:cubicBezTo>
                <a:cubicBezTo>
                  <a:pt x="18004" y="15151"/>
                  <a:pt x="18002" y="15231"/>
                  <a:pt x="18002" y="15335"/>
                </a:cubicBezTo>
              </a:path>
              <a:path w="3970" h="1017">
                <a:moveTo>
                  <a:pt x="18288" y="14510"/>
                </a:moveTo>
                <a:cubicBezTo>
                  <a:pt x="18297" y="14474"/>
                  <a:pt x="18327" y="14398"/>
                  <a:pt x="18383" y="14414"/>
                </a:cubicBezTo>
                <a:cubicBezTo>
                  <a:pt x="18444" y="14432"/>
                  <a:pt x="18563" y="14455"/>
                  <a:pt x="18606" y="14510"/>
                </a:cubicBezTo>
                <a:cubicBezTo>
                  <a:pt x="18635" y="14548"/>
                  <a:pt x="18595" y="14671"/>
                  <a:pt x="18574" y="14700"/>
                </a:cubicBezTo>
                <a:cubicBezTo>
                  <a:pt x="18517" y="14779"/>
                  <a:pt x="18452" y="14852"/>
                  <a:pt x="18383" y="14922"/>
                </a:cubicBezTo>
                <a:cubicBezTo>
                  <a:pt x="18338" y="14967"/>
                  <a:pt x="18275" y="15084"/>
                  <a:pt x="18224" y="15113"/>
                </a:cubicBezTo>
                <a:cubicBezTo>
                  <a:pt x="18176" y="15140"/>
                  <a:pt x="18212" y="15133"/>
                  <a:pt x="18224" y="15208"/>
                </a:cubicBezTo>
                <a:cubicBezTo>
                  <a:pt x="18307" y="15208"/>
                  <a:pt x="18366" y="15234"/>
                  <a:pt x="18447" y="15240"/>
                </a:cubicBezTo>
                <a:cubicBezTo>
                  <a:pt x="18507" y="15245"/>
                  <a:pt x="18528" y="15242"/>
                  <a:pt x="18574" y="15208"/>
                </a:cubicBezTo>
              </a:path>
              <a:path w="3970" h="1017">
                <a:moveTo>
                  <a:pt x="19145" y="14573"/>
                </a:moveTo>
                <a:cubicBezTo>
                  <a:pt x="19065" y="14622"/>
                  <a:pt x="19063" y="14582"/>
                  <a:pt x="18986" y="14573"/>
                </a:cubicBezTo>
                <a:cubicBezTo>
                  <a:pt x="18941" y="14568"/>
                  <a:pt x="18852" y="14557"/>
                  <a:pt x="18828" y="14605"/>
                </a:cubicBezTo>
                <a:cubicBezTo>
                  <a:pt x="18805" y="14651"/>
                  <a:pt x="18788" y="14721"/>
                  <a:pt x="18764" y="14764"/>
                </a:cubicBezTo>
                <a:cubicBezTo>
                  <a:pt x="18729" y="14827"/>
                  <a:pt x="18716" y="14827"/>
                  <a:pt x="18764" y="14891"/>
                </a:cubicBezTo>
                <a:cubicBezTo>
                  <a:pt x="18805" y="14881"/>
                  <a:pt x="18886" y="14878"/>
                  <a:pt x="18923" y="14859"/>
                </a:cubicBezTo>
                <a:cubicBezTo>
                  <a:pt x="18970" y="14835"/>
                  <a:pt x="19018" y="14849"/>
                  <a:pt x="19082" y="14891"/>
                </a:cubicBezTo>
                <a:cubicBezTo>
                  <a:pt x="19149" y="14935"/>
                  <a:pt x="19145" y="14977"/>
                  <a:pt x="19145" y="15050"/>
                </a:cubicBezTo>
                <a:cubicBezTo>
                  <a:pt x="19145" y="15117"/>
                  <a:pt x="19145" y="15198"/>
                  <a:pt x="19082" y="15240"/>
                </a:cubicBezTo>
                <a:cubicBezTo>
                  <a:pt x="19035" y="15271"/>
                  <a:pt x="18977" y="15254"/>
                  <a:pt x="18923" y="15272"/>
                </a:cubicBezTo>
                <a:cubicBezTo>
                  <a:pt x="18855" y="15295"/>
                  <a:pt x="18745" y="15334"/>
                  <a:pt x="18669" y="15304"/>
                </a:cubicBezTo>
                <a:cubicBezTo>
                  <a:pt x="18658" y="15293"/>
                  <a:pt x="18648" y="15283"/>
                  <a:pt x="18637" y="15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Ink 19"/>
          <p:cNvSpPr/>
          <p:nvPr/>
        </p:nvSpPr>
        <p:spPr>
          <a:xfrm>
            <a:off x="7383600" y="5064120"/>
            <a:ext cx="1224000" cy="503280"/>
          </a:xfrm>
          <a:custGeom>
            <a:avLst/>
            <a:gdLst/>
            <a:ahLst/>
            <a:rect l="l" t="t" r="r" b="b"/>
            <a:pathLst>
              <a:path w="3399" h="1398">
                <a:moveTo>
                  <a:pt x="20542" y="14351"/>
                </a:moveTo>
                <a:cubicBezTo>
                  <a:pt x="20542" y="14474"/>
                  <a:pt x="20524" y="14582"/>
                  <a:pt x="20510" y="14700"/>
                </a:cubicBezTo>
                <a:cubicBezTo>
                  <a:pt x="20485" y="14916"/>
                  <a:pt x="20510" y="15149"/>
                  <a:pt x="20510" y="15367"/>
                </a:cubicBezTo>
              </a:path>
              <a:path w="3399" h="1398">
                <a:moveTo>
                  <a:pt x="20701" y="14605"/>
                </a:moveTo>
                <a:cubicBezTo>
                  <a:pt x="20738" y="14568"/>
                  <a:pt x="20783" y="14525"/>
                  <a:pt x="20828" y="14510"/>
                </a:cubicBezTo>
                <a:cubicBezTo>
                  <a:pt x="20870" y="14496"/>
                  <a:pt x="20942" y="14510"/>
                  <a:pt x="20987" y="14510"/>
                </a:cubicBezTo>
                <a:cubicBezTo>
                  <a:pt x="20987" y="14602"/>
                  <a:pt x="20989" y="14675"/>
                  <a:pt x="20955" y="14764"/>
                </a:cubicBezTo>
                <a:cubicBezTo>
                  <a:pt x="20941" y="14801"/>
                  <a:pt x="20882" y="14968"/>
                  <a:pt x="20860" y="14986"/>
                </a:cubicBezTo>
                <a:cubicBezTo>
                  <a:pt x="20849" y="14986"/>
                  <a:pt x="20839" y="14986"/>
                  <a:pt x="20828" y="14986"/>
                </a:cubicBezTo>
                <a:cubicBezTo>
                  <a:pt x="20874" y="14940"/>
                  <a:pt x="20923" y="14866"/>
                  <a:pt x="20987" y="14859"/>
                </a:cubicBezTo>
                <a:cubicBezTo>
                  <a:pt x="21084" y="14848"/>
                  <a:pt x="21108" y="14859"/>
                  <a:pt x="21114" y="14954"/>
                </a:cubicBezTo>
                <a:cubicBezTo>
                  <a:pt x="21121" y="15070"/>
                  <a:pt x="21098" y="15166"/>
                  <a:pt x="21050" y="15272"/>
                </a:cubicBezTo>
                <a:cubicBezTo>
                  <a:pt x="21024" y="15329"/>
                  <a:pt x="20987" y="15433"/>
                  <a:pt x="20923" y="15462"/>
                </a:cubicBezTo>
                <a:cubicBezTo>
                  <a:pt x="20892" y="15462"/>
                  <a:pt x="20881" y="15462"/>
                  <a:pt x="20892" y="15430"/>
                </a:cubicBezTo>
              </a:path>
              <a:path w="3399" h="1398">
                <a:moveTo>
                  <a:pt x="21209" y="14446"/>
                </a:moveTo>
                <a:cubicBezTo>
                  <a:pt x="21276" y="14446"/>
                  <a:pt x="21272" y="14443"/>
                  <a:pt x="21272" y="14510"/>
                </a:cubicBezTo>
                <a:cubicBezTo>
                  <a:pt x="21272" y="14622"/>
                  <a:pt x="21253" y="14719"/>
                  <a:pt x="21241" y="14827"/>
                </a:cubicBezTo>
                <a:cubicBezTo>
                  <a:pt x="21226" y="14965"/>
                  <a:pt x="21237" y="15121"/>
                  <a:pt x="21272" y="15240"/>
                </a:cubicBezTo>
                <a:cubicBezTo>
                  <a:pt x="21287" y="15291"/>
                  <a:pt x="21283" y="15291"/>
                  <a:pt x="21336" y="15304"/>
                </a:cubicBezTo>
                <a:cubicBezTo>
                  <a:pt x="21427" y="15236"/>
                  <a:pt x="21365" y="15270"/>
                  <a:pt x="21431" y="15145"/>
                </a:cubicBezTo>
                <a:cubicBezTo>
                  <a:pt x="21478" y="15057"/>
                  <a:pt x="21470" y="15015"/>
                  <a:pt x="21495" y="14922"/>
                </a:cubicBezTo>
                <a:cubicBezTo>
                  <a:pt x="21513" y="14855"/>
                  <a:pt x="21526" y="14833"/>
                  <a:pt x="21526" y="14764"/>
                </a:cubicBezTo>
                <a:cubicBezTo>
                  <a:pt x="21438" y="14787"/>
                  <a:pt x="21429" y="14870"/>
                  <a:pt x="21400" y="14954"/>
                </a:cubicBezTo>
                <a:cubicBezTo>
                  <a:pt x="21356" y="15082"/>
                  <a:pt x="21329" y="15209"/>
                  <a:pt x="21304" y="15335"/>
                </a:cubicBezTo>
                <a:cubicBezTo>
                  <a:pt x="21294" y="15385"/>
                  <a:pt x="21308" y="15394"/>
                  <a:pt x="21336" y="15430"/>
                </a:cubicBezTo>
              </a:path>
              <a:path w="3399" h="1398">
                <a:moveTo>
                  <a:pt x="21717" y="14510"/>
                </a:moveTo>
                <a:cubicBezTo>
                  <a:pt x="21796" y="14510"/>
                  <a:pt x="21833" y="14523"/>
                  <a:pt x="21908" y="14542"/>
                </a:cubicBezTo>
                <a:cubicBezTo>
                  <a:pt x="21966" y="14557"/>
                  <a:pt x="22006" y="14560"/>
                  <a:pt x="22034" y="14573"/>
                </a:cubicBezTo>
                <a:cubicBezTo>
                  <a:pt x="22066" y="14573"/>
                  <a:pt x="22077" y="14573"/>
                  <a:pt x="22066" y="14605"/>
                </a:cubicBezTo>
                <a:cubicBezTo>
                  <a:pt x="22029" y="14614"/>
                  <a:pt x="21935" y="14669"/>
                  <a:pt x="21908" y="14700"/>
                </a:cubicBezTo>
                <a:cubicBezTo>
                  <a:pt x="21853" y="14764"/>
                  <a:pt x="21837" y="14776"/>
                  <a:pt x="21780" y="14827"/>
                </a:cubicBezTo>
                <a:cubicBezTo>
                  <a:pt x="21752" y="14856"/>
                  <a:pt x="21746" y="14867"/>
                  <a:pt x="21717" y="14859"/>
                </a:cubicBezTo>
              </a:path>
              <a:path w="3399" h="1398">
                <a:moveTo>
                  <a:pt x="21717" y="15081"/>
                </a:moveTo>
                <a:cubicBezTo>
                  <a:pt x="21784" y="15065"/>
                  <a:pt x="21827" y="15050"/>
                  <a:pt x="21908" y="15050"/>
                </a:cubicBezTo>
                <a:cubicBezTo>
                  <a:pt x="21971" y="15050"/>
                  <a:pt x="21992" y="15050"/>
                  <a:pt x="22034" y="15050"/>
                </a:cubicBezTo>
              </a:path>
              <a:path w="3399" h="1398">
                <a:moveTo>
                  <a:pt x="22416" y="14414"/>
                </a:moveTo>
                <a:cubicBezTo>
                  <a:pt x="22398" y="14506"/>
                  <a:pt x="22384" y="14568"/>
                  <a:pt x="22384" y="14668"/>
                </a:cubicBezTo>
                <a:cubicBezTo>
                  <a:pt x="22384" y="14808"/>
                  <a:pt x="22352" y="14937"/>
                  <a:pt x="22352" y="15081"/>
                </a:cubicBezTo>
                <a:cubicBezTo>
                  <a:pt x="22352" y="15197"/>
                  <a:pt x="22352" y="15314"/>
                  <a:pt x="22352" y="15430"/>
                </a:cubicBezTo>
              </a:path>
              <a:path w="3399" h="1398">
                <a:moveTo>
                  <a:pt x="22574" y="14573"/>
                </a:moveTo>
                <a:cubicBezTo>
                  <a:pt x="22587" y="14521"/>
                  <a:pt x="22611" y="14485"/>
                  <a:pt x="22670" y="14478"/>
                </a:cubicBezTo>
                <a:cubicBezTo>
                  <a:pt x="22701" y="14478"/>
                  <a:pt x="22712" y="14478"/>
                  <a:pt x="22733" y="14478"/>
                </a:cubicBezTo>
                <a:cubicBezTo>
                  <a:pt x="22733" y="14572"/>
                  <a:pt x="22735" y="14641"/>
                  <a:pt x="22701" y="14732"/>
                </a:cubicBezTo>
                <a:cubicBezTo>
                  <a:pt x="22661" y="14839"/>
                  <a:pt x="22646" y="14945"/>
                  <a:pt x="22606" y="15050"/>
                </a:cubicBezTo>
                <a:cubicBezTo>
                  <a:pt x="22592" y="15085"/>
                  <a:pt x="22559" y="15258"/>
                  <a:pt x="22542" y="15272"/>
                </a:cubicBezTo>
                <a:cubicBezTo>
                  <a:pt x="22492" y="15313"/>
                  <a:pt x="22562" y="15228"/>
                  <a:pt x="22574" y="15208"/>
                </a:cubicBezTo>
                <a:cubicBezTo>
                  <a:pt x="22619" y="15130"/>
                  <a:pt x="22619" y="15145"/>
                  <a:pt x="22701" y="15145"/>
                </a:cubicBezTo>
                <a:cubicBezTo>
                  <a:pt x="22733" y="15145"/>
                  <a:pt x="22744" y="15145"/>
                  <a:pt x="22765" y="15145"/>
                </a:cubicBezTo>
                <a:cubicBezTo>
                  <a:pt x="22779" y="15233"/>
                  <a:pt x="22777" y="15202"/>
                  <a:pt x="22828" y="15240"/>
                </a:cubicBezTo>
                <a:cubicBezTo>
                  <a:pt x="22839" y="15251"/>
                  <a:pt x="22849" y="15261"/>
                  <a:pt x="22860" y="15272"/>
                </a:cubicBezTo>
              </a:path>
              <a:path w="3399" h="1398">
                <a:moveTo>
                  <a:pt x="23209" y="14351"/>
                </a:moveTo>
                <a:cubicBezTo>
                  <a:pt x="23197" y="14388"/>
                  <a:pt x="23166" y="14408"/>
                  <a:pt x="23114" y="14414"/>
                </a:cubicBezTo>
                <a:cubicBezTo>
                  <a:pt x="23107" y="14415"/>
                  <a:pt x="22989" y="14444"/>
                  <a:pt x="22987" y="14446"/>
                </a:cubicBezTo>
                <a:cubicBezTo>
                  <a:pt x="22954" y="14487"/>
                  <a:pt x="22924" y="14464"/>
                  <a:pt x="22924" y="14542"/>
                </a:cubicBezTo>
                <a:cubicBezTo>
                  <a:pt x="22924" y="14616"/>
                  <a:pt x="22924" y="14690"/>
                  <a:pt x="22924" y="14764"/>
                </a:cubicBezTo>
                <a:cubicBezTo>
                  <a:pt x="22968" y="14749"/>
                  <a:pt x="22962" y="14694"/>
                  <a:pt x="23019" y="14668"/>
                </a:cubicBezTo>
                <a:cubicBezTo>
                  <a:pt x="23055" y="14668"/>
                  <a:pt x="23068" y="14665"/>
                  <a:pt x="23082" y="14637"/>
                </a:cubicBezTo>
                <a:cubicBezTo>
                  <a:pt x="23141" y="14680"/>
                  <a:pt x="23131" y="14678"/>
                  <a:pt x="23178" y="14732"/>
                </a:cubicBezTo>
                <a:cubicBezTo>
                  <a:pt x="23229" y="14791"/>
                  <a:pt x="23209" y="14876"/>
                  <a:pt x="23209" y="14954"/>
                </a:cubicBezTo>
                <a:cubicBezTo>
                  <a:pt x="23209" y="15027"/>
                  <a:pt x="23170" y="15175"/>
                  <a:pt x="23146" y="15240"/>
                </a:cubicBezTo>
                <a:cubicBezTo>
                  <a:pt x="23139" y="15259"/>
                  <a:pt x="23043" y="15359"/>
                  <a:pt x="23019" y="15335"/>
                </a:cubicBezTo>
                <a:cubicBezTo>
                  <a:pt x="23019" y="15325"/>
                  <a:pt x="23019" y="15314"/>
                  <a:pt x="23019" y="15304"/>
                </a:cubicBezTo>
              </a:path>
              <a:path w="3399" h="1398">
                <a:moveTo>
                  <a:pt x="23368" y="14859"/>
                </a:moveTo>
                <a:cubicBezTo>
                  <a:pt x="23381" y="14898"/>
                  <a:pt x="23394" y="14938"/>
                  <a:pt x="23432" y="14986"/>
                </a:cubicBezTo>
                <a:cubicBezTo>
                  <a:pt x="23462" y="15025"/>
                  <a:pt x="23474" y="15089"/>
                  <a:pt x="23527" y="15113"/>
                </a:cubicBezTo>
                <a:cubicBezTo>
                  <a:pt x="23537" y="15113"/>
                  <a:pt x="23548" y="15113"/>
                  <a:pt x="23558" y="15113"/>
                </a:cubicBezTo>
                <a:cubicBezTo>
                  <a:pt x="23558" y="15000"/>
                  <a:pt x="23594" y="14906"/>
                  <a:pt x="23622" y="14796"/>
                </a:cubicBezTo>
                <a:cubicBezTo>
                  <a:pt x="23673" y="14599"/>
                  <a:pt x="23768" y="14414"/>
                  <a:pt x="23844" y="14224"/>
                </a:cubicBezTo>
                <a:cubicBezTo>
                  <a:pt x="23865" y="14171"/>
                  <a:pt x="23887" y="14118"/>
                  <a:pt x="23908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Ink 20"/>
          <p:cNvSpPr/>
          <p:nvPr/>
        </p:nvSpPr>
        <p:spPr>
          <a:xfrm>
            <a:off x="3143160" y="5851440"/>
            <a:ext cx="1428840" cy="503280"/>
          </a:xfrm>
          <a:custGeom>
            <a:avLst/>
            <a:gdLst/>
            <a:ahLst/>
            <a:rect l="l" t="t" r="r" b="b"/>
            <a:pathLst>
              <a:path w="3970" h="1398">
                <a:moveTo>
                  <a:pt x="8826" y="16574"/>
                </a:moveTo>
                <a:cubicBezTo>
                  <a:pt x="8771" y="16648"/>
                  <a:pt x="8817" y="16705"/>
                  <a:pt x="8795" y="16796"/>
                </a:cubicBezTo>
                <a:cubicBezTo>
                  <a:pt x="8773" y="16887"/>
                  <a:pt x="8743" y="16990"/>
                  <a:pt x="8731" y="17082"/>
                </a:cubicBezTo>
                <a:cubicBezTo>
                  <a:pt x="8712" y="17235"/>
                  <a:pt x="8731" y="17403"/>
                  <a:pt x="8731" y="17558"/>
                </a:cubicBezTo>
              </a:path>
              <a:path w="3970" h="1398">
                <a:moveTo>
                  <a:pt x="9049" y="16574"/>
                </a:moveTo>
                <a:cubicBezTo>
                  <a:pt x="9049" y="16645"/>
                  <a:pt x="9033" y="16729"/>
                  <a:pt x="9017" y="16796"/>
                </a:cubicBezTo>
                <a:cubicBezTo>
                  <a:pt x="8989" y="16915"/>
                  <a:pt x="8981" y="17029"/>
                  <a:pt x="8954" y="17145"/>
                </a:cubicBezTo>
                <a:cubicBezTo>
                  <a:pt x="8927" y="17261"/>
                  <a:pt x="8945" y="17315"/>
                  <a:pt x="8954" y="17431"/>
                </a:cubicBezTo>
                <a:cubicBezTo>
                  <a:pt x="8954" y="17467"/>
                  <a:pt x="8957" y="17480"/>
                  <a:pt x="8985" y="17494"/>
                </a:cubicBezTo>
                <a:cubicBezTo>
                  <a:pt x="9041" y="17480"/>
                  <a:pt x="9069" y="17442"/>
                  <a:pt x="9112" y="17399"/>
                </a:cubicBezTo>
                <a:cubicBezTo>
                  <a:pt x="9166" y="17345"/>
                  <a:pt x="9198" y="17286"/>
                  <a:pt x="9208" y="17208"/>
                </a:cubicBezTo>
                <a:cubicBezTo>
                  <a:pt x="9223" y="17097"/>
                  <a:pt x="9260" y="16975"/>
                  <a:pt x="9239" y="16859"/>
                </a:cubicBezTo>
                <a:cubicBezTo>
                  <a:pt x="9225" y="16779"/>
                  <a:pt x="9217" y="16642"/>
                  <a:pt x="9176" y="16574"/>
                </a:cubicBezTo>
                <a:cubicBezTo>
                  <a:pt x="9165" y="16563"/>
                  <a:pt x="9155" y="16553"/>
                  <a:pt x="9144" y="16542"/>
                </a:cubicBezTo>
                <a:cubicBezTo>
                  <a:pt x="9094" y="16554"/>
                  <a:pt x="9019" y="16589"/>
                  <a:pt x="8985" y="16637"/>
                </a:cubicBezTo>
                <a:cubicBezTo>
                  <a:pt x="8975" y="16658"/>
                  <a:pt x="8964" y="16679"/>
                  <a:pt x="8954" y="16700"/>
                </a:cubicBezTo>
              </a:path>
              <a:path w="3970" h="1398">
                <a:moveTo>
                  <a:pt x="9525" y="16637"/>
                </a:moveTo>
                <a:cubicBezTo>
                  <a:pt x="9525" y="16891"/>
                  <a:pt x="9525" y="17145"/>
                  <a:pt x="9525" y="17399"/>
                </a:cubicBezTo>
              </a:path>
              <a:path w="3970" h="1398">
                <a:moveTo>
                  <a:pt x="9334" y="17177"/>
                </a:moveTo>
                <a:cubicBezTo>
                  <a:pt x="9404" y="17177"/>
                  <a:pt x="9425" y="17162"/>
                  <a:pt x="9493" y="17145"/>
                </a:cubicBezTo>
                <a:cubicBezTo>
                  <a:pt x="9549" y="17131"/>
                  <a:pt x="9597" y="17109"/>
                  <a:pt x="9652" y="17082"/>
                </a:cubicBezTo>
              </a:path>
              <a:path w="3970" h="1398">
                <a:moveTo>
                  <a:pt x="10255" y="16700"/>
                </a:moveTo>
                <a:cubicBezTo>
                  <a:pt x="10202" y="16647"/>
                  <a:pt x="10178" y="16665"/>
                  <a:pt x="10128" y="16637"/>
                </a:cubicBezTo>
                <a:cubicBezTo>
                  <a:pt x="10075" y="16607"/>
                  <a:pt x="10066" y="16605"/>
                  <a:pt x="10001" y="16605"/>
                </a:cubicBezTo>
                <a:cubicBezTo>
                  <a:pt x="9985" y="16605"/>
                  <a:pt x="9920" y="16641"/>
                  <a:pt x="9906" y="16669"/>
                </a:cubicBezTo>
                <a:cubicBezTo>
                  <a:pt x="9867" y="16745"/>
                  <a:pt x="9847" y="16871"/>
                  <a:pt x="9842" y="16954"/>
                </a:cubicBezTo>
                <a:cubicBezTo>
                  <a:pt x="9842" y="17012"/>
                  <a:pt x="9838" y="17029"/>
                  <a:pt x="9874" y="17050"/>
                </a:cubicBezTo>
                <a:cubicBezTo>
                  <a:pt x="9951" y="17050"/>
                  <a:pt x="9936" y="17038"/>
                  <a:pt x="9970" y="16986"/>
                </a:cubicBezTo>
                <a:cubicBezTo>
                  <a:pt x="10010" y="16924"/>
                  <a:pt x="10054" y="16857"/>
                  <a:pt x="10096" y="16796"/>
                </a:cubicBezTo>
                <a:cubicBezTo>
                  <a:pt x="10134" y="16758"/>
                  <a:pt x="10149" y="16739"/>
                  <a:pt x="10160" y="16700"/>
                </a:cubicBezTo>
                <a:cubicBezTo>
                  <a:pt x="10231" y="16736"/>
                  <a:pt x="10224" y="16777"/>
                  <a:pt x="10224" y="16859"/>
                </a:cubicBezTo>
                <a:cubicBezTo>
                  <a:pt x="10224" y="16992"/>
                  <a:pt x="10251" y="17110"/>
                  <a:pt x="10255" y="17240"/>
                </a:cubicBezTo>
                <a:cubicBezTo>
                  <a:pt x="10259" y="17384"/>
                  <a:pt x="10275" y="17512"/>
                  <a:pt x="10287" y="17653"/>
                </a:cubicBezTo>
              </a:path>
              <a:path w="3970" h="1398">
                <a:moveTo>
                  <a:pt x="10954" y="16510"/>
                </a:moveTo>
                <a:lnTo>
                  <a:pt x="10954" y="16510"/>
                </a:lnTo>
              </a:path>
              <a:path w="3970" h="1398">
                <a:moveTo>
                  <a:pt x="10954" y="16510"/>
                </a:moveTo>
                <a:cubicBezTo>
                  <a:pt x="10943" y="16510"/>
                  <a:pt x="10933" y="16510"/>
                  <a:pt x="10922" y="16510"/>
                </a:cubicBezTo>
              </a:path>
              <a:path w="3970" h="1398">
                <a:moveTo>
                  <a:pt x="10922" y="16510"/>
                </a:moveTo>
                <a:cubicBezTo>
                  <a:pt x="10844" y="16510"/>
                  <a:pt x="10862" y="16522"/>
                  <a:pt x="10827" y="16574"/>
                </a:cubicBezTo>
                <a:cubicBezTo>
                  <a:pt x="10782" y="16640"/>
                  <a:pt x="10738" y="16688"/>
                  <a:pt x="10700" y="16764"/>
                </a:cubicBezTo>
                <a:cubicBezTo>
                  <a:pt x="10660" y="16844"/>
                  <a:pt x="10573" y="16905"/>
                  <a:pt x="10541" y="16986"/>
                </a:cubicBezTo>
                <a:cubicBezTo>
                  <a:pt x="10541" y="17018"/>
                  <a:pt x="10541" y="17029"/>
                  <a:pt x="10509" y="17018"/>
                </a:cubicBezTo>
                <a:cubicBezTo>
                  <a:pt x="10565" y="16976"/>
                  <a:pt x="10593" y="16986"/>
                  <a:pt x="10668" y="16986"/>
                </a:cubicBezTo>
                <a:cubicBezTo>
                  <a:pt x="10715" y="16986"/>
                  <a:pt x="10761" y="16995"/>
                  <a:pt x="10795" y="17018"/>
                </a:cubicBezTo>
                <a:cubicBezTo>
                  <a:pt x="10836" y="17045"/>
                  <a:pt x="10885" y="17058"/>
                  <a:pt x="10922" y="17082"/>
                </a:cubicBezTo>
                <a:cubicBezTo>
                  <a:pt x="10933" y="17092"/>
                  <a:pt x="10943" y="17103"/>
                  <a:pt x="10954" y="17113"/>
                </a:cubicBezTo>
              </a:path>
              <a:path w="3970" h="1398">
                <a:moveTo>
                  <a:pt x="10573" y="17367"/>
                </a:moveTo>
                <a:cubicBezTo>
                  <a:pt x="10689" y="17367"/>
                  <a:pt x="10806" y="17367"/>
                  <a:pt x="10922" y="17367"/>
                </a:cubicBezTo>
              </a:path>
              <a:path w="3970" h="1398">
                <a:moveTo>
                  <a:pt x="11208" y="16859"/>
                </a:moveTo>
                <a:cubicBezTo>
                  <a:pt x="11208" y="16799"/>
                  <a:pt x="11212" y="16679"/>
                  <a:pt x="11240" y="16637"/>
                </a:cubicBezTo>
                <a:cubicBezTo>
                  <a:pt x="11255" y="16614"/>
                  <a:pt x="11333" y="16605"/>
                  <a:pt x="11366" y="16605"/>
                </a:cubicBezTo>
                <a:cubicBezTo>
                  <a:pt x="11366" y="16790"/>
                  <a:pt x="11353" y="16963"/>
                  <a:pt x="11335" y="17145"/>
                </a:cubicBezTo>
                <a:cubicBezTo>
                  <a:pt x="11333" y="17162"/>
                  <a:pt x="11337" y="17400"/>
                  <a:pt x="11303" y="17399"/>
                </a:cubicBezTo>
                <a:cubicBezTo>
                  <a:pt x="11280" y="17398"/>
                  <a:pt x="11389" y="17339"/>
                  <a:pt x="11398" y="17336"/>
                </a:cubicBezTo>
                <a:cubicBezTo>
                  <a:pt x="11449" y="17319"/>
                  <a:pt x="11535" y="17336"/>
                  <a:pt x="11589" y="17336"/>
                </a:cubicBezTo>
              </a:path>
              <a:path w="3970" h="1398">
                <a:moveTo>
                  <a:pt x="11652" y="16542"/>
                </a:moveTo>
                <a:cubicBezTo>
                  <a:pt x="11652" y="16623"/>
                  <a:pt x="11629" y="16685"/>
                  <a:pt x="11620" y="16764"/>
                </a:cubicBezTo>
                <a:cubicBezTo>
                  <a:pt x="11602" y="16914"/>
                  <a:pt x="11626" y="17064"/>
                  <a:pt x="11652" y="17208"/>
                </a:cubicBezTo>
                <a:cubicBezTo>
                  <a:pt x="11662" y="17266"/>
                  <a:pt x="11646" y="17253"/>
                  <a:pt x="11684" y="17304"/>
                </a:cubicBezTo>
                <a:cubicBezTo>
                  <a:pt x="11716" y="17280"/>
                  <a:pt x="11798" y="17255"/>
                  <a:pt x="11811" y="17208"/>
                </a:cubicBezTo>
                <a:cubicBezTo>
                  <a:pt x="11828" y="17149"/>
                  <a:pt x="11870" y="17082"/>
                  <a:pt x="11874" y="17018"/>
                </a:cubicBezTo>
                <a:cubicBezTo>
                  <a:pt x="11880" y="16926"/>
                  <a:pt x="11863" y="16879"/>
                  <a:pt x="11843" y="16796"/>
                </a:cubicBezTo>
                <a:cubicBezTo>
                  <a:pt x="11835" y="16764"/>
                  <a:pt x="11795" y="16707"/>
                  <a:pt x="11748" y="16700"/>
                </a:cubicBezTo>
                <a:cubicBezTo>
                  <a:pt x="11663" y="16688"/>
                  <a:pt x="11665" y="16740"/>
                  <a:pt x="11620" y="16796"/>
                </a:cubicBezTo>
              </a:path>
              <a:path w="3970" h="1398">
                <a:moveTo>
                  <a:pt x="12192" y="17018"/>
                </a:moveTo>
                <a:cubicBezTo>
                  <a:pt x="12203" y="17061"/>
                  <a:pt x="12233" y="17139"/>
                  <a:pt x="12256" y="17177"/>
                </a:cubicBezTo>
                <a:cubicBezTo>
                  <a:pt x="12275" y="17210"/>
                  <a:pt x="12299" y="17270"/>
                  <a:pt x="12351" y="17240"/>
                </a:cubicBezTo>
                <a:cubicBezTo>
                  <a:pt x="12375" y="17226"/>
                  <a:pt x="12428" y="17140"/>
                  <a:pt x="12446" y="17113"/>
                </a:cubicBezTo>
                <a:cubicBezTo>
                  <a:pt x="12526" y="16990"/>
                  <a:pt x="12495" y="16776"/>
                  <a:pt x="12541" y="16637"/>
                </a:cubicBezTo>
                <a:cubicBezTo>
                  <a:pt x="12585" y="16505"/>
                  <a:pt x="12658" y="16390"/>
                  <a:pt x="12700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nk 21"/>
          <p:cNvSpPr/>
          <p:nvPr/>
        </p:nvSpPr>
        <p:spPr>
          <a:xfrm>
            <a:off x="5165640" y="5851440"/>
            <a:ext cx="2116080" cy="560520"/>
          </a:xfrm>
          <a:custGeom>
            <a:avLst/>
            <a:gdLst/>
            <a:ahLst/>
            <a:rect l="l" t="t" r="r" b="b"/>
            <a:pathLst>
              <a:path w="5875" h="1557">
                <a:moveTo>
                  <a:pt x="14859" y="16796"/>
                </a:moveTo>
                <a:cubicBezTo>
                  <a:pt x="14843" y="16748"/>
                  <a:pt x="14821" y="16764"/>
                  <a:pt x="14764" y="16764"/>
                </a:cubicBezTo>
                <a:cubicBezTo>
                  <a:pt x="14706" y="16764"/>
                  <a:pt x="14689" y="16790"/>
                  <a:pt x="14637" y="16796"/>
                </a:cubicBezTo>
                <a:cubicBezTo>
                  <a:pt x="14582" y="16802"/>
                  <a:pt x="14559" y="16843"/>
                  <a:pt x="14510" y="16859"/>
                </a:cubicBezTo>
                <a:cubicBezTo>
                  <a:pt x="14462" y="16874"/>
                  <a:pt x="14438" y="16891"/>
                  <a:pt x="14383" y="16891"/>
                </a:cubicBezTo>
                <a:cubicBezTo>
                  <a:pt x="14328" y="16891"/>
                  <a:pt x="14397" y="16901"/>
                  <a:pt x="14414" y="16954"/>
                </a:cubicBezTo>
                <a:cubicBezTo>
                  <a:pt x="14431" y="17008"/>
                  <a:pt x="14414" y="17088"/>
                  <a:pt x="14414" y="17145"/>
                </a:cubicBezTo>
                <a:cubicBezTo>
                  <a:pt x="14442" y="17108"/>
                  <a:pt x="14460" y="17040"/>
                  <a:pt x="14510" y="17018"/>
                </a:cubicBezTo>
                <a:cubicBezTo>
                  <a:pt x="14533" y="17008"/>
                  <a:pt x="14562" y="16962"/>
                  <a:pt x="14605" y="16986"/>
                </a:cubicBezTo>
                <a:cubicBezTo>
                  <a:pt x="14654" y="17013"/>
                  <a:pt x="14689" y="17039"/>
                  <a:pt x="14732" y="17082"/>
                </a:cubicBezTo>
                <a:cubicBezTo>
                  <a:pt x="14770" y="17120"/>
                  <a:pt x="14792" y="17185"/>
                  <a:pt x="14796" y="17240"/>
                </a:cubicBezTo>
                <a:cubicBezTo>
                  <a:pt x="14801" y="17317"/>
                  <a:pt x="14808" y="17396"/>
                  <a:pt x="14764" y="17462"/>
                </a:cubicBezTo>
                <a:cubicBezTo>
                  <a:pt x="14736" y="17503"/>
                  <a:pt x="14684" y="17555"/>
                  <a:pt x="14637" y="17558"/>
                </a:cubicBezTo>
                <a:cubicBezTo>
                  <a:pt x="14568" y="17563"/>
                  <a:pt x="14505" y="17565"/>
                  <a:pt x="14446" y="17526"/>
                </a:cubicBezTo>
                <a:cubicBezTo>
                  <a:pt x="14379" y="17482"/>
                  <a:pt x="14361" y="17438"/>
                  <a:pt x="14351" y="17367"/>
                </a:cubicBezTo>
              </a:path>
              <a:path w="5875" h="1557">
                <a:moveTo>
                  <a:pt x="15145" y="16510"/>
                </a:moveTo>
                <a:cubicBezTo>
                  <a:pt x="15176" y="16510"/>
                  <a:pt x="15187" y="16510"/>
                  <a:pt x="15208" y="16510"/>
                </a:cubicBezTo>
                <a:cubicBezTo>
                  <a:pt x="15151" y="16567"/>
                  <a:pt x="15076" y="16621"/>
                  <a:pt x="15050" y="16700"/>
                </a:cubicBezTo>
                <a:cubicBezTo>
                  <a:pt x="15008" y="16827"/>
                  <a:pt x="14997" y="16954"/>
                  <a:pt x="14954" y="17082"/>
                </a:cubicBezTo>
                <a:cubicBezTo>
                  <a:pt x="14914" y="17200"/>
                  <a:pt x="14897" y="17337"/>
                  <a:pt x="14891" y="17462"/>
                </a:cubicBezTo>
                <a:cubicBezTo>
                  <a:pt x="14888" y="17529"/>
                  <a:pt x="14916" y="17622"/>
                  <a:pt x="14986" y="17653"/>
                </a:cubicBezTo>
                <a:cubicBezTo>
                  <a:pt x="15022" y="17669"/>
                  <a:pt x="15109" y="17708"/>
                  <a:pt x="15145" y="17716"/>
                </a:cubicBezTo>
                <a:cubicBezTo>
                  <a:pt x="15216" y="17731"/>
                  <a:pt x="15267" y="17738"/>
                  <a:pt x="15335" y="17748"/>
                </a:cubicBezTo>
              </a:path>
              <a:path w="5875" h="1557">
                <a:moveTo>
                  <a:pt x="15494" y="16828"/>
                </a:moveTo>
                <a:cubicBezTo>
                  <a:pt x="15446" y="16844"/>
                  <a:pt x="15462" y="16866"/>
                  <a:pt x="15462" y="16923"/>
                </a:cubicBezTo>
                <a:cubicBezTo>
                  <a:pt x="15462" y="17109"/>
                  <a:pt x="15466" y="17286"/>
                  <a:pt x="15494" y="17462"/>
                </a:cubicBezTo>
                <a:cubicBezTo>
                  <a:pt x="15502" y="17512"/>
                  <a:pt x="15494" y="17570"/>
                  <a:pt x="15494" y="17621"/>
                </a:cubicBezTo>
              </a:path>
              <a:path w="5875" h="1557">
                <a:moveTo>
                  <a:pt x="15621" y="16954"/>
                </a:moveTo>
                <a:cubicBezTo>
                  <a:pt x="15630" y="16893"/>
                  <a:pt x="15640" y="16881"/>
                  <a:pt x="15653" y="16828"/>
                </a:cubicBezTo>
                <a:cubicBezTo>
                  <a:pt x="15653" y="16935"/>
                  <a:pt x="15633" y="17012"/>
                  <a:pt x="15621" y="17113"/>
                </a:cubicBezTo>
                <a:cubicBezTo>
                  <a:pt x="15613" y="17183"/>
                  <a:pt x="15630" y="17365"/>
                  <a:pt x="15653" y="17431"/>
                </a:cubicBezTo>
                <a:cubicBezTo>
                  <a:pt x="15684" y="17521"/>
                  <a:pt x="15735" y="17477"/>
                  <a:pt x="15780" y="17462"/>
                </a:cubicBezTo>
                <a:cubicBezTo>
                  <a:pt x="15840" y="17442"/>
                  <a:pt x="15821" y="17337"/>
                  <a:pt x="15843" y="17272"/>
                </a:cubicBezTo>
                <a:cubicBezTo>
                  <a:pt x="15883" y="17153"/>
                  <a:pt x="15870" y="17101"/>
                  <a:pt x="15843" y="16986"/>
                </a:cubicBezTo>
                <a:cubicBezTo>
                  <a:pt x="15836" y="16955"/>
                  <a:pt x="15801" y="16867"/>
                  <a:pt x="15748" y="16891"/>
                </a:cubicBezTo>
                <a:cubicBezTo>
                  <a:pt x="15737" y="16902"/>
                  <a:pt x="15727" y="16912"/>
                  <a:pt x="15716" y="16923"/>
                </a:cubicBezTo>
              </a:path>
              <a:path w="5875" h="1557">
                <a:moveTo>
                  <a:pt x="15716" y="16415"/>
                </a:moveTo>
                <a:cubicBezTo>
                  <a:pt x="15777" y="16430"/>
                  <a:pt x="15820" y="16476"/>
                  <a:pt x="15875" y="16510"/>
                </a:cubicBezTo>
                <a:cubicBezTo>
                  <a:pt x="15958" y="16560"/>
                  <a:pt x="16035" y="16621"/>
                  <a:pt x="16097" y="16700"/>
                </a:cubicBezTo>
                <a:cubicBezTo>
                  <a:pt x="16194" y="16824"/>
                  <a:pt x="16223" y="16962"/>
                  <a:pt x="16256" y="17113"/>
                </a:cubicBezTo>
                <a:cubicBezTo>
                  <a:pt x="16302" y="17320"/>
                  <a:pt x="16309" y="17537"/>
                  <a:pt x="16320" y="17748"/>
                </a:cubicBezTo>
              </a:path>
              <a:path w="5875" h="1557">
                <a:moveTo>
                  <a:pt x="16828" y="16923"/>
                </a:moveTo>
                <a:cubicBezTo>
                  <a:pt x="16828" y="17067"/>
                  <a:pt x="16840" y="17196"/>
                  <a:pt x="16859" y="17336"/>
                </a:cubicBezTo>
                <a:cubicBezTo>
                  <a:pt x="16871" y="17428"/>
                  <a:pt x="16859" y="17528"/>
                  <a:pt x="16859" y="17621"/>
                </a:cubicBezTo>
              </a:path>
              <a:path w="5875" h="1557">
                <a:moveTo>
                  <a:pt x="16605" y="17240"/>
                </a:moveTo>
                <a:cubicBezTo>
                  <a:pt x="16574" y="17240"/>
                  <a:pt x="16563" y="17240"/>
                  <a:pt x="16574" y="17272"/>
                </a:cubicBezTo>
                <a:cubicBezTo>
                  <a:pt x="16711" y="17272"/>
                  <a:pt x="16849" y="17272"/>
                  <a:pt x="16986" y="17272"/>
                </a:cubicBezTo>
              </a:path>
              <a:path w="5875" h="1557">
                <a:moveTo>
                  <a:pt x="17748" y="16605"/>
                </a:moveTo>
                <a:cubicBezTo>
                  <a:pt x="17695" y="16579"/>
                  <a:pt x="17702" y="16516"/>
                  <a:pt x="17653" y="16510"/>
                </a:cubicBezTo>
                <a:cubicBezTo>
                  <a:pt x="17597" y="16503"/>
                  <a:pt x="17535" y="16515"/>
                  <a:pt x="17494" y="16542"/>
                </a:cubicBezTo>
                <a:cubicBezTo>
                  <a:pt x="17432" y="16583"/>
                  <a:pt x="17401" y="16617"/>
                  <a:pt x="17367" y="16669"/>
                </a:cubicBezTo>
                <a:cubicBezTo>
                  <a:pt x="17309" y="16757"/>
                  <a:pt x="17304" y="16819"/>
                  <a:pt x="17304" y="16923"/>
                </a:cubicBezTo>
                <a:cubicBezTo>
                  <a:pt x="17304" y="16986"/>
                  <a:pt x="17327" y="17029"/>
                  <a:pt x="17367" y="17082"/>
                </a:cubicBezTo>
                <a:cubicBezTo>
                  <a:pt x="17413" y="17143"/>
                  <a:pt x="17448" y="17211"/>
                  <a:pt x="17494" y="17272"/>
                </a:cubicBezTo>
                <a:cubicBezTo>
                  <a:pt x="17529" y="17319"/>
                  <a:pt x="17585" y="17324"/>
                  <a:pt x="17590" y="17367"/>
                </a:cubicBezTo>
                <a:cubicBezTo>
                  <a:pt x="17599" y="17439"/>
                  <a:pt x="17572" y="17465"/>
                  <a:pt x="17558" y="17494"/>
                </a:cubicBezTo>
                <a:cubicBezTo>
                  <a:pt x="17551" y="17508"/>
                  <a:pt x="17480" y="17519"/>
                  <a:pt x="17462" y="17462"/>
                </a:cubicBezTo>
                <a:cubicBezTo>
                  <a:pt x="17436" y="17377"/>
                  <a:pt x="17481" y="17274"/>
                  <a:pt x="17494" y="17208"/>
                </a:cubicBezTo>
                <a:cubicBezTo>
                  <a:pt x="17515" y="17105"/>
                  <a:pt x="17555" y="17040"/>
                  <a:pt x="17621" y="16954"/>
                </a:cubicBezTo>
                <a:cubicBezTo>
                  <a:pt x="17632" y="16944"/>
                  <a:pt x="17642" y="16933"/>
                  <a:pt x="17653" y="16923"/>
                </a:cubicBezTo>
              </a:path>
              <a:path w="5875" h="1557">
                <a:moveTo>
                  <a:pt x="17970" y="16351"/>
                </a:moveTo>
                <a:cubicBezTo>
                  <a:pt x="17970" y="16299"/>
                  <a:pt x="17984" y="16396"/>
                  <a:pt x="17970" y="16446"/>
                </a:cubicBezTo>
                <a:cubicBezTo>
                  <a:pt x="17933" y="16574"/>
                  <a:pt x="17877" y="16695"/>
                  <a:pt x="17844" y="16828"/>
                </a:cubicBezTo>
                <a:cubicBezTo>
                  <a:pt x="17801" y="17000"/>
                  <a:pt x="17754" y="17159"/>
                  <a:pt x="17748" y="17336"/>
                </a:cubicBezTo>
                <a:cubicBezTo>
                  <a:pt x="17744" y="17458"/>
                  <a:pt x="17748" y="17601"/>
                  <a:pt x="17780" y="17716"/>
                </a:cubicBezTo>
                <a:cubicBezTo>
                  <a:pt x="17807" y="17815"/>
                  <a:pt x="17854" y="17812"/>
                  <a:pt x="17939" y="17812"/>
                </a:cubicBezTo>
              </a:path>
              <a:path w="5875" h="1557">
                <a:moveTo>
                  <a:pt x="18320" y="17208"/>
                </a:moveTo>
                <a:cubicBezTo>
                  <a:pt x="18320" y="17152"/>
                  <a:pt x="18309" y="17064"/>
                  <a:pt x="18288" y="17018"/>
                </a:cubicBezTo>
                <a:cubicBezTo>
                  <a:pt x="18272" y="16984"/>
                  <a:pt x="18233" y="16909"/>
                  <a:pt x="18193" y="16891"/>
                </a:cubicBezTo>
                <a:cubicBezTo>
                  <a:pt x="18136" y="16865"/>
                  <a:pt x="18084" y="16900"/>
                  <a:pt x="18066" y="16923"/>
                </a:cubicBezTo>
                <a:cubicBezTo>
                  <a:pt x="18011" y="16995"/>
                  <a:pt x="18002" y="17023"/>
                  <a:pt x="18002" y="17113"/>
                </a:cubicBezTo>
                <a:cubicBezTo>
                  <a:pt x="18002" y="17186"/>
                  <a:pt x="17988" y="17210"/>
                  <a:pt x="18034" y="17240"/>
                </a:cubicBezTo>
                <a:cubicBezTo>
                  <a:pt x="18077" y="17183"/>
                  <a:pt x="18069" y="17142"/>
                  <a:pt x="18098" y="17082"/>
                </a:cubicBezTo>
                <a:cubicBezTo>
                  <a:pt x="18123" y="17031"/>
                  <a:pt x="18138" y="17000"/>
                  <a:pt x="18193" y="16986"/>
                </a:cubicBezTo>
                <a:cubicBezTo>
                  <a:pt x="18234" y="17042"/>
                  <a:pt x="18242" y="17136"/>
                  <a:pt x="18256" y="17208"/>
                </a:cubicBezTo>
                <a:cubicBezTo>
                  <a:pt x="18269" y="17277"/>
                  <a:pt x="18256" y="17361"/>
                  <a:pt x="18256" y="17431"/>
                </a:cubicBezTo>
              </a:path>
              <a:path w="5875" h="1557">
                <a:moveTo>
                  <a:pt x="18193" y="16288"/>
                </a:moveTo>
                <a:cubicBezTo>
                  <a:pt x="18262" y="16253"/>
                  <a:pt x="18279" y="16307"/>
                  <a:pt x="18320" y="16383"/>
                </a:cubicBezTo>
                <a:cubicBezTo>
                  <a:pt x="18374" y="16483"/>
                  <a:pt x="18468" y="16561"/>
                  <a:pt x="18510" y="16669"/>
                </a:cubicBezTo>
                <a:cubicBezTo>
                  <a:pt x="18567" y="16817"/>
                  <a:pt x="18597" y="16991"/>
                  <a:pt x="18637" y="17145"/>
                </a:cubicBezTo>
                <a:cubicBezTo>
                  <a:pt x="18680" y="17314"/>
                  <a:pt x="18669" y="17479"/>
                  <a:pt x="18669" y="17653"/>
                </a:cubicBezTo>
                <a:cubicBezTo>
                  <a:pt x="18669" y="17738"/>
                  <a:pt x="18669" y="17759"/>
                  <a:pt x="18669" y="17812"/>
                </a:cubicBezTo>
              </a:path>
              <a:path w="5875" h="1557">
                <a:moveTo>
                  <a:pt x="18891" y="16828"/>
                </a:moveTo>
                <a:cubicBezTo>
                  <a:pt x="18948" y="16842"/>
                  <a:pt x="18988" y="16875"/>
                  <a:pt x="19050" y="16891"/>
                </a:cubicBezTo>
                <a:cubicBezTo>
                  <a:pt x="19100" y="16904"/>
                  <a:pt x="19130" y="16939"/>
                  <a:pt x="19177" y="16954"/>
                </a:cubicBezTo>
                <a:cubicBezTo>
                  <a:pt x="19222" y="16969"/>
                  <a:pt x="19255" y="17010"/>
                  <a:pt x="19272" y="17018"/>
                </a:cubicBezTo>
                <a:cubicBezTo>
                  <a:pt x="19325" y="17045"/>
                  <a:pt x="19248" y="17018"/>
                  <a:pt x="19209" y="17018"/>
                </a:cubicBezTo>
                <a:cubicBezTo>
                  <a:pt x="19166" y="17018"/>
                  <a:pt x="19052" y="17046"/>
                  <a:pt x="19018" y="17082"/>
                </a:cubicBezTo>
                <a:cubicBezTo>
                  <a:pt x="18985" y="17118"/>
                  <a:pt x="18878" y="17186"/>
                  <a:pt x="18860" y="17208"/>
                </a:cubicBezTo>
                <a:cubicBezTo>
                  <a:pt x="18860" y="17240"/>
                  <a:pt x="18860" y="17251"/>
                  <a:pt x="18828" y="17240"/>
                </a:cubicBezTo>
              </a:path>
              <a:path w="5875" h="1557">
                <a:moveTo>
                  <a:pt x="18828" y="17494"/>
                </a:moveTo>
                <a:cubicBezTo>
                  <a:pt x="18840" y="17448"/>
                  <a:pt x="18875" y="17415"/>
                  <a:pt x="18923" y="17399"/>
                </a:cubicBezTo>
                <a:cubicBezTo>
                  <a:pt x="19011" y="17369"/>
                  <a:pt x="18982" y="17374"/>
                  <a:pt x="19082" y="17399"/>
                </a:cubicBezTo>
                <a:cubicBezTo>
                  <a:pt x="19155" y="17417"/>
                  <a:pt x="19180" y="17467"/>
                  <a:pt x="19240" y="17494"/>
                </a:cubicBezTo>
                <a:cubicBezTo>
                  <a:pt x="19251" y="17494"/>
                  <a:pt x="19261" y="17494"/>
                  <a:pt x="19272" y="17494"/>
                </a:cubicBezTo>
              </a:path>
              <a:path w="5875" h="1557">
                <a:moveTo>
                  <a:pt x="19431" y="16669"/>
                </a:moveTo>
                <a:cubicBezTo>
                  <a:pt x="19473" y="16738"/>
                  <a:pt x="19463" y="16804"/>
                  <a:pt x="19463" y="16891"/>
                </a:cubicBezTo>
                <a:cubicBezTo>
                  <a:pt x="19463" y="17041"/>
                  <a:pt x="19494" y="17183"/>
                  <a:pt x="19494" y="17336"/>
                </a:cubicBezTo>
                <a:cubicBezTo>
                  <a:pt x="19494" y="17451"/>
                  <a:pt x="19469" y="17591"/>
                  <a:pt x="19526" y="17685"/>
                </a:cubicBezTo>
              </a:path>
              <a:path w="5875" h="1557">
                <a:moveTo>
                  <a:pt x="19558" y="16828"/>
                </a:moveTo>
                <a:cubicBezTo>
                  <a:pt x="19599" y="16773"/>
                  <a:pt x="19590" y="16777"/>
                  <a:pt x="19590" y="16700"/>
                </a:cubicBezTo>
                <a:cubicBezTo>
                  <a:pt x="19663" y="16700"/>
                  <a:pt x="19687" y="16680"/>
                  <a:pt x="19717" y="16764"/>
                </a:cubicBezTo>
                <a:cubicBezTo>
                  <a:pt x="19751" y="16858"/>
                  <a:pt x="19721" y="16919"/>
                  <a:pt x="19717" y="17018"/>
                </a:cubicBezTo>
                <a:cubicBezTo>
                  <a:pt x="19710" y="17182"/>
                  <a:pt x="19643" y="17333"/>
                  <a:pt x="19622" y="17494"/>
                </a:cubicBezTo>
                <a:cubicBezTo>
                  <a:pt x="19611" y="17576"/>
                  <a:pt x="19600" y="17590"/>
                  <a:pt x="19622" y="17590"/>
                </a:cubicBezTo>
                <a:cubicBezTo>
                  <a:pt x="19685" y="17590"/>
                  <a:pt x="19697" y="17604"/>
                  <a:pt x="19748" y="17621"/>
                </a:cubicBezTo>
                <a:cubicBezTo>
                  <a:pt x="19780" y="17621"/>
                  <a:pt x="19791" y="17621"/>
                  <a:pt x="19812" y="17621"/>
                </a:cubicBezTo>
              </a:path>
              <a:path w="5875" h="1557">
                <a:moveTo>
                  <a:pt x="20098" y="16605"/>
                </a:moveTo>
                <a:cubicBezTo>
                  <a:pt x="20098" y="16569"/>
                  <a:pt x="20101" y="16556"/>
                  <a:pt x="20130" y="16542"/>
                </a:cubicBezTo>
                <a:cubicBezTo>
                  <a:pt x="20113" y="16610"/>
                  <a:pt x="20082" y="16605"/>
                  <a:pt x="20034" y="16637"/>
                </a:cubicBezTo>
                <a:cubicBezTo>
                  <a:pt x="19992" y="16665"/>
                  <a:pt x="19959" y="16694"/>
                  <a:pt x="19907" y="16700"/>
                </a:cubicBezTo>
                <a:cubicBezTo>
                  <a:pt x="19851" y="16706"/>
                  <a:pt x="19828" y="16681"/>
                  <a:pt x="19780" y="16669"/>
                </a:cubicBezTo>
                <a:cubicBezTo>
                  <a:pt x="19814" y="16724"/>
                  <a:pt x="19812" y="16760"/>
                  <a:pt x="19812" y="16828"/>
                </a:cubicBezTo>
                <a:cubicBezTo>
                  <a:pt x="19812" y="16938"/>
                  <a:pt x="19817" y="17050"/>
                  <a:pt x="19844" y="17113"/>
                </a:cubicBezTo>
                <a:cubicBezTo>
                  <a:pt x="19861" y="17152"/>
                  <a:pt x="19849" y="17118"/>
                  <a:pt x="19876" y="17082"/>
                </a:cubicBezTo>
                <a:cubicBezTo>
                  <a:pt x="19911" y="17034"/>
                  <a:pt x="19925" y="17000"/>
                  <a:pt x="19971" y="16954"/>
                </a:cubicBezTo>
                <a:cubicBezTo>
                  <a:pt x="19996" y="16929"/>
                  <a:pt x="20058" y="16902"/>
                  <a:pt x="20098" y="16923"/>
                </a:cubicBezTo>
                <a:cubicBezTo>
                  <a:pt x="20131" y="16941"/>
                  <a:pt x="20186" y="17018"/>
                  <a:pt x="20193" y="17050"/>
                </a:cubicBezTo>
                <a:cubicBezTo>
                  <a:pt x="20208" y="17121"/>
                  <a:pt x="20243" y="17192"/>
                  <a:pt x="20225" y="17272"/>
                </a:cubicBezTo>
                <a:cubicBezTo>
                  <a:pt x="20208" y="17351"/>
                  <a:pt x="20172" y="17490"/>
                  <a:pt x="20130" y="17558"/>
                </a:cubicBezTo>
                <a:cubicBezTo>
                  <a:pt x="20097" y="17613"/>
                  <a:pt x="20059" y="17621"/>
                  <a:pt x="20002" y="17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nk 22"/>
          <p:cNvSpPr/>
          <p:nvPr/>
        </p:nvSpPr>
        <p:spPr>
          <a:xfrm>
            <a:off x="7623000" y="5864400"/>
            <a:ext cx="1052640" cy="525240"/>
          </a:xfrm>
          <a:custGeom>
            <a:avLst/>
            <a:gdLst/>
            <a:ahLst/>
            <a:rect l="l" t="t" r="r" b="b"/>
            <a:pathLst>
              <a:path w="2922" h="1461">
                <a:moveTo>
                  <a:pt x="21177" y="16669"/>
                </a:moveTo>
                <a:cubicBezTo>
                  <a:pt x="21177" y="16762"/>
                  <a:pt x="21204" y="16829"/>
                  <a:pt x="21209" y="16923"/>
                </a:cubicBezTo>
                <a:cubicBezTo>
                  <a:pt x="21220" y="17149"/>
                  <a:pt x="21205" y="17373"/>
                  <a:pt x="21241" y="17590"/>
                </a:cubicBezTo>
                <a:cubicBezTo>
                  <a:pt x="21241" y="17643"/>
                  <a:pt x="21241" y="17653"/>
                  <a:pt x="21241" y="17685"/>
                </a:cubicBezTo>
              </a:path>
              <a:path w="2922" h="1461">
                <a:moveTo>
                  <a:pt x="21495" y="16828"/>
                </a:moveTo>
                <a:lnTo>
                  <a:pt x="21495" y="16828"/>
                </a:lnTo>
              </a:path>
              <a:path w="2922" h="1461">
                <a:moveTo>
                  <a:pt x="21495" y="16828"/>
                </a:moveTo>
                <a:lnTo>
                  <a:pt x="21495" y="16828"/>
                </a:lnTo>
              </a:path>
              <a:path w="2922" h="1461">
                <a:moveTo>
                  <a:pt x="21526" y="16796"/>
                </a:moveTo>
                <a:cubicBezTo>
                  <a:pt x="21526" y="16721"/>
                  <a:pt x="21552" y="16713"/>
                  <a:pt x="21558" y="16669"/>
                </a:cubicBezTo>
                <a:cubicBezTo>
                  <a:pt x="21563" y="16631"/>
                  <a:pt x="21615" y="16612"/>
                  <a:pt x="21654" y="16574"/>
                </a:cubicBezTo>
                <a:cubicBezTo>
                  <a:pt x="21727" y="16647"/>
                  <a:pt x="21717" y="16653"/>
                  <a:pt x="21717" y="16764"/>
                </a:cubicBezTo>
                <a:cubicBezTo>
                  <a:pt x="21717" y="16895"/>
                  <a:pt x="21669" y="16988"/>
                  <a:pt x="21654" y="17113"/>
                </a:cubicBezTo>
                <a:cubicBezTo>
                  <a:pt x="21638" y="17239"/>
                  <a:pt x="21616" y="17341"/>
                  <a:pt x="21590" y="17462"/>
                </a:cubicBezTo>
                <a:cubicBezTo>
                  <a:pt x="21574" y="17538"/>
                  <a:pt x="21587" y="17527"/>
                  <a:pt x="21590" y="17526"/>
                </a:cubicBezTo>
                <a:cubicBezTo>
                  <a:pt x="21596" y="17524"/>
                  <a:pt x="21681" y="17499"/>
                  <a:pt x="21685" y="17494"/>
                </a:cubicBezTo>
                <a:cubicBezTo>
                  <a:pt x="21714" y="17457"/>
                  <a:pt x="21713" y="17462"/>
                  <a:pt x="21780" y="17462"/>
                </a:cubicBezTo>
                <a:cubicBezTo>
                  <a:pt x="21812" y="17462"/>
                  <a:pt x="21844" y="17462"/>
                  <a:pt x="21876" y="17462"/>
                </a:cubicBezTo>
              </a:path>
              <a:path w="2922" h="1461">
                <a:moveTo>
                  <a:pt x="21908" y="16828"/>
                </a:moveTo>
                <a:cubicBezTo>
                  <a:pt x="21908" y="16758"/>
                  <a:pt x="21923" y="16722"/>
                  <a:pt x="21971" y="16669"/>
                </a:cubicBezTo>
                <a:cubicBezTo>
                  <a:pt x="21993" y="16645"/>
                  <a:pt x="22067" y="16587"/>
                  <a:pt x="22098" y="16574"/>
                </a:cubicBezTo>
                <a:cubicBezTo>
                  <a:pt x="22128" y="16561"/>
                  <a:pt x="22214" y="16568"/>
                  <a:pt x="22225" y="16605"/>
                </a:cubicBezTo>
                <a:cubicBezTo>
                  <a:pt x="22264" y="16732"/>
                  <a:pt x="22207" y="16897"/>
                  <a:pt x="22193" y="17018"/>
                </a:cubicBezTo>
                <a:cubicBezTo>
                  <a:pt x="22181" y="17123"/>
                  <a:pt x="22172" y="17271"/>
                  <a:pt x="22130" y="17367"/>
                </a:cubicBezTo>
                <a:cubicBezTo>
                  <a:pt x="22108" y="17417"/>
                  <a:pt x="22098" y="17403"/>
                  <a:pt x="22098" y="17462"/>
                </a:cubicBezTo>
                <a:cubicBezTo>
                  <a:pt x="22148" y="17450"/>
                  <a:pt x="22169" y="17431"/>
                  <a:pt x="22225" y="17431"/>
                </a:cubicBezTo>
                <a:cubicBezTo>
                  <a:pt x="22295" y="17431"/>
                  <a:pt x="22321" y="17447"/>
                  <a:pt x="22352" y="17462"/>
                </a:cubicBezTo>
                <a:cubicBezTo>
                  <a:pt x="22363" y="17462"/>
                  <a:pt x="22373" y="17462"/>
                  <a:pt x="22384" y="17462"/>
                </a:cubicBezTo>
              </a:path>
              <a:path w="2922" h="1461">
                <a:moveTo>
                  <a:pt x="22574" y="16637"/>
                </a:moveTo>
                <a:cubicBezTo>
                  <a:pt x="22632" y="16637"/>
                  <a:pt x="22649" y="16663"/>
                  <a:pt x="22701" y="16669"/>
                </a:cubicBezTo>
                <a:cubicBezTo>
                  <a:pt x="22763" y="16676"/>
                  <a:pt x="22808" y="16685"/>
                  <a:pt x="22860" y="16700"/>
                </a:cubicBezTo>
                <a:cubicBezTo>
                  <a:pt x="22892" y="16700"/>
                  <a:pt x="22903" y="16700"/>
                  <a:pt x="22924" y="16700"/>
                </a:cubicBezTo>
                <a:cubicBezTo>
                  <a:pt x="22941" y="16805"/>
                  <a:pt x="22954" y="16737"/>
                  <a:pt x="22924" y="16828"/>
                </a:cubicBezTo>
                <a:cubicBezTo>
                  <a:pt x="22904" y="16889"/>
                  <a:pt x="22889" y="16947"/>
                  <a:pt x="22828" y="16986"/>
                </a:cubicBezTo>
                <a:cubicBezTo>
                  <a:pt x="22782" y="17016"/>
                  <a:pt x="22717" y="17092"/>
                  <a:pt x="22670" y="17113"/>
                </a:cubicBezTo>
                <a:cubicBezTo>
                  <a:pt x="22624" y="17133"/>
                  <a:pt x="22654" y="17129"/>
                  <a:pt x="22606" y="17145"/>
                </a:cubicBezTo>
              </a:path>
              <a:path w="2922" h="1461">
                <a:moveTo>
                  <a:pt x="22511" y="17336"/>
                </a:moveTo>
                <a:cubicBezTo>
                  <a:pt x="22577" y="17285"/>
                  <a:pt x="22597" y="17335"/>
                  <a:pt x="22670" y="17304"/>
                </a:cubicBezTo>
                <a:cubicBezTo>
                  <a:pt x="22723" y="17281"/>
                  <a:pt x="22788" y="17244"/>
                  <a:pt x="22860" y="17272"/>
                </a:cubicBezTo>
                <a:cubicBezTo>
                  <a:pt x="22871" y="17283"/>
                  <a:pt x="22881" y="17293"/>
                  <a:pt x="22892" y="17304"/>
                </a:cubicBezTo>
              </a:path>
              <a:path w="2922" h="1461">
                <a:moveTo>
                  <a:pt x="23050" y="16605"/>
                </a:moveTo>
                <a:cubicBezTo>
                  <a:pt x="23079" y="16577"/>
                  <a:pt x="23085" y="16567"/>
                  <a:pt x="23114" y="16574"/>
                </a:cubicBezTo>
                <a:cubicBezTo>
                  <a:pt x="23173" y="16650"/>
                  <a:pt x="23127" y="16734"/>
                  <a:pt x="23146" y="16828"/>
                </a:cubicBezTo>
                <a:cubicBezTo>
                  <a:pt x="23176" y="16979"/>
                  <a:pt x="23178" y="17116"/>
                  <a:pt x="23178" y="17272"/>
                </a:cubicBezTo>
                <a:cubicBezTo>
                  <a:pt x="23178" y="17395"/>
                  <a:pt x="23177" y="17536"/>
                  <a:pt x="23209" y="17653"/>
                </a:cubicBezTo>
                <a:cubicBezTo>
                  <a:pt x="23235" y="17705"/>
                  <a:pt x="23246" y="17713"/>
                  <a:pt x="23241" y="17748"/>
                </a:cubicBezTo>
              </a:path>
              <a:path w="2922" h="1461">
                <a:moveTo>
                  <a:pt x="23336" y="16891"/>
                </a:moveTo>
                <a:cubicBezTo>
                  <a:pt x="23336" y="16819"/>
                  <a:pt x="23331" y="16730"/>
                  <a:pt x="23368" y="16669"/>
                </a:cubicBezTo>
                <a:cubicBezTo>
                  <a:pt x="23377" y="16654"/>
                  <a:pt x="23449" y="16581"/>
                  <a:pt x="23463" y="16574"/>
                </a:cubicBezTo>
                <a:cubicBezTo>
                  <a:pt x="23492" y="16560"/>
                  <a:pt x="23526" y="16550"/>
                  <a:pt x="23558" y="16542"/>
                </a:cubicBezTo>
                <a:cubicBezTo>
                  <a:pt x="23602" y="16600"/>
                  <a:pt x="23605" y="16687"/>
                  <a:pt x="23590" y="16764"/>
                </a:cubicBezTo>
                <a:cubicBezTo>
                  <a:pt x="23562" y="16908"/>
                  <a:pt x="23511" y="17060"/>
                  <a:pt x="23495" y="17208"/>
                </a:cubicBezTo>
                <a:cubicBezTo>
                  <a:pt x="23484" y="17308"/>
                  <a:pt x="23463" y="17395"/>
                  <a:pt x="23463" y="17494"/>
                </a:cubicBezTo>
                <a:cubicBezTo>
                  <a:pt x="23463" y="17540"/>
                  <a:pt x="23492" y="17585"/>
                  <a:pt x="23527" y="17590"/>
                </a:cubicBezTo>
                <a:cubicBezTo>
                  <a:pt x="23565" y="17595"/>
                  <a:pt x="23638" y="17529"/>
                  <a:pt x="23654" y="17494"/>
                </a:cubicBezTo>
                <a:cubicBezTo>
                  <a:pt x="23672" y="17453"/>
                  <a:pt x="23680" y="17436"/>
                  <a:pt x="23717" y="17399"/>
                </a:cubicBezTo>
              </a:path>
              <a:path w="2922" h="1461">
                <a:moveTo>
                  <a:pt x="24098" y="16320"/>
                </a:moveTo>
                <a:cubicBezTo>
                  <a:pt x="24098" y="16309"/>
                  <a:pt x="24098" y="16299"/>
                  <a:pt x="24098" y="16288"/>
                </a:cubicBezTo>
                <a:cubicBezTo>
                  <a:pt x="24054" y="16303"/>
                  <a:pt x="24060" y="16333"/>
                  <a:pt x="24003" y="16351"/>
                </a:cubicBezTo>
                <a:cubicBezTo>
                  <a:pt x="23959" y="16365"/>
                  <a:pt x="23965" y="16396"/>
                  <a:pt x="23908" y="16415"/>
                </a:cubicBezTo>
                <a:cubicBezTo>
                  <a:pt x="23897" y="16419"/>
                  <a:pt x="23819" y="16468"/>
                  <a:pt x="23812" y="16478"/>
                </a:cubicBezTo>
                <a:cubicBezTo>
                  <a:pt x="23789" y="16512"/>
                  <a:pt x="23781" y="16517"/>
                  <a:pt x="23781" y="16574"/>
                </a:cubicBezTo>
                <a:cubicBezTo>
                  <a:pt x="23781" y="16690"/>
                  <a:pt x="23781" y="16807"/>
                  <a:pt x="23781" y="16923"/>
                </a:cubicBezTo>
                <a:cubicBezTo>
                  <a:pt x="23818" y="16910"/>
                  <a:pt x="23835" y="16868"/>
                  <a:pt x="23876" y="16828"/>
                </a:cubicBezTo>
                <a:cubicBezTo>
                  <a:pt x="23926" y="16779"/>
                  <a:pt x="23930" y="16763"/>
                  <a:pt x="23971" y="16700"/>
                </a:cubicBezTo>
                <a:cubicBezTo>
                  <a:pt x="24018" y="16724"/>
                  <a:pt x="24055" y="16794"/>
                  <a:pt x="24066" y="16859"/>
                </a:cubicBezTo>
                <a:cubicBezTo>
                  <a:pt x="24082" y="16951"/>
                  <a:pt x="24117" y="17046"/>
                  <a:pt x="24098" y="17145"/>
                </a:cubicBezTo>
                <a:cubicBezTo>
                  <a:pt x="24080" y="17240"/>
                  <a:pt x="24057" y="17348"/>
                  <a:pt x="24035" y="17431"/>
                </a:cubicBezTo>
                <a:cubicBezTo>
                  <a:pt x="24035" y="17441"/>
                  <a:pt x="24035" y="17452"/>
                  <a:pt x="24035" y="17462"/>
                </a:cubicBezTo>
              </a:path>
              <a:path w="2922" h="1461">
                <a:moveTo>
                  <a:pt x="21463" y="17494"/>
                </a:moveTo>
                <a:cubicBezTo>
                  <a:pt x="21520" y="17416"/>
                  <a:pt x="21575" y="17334"/>
                  <a:pt x="21654" y="17272"/>
                </a:cubicBezTo>
                <a:cubicBezTo>
                  <a:pt x="21800" y="17157"/>
                  <a:pt x="21928" y="17140"/>
                  <a:pt x="22098" y="17082"/>
                </a:cubicBezTo>
                <a:cubicBezTo>
                  <a:pt x="22309" y="17010"/>
                  <a:pt x="22520" y="16955"/>
                  <a:pt x="22733" y="16891"/>
                </a:cubicBezTo>
                <a:cubicBezTo>
                  <a:pt x="22971" y="16820"/>
                  <a:pt x="23221" y="16755"/>
                  <a:pt x="23463" y="16700"/>
                </a:cubicBezTo>
                <a:cubicBezTo>
                  <a:pt x="23653" y="16669"/>
                  <a:pt x="23715" y="16659"/>
                  <a:pt x="23844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0:22:37Z</dcterms:created>
  <dc:creator>Sharon Fieldman</dc:creator>
  <dc:description/>
  <dc:language>en-US</dc:language>
  <cp:lastModifiedBy>njamison</cp:lastModifiedBy>
  <dcterms:modified xsi:type="dcterms:W3CDTF">2011-05-24T14:47:54Z</dcterms:modified>
  <cp:revision>28</cp:revision>
  <dc:subject/>
  <dc:title>Goal 4.03: Applications of Systems</dc:title>
</cp:coreProperties>
</file>